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chimes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A9C-0FD3-4ED5-863B-5CFDDBD3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D43-B06C-4D9E-8821-ED096954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2F2-0896-408B-A6FB-E9567408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99A-8BC1-469B-852D-09E4E97C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B75E-A8D9-4A03-939C-A89BFA10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9BFE-3C62-4C4B-88CD-6FE63294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1C1B-2697-457D-B5DA-114C2F94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C761-26E0-4D3E-A4C2-4AB36D1A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7A61-119B-4190-AE8E-7EBCF81D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73BC-BA96-4ED3-A5E0-F8DF82A5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3DB5-0034-4180-B439-92D458EF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461-FAFD-4EF5-9BDF-62E2254F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9ABB-4288-4494-85C2-508F9528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784F-3479-489E-9F18-60F82310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245-488A-4C95-9B36-8FCB2424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C398-06A0-4FE2-8E42-693FA90E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AEE5-CEDB-42EA-B1E0-9DC30A69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4D21-1A9C-4F92-ACF8-B3CE9732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0D9A9-CDA0-4E34-A24A-6D228E95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108B5-4D4E-400D-BE6D-5F294093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CBB8E-734A-4D9F-8F35-0A598321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BA4C-C694-4FDE-B183-D26629B0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199-C14A-4913-AA6E-F251A4B1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7524-2807-4CCC-A969-E3C0B40C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F3E3-9B62-4596-A033-8693FA7D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DB94-68D1-49BA-9697-EC6227B7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8E55-DFFD-4AAE-9895-D49412C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14CC-BC7B-4F4C-8992-E8A7AED3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E8594-5C48-4C25-9C11-3D9C5161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E4044-BB92-42CE-8300-46DEBFEE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C6B-19B0-444C-8006-9135FF82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5B8-2227-4EEA-AA16-C2930F00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5DB-9087-48FB-8E67-DE9616BD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391-DBFC-4A46-9930-5E8C84E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D79-A30A-47E8-85F3-8F714B09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4BD-71CF-40E7-A9A9-06498EF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7521-1590-4181-97F3-0065F6005F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5992-ECFC-47B4-97F2-60A3C95E65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0006-9DD4-4C1A-B2DA-E81DA7849178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40360" y="549000"/>
            <a:ext cx="33559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楷体_GB2312"/>
              </a:rPr>
              <a:t>我爱你中国的汉字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楷体_GB2312"/>
              </a:rPr>
              <a:t>课件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4" name="Picture 1027" descr="Xing2"/>
          <p:cNvPicPr/>
          <p:nvPr/>
        </p:nvPicPr>
        <p:blipFill>
          <a:blip r:embed="rId2"/>
          <a:stretch/>
        </p:blipFill>
        <p:spPr>
          <a:xfrm>
            <a:off x="3492360" y="47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29" descr="Xing2"/>
          <p:cNvPicPr/>
          <p:nvPr/>
        </p:nvPicPr>
        <p:blipFill>
          <a:blip r:embed="rId3"/>
          <a:stretch/>
        </p:blipFill>
        <p:spPr>
          <a:xfrm>
            <a:off x="6659640" y="585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30" descr="Xing2"/>
          <p:cNvPicPr/>
          <p:nvPr/>
        </p:nvPicPr>
        <p:blipFill>
          <a:blip r:embed="rId4"/>
          <a:stretch/>
        </p:blipFill>
        <p:spPr>
          <a:xfrm>
            <a:off x="190512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31" descr="Xing2"/>
          <p:cNvPicPr/>
          <p:nvPr/>
        </p:nvPicPr>
        <p:blipFill>
          <a:blip r:embed="rId5"/>
          <a:stretch/>
        </p:blipFill>
        <p:spPr>
          <a:xfrm>
            <a:off x="53352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32" descr="Xing2"/>
          <p:cNvPicPr/>
          <p:nvPr/>
        </p:nvPicPr>
        <p:blipFill>
          <a:blip r:embed="rId6"/>
          <a:stretch/>
        </p:blipFill>
        <p:spPr>
          <a:xfrm>
            <a:off x="3154320" y="5332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33" descr="Xing2"/>
          <p:cNvPicPr/>
          <p:nvPr/>
        </p:nvPicPr>
        <p:blipFill>
          <a:blip r:embed="rId7"/>
          <a:stretch/>
        </p:blipFill>
        <p:spPr>
          <a:xfrm>
            <a:off x="5410080" y="2743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楷书"/>
          <p:cNvPicPr/>
          <p:nvPr/>
        </p:nvPicPr>
        <p:blipFill>
          <a:blip r:embed="rId2"/>
          <a:stretch/>
        </p:blipFill>
        <p:spPr>
          <a:xfrm>
            <a:off x="2484360" y="692280"/>
            <a:ext cx="3810240" cy="5956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224360" y="1557360"/>
            <a:ext cx="8506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端庄的楷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行书"/>
          <p:cNvPicPr/>
          <p:nvPr/>
        </p:nvPicPr>
        <p:blipFill>
          <a:blip r:embed="rId2"/>
          <a:stretch/>
        </p:blipFill>
        <p:spPr>
          <a:xfrm>
            <a:off x="3143160" y="828720"/>
            <a:ext cx="2857680" cy="52005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819000" y="1844640"/>
            <a:ext cx="1521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流畅的行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或挺拔如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9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 flipV="1" rot="10702200">
            <a:off x="684000" y="1020960"/>
            <a:ext cx="77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971640" y="234936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7" name="Picture 11" descr="d94ae8dc5b64579ccc11667d"/>
          <p:cNvPicPr/>
          <p:nvPr/>
        </p:nvPicPr>
        <p:blipFill>
          <a:blip r:embed="rId7"/>
          <a:stretch/>
        </p:blipFill>
        <p:spPr>
          <a:xfrm>
            <a:off x="1403280" y="1981080"/>
            <a:ext cx="6913800" cy="4329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或清亮如溪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70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 flipV="1" rot="10702200">
            <a:off x="684000" y="1020960"/>
            <a:ext cx="77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971640" y="234936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8" name="Picture 11" descr="a98c70b4499323ce31add11a"/>
          <p:cNvPicPr/>
          <p:nvPr/>
        </p:nvPicPr>
        <p:blipFill>
          <a:blip r:embed="rId7"/>
          <a:stretch/>
        </p:blipFill>
        <p:spPr>
          <a:xfrm>
            <a:off x="828720" y="1774800"/>
            <a:ext cx="748980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2245-277F-4E69-ADD1-1112DF1D5C55}" type="slidenum">
              <a:t>14</a:t>
            </a:fld>
          </a:p>
        </p:txBody>
      </p:sp>
    </p:spTree>
  </p:cSld>
  <p:transition>
    <p:push dir="r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或浩瀚如海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83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flipV="1" rot="10702200">
            <a:off x="684000" y="1020960"/>
            <a:ext cx="77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971640" y="234936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1" name="Picture 11" descr="2006531_1b020ea30f549d3345178a10a2d0cb90"/>
          <p:cNvPicPr/>
          <p:nvPr/>
        </p:nvPicPr>
        <p:blipFill>
          <a:blip r:embed="rId7"/>
          <a:srcRect l="0" t="0" r="-2515" b="0"/>
          <a:stretch/>
        </p:blipFill>
        <p:spPr>
          <a:xfrm>
            <a:off x="831960" y="1773360"/>
            <a:ext cx="762948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或凝滑如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93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971640" y="234936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0" name="Picture 13" descr="楷书1"/>
          <p:cNvPicPr/>
          <p:nvPr/>
        </p:nvPicPr>
        <p:blipFill>
          <a:blip r:embed="rId7"/>
          <a:stretch/>
        </p:blipFill>
        <p:spPr>
          <a:xfrm>
            <a:off x="2050920" y="1773360"/>
            <a:ext cx="475164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 flipV="1" rot="10702200">
            <a:off x="684000" y="1020960"/>
            <a:ext cx="77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971640" y="2349360"/>
            <a:ext cx="77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在人类古老的长河中，有哪一个民族像中华民族有这么丰富的书法瑰宝？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8600" y="227664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像</a:t>
            </a:r>
            <a:r>
              <a:rPr b="1" lang="zh-CN" sz="40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徜徉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夏天夜晚的星空下，为那壮丽的景色而迷醉，我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限钟情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于我赖以思维和交往的汉字，并震惊于它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限活力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奇特魅力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0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据联合国教科文组织提供的数据，汉字是因特网上的第二大语言文字。汉字不仅使中国人、海外华人着迷，而且有的外国人也慕名来中国学习说汉语，写汉字。目前全世界已有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个国家的学校开设了中文课程。</a:t>
            </a:r>
            <a:br>
              <a:rPr sz="4000"/>
            </a:b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习目标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自主学会本课的生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并能正确、美观地书写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了解课文内容，能联系上下文的具体语境，了解多种修辞手法的作用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正确、流利、有感情地朗读课文，感受汉字的无穷魅力，激发对祖国文字的喜爱。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Picture 4" descr="Xing2"/>
          <p:cNvPicPr/>
          <p:nvPr/>
        </p:nvPicPr>
        <p:blipFill>
          <a:blip r:embed="rId2"/>
          <a:stretch/>
        </p:blipFill>
        <p:spPr>
          <a:xfrm>
            <a:off x="3419640" y="765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Xing2"/>
          <p:cNvPicPr/>
          <p:nvPr/>
        </p:nvPicPr>
        <p:blipFill>
          <a:blip r:embed="rId3"/>
          <a:stretch/>
        </p:blipFill>
        <p:spPr>
          <a:xfrm>
            <a:off x="6372360" y="260280"/>
            <a:ext cx="685800" cy="104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Xing2"/>
          <p:cNvPicPr/>
          <p:nvPr/>
        </p:nvPicPr>
        <p:blipFill>
          <a:blip r:embed="rId4"/>
          <a:stretch/>
        </p:blipFill>
        <p:spPr>
          <a:xfrm>
            <a:off x="4427640" y="2205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Xing2"/>
          <p:cNvPicPr/>
          <p:nvPr/>
        </p:nvPicPr>
        <p:blipFill>
          <a:blip r:embed="rId5"/>
          <a:stretch/>
        </p:blipFill>
        <p:spPr>
          <a:xfrm>
            <a:off x="1979640" y="213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Xing2"/>
          <p:cNvPicPr/>
          <p:nvPr/>
        </p:nvPicPr>
        <p:blipFill>
          <a:blip r:embed="rId6"/>
          <a:stretch/>
        </p:blipFill>
        <p:spPr>
          <a:xfrm>
            <a:off x="4932360" y="3333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 flipV="1" rot="10702200">
            <a:off x="684000" y="1020960"/>
            <a:ext cx="77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71640" y="2349360"/>
            <a:ext cx="770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让我们与神奇的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汉字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去尽情地对话，用心去体会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汉字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无限魅力，让我们都去爱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汉字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吧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54064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魅力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 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拘束   沉坠  风韵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撇捺   瑰宝   徜徉  驰骋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挺拔如峰      浩瀚如海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凝滑如脂      清亮如溪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611280" y="105264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请声音宏亮地读一读这些字词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Xing2"/>
          <p:cNvPicPr/>
          <p:nvPr/>
        </p:nvPicPr>
        <p:blipFill>
          <a:blip r:embed="rId4"/>
          <a:stretch/>
        </p:blipFill>
        <p:spPr>
          <a:xfrm>
            <a:off x="3851280" y="8366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684360" y="134136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写作的时候，常常为我面前这一个个方块字而动情。它们像一群活泼可爱的孩子在纸上玩笑嬉戏，像一朵朵美丽多姿的鲜花愉悦你的眼睛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它们像一群活泼可爱的孩子在纸上玩笑嬉戏；像一朵朵美丽多姿的鲜花愉悦你的眼睛；像（                         ）；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像（                     ）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这时我真不忍将它们框在方格里，真想叫它们离开格子去舒展身体，去不受拘束地享受自己的欢乐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6"/>
          <p:cNvSpPr/>
          <p:nvPr/>
        </p:nvSpPr>
        <p:spPr>
          <a:xfrm>
            <a:off x="4211640" y="2133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Picture 4" descr="隶书"/>
          <p:cNvPicPr/>
          <p:nvPr/>
        </p:nvPicPr>
        <p:blipFill>
          <a:blip r:embed="rId2"/>
          <a:stretch/>
        </p:blipFill>
        <p:spPr>
          <a:xfrm>
            <a:off x="2700360" y="1125360"/>
            <a:ext cx="4464000" cy="5185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825480" y="1052640"/>
            <a:ext cx="1521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古色古香的隶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篆书"/>
          <p:cNvPicPr/>
          <p:nvPr/>
        </p:nvPicPr>
        <p:blipFill>
          <a:blip r:embed="rId2"/>
          <a:stretch/>
        </p:blipFill>
        <p:spPr>
          <a:xfrm>
            <a:off x="826920" y="1484280"/>
            <a:ext cx="74203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草书"/>
          <p:cNvPicPr/>
          <p:nvPr/>
        </p:nvPicPr>
        <p:blipFill>
          <a:blip r:embed="rId2"/>
          <a:stretch/>
        </p:blipFill>
        <p:spPr>
          <a:xfrm>
            <a:off x="1835280" y="981000"/>
            <a:ext cx="6945120" cy="4824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99760" y="1484280"/>
            <a:ext cx="1521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行如流水的草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2:05:52Z</dcterms:created>
  <dc:creator/>
  <dc:description/>
  <cp:keywords>幻灯片之家 http:/www.eeppt.com</cp:keywords>
  <dc:language>en-US</dc:language>
  <cp:lastModifiedBy/>
  <dcterms:modified xsi:type="dcterms:W3CDTF">2015-07-20T06:06:26Z</dcterms:modified>
  <cp:revision>1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