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camera.wav" ContentType="audio/x-wav"/>
  <Override PartName="/ppt/media/image4.png" ContentType="image/png"/>
  <Override PartName="/ppt/media/image8.jpeg" ContentType="image/jpeg"/>
  <Override PartName="/ppt/media/image6.jpeg" ContentType="image/jpeg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349-1E69-4FBF-A003-B61A79EA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430-0E7B-41CF-A3C2-4E927D57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2A6-75EA-45F6-A9BA-832A3B5B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33AA-952E-4D36-AD2D-F947F0B2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7258-AF56-4D44-BFF8-BF8F32B0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B908-FFE1-4C5A-8FC6-61C137D7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6643-9222-4BAE-98BF-56ED9729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7F1E-1B75-48EF-89E7-A5ACABED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BB55-64F9-42FD-A234-009D4139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4CA6-6135-4138-BD62-119B7E83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B5D2-ECD0-4C91-B684-2B4B56EA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70E-062A-4241-95A4-A3C82429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F578-B095-4624-A63E-0A373138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915E-6EA6-4F92-8F4A-505B7493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37F4-0D21-4030-A02D-72ADC1C7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8529-4816-488B-9D8B-1CF06411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990D-F029-45DB-9FC4-1E60AF9A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EE4-E5EB-4539-9B06-70553ECC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B0E-FF16-4F14-B7E5-BD24EA11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AA0-DF25-4593-9B07-FAC1D89D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82D-57BC-462E-9FFA-E4C4C939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067-809F-47EF-966A-50071C3B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E37-A32E-4078-97EC-39300AE2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338E-6967-41A5-8353-651627D8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3B6E-B3F5-4B62-8399-069EA43208B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4EFE-83EC-468C-A9ED-9E71FBDAB6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1A5D-AC95-4FF1-9C74-F093AA02977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AB26-A0A6-444F-B8CD-C8772A30C7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332000" y="1773360"/>
            <a:ext cx="633888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Calibri"/>
                <a:ea typeface="华文中宋"/>
              </a:rPr>
              <a:t>我得信念</a:t>
            </a:r>
            <a:r>
              <a:rPr b="0" lang="en-US" sz="4000" spc="-1" strike="noStrike">
                <a:solidFill>
                  <a:srgbClr val="003366"/>
                </a:solidFill>
                <a:latin typeface="Calibri"/>
                <a:ea typeface="华文中宋"/>
              </a:rPr>
              <a:t>PPT</a:t>
            </a:r>
            <a:r>
              <a:rPr b="0" lang="zh-CN" sz="4000" spc="-1" strike="noStrike">
                <a:solidFill>
                  <a:srgbClr val="003366"/>
                </a:solidFill>
                <a:latin typeface="Calibri"/>
                <a:ea typeface="华文中宋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6699"/>
                </a:solidFill>
                <a:latin typeface="Calibri"/>
                <a:ea typeface="华文行楷"/>
              </a:rPr>
              <a:t>玛丽</a:t>
            </a:r>
            <a:r>
              <a:rPr b="0" lang="en-US" sz="3900" spc="-1" strike="noStrike">
                <a:solidFill>
                  <a:srgbClr val="006699"/>
                </a:solidFill>
                <a:latin typeface="Calibri"/>
                <a:ea typeface="华文行楷"/>
              </a:rPr>
              <a:t>·</a:t>
            </a:r>
            <a:r>
              <a:rPr b="0" lang="zh-CN" sz="3900" spc="-1" strike="noStrike">
                <a:solidFill>
                  <a:srgbClr val="006699"/>
                </a:solidFill>
                <a:latin typeface="Calibri"/>
                <a:ea typeface="华文行楷"/>
              </a:rPr>
              <a:t>居里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84360" y="27226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阅读爱因斯坦</a:t>
            </a:r>
            <a:r>
              <a:rPr b="0" lang="en-US" sz="3600" spc="-1" strike="noStrike">
                <a:solidFill>
                  <a:srgbClr val="ff00ff"/>
                </a:solidFill>
                <a:latin typeface="Arial"/>
                <a:ea typeface="黑体"/>
              </a:rPr>
              <a:t>《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悼念玛丽</a:t>
            </a:r>
            <a:r>
              <a:rPr b="0" lang="en-US" sz="3600" spc="-1" strike="noStrike">
                <a:solidFill>
                  <a:srgbClr val="ff00ff"/>
                </a:solidFill>
                <a:latin typeface="Arial"/>
                <a:ea typeface="黑体"/>
              </a:rPr>
              <a:t>·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居里</a:t>
            </a:r>
            <a:r>
              <a:rPr b="0" lang="en-US" sz="3600" spc="-1" strike="noStrike">
                <a:solidFill>
                  <a:srgbClr val="ff00ff"/>
                </a:solidFill>
                <a:latin typeface="Arial"/>
                <a:ea typeface="黑体"/>
              </a:rPr>
              <a:t>》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一文，进一步感受居里夫人的伟大人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3"/>
          <p:cNvSpPr txBox="1"/>
          <p:nvPr/>
        </p:nvSpPr>
        <p:spPr>
          <a:xfrm>
            <a:off x="1547640" y="981000"/>
            <a:ext cx="304812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bevel/>
                </a:ln>
                <a:solidFill>
                  <a:srgbClr val="0066cc"/>
                </a:solidFill>
                <a:latin typeface="华文彩云"/>
              </a:rPr>
              <a:t>延伸拓展</a:t>
            </a:r>
            <a:endParaRPr b="0" lang="en-US" sz="6000" spc="1" strike="noStrike">
              <a:ln w="19080">
                <a:solidFill>
                  <a:srgbClr val="99ccff"/>
                </a:solidFill>
                <a:bevel/>
              </a:ln>
              <a:solidFill>
                <a:srgbClr val="0066cc"/>
              </a:solidFill>
              <a:latin typeface="华文彩云"/>
              <a:ea typeface="华文彩云"/>
            </a:endParaRPr>
          </a:p>
        </p:txBody>
      </p:sp>
      <p:pic>
        <p:nvPicPr>
          <p:cNvPr id="143" name="Picture 4" descr="lp3"/>
          <p:cNvPicPr/>
          <p:nvPr/>
        </p:nvPicPr>
        <p:blipFill>
          <a:blip r:embed="rId1"/>
          <a:stretch/>
        </p:blipFill>
        <p:spPr>
          <a:xfrm>
            <a:off x="6804000" y="4702320"/>
            <a:ext cx="1584360" cy="13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宋体"/>
              </a:rPr>
              <a:t>爱因斯坦</a:t>
            </a:r>
            <a:r>
              <a:rPr b="0" lang="en-US" sz="4400" spc="-1" strike="noStrike">
                <a:solidFill>
                  <a:srgbClr val="ffff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ff00"/>
                </a:solidFill>
                <a:latin typeface="宋体"/>
              </a:rPr>
              <a:t>悼念玛丽</a:t>
            </a:r>
            <a:r>
              <a:rPr b="0" lang="en-US" sz="4400" spc="-1" strike="noStrike">
                <a:solidFill>
                  <a:srgbClr val="ffff00"/>
                </a:solidFill>
                <a:latin typeface="宋体"/>
              </a:rPr>
              <a:t>·</a:t>
            </a:r>
            <a:r>
              <a:rPr b="0" lang="zh-CN" sz="4400" spc="-1" strike="noStrike">
                <a:solidFill>
                  <a:srgbClr val="ffff00"/>
                </a:solidFill>
                <a:latin typeface="宋体"/>
              </a:rPr>
              <a:t>居里</a:t>
            </a:r>
            <a:r>
              <a:rPr b="0" lang="en-US" sz="4400" spc="-1" strike="noStrike">
                <a:solidFill>
                  <a:srgbClr val="ffff00"/>
                </a:solidFill>
                <a:latin typeface="宋体"/>
              </a:rPr>
              <a:t>》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20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像居里夫人这样一位崇高人物结束她的一生的时候，我们不仅仅满足于回忆她的工作成果对人类已经做出的贡献。第一流人物对于时代和历史进程的意义，在其道德品质方面，也许比单纯的才智成就方面还要大。即使是后者，它们取决于品格的程度，也远超过通常所认为的那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　　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我幸运地同居里夫人有二十年崇高而真挚的友谊。我对她的人格的伟大愈来愈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感到钦佩。她的坚强，她的意志的纯洁，她的律己之严，她的客观，她的公正不阿的判断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所有这一切都难得地集中在一个人的身上。她在任何时候都意识到自己是社会的公仆，她的极端的谦虚永远不给自满留下任何余地。由于社会的严酷和不平等，她的心情总是抑郁的。这就使得她具有那样严肃的外貌，很容易使那些不接近她的人发生误解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这是无法用任何艺术气质来解晓的少见的严肃性。一旦意识到某一条道路是正确的，她就毫不妥协地并且顽强地坚持走下去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她一生中最伟大的科学功绩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证明放射性元素存在并把它们分离出来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--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所以能取得，不仅是靠大胆的直觉，而且也靠着在难以想像的极端困难情况下对工作的热忱和顽强，这样的困难，在实验科学的历史中是罕见的。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居里夫人的品德力量和热忱，哪怕只要有一小部分存在于欧洲的知识分子中间，欧洲就会面临一个光明的未来。</a:t>
            </a: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lp3"/>
          <p:cNvPicPr/>
          <p:nvPr/>
        </p:nvPicPr>
        <p:blipFill>
          <a:blip r:embed="rId1"/>
          <a:stretch/>
        </p:blipFill>
        <p:spPr>
          <a:xfrm>
            <a:off x="7308720" y="5373720"/>
            <a:ext cx="1440000" cy="119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324520" y="692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  <a:ea typeface="创艺简行楷"/>
              </a:rPr>
              <a:t>朗读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187360" y="2438280"/>
            <a:ext cx="467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谈谈你对本文语言特点的认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针对这样的特点该如何朗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011320" y="3886200"/>
            <a:ext cx="496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本文的语言以叙事性为主，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平实朴素，所以朗读时语气要平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语调干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22红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44160" y="0"/>
            <a:ext cx="1186560" cy="764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6600"/>
                </a:solidFill>
                <a:latin typeface="Arial"/>
              </a:rPr>
              <a:t>共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692280"/>
            <a:ext cx="9144000" cy="521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如果说我们过去没有生活目标，现在我们明确了人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如果说我们过去一味贪图安逸，现在我们学会了艰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如果说我们过去只能依赖他人，现在我们懂得了奉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如果说我们过去一直意志薄弱，现在我们拥有了信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让我们在居里夫人的光辉照耀下，把自己的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也献给人类的进步事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898560" y="2743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GL_088"/>
          <p:cNvPicPr/>
          <p:nvPr/>
        </p:nvPicPr>
        <p:blipFill>
          <a:blip r:embed="rId1"/>
          <a:stretch/>
        </p:blipFill>
        <p:spPr>
          <a:xfrm>
            <a:off x="0" y="-223920"/>
            <a:ext cx="9144000" cy="7081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227016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38080" y="2819520"/>
            <a:ext cx="7318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回首昨天，应该是问心无愧的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面对今天，应该是倍加珍惜的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展望未来，应该是信心百倍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124080" y="4572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教师寄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106640" y="618984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425600" y="1978200"/>
          <a:ext cx="7180200" cy="4070160"/>
        </p:xfrm>
        <a:graphic>
          <a:graphicData uri="http://schemas.openxmlformats.org/drawingml/2006/table">
            <a:tbl>
              <a:tblPr/>
              <a:tblGrid>
                <a:gridCol w="322200"/>
                <a:gridCol w="565200"/>
                <a:gridCol w="565200"/>
                <a:gridCol w="565200"/>
                <a:gridCol w="515880"/>
                <a:gridCol w="693720"/>
                <a:gridCol w="3952800"/>
              </a:tblGrid>
              <a:tr h="7034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4000" spc="-1" strike="noStrike">
                          <a:solidFill>
                            <a:srgbClr val="ff5050"/>
                          </a:solidFill>
                          <a:latin typeface="楷体_GB2312"/>
                          <a:ea typeface="楷体_GB2312"/>
                        </a:rPr>
                        <a:t>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      </a:t>
                      </a:r>
                      <a:r>
                        <a:rPr b="1" i="1" lang="zh-CN" sz="36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目标、信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i="1" lang="zh-CN" sz="36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坚忍不拔、勤奋努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    </a:t>
                      </a:r>
                      <a:r>
                        <a:rPr b="1" i="1" lang="zh-CN" sz="3600" spc="-1" strike="noStrike">
                          <a:solidFill>
                            <a:srgbClr val="ff9933"/>
                          </a:solidFill>
                          <a:latin typeface="楷体_GB2312"/>
                          <a:ea typeface="楷体_GB2312"/>
                        </a:rPr>
                        <a:t>自由、安静、时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      </a:t>
                      </a:r>
                      <a:r>
                        <a:rPr b="1" i="1" lang="zh-CN" sz="36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沉醉于科学之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6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      </a:t>
                      </a:r>
                      <a:r>
                        <a:rPr b="1" i="1" lang="zh-CN" sz="3600" spc="-1" strike="noStrike">
                          <a:solidFill>
                            <a:srgbClr val="0000cc"/>
                          </a:solidFill>
                          <a:latin typeface="楷体_GB2312"/>
                          <a:ea typeface="楷体_GB2312"/>
                        </a:rPr>
                        <a:t>探讨真理、不图财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5" name="Picture 43" descr="ac056"/>
          <p:cNvPicPr/>
          <p:nvPr/>
        </p:nvPicPr>
        <p:blipFill>
          <a:blip r:embed="rId1"/>
          <a:stretch/>
        </p:blipFill>
        <p:spPr>
          <a:xfrm>
            <a:off x="304920" y="6019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4" descr="141"/>
          <p:cNvPicPr/>
          <p:nvPr/>
        </p:nvPicPr>
        <p:blipFill>
          <a:blip r:embed="rId2"/>
          <a:stretch/>
        </p:blipFill>
        <p:spPr>
          <a:xfrm>
            <a:off x="6012000" y="260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5"/>
          <p:cNvSpPr/>
          <p:nvPr/>
        </p:nvSpPr>
        <p:spPr>
          <a:xfrm>
            <a:off x="2627280" y="2781360"/>
            <a:ext cx="671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方正黑体简体"/>
              </a:rPr>
              <a:t>工  作           宗  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2268360" y="4076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ahoma"/>
                <a:ea typeface="方正黑体简体"/>
              </a:rPr>
              <a:t>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7"/>
          <p:cNvSpPr/>
          <p:nvPr/>
        </p:nvSpPr>
        <p:spPr>
          <a:xfrm>
            <a:off x="1763640" y="4005360"/>
            <a:ext cx="6840720" cy="144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8"/>
          <p:cNvSpPr/>
          <p:nvPr/>
        </p:nvSpPr>
        <p:spPr>
          <a:xfrm>
            <a:off x="0" y="4653000"/>
            <a:ext cx="7956720" cy="144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9"/>
          <p:cNvSpPr/>
          <p:nvPr/>
        </p:nvSpPr>
        <p:spPr>
          <a:xfrm>
            <a:off x="3995640" y="2637000"/>
            <a:ext cx="4680000" cy="71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0"/>
          <p:cNvSpPr/>
          <p:nvPr/>
        </p:nvSpPr>
        <p:spPr>
          <a:xfrm>
            <a:off x="971640" y="6165720"/>
            <a:ext cx="7127640" cy="21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5867280" y="170028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5050"/>
                </a:solidFill>
                <a:latin typeface="Tahoma"/>
                <a:ea typeface="黑体"/>
              </a:rPr>
              <a:t>成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课件素材 660"/>
          <p:cNvPicPr/>
          <p:nvPr/>
        </p:nvPicPr>
        <p:blipFill>
          <a:blip r:embed="rId1"/>
          <a:stretch/>
        </p:blipFill>
        <p:spPr>
          <a:xfrm>
            <a:off x="4057560" y="3100320"/>
            <a:ext cx="1028880" cy="655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课件素材 657"/>
          <p:cNvPicPr/>
          <p:nvPr/>
        </p:nvPicPr>
        <p:blipFill>
          <a:blip r:embed="rId2"/>
          <a:stretch/>
        </p:blipFill>
        <p:spPr>
          <a:xfrm>
            <a:off x="0" y="0"/>
            <a:ext cx="9067680" cy="680076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  <p:sp>
        <p:nvSpPr>
          <p:cNvPr id="96" name="Text Box 4"/>
          <p:cNvSpPr/>
          <p:nvPr/>
        </p:nvSpPr>
        <p:spPr>
          <a:xfrm>
            <a:off x="762120" y="685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华文行楷"/>
              </a:rPr>
              <a:t>宗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371600" y="8380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c0504d"/>
          </a:solidFill>
          <a:ln w="9360">
            <a:solidFill>
              <a:srgbClr val="00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676520" y="6858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探讨真理，不图财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676520" y="13716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沉醉于科学之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62120" y="21337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华文行楷"/>
              </a:rPr>
              <a:t>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1447920" y="22860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0000ff"/>
          </a:solidFill>
          <a:ln w="9360">
            <a:solidFill>
              <a:srgbClr val="00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676520" y="1981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自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676520" y="27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安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1752480" y="3276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09480" y="48006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华文行楷"/>
              </a:rPr>
              <a:t>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1295280" y="4267080"/>
            <a:ext cx="152640" cy="1676520"/>
          </a:xfrm>
          <a:custGeom>
            <a:avLst/>
            <a:gdLst>
              <a:gd name="textAreaLeft" fmla="*/ 97560 w 152640"/>
              <a:gd name="textAreaRight" fmla="*/ 15300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0504d"/>
          </a:solidFill>
          <a:ln w="9360">
            <a:solidFill>
              <a:srgbClr val="00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160020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1600200" y="4419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信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1676520" y="5181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坚忍不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1600200" y="57913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勤奋努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mcurie-port.jpg (15561 bytes)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久别的人.MP3" descr=""/>
          <p:cNvPicPr/>
          <p:nvPr/>
        </p:nvPicPr>
        <p:blipFill>
          <a:blip r:embed="rId4"/>
          <a:stretch/>
        </p:blipFill>
        <p:spPr>
          <a:xfrm>
            <a:off x="4038480" y="56386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767480" y="236520"/>
            <a:ext cx="345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我之所以如此</a:t>
            </a:r>
            <a:r>
              <a:rPr b="1" lang="en-US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或许是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有某种力量在鞭策着我</a:t>
            </a:r>
            <a:r>
              <a:rPr b="1" lang="en-US" sz="3200" spc="-1" strike="noStrike">
                <a:solidFill>
                  <a:srgbClr val="3366ff"/>
                </a:solidFill>
                <a:latin typeface="宋体"/>
              </a:rPr>
              <a:t>.”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到底是什么力量</a:t>
            </a:r>
            <a:r>
              <a:rPr b="1" lang="en-US" sz="3200" spc="-1" strike="noStrike">
                <a:solidFill>
                  <a:srgbClr val="3366ff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02320" y="1916280"/>
            <a:ext cx="245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无论付出任何代价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都要把这件事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069960" y="2060640"/>
            <a:ext cx="18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因素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完成的决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132200" y="3213000"/>
            <a:ext cx="29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研究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就是对真理的探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927760" y="314172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因素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真理的渴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145520" y="4076640"/>
            <a:ext cx="24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我们都认为不能违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我们纯粹研究的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927760" y="4221000"/>
            <a:ext cx="239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因素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崇高的使命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科学事业造福人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060560" y="5229360"/>
            <a:ext cx="296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这种魅力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就是使我能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终生在实验室里埋头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的主要原因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5904360" y="573408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因素四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科学魅力的吸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866880" y="333360"/>
            <a:ext cx="2009520" cy="100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问题探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22红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28600" y="2743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24000" y="907920"/>
            <a:ext cx="85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</a:rPr>
              <a:t>完成事情的决心、信心；对真理的渴求；科学魅力的吸引；对人类事业的崇高历史使命感</a:t>
            </a: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……</a:t>
            </a:r>
            <a:r>
              <a:rPr b="1" lang="zh-CN" sz="4800" spc="-1" strike="noStrike">
                <a:solidFill>
                  <a:srgbClr val="00ffff"/>
                </a:solidFill>
                <a:latin typeface="Arial"/>
              </a:rPr>
              <a:t>等复合因素，</a:t>
            </a:r>
            <a:r>
              <a:rPr b="1" lang="zh-CN" sz="4800" spc="-1" strike="noStrike">
                <a:solidFill>
                  <a:srgbClr val="66ff33"/>
                </a:solidFill>
                <a:latin typeface="Arial"/>
              </a:rPr>
              <a:t>也就是作者的信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1483920"/>
            <a:ext cx="9685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、作者认为做事情需要怎样的精神？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371592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、作者以蚕作比，意在说明什么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324000" y="260280"/>
            <a:ext cx="201600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题：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24000" y="285264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需要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坚忍不拔</a:t>
            </a:r>
            <a:r>
              <a:rPr b="1" lang="zh-CN" sz="36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的精神，还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要有信心</a:t>
            </a:r>
            <a:r>
              <a:rPr b="1" lang="zh-CN" sz="36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84360" y="4076640"/>
            <a:ext cx="8459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把自己比作蚕，意在说明要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集中精神</a:t>
            </a:r>
            <a:r>
              <a:rPr b="1" lang="zh-CN" sz="36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勤奋地工作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为目标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懈努力</a:t>
            </a:r>
            <a:r>
              <a:rPr b="1" lang="zh-CN" sz="36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042920" y="0"/>
            <a:ext cx="8101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ff"/>
                </a:solidFill>
                <a:latin typeface="Tahoma"/>
                <a:ea typeface="华文新魏"/>
              </a:rPr>
              <a:t>文后研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梦想家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最基本的特征是什么？从哪件事看出作者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梦想家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26920" y="364500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ahoma"/>
                <a:ea typeface="楷体_GB2312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、为什么作者说，科学家应当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一个小孩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 ？这反映了作者怎么样的心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692360" y="2492280"/>
            <a:ext cx="62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Tahoma"/>
                <a:ea typeface="楷体_GB2312"/>
              </a:rPr>
              <a:t>不图物质利益而全身心投入。从放弃申请专利可以看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403280" y="501336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Tahoma"/>
                <a:ea typeface="楷体_GB2312"/>
              </a:rPr>
              <a:t>像小孩迷醉于神话故事一般迷醉于科学的魅力。反映作者对科学十分热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000" y="326880"/>
            <a:ext cx="9107640" cy="719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111111"/>
                </a:solidFill>
                <a:latin typeface="Calibri"/>
                <a:ea typeface="隶书"/>
              </a:rPr>
              <a:t>                      </a:t>
            </a:r>
            <a:r>
              <a:rPr b="0" lang="zh-CN" sz="4300" spc="-1" strike="noStrike">
                <a:solidFill>
                  <a:srgbClr val="111111"/>
                </a:solidFill>
                <a:latin typeface="Calibri"/>
                <a:ea typeface="隶书"/>
              </a:rPr>
              <a:t>小结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这篇自述性的文章中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作者回顾了自己的人生经历、生活情况和进行科学研究的工作态度，阐述了自己的信念和理想。我们可以深切地感受到作者献身科学、淡泊名利、甘于简单的伟大的人格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01:18:00Z</dcterms:created>
  <dc:creator/>
  <dc:description/>
  <cp:keywords>幻灯片之家 http:/www.eeppt.com</cp:keywords>
  <dc:language>en-US</dc:language>
  <cp:lastModifiedBy/>
  <dcterms:modified xsi:type="dcterms:W3CDTF">2015-07-20T03:20:4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