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647-9AAC-4E31-8D23-B5FA0CE1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DE4-5321-484E-B2AF-CD5CF0B5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CC1-E271-49F2-9415-B0A4097C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764-1245-4584-9022-D1004050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CB69-D160-4340-A8D9-FCD3DDD0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FAE1-B4D5-4C1A-8DEC-1B2F5995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0AE2-D843-4D33-A959-28CD4C92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ABC9-4AB5-416D-B2FD-D0AB0A01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298D-2BC3-4495-BE74-DE174938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310F-CE97-4CA5-89F2-E80EB74C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12D0-9180-4C84-95A5-F76CF1B7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68A-E0B6-4DEB-9919-E374CD98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D19A-FC80-46CA-8048-737A22C7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7F75-D9C9-44C0-BF4E-10F5C697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243C-3936-4444-99C4-F93F5398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BE96-71EA-493E-8B09-6B5E1F9F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4915-26F5-4F0F-9532-1D4A1F00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6D7-282F-414A-89CC-50734142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514-EB3D-482E-AE45-6D21E2D4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D12-8D41-4BC5-8E89-ADBDE83D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19F-4946-43E3-9BB0-87319FE4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BB8-35EF-43A3-954C-EC3B0B78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ED6-8208-4084-9DE7-EDA4E994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BF3-653B-4038-81AD-4F49E188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057D-134B-4246-B8A8-B2AC14031C58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71640" y="213984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语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七年级  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4022-DC6E-458C-A249-948918682CF2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0851;&#20110;&#8220;&#23569;&#22899;&#26102;&#26399;&#25105;&#22312;&#24052;&#40654;&#22823;&#23398;&#65292;.doc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3621;&#37324;&#22827;&#20154;&#31616;&#20171;.doc" TargetMode="External"/><Relationship Id="rId3" Type="http://schemas.openxmlformats.org/officeDocument/2006/relationships/hyperlink" Target="&#23621;&#37324;&#22827;&#20154;&#30340;&#31185;&#23398;&#30740;&#31350;.doc" TargetMode="External"/><Relationship Id="rId4" Type="http://schemas.openxmlformats.org/officeDocument/2006/relationships/hyperlink" Target="&#23621;&#37324;&#22827;&#20154;&#30340;&#25104;&#23601;.doc" TargetMode="External"/><Relationship Id="rId5" Type="http://schemas.openxmlformats.org/officeDocument/2006/relationships/hyperlink" Target="&#29233;&#22240;&#26031;&#22374;.doc" TargetMode="External"/><Relationship Id="rId6" Type="http://schemas.openxmlformats.org/officeDocument/2006/relationships/hyperlink" Target="&#29233;&#22240;&#26031;&#22374;.doc" TargetMode="External"/><Relationship Id="rId7" Type="http://schemas.openxmlformats.org/officeDocument/2006/relationships/hyperlink" Target="&#29233;&#22240;&#26031;&#22374;.doc" TargetMode="Externa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3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2"/>
          <a:srcRect l="0" t="0" r="0" b="45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034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超粗黑简体"/>
                <a:ea typeface="方正超粗黑简体"/>
              </a:rPr>
              <a:t> 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6283440" y="6288840"/>
            <a:ext cx="1093680" cy="455760"/>
          </a:xfrm>
          <a:custGeom>
            <a:avLst/>
            <a:gdLst>
              <a:gd name="textAreaLeft" fmla="*/ 28440 w 1093680"/>
              <a:gd name="textAreaRight" fmla="*/ 1065240 w 109368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51809" h="21600">
                <a:moveTo>
                  <a:pt x="0" y="0"/>
                </a:moveTo>
                <a:lnTo>
                  <a:pt x="51809" y="0"/>
                </a:lnTo>
                <a:lnTo>
                  <a:pt x="51809" y="21600"/>
                </a:lnTo>
                <a:lnTo>
                  <a:pt x="0" y="21600"/>
                </a:lnTo>
                <a:close/>
              </a:path>
              <a:path fill="lightenLess" w="51809" h="21600">
                <a:moveTo>
                  <a:pt x="0" y="0"/>
                </a:moveTo>
                <a:lnTo>
                  <a:pt x="51809" y="0"/>
                </a:lnTo>
                <a:lnTo>
                  <a:pt x="50459" y="1350"/>
                </a:lnTo>
                <a:lnTo>
                  <a:pt x="1350" y="1350"/>
                </a:lnTo>
                <a:close/>
              </a:path>
              <a:path fill="darken" w="51809" h="21600">
                <a:moveTo>
                  <a:pt x="51809" y="0"/>
                </a:moveTo>
                <a:lnTo>
                  <a:pt x="51809" y="21600"/>
                </a:lnTo>
                <a:lnTo>
                  <a:pt x="50459" y="20250"/>
                </a:lnTo>
                <a:lnTo>
                  <a:pt x="50459" y="1350"/>
                </a:lnTo>
                <a:close/>
              </a:path>
              <a:path fill="darkenLess" w="51809" h="21600">
                <a:moveTo>
                  <a:pt x="518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0459" y="20250"/>
                </a:lnTo>
                <a:close/>
              </a:path>
              <a:path fill="lighten" w="518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2870280" y="6288840"/>
            <a:ext cx="1049400" cy="455760"/>
          </a:xfrm>
          <a:custGeom>
            <a:avLst/>
            <a:gdLst>
              <a:gd name="textAreaLeft" fmla="*/ 28440 w 1049400"/>
              <a:gd name="textAreaRight" fmla="*/ 1020960 w 104940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49712" h="21600">
                <a:moveTo>
                  <a:pt x="0" y="0"/>
                </a:moveTo>
                <a:lnTo>
                  <a:pt x="49712" y="0"/>
                </a:lnTo>
                <a:lnTo>
                  <a:pt x="49712" y="21600"/>
                </a:lnTo>
                <a:lnTo>
                  <a:pt x="0" y="21600"/>
                </a:lnTo>
                <a:close/>
              </a:path>
              <a:path fill="lightenLess" w="49712" h="21600">
                <a:moveTo>
                  <a:pt x="0" y="0"/>
                </a:moveTo>
                <a:lnTo>
                  <a:pt x="49712" y="0"/>
                </a:lnTo>
                <a:lnTo>
                  <a:pt x="48362" y="1350"/>
                </a:lnTo>
                <a:lnTo>
                  <a:pt x="1350" y="1350"/>
                </a:lnTo>
                <a:close/>
              </a:path>
              <a:path fill="darken" w="49712" h="21600">
                <a:moveTo>
                  <a:pt x="49712" y="0"/>
                </a:moveTo>
                <a:lnTo>
                  <a:pt x="49712" y="21600"/>
                </a:lnTo>
                <a:lnTo>
                  <a:pt x="48362" y="20250"/>
                </a:lnTo>
                <a:lnTo>
                  <a:pt x="48362" y="1350"/>
                </a:lnTo>
                <a:close/>
              </a:path>
              <a:path fill="darkenLess" w="49712" h="21600">
                <a:moveTo>
                  <a:pt x="497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8362" y="20250"/>
                </a:lnTo>
                <a:close/>
              </a:path>
              <a:path fill="lighten" w="497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阅读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695600" y="6288840"/>
            <a:ext cx="1081080" cy="455760"/>
          </a:xfrm>
          <a:custGeom>
            <a:avLst/>
            <a:gdLst>
              <a:gd name="textAreaLeft" fmla="*/ 28440 w 1081080"/>
              <a:gd name="textAreaRight" fmla="*/ 1052640 w 108108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51213" h="21600">
                <a:moveTo>
                  <a:pt x="0" y="0"/>
                </a:moveTo>
                <a:lnTo>
                  <a:pt x="51213" y="0"/>
                </a:lnTo>
                <a:lnTo>
                  <a:pt x="51213" y="21600"/>
                </a:lnTo>
                <a:lnTo>
                  <a:pt x="0" y="21600"/>
                </a:lnTo>
                <a:close/>
              </a:path>
              <a:path fill="lightenLess" w="51213" h="21600">
                <a:moveTo>
                  <a:pt x="0" y="0"/>
                </a:moveTo>
                <a:lnTo>
                  <a:pt x="51213" y="0"/>
                </a:lnTo>
                <a:lnTo>
                  <a:pt x="49863" y="1350"/>
                </a:lnTo>
                <a:lnTo>
                  <a:pt x="1350" y="1350"/>
                </a:lnTo>
                <a:close/>
              </a:path>
              <a:path fill="darken" w="51213" h="21600">
                <a:moveTo>
                  <a:pt x="51213" y="0"/>
                </a:moveTo>
                <a:lnTo>
                  <a:pt x="51213" y="21600"/>
                </a:lnTo>
                <a:lnTo>
                  <a:pt x="49863" y="20250"/>
                </a:lnTo>
                <a:lnTo>
                  <a:pt x="49863" y="1350"/>
                </a:lnTo>
                <a:close/>
              </a:path>
              <a:path fill="darkenLess" w="51213" h="21600">
                <a:moveTo>
                  <a:pt x="5121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9863" y="20250"/>
                </a:lnTo>
                <a:close/>
              </a:path>
              <a:path fill="lighten" w="5121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感知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7470720" y="6288840"/>
            <a:ext cx="1041480" cy="455760"/>
          </a:xfrm>
          <a:custGeom>
            <a:avLst/>
            <a:gdLst>
              <a:gd name="textAreaLeft" fmla="*/ 28440 w 1041480"/>
              <a:gd name="textAreaRight" fmla="*/ 1013040 w 104148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49337" h="21600">
                <a:moveTo>
                  <a:pt x="0" y="0"/>
                </a:moveTo>
                <a:lnTo>
                  <a:pt x="49337" y="0"/>
                </a:lnTo>
                <a:lnTo>
                  <a:pt x="49337" y="21600"/>
                </a:lnTo>
                <a:lnTo>
                  <a:pt x="0" y="21600"/>
                </a:lnTo>
                <a:close/>
              </a:path>
              <a:path fill="lightenLess" w="49337" h="21600">
                <a:moveTo>
                  <a:pt x="0" y="0"/>
                </a:moveTo>
                <a:lnTo>
                  <a:pt x="49337" y="0"/>
                </a:lnTo>
                <a:lnTo>
                  <a:pt x="47987" y="1350"/>
                </a:lnTo>
                <a:lnTo>
                  <a:pt x="1350" y="1350"/>
                </a:lnTo>
                <a:close/>
              </a:path>
              <a:path fill="darken" w="49337" h="21600">
                <a:moveTo>
                  <a:pt x="49337" y="0"/>
                </a:moveTo>
                <a:lnTo>
                  <a:pt x="49337" y="21600"/>
                </a:lnTo>
                <a:lnTo>
                  <a:pt x="47987" y="20250"/>
                </a:lnTo>
                <a:lnTo>
                  <a:pt x="47987" y="1350"/>
                </a:lnTo>
                <a:close/>
              </a:path>
              <a:path fill="darkenLess" w="49337" h="21600">
                <a:moveTo>
                  <a:pt x="4933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7987" y="20250"/>
                </a:lnTo>
                <a:close/>
              </a:path>
              <a:path fill="lighten" w="4933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扩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4013280" y="6114960"/>
            <a:ext cx="1041480" cy="803880"/>
          </a:xfrm>
          <a:custGeom>
            <a:avLst/>
            <a:gdLst>
              <a:gd name="textAreaLeft" fmla="*/ 50040 w 1041480"/>
              <a:gd name="textAreaRight" fmla="*/ 991440 w 1041480"/>
              <a:gd name="textAreaTop" fmla="*/ 50040 h 803880"/>
              <a:gd name="textAreaBottom" fmla="*/ 753840 h 80388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631" y="1350"/>
                </a:lnTo>
                <a:lnTo>
                  <a:pt x="1350" y="135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631" y="20250"/>
                </a:lnTo>
                <a:lnTo>
                  <a:pt x="26631" y="135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631" y="2025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阅读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2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509760" y="6288840"/>
            <a:ext cx="1093680" cy="455760"/>
          </a:xfrm>
          <a:custGeom>
            <a:avLst/>
            <a:gdLst>
              <a:gd name="textAreaLeft" fmla="*/ 28440 w 1093680"/>
              <a:gd name="textAreaRight" fmla="*/ 1065240 w 109368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51809" h="21600">
                <a:moveTo>
                  <a:pt x="0" y="0"/>
                </a:moveTo>
                <a:lnTo>
                  <a:pt x="51809" y="0"/>
                </a:lnTo>
                <a:lnTo>
                  <a:pt x="51809" y="21600"/>
                </a:lnTo>
                <a:lnTo>
                  <a:pt x="0" y="21600"/>
                </a:lnTo>
                <a:close/>
              </a:path>
              <a:path fill="lightenLess" w="51809" h="21600">
                <a:moveTo>
                  <a:pt x="0" y="0"/>
                </a:moveTo>
                <a:lnTo>
                  <a:pt x="51809" y="0"/>
                </a:lnTo>
                <a:lnTo>
                  <a:pt x="50459" y="1350"/>
                </a:lnTo>
                <a:lnTo>
                  <a:pt x="1350" y="1350"/>
                </a:lnTo>
                <a:close/>
              </a:path>
              <a:path fill="darken" w="51809" h="21600">
                <a:moveTo>
                  <a:pt x="51809" y="0"/>
                </a:moveTo>
                <a:lnTo>
                  <a:pt x="51809" y="21600"/>
                </a:lnTo>
                <a:lnTo>
                  <a:pt x="50459" y="20250"/>
                </a:lnTo>
                <a:lnTo>
                  <a:pt x="50459" y="1350"/>
                </a:lnTo>
                <a:close/>
              </a:path>
              <a:path fill="darkenLess" w="51809" h="21600">
                <a:moveTo>
                  <a:pt x="518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0459" y="20250"/>
                </a:lnTo>
                <a:close/>
              </a:path>
              <a:path fill="lighten" w="518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作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5148360" y="6114960"/>
            <a:ext cx="1041480" cy="803880"/>
          </a:xfrm>
          <a:custGeom>
            <a:avLst/>
            <a:gdLst>
              <a:gd name="textAreaLeft" fmla="*/ 50040 w 1041480"/>
              <a:gd name="textAreaRight" fmla="*/ 991440 w 1041480"/>
              <a:gd name="textAreaTop" fmla="*/ 50040 h 803880"/>
              <a:gd name="textAreaBottom" fmla="*/ 753840 h 80388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631" y="1350"/>
                </a:lnTo>
                <a:lnTo>
                  <a:pt x="1350" y="135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631" y="20250"/>
                </a:lnTo>
                <a:lnTo>
                  <a:pt x="26631" y="135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631" y="2025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阅读３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5680" y="1080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77320" y="206064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我的信念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阅读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2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、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3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自然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5105102"/>
          <p:cNvPicPr/>
          <p:nvPr/>
        </p:nvPicPr>
        <p:blipFill>
          <a:blip r:embed="rId2"/>
          <a:stretch/>
        </p:blipFill>
        <p:spPr>
          <a:xfrm>
            <a:off x="2960640" y="2133720"/>
            <a:ext cx="326700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194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有一年的春天，我因病被迫在家里休息数周，我注视着我的女儿们所养的蚕正在结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茧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。这使我感兴趣，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  <a:ea typeface="楷体_GB2312"/>
              </a:rPr>
              <a:t>望着这些蚕执着地、勤奋地工作，我感到我和它们非常相似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。像它们一样，我总是耐心地把自己的努力集中在一个目标上。我之所以如此，或许是因为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  <a:ea typeface="楷体_GB2312"/>
              </a:rPr>
              <a:t>有某种力量在鞭策着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——正如蚕被鞭策着去结茧一般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6588000" y="1195560"/>
            <a:ext cx="1092240" cy="747720"/>
          </a:xfrm>
          <a:prstGeom prst="wedgeRoundRectCallout">
            <a:avLst>
              <a:gd name="adj1" fmla="val 40699"/>
              <a:gd name="adj2" fmla="val 149574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j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28376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望着这些蚕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执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地、勤奋地工作，我感到我和它们非常相似。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执着”一词，原来的课本是“固执”。你觉得为什么改为“执着”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1440" y="3494160"/>
            <a:ext cx="7630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固执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坚持己见，不肯改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含有不听人劝的意思，一般用于贬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执着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坚持不懈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之所以如此，或许是因为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某种力量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鞭策着我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联系下一段，你认为“某种力量”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404640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是“对真理的探讨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087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00240"/>
            <a:ext cx="798984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在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来，我致力于科学研究，而研究，就是对真理的探讨。我有许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美好快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记忆。少女时期我在巴黎大学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孤独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地过着求学的岁月；在后来献身科学的整个时期，我丈夫和我专心致志，像在梦幻中一般，坐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简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书房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艰辛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地研究，后来我们就在那里发现了镭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1125360"/>
            <a:ext cx="8280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少女时期我在巴黎大学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孤独地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过着求学的岁月……坐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简陋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书房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艰辛地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研究，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作者却把它当做“美好快乐的记忆”，这是为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9800" y="2958840"/>
            <a:ext cx="81532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她的“美好快乐”就是“求学”，就是“致力于科学研究”和“对真理的探讨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只要能如此，她就感到“美好快乐”，哪怕是“孤独地”、“艰辛地”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7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参读文章：梁衡《跨越百年的美丽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阅读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4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、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5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自然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居里夫人"/>
          <p:cNvPicPr/>
          <p:nvPr/>
        </p:nvPicPr>
        <p:blipFill>
          <a:blip r:embed="rId2"/>
          <a:stretch/>
        </p:blipFill>
        <p:spPr>
          <a:xfrm>
            <a:off x="3062160" y="1905120"/>
            <a:ext cx="301788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9097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2239560"/>
            <a:ext cx="800100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我永远是追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安静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工作和简单的家庭生活。为了实现这个理想，我竭力保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宁静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环境，以免受人事的干扰和盛名的拖累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静”和“宁静”可以互换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不能。“宁静”包括环境和心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942480"/>
            <a:ext cx="180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4280" y="2091960"/>
            <a:ext cx="80010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　　我深信，在科学方面我们有对事业而不是对财富的兴趣。当皮埃尔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·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居里和我考虑要不要在我们的发现上取得经济利益时，我们都认为不能违背我们</a:t>
            </a:r>
            <a:r>
              <a:rPr b="1" lang="zh-CN" sz="2600" spc="-1" strike="noStrike">
                <a:solidFill>
                  <a:srgbClr val="ff9933"/>
                </a:solidFill>
                <a:latin typeface="Arial"/>
                <a:ea typeface="楷体_GB2312"/>
              </a:rPr>
              <a:t>纯粹研究的观念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。因而我们没有申请镭的专利，也就抛弃了一笔财富。我坚信我们是对的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6227640" y="692280"/>
            <a:ext cx="1467000" cy="1027080"/>
          </a:xfrm>
          <a:prstGeom prst="wedgeRoundRectCallout">
            <a:avLst>
              <a:gd name="adj1" fmla="val 50865"/>
              <a:gd name="adj2" fmla="val 175037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指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2484360" y="4437000"/>
            <a:ext cx="4295880" cy="1081080"/>
          </a:xfrm>
          <a:prstGeom prst="wedgeRoundRectCallout">
            <a:avLst>
              <a:gd name="adj1" fmla="val -28268"/>
              <a:gd name="adj2" fmla="val -38398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是对真理的探讨，而不是谋求物质上的利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942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3680" y="2412720"/>
            <a:ext cx="792468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诚然，人类需要讲究</a:t>
            </a:r>
            <a:r>
              <a:rPr b="1" lang="zh-CN" sz="3000" spc="-1" strike="noStrike">
                <a:solidFill>
                  <a:srgbClr val="ff9933"/>
                </a:solidFill>
                <a:latin typeface="Arial"/>
                <a:ea typeface="楷体_GB2312"/>
              </a:rPr>
              <a:t>现实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的人，他们在工作中获得很多的报酬。但是，人类也需要</a:t>
            </a:r>
            <a:r>
              <a:rPr b="1" lang="zh-CN" sz="3000" spc="-1" strike="noStrike">
                <a:solidFill>
                  <a:srgbClr val="ff9933"/>
                </a:solidFill>
                <a:latin typeface="Arial"/>
                <a:ea typeface="楷体_GB2312"/>
              </a:rPr>
              <a:t>梦想家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——他们受事业的强烈的吸引，既没有闲暇也没有热情去谋求物质上的利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5564160" y="1096920"/>
            <a:ext cx="2968560" cy="963720"/>
          </a:xfrm>
          <a:prstGeom prst="wedgeRoundRectCallout">
            <a:avLst>
              <a:gd name="adj1" fmla="val 2513"/>
              <a:gd name="adj2" fmla="val 4694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现实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指什么？ “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梦想家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指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209680" y="1025640"/>
            <a:ext cx="2793960" cy="963360"/>
          </a:xfrm>
          <a:prstGeom prst="wedgeRoundRectCallout">
            <a:avLst>
              <a:gd name="adj1" fmla="val 35171"/>
              <a:gd name="adj2" fmla="val 106671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在工作中获得很大的报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133720" y="4495680"/>
            <a:ext cx="5790960" cy="1525680"/>
          </a:xfrm>
          <a:prstGeom prst="wedgeRoundRectCallout">
            <a:avLst>
              <a:gd name="adj1" fmla="val 40763"/>
              <a:gd name="adj2" fmla="val -123671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是“纯粹研究”，是“对真理的探求”，是“没有闲暇也没有热情去谋求物质上的利益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2" descr="hxmj_195"/>
          <p:cNvPicPr/>
          <p:nvPr/>
        </p:nvPicPr>
        <p:blipFill>
          <a:blip r:embed="rId2"/>
          <a:srcRect l="0" t="0" r="0" b="8113"/>
          <a:stretch/>
        </p:blipFill>
        <p:spPr>
          <a:xfrm>
            <a:off x="4737240" y="839880"/>
            <a:ext cx="37954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3311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新魏"/>
              </a:rPr>
              <a:t>我的信念</a:t>
            </a:r>
            <a:r>
              <a:rPr b="1" lang="en-US" sz="10900" spc="-1" strike="noStrike">
                <a:solidFill>
                  <a:srgbClr val="990000"/>
                </a:solidFill>
                <a:latin typeface="Arial"/>
                <a:ea typeface="华文新魏"/>
              </a:rPr>
              <a:t> </a:t>
            </a:r>
            <a:br>
              <a:rPr sz="10900"/>
            </a:b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玛丽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华文新魏"/>
              </a:rPr>
              <a:t>·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居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230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1349280" y="4724280"/>
            <a:ext cx="1494000" cy="628920"/>
          </a:xfrm>
          <a:prstGeom prst="wedgeRoundRectCallout">
            <a:avLst>
              <a:gd name="adj1" fmla="val 39268"/>
              <a:gd name="adj2" fmla="val -170453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róu l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4211640" y="4363920"/>
            <a:ext cx="2717640" cy="1441440"/>
          </a:xfrm>
          <a:prstGeom prst="wedgeRoundRectCallout">
            <a:avLst>
              <a:gd name="adj1" fmla="val -90773"/>
              <a:gd name="adj2" fmla="val -78083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践踏，比喻用暴力欺压、侮辱、侵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000" y="2235240"/>
            <a:ext cx="79246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我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唯一奢望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是在一个自由国家中，以一个自由学者的身分从事研究，我从没有把这种权益视为理所当然，因为在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岁以前，我一直居住在被占领和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蹂躏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波兰。我估量过在法国得到自由的代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298160"/>
            <a:ext cx="8207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唯一奢望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是在一个自由国家中，以一个自由学者的身分从事研究工作。</a:t>
            </a:r>
            <a:br>
              <a:rPr sz="2800"/>
            </a:b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奢望”是什么意思？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在“奢望”前加“唯一”，是什么目的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2360" y="3686040"/>
            <a:ext cx="8062920" cy="19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奢望：过高的希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唯一”强调“在一个自由国家中，以一个自由学者的身分从事研究工作”的重要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  <a:ea typeface="楷体_GB2312"/>
              </a:rPr>
              <a:t>——强调自由的重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80" y="651960"/>
            <a:ext cx="8839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757a"/>
                </a:solidFill>
                <a:latin typeface="Arial"/>
                <a:ea typeface="华文彩云"/>
              </a:rPr>
              <a:t>                           </a:t>
            </a: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华文彩云"/>
              </a:rPr>
              <a:t>谈谈你的理解：</a:t>
            </a:r>
            <a:br>
              <a:rPr sz="3600"/>
            </a:br>
            <a:r>
              <a:rPr b="0" lang="en-US" sz="3600" spc="-1" strike="noStrike">
                <a:solidFill>
                  <a:srgbClr val="bbe0e3"/>
                </a:solidFill>
                <a:latin typeface="Arial"/>
                <a:ea typeface="华文彩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把“在一个自由国家中，以一个自由学者的身分从事研究”作为“唯一奢望”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79930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自由是从事科学研究的前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在侵略者的铁蹄下，在专制制度的干预下，是无法顺利地从事科学研究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居里夫人在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24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岁以前，居住在被占领和被蹂躏的波兰，经历了没有自由的痛苦，因而倍加渴望自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1080" y="444240"/>
            <a:ext cx="8134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华文彩云"/>
              </a:rPr>
              <a:t>考考你的知识面：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例说明，没有自由就不能顺利地从事科学研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61440" y="206064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因反对“地心说”，哥白尼被反动政府通缉；布鲁诺被教会烧死在罗马的鲜花广场上；加利略被判死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因反对“文化大革命”，反对迫害国家主席刘少奇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张志新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被以“现行反革命罪”判处死刑，宣判前一天还被残忍地割断喉管，以防止她抗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在“整风反右”中，在“文化大革命”中，在历次政治运动中，无数捍卫真理的忠诚儿女被批判、被劳改、被判刑、被迫害致死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7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裴多菲诗一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307512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生命诚可贵，爱情价更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若为自由故，二者皆可抛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224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陈寅恪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思想而不自由，毋宁死耳。斯古今仁圣所同殉之精义。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楷体_GB2312"/>
              </a:rPr>
              <a:t>（王国维纪念碑碑文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378936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说明：陈寅恪是我国著名的国学大师，曾任清华大学、中山大学教授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912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阅读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6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、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7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自然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居里夫人"/>
          <p:cNvPicPr/>
          <p:nvPr/>
        </p:nvPicPr>
        <p:blipFill>
          <a:blip r:embed="rId2"/>
          <a:stretch/>
        </p:blipFill>
        <p:spPr>
          <a:xfrm>
            <a:off x="3062160" y="1905120"/>
            <a:ext cx="301788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50440" y="764640"/>
            <a:ext cx="273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华文彩云"/>
              </a:rPr>
              <a:t>朗读正音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6162840" y="1341360"/>
            <a:ext cx="1042920" cy="609840"/>
          </a:xfrm>
          <a:prstGeom prst="wedgeRoundRectCallout">
            <a:avLst>
              <a:gd name="adj1" fmla="val 77092"/>
              <a:gd name="adj2" fmla="val 147657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h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4435560" y="5013360"/>
            <a:ext cx="1042920" cy="609480"/>
          </a:xfrm>
          <a:prstGeom prst="wedgeRoundRectCallout">
            <a:avLst>
              <a:gd name="adj1" fmla="val 68875"/>
              <a:gd name="adj2" fmla="val -273175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f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7099200" y="5084640"/>
            <a:ext cx="1042920" cy="576360"/>
          </a:xfrm>
          <a:prstGeom prst="wedgeRoundRectCallout">
            <a:avLst>
              <a:gd name="adj1" fmla="val -11643"/>
              <a:gd name="adj2" fmla="val -297935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2127240"/>
            <a:ext cx="815328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我并非生来就是一个性情温和的人。我很早就知道，许多敏感的人，即使受了一言半语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呵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责，也会过分懊恼，因而我尽量克制自己的敏感。从我丈夫的温和沉静的性格中我获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匪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浅。当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猝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然长逝以后，我便学会了逆来顺受。我年纪渐老，我更会欣赏生活中的种种琐事，如栽花、植树、建筑，对朗诵诗歌和仰望星辰也有一点兴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9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华文彩云"/>
              </a:rPr>
              <a:t>解释词语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2149560"/>
            <a:ext cx="82152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我并非生来就是一个性情温和的人。我很早就知道，许多敏感的人，即使受了一言半语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呵责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，也会过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懊恼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，因而我尽量克制自己的敏感。从我丈夫的温和沉静的性格中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获益匪浅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。当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猝然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长逝以后，我便学会了逆来顺受。我年纪渐老，我更会欣赏生活中的种种琐事，如栽花、植树、建筑，对朗诵诗歌和仰望星辰也有一点兴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6877080" y="1028880"/>
            <a:ext cx="1366920" cy="647640"/>
          </a:xfrm>
          <a:prstGeom prst="wedgeRoundRectCallout">
            <a:avLst>
              <a:gd name="adj1" fmla="val 22472"/>
              <a:gd name="adj2" fmla="val 183087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呵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3132000" y="1100160"/>
            <a:ext cx="2016360" cy="938160"/>
          </a:xfrm>
          <a:prstGeom prst="wedgeRoundRectCallout">
            <a:avLst>
              <a:gd name="adj1" fmla="val -71967"/>
              <a:gd name="adj2" fmla="val 151861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心里别扭，烦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3564000" y="5133960"/>
            <a:ext cx="2376360" cy="959040"/>
          </a:xfrm>
          <a:prstGeom prst="wedgeRoundRectCallout">
            <a:avLst>
              <a:gd name="adj1" fmla="val 24347"/>
              <a:gd name="adj2" fmla="val -204305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得到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匪，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6732720" y="5060880"/>
            <a:ext cx="1828800" cy="609840"/>
          </a:xfrm>
          <a:prstGeom prst="wedgeRoundRectCallout">
            <a:avLst>
              <a:gd name="adj1" fmla="val 2259"/>
              <a:gd name="adj2" fmla="val -270574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突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段说明，做一个科学家需要怎样的性格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7360" y="227772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需要温和沉静的性格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这是为了保持“安静”和“宁静”，以免受“人事的干扰和盛名的拖累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注意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居里夫人并非生来就是一个性情温和的人，但是她慢慢地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学会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了温和，甚至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学会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了“逆来顺受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EFAF-594F-430F-8739-42DDD46E7B69}" type="slidenum">
              <a:t>3</a:t>
            </a:fld>
          </a:p>
        </p:txBody>
      </p:sp>
    </p:spTree>
  </p:cSld>
  <p:transition spd="med">
    <p:random/>
    <p:sndAc>
      <p:stSnd>
        <p:snd r:embed="rId4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2757a"/>
                </a:solidFill>
                <a:latin typeface="Arial"/>
                <a:ea typeface="华文彩云"/>
              </a:rPr>
              <a:t>朗读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1960" y="1808280"/>
            <a:ext cx="77724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　我一直沉醉于世界的优美之中，我所热爱的科学也不断增加它崭新的远景。我认定科学本身就具有伟大的美。一位从事研究工作的科学家，不仅是一个技术人员，而且是一个小孩，好像迷醉于神话故事一般，迷醉于大自然的景色。这种科学的魅力，就是使我能够终生在实验室里埋头工作的主要原因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36760"/>
            <a:ext cx="83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一直沉醉于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世界的优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之中……也不断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增加它崭新的远景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世界的优美”指什么？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增加它崭新的远景”是什么意思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90400" y="379584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世界的优美：探究科学的奥秘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增加它崭新的远景：取得新的科研成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969840"/>
            <a:ext cx="8353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一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沉醉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于世界的优美之中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位从事研究工作的科学家，不仅是一个技术人员，而且是一个小孩，好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迷醉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于神话故事一般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迷醉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于大自然的景色。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沉醉”和“迷醉” ，可以互换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3712680"/>
            <a:ext cx="80769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不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沉醉，深深地沉浸在某种事物中。具有主动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迷醉，被某种事物吸引而“着迷”。具有被动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科学家应是“一个小孩”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反映作者怎样的心态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2573280"/>
            <a:ext cx="813600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科学本身具有“伟大的美”，魅力无穷。这种魅力，像童话对于小孩一样，使她终生在实验室里埋头工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像小孩“迷醉”童话那样研究，才能出成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反映作者对科学研究如痴如醉的心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19120" y="163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段强调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9120" y="296820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一个科学家应该以浓厚的兴趣沉醉在自己的研究中，就像一个小孩迷醉于神话故事一般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归纳  练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hxmj_195"/>
          <p:cNvPicPr/>
          <p:nvPr/>
        </p:nvPicPr>
        <p:blipFill>
          <a:blip r:embed="rId2"/>
          <a:srcRect l="0" t="0" r="0" b="7773"/>
          <a:stretch/>
        </p:blipFill>
        <p:spPr>
          <a:xfrm>
            <a:off x="3048120" y="1981080"/>
            <a:ext cx="3031920" cy="4152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一读　写一写</a:t>
            </a:r>
            <a:br>
              <a:rPr sz="3200"/>
            </a:br>
            <a:r>
              <a:rPr b="1" lang="zh-CN" sz="3200" spc="-1" strike="noStrike">
                <a:solidFill>
                  <a:srgbClr val="32757a"/>
                </a:solidFill>
                <a:latin typeface="楷体_GB2312"/>
                <a:ea typeface="楷体_GB2312"/>
              </a:rPr>
              <a:t>（加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红色</a:t>
            </a:r>
            <a:r>
              <a:rPr b="1" lang="zh-CN" sz="3200" spc="-1" strike="noStrike">
                <a:solidFill>
                  <a:srgbClr val="32757a"/>
                </a:solidFill>
                <a:latin typeface="楷体_GB2312"/>
                <a:ea typeface="楷体_GB2312"/>
              </a:rPr>
              <a:t>的容易写错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271584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执着　鞭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盛名　报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奢望　蹂躏　呵责　懊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沉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迷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问心无愧　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猝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然长逝　获益匪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3840"/>
            <a:ext cx="777240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彩云"/>
              </a:rPr>
              <a:t>本文哪些句子最有哲理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在笔记本上抄下，然后背过。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（这样积累，使你出口成章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66720" y="2707920"/>
            <a:ext cx="8153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我们必须有坚韧不拔的精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最要紧的，还是我们自己要有信心。我们必须相信，我们对每一件事情都具有天赋的才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来，我致力于科学研究，而研究，是对真理的探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61440" y="907560"/>
            <a:ext cx="8458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我永远追求安静的工作和简单的家庭生活。为了实现这个理想，我竭力保持宁静的环境，以免受人事的干扰和盛名的拖累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诚然，人类需要讲究现实的人，他们在工作中获得很多的报酬。但是，人类也需要梦想家——他们受事业的强烈的吸引，既没有闲暇也没有热情去谋求物质上的利益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在科学方面我们有对事业而不是对财富的兴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一位从事研究工作的科学家，不仅是一个技术人员，而且是一个小孩，在大自然的景色中，好像迷醉于神话故事一般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扩展　迁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hxmj_195"/>
          <p:cNvPicPr/>
          <p:nvPr/>
        </p:nvPicPr>
        <p:blipFill>
          <a:blip r:embed="rId2"/>
          <a:srcRect l="0" t="0" r="0" b="7773"/>
          <a:stretch/>
        </p:blipFill>
        <p:spPr>
          <a:xfrm>
            <a:off x="3056040" y="1916280"/>
            <a:ext cx="3031920" cy="415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8800" y="5122800"/>
            <a:ext cx="3102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认识他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7640" y="980640"/>
            <a:ext cx="4495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华文彩云"/>
              </a:rPr>
              <a:t>爱因斯坦评居里夫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像居里夫人这样第一流人物对于时代和历史进程的意义，在其道德品质方面，也许比单纯的才智成就方面还要大。即使是后者，它们取决于品格的程度也远远超过通常所认为的那样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幸运地同居里夫人有</a:t>
            </a:r>
            <a:r>
              <a:rPr b="1" lang="en-US" sz="2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0</a:t>
            </a:r>
            <a:r>
              <a:rPr b="1" lang="zh-CN" sz="2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年崇高而真挚的友谊。我对她的人格的伟大愈来愈感到钦佩</a:t>
            </a:r>
            <a:r>
              <a:rPr b="1" lang="en-US" sz="2600" spc="-1" strike="noStrike">
                <a:solidFill>
                  <a:srgbClr val="0066ff"/>
                </a:solidFill>
                <a:latin typeface="Arial"/>
                <a:ea typeface="楷体_GB2312"/>
              </a:rPr>
              <a:t>…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instein"/>
          <p:cNvPicPr/>
          <p:nvPr/>
        </p:nvPicPr>
        <p:blipFill>
          <a:blip r:embed="rId2"/>
          <a:stretch/>
        </p:blipFill>
        <p:spPr>
          <a:xfrm>
            <a:off x="684360" y="716040"/>
            <a:ext cx="3276360" cy="43686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建议你搜索居里夫人的资料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下面是张老师网上搜索的（点击进入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5640" y="2503080"/>
            <a:ext cx="68612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居里夫人简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居里夫人的科学研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居里夫人的成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/>
              </a:rPr>
              <a:t>爱因斯坦《悼念玛丽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6"/>
              </a:rPr>
              <a:t>•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7"/>
              </a:rPr>
              <a:t>居里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"/>
                <a:ea typeface="楷体_GB2312"/>
              </a:rPr>
              <a:t>居里夫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8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920" y="269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华文彩云"/>
              </a:rPr>
              <a:t>向你推荐一本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705200" y="2727000"/>
            <a:ext cx="41148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无数的科学家就是因为读了这本书，才成了科学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getimages"/>
          <p:cNvPicPr/>
          <p:nvPr/>
        </p:nvPicPr>
        <p:blipFill>
          <a:blip r:embed="rId2"/>
          <a:stretch/>
        </p:blipFill>
        <p:spPr>
          <a:xfrm>
            <a:off x="1249200" y="1609560"/>
            <a:ext cx="296244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29708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方正琥珀简体"/>
              </a:rPr>
              <a:t>自由论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8746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你对这一课还有什么见解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请你在讨论中展示你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思想、知识和文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1486080"/>
            <a:ext cx="407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c000"/>
                </a:solidFill>
                <a:latin typeface="Arial"/>
                <a:ea typeface="华文新魏"/>
              </a:rPr>
              <a:t>再见</a:t>
            </a:r>
            <a:endParaRPr b="1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5920" y="3335040"/>
            <a:ext cx="41148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张国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02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1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月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hxmj_195"/>
          <p:cNvPicPr/>
          <p:nvPr/>
        </p:nvPicPr>
        <p:blipFill>
          <a:blip r:embed="rId2"/>
          <a:srcRect l="0" t="0" r="0" b="7773"/>
          <a:stretch/>
        </p:blipFill>
        <p:spPr>
          <a:xfrm>
            <a:off x="4654440" y="836640"/>
            <a:ext cx="3949920" cy="5410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920" y="1087200"/>
            <a:ext cx="317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华文彩云"/>
              </a:rPr>
              <a:t>居里夫人生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987560"/>
            <a:ext cx="44701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玛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居里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867-1934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），法籍波兰物理学家、化学家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898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发现钋和镭两种天然放射性元素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90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，她与居里、贝可勒尔共获诺贝尔物理学奖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91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获诺贝尔化学奖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hxmj_195"/>
          <p:cNvPicPr/>
          <p:nvPr/>
        </p:nvPicPr>
        <p:blipFill>
          <a:blip r:embed="rId2"/>
          <a:srcRect l="0" t="0" r="0" b="8113"/>
          <a:stretch/>
        </p:blipFill>
        <p:spPr>
          <a:xfrm>
            <a:off x="5435640" y="1127160"/>
            <a:ext cx="332100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预习课文  整体感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maire%20curie"/>
          <p:cNvPicPr/>
          <p:nvPr/>
        </p:nvPicPr>
        <p:blipFill>
          <a:blip r:embed="rId2"/>
          <a:stretch/>
        </p:blipFill>
        <p:spPr>
          <a:xfrm>
            <a:off x="2771640" y="2205000"/>
            <a:ext cx="3440160" cy="351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0520" y="132984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查字典：什么叫做“信念”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479320"/>
            <a:ext cx="82296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信念：自己认为可以确信的看法。（现代汉语词典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读课文，归纳居里夫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哪些“信念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4880" y="510840"/>
            <a:ext cx="46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居里夫人的“信念”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22544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必须有坚韧不拔的精神，有信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像蚕一样固执地、勤奋地工作，耐心地集中在一个目标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科学研究，是对真理的探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追求安静的工作和简单的家庭生活，以免受人事的侵扰和盛名之累。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在科学方面，有对事而不是对人的兴趣，也无热情去谋求物质上的利益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唯一奢望，是在一个自由国家中，以一个自由学者的身分从事研究工作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做一个性情温和的人，甚至学会逆来顺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沉醉于世界（科学）的优美之中，就像一个小孩，迷醉于神话故事一般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1960" y="126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所有的“信念”中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里夫人最看重的是什么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样判断的根据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335772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是在一个自由国家中，以一个自由学者的身分从事研究工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居里夫人自己说，这是“我的唯一奢望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3:22:24Z</dcterms:created>
  <dc:creator/>
  <dc:description/>
  <cp:keywords>幻灯片之家 http:/www.eeppt.com</cp:keywords>
  <dc:language>en-US</dc:language>
  <cp:lastModifiedBy/>
  <dcterms:modified xsi:type="dcterms:W3CDTF">2015-07-03T12:00:26Z</dcterms:modified>
  <cp:revision>1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