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442-A936-44F9-9AA6-33F513C8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404-23D9-467A-BB71-2BDF18F7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5149F-1788-4BC3-8A58-7A7FF1A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3E208-5466-4608-BA6D-F2005460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9530-5687-4B8A-964F-81A4A522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3FDCE-A282-45CF-BCAF-B8EB5527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9EC1D-5F11-4A2F-A442-E857F85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75463-7EE7-4FC7-8327-2D566BFC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BD883-9897-4501-A626-A7C4C360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92D00-C5C1-499F-87E6-94EF2303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11553-B032-4AB3-87D0-7250E49B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4B558-2EE8-41F7-A554-0BCD41C5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167-18F2-4751-A974-2B1606C6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2F371-0D85-4C7C-8FC7-0103943C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2A3B1-DEF3-494F-A5BE-0F62D527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A91C7-C4C3-4B5A-AC1F-0C4755E9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43A01-AD30-48AB-A2C2-D5D0BEDA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C3C05-BD74-4DA4-9FC7-95FAF824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8752F-D232-487D-BE2E-798C565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EBB23-838E-4A9C-9C3D-F6F6224E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3CCD7-EE77-4A76-B191-CC5BD7FD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DA175-09B5-4F0F-91C4-16AF44FF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6905D-5FAA-4DB9-B958-CABD6A61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A1F-CF80-4318-AE30-4DB8576A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C5D14-E3EA-4C65-8DEF-DA225FDE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3CD4D-3210-406B-A730-2AA4E170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08A54-C216-453B-A3F0-FADF6FB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401FD-E5B3-4405-A96E-BA10BB00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A9210-0AB5-433C-BBC1-785C3501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2B7A1-C061-4731-9182-7AE0A8E1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D7068-6B65-451C-9268-BC82CB08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50A6E-6E2F-49CA-ADD7-B2C7EF3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CB945-51BD-4BA4-890C-F9466F1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62FDE-FA03-46BD-9EDF-284FB0CD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4BA-FEFB-445E-8273-2ABBB2F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6D956-E0E8-4FDF-8976-6C0935A1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98F6B-73D1-4349-A9B0-FBCE98A6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C2F6C-4C35-4437-8CB8-13C180E2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391C3-A53E-49A7-9A8A-A86E6785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AB414-34B2-43C0-824F-8632E94C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63F1B-DE9D-49E7-9404-708126C4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CE977-1A6E-49C3-ABED-B1A0B40F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12350-FE74-4117-A418-9740ECD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15C8D-5B3A-432D-BA23-A4724BA6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727E1-40E2-48C3-931A-30DFE4DC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465B-F381-4DE7-AF06-6C4A16F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4A5AD-7044-4BC0-9472-5E69F3A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42F27-3B3F-4AF3-9032-624EB35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804FA-F47D-4950-81DE-8D75B6F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49906-E7E1-4CBD-AC4B-823FFBDF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F3376-AC14-451A-99CD-44F34209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F5F0C-0412-4BBE-9A00-480114C7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DCC33-9917-492B-98B2-905C21E0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E7BE4-5372-4AA0-8D45-C9A827E1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42354-770A-4450-BF94-E91129EA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6944E-3652-44AD-A9FB-8904093A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AC5-237D-4BD4-BD08-514C82F2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0F62C-E92B-44AF-A46D-D89AA047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CFD20-AEA9-4141-938E-32C5FDE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43953-49C3-46CB-A1E2-2797CFF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505E7-1F06-4AB5-BE9E-6F4E17E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8B9E1-57DE-47D1-9B24-78F9EB1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816EE-C470-4BD2-8053-7E0AE187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B687B-3D47-484B-A5E0-5A8384AB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FD77-7FC6-4E75-B4E9-156A8A7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02B1-7264-471B-A188-529EC64F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DB9B-58DB-4981-9CCA-0E9BADD9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C2D3-6DE8-4CBD-A723-AC0AB34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5DD-F274-49F0-9456-671A643E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4C88-B646-4A1D-8098-35CABEE7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A911-DFFB-4850-9DF9-11524540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C66-D9FB-4DB8-B53E-0AB2BC50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86AE-C84C-42E4-8975-97B3A774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7F52-1C95-4948-8CBF-392489D5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B418-22EE-434B-8762-3B862E9D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63FA-19DF-47E6-80F5-A664EFF0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5C3D-BE9C-4D90-93CE-0713E350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01AD-26C8-44A0-ABC4-B57D2D0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E8A8-F9AB-4A79-9031-E3AAE98D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A75-F09A-4773-A9FB-9FD88E4C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BEF8-BFEB-46FB-9BA7-6265D6E3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5A8B-736E-4E44-B9AA-EEF1498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DE33-EAED-4A2F-8107-86982E5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40C4-F95A-4F67-8FFA-3531038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DB32-9E63-4C48-984E-13366989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23A4-0E93-4C73-AED3-4FC6DB56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6B59-1B5D-4D34-BD4E-E74294D3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DD32B-CF86-4A3D-921F-5F3E1E71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7BAF-FBE2-4803-92CD-D803B949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7E6D-7D60-45CB-ACBD-E7B91054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3C4-7C0F-48F5-A86C-4AF1D7A4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77FE-D644-42F6-86FB-5C4EC542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DB19-4A92-4B5B-AC65-FBD3DEE1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F7ED-D51D-4450-8107-7E526E74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53B2-2DE4-4D5F-96ED-15B12AAE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C53D-B35A-4004-ABC4-5DD1980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25DB-CF8A-4DE1-8C8F-4869609C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45ED-8525-4F13-A229-2C174B1C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15C55-D853-4D36-A52A-9CA26141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1F27-F952-402D-A720-39B9CC8E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AE10-F3D4-4266-9347-EF13944D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B9F-6AE7-4609-A0EA-BD7D008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CC9C1-4B73-4337-8371-8B9625CC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B13B-D511-40AA-8C36-637E9EB0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930A-7B6F-447B-9D29-F69AEB3E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B8BE-0D48-4831-BB81-A5B664F6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F199-F987-4DC8-8877-30669B5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3B64-7052-4C23-B233-58C36BC5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ACEB2-5C84-4733-89E9-BA90CDA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C491-DFF9-45BB-B341-442079FF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9688-F0A6-4BD5-8A6C-52A86A15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9240D-E239-4F28-9CCE-09B275DF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D37-AE7E-4E10-816B-594EF2EA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FBE2B-AA72-4518-8F27-DE7137E7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72AF-1C9D-48D0-9350-E7674FC2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8F6A-FAA6-4BA3-A5AC-FCB3BCCD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81CB-BCD1-44B8-AC11-C30D0D37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0A08-AC7D-4FCE-972E-AFB9F50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93C5-67E5-4172-8E7D-1A661959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5CD1E-A966-4DEA-91D3-15A8DFF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CF7C-9460-4623-9C3D-A94A091D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95A2-3583-456C-858B-73A5A3F8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3BD1-7879-4F25-9401-72D83FE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71D-BB93-41FB-ACA5-CEC51F6A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8B35-93BF-4B77-A0E8-CA5FE9DB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A1952-614A-43C0-81FE-C708EBAA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E5DD-6760-4E8F-BD97-682B0EFE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98946-B683-4810-86D3-2CBCE1D1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9972-33A5-4779-8CFD-D8559A47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618BC-0856-4827-85BB-EF016303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7F86C-0212-4969-926F-90F7B6C1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61AC0-FCEE-4E12-917A-04DE82CD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4ADBB-91FD-42E7-A27C-F953E40C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694C-4A7C-4F31-866C-1F5DAE8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3CC-289F-4C01-91E3-E734905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39FE-4EAE-40F5-A05A-3AC02E0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2DEB-60DB-4EFA-A08F-888B39EB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71F3-284D-4FE8-BC71-E900A988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02500-7A92-45DA-8577-3036A747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AC3C0-1F45-4989-9338-788B1AEB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05389-D2CF-4A1F-8609-1CE993AB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7DAF-5070-4E48-A419-756BD81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59E5-6DE1-4597-A1FB-CCAD5D8E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CC085-8723-4C0A-AC0F-7DB3435D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D55C3-DC1C-4A61-BED0-E05C20D9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2A5-95A7-4CDC-9AA0-2E8E06F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0A2E9-A66A-4F64-B2D6-7B2AD04B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B873-4861-45DE-9622-011790DD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595B4-7BAA-422F-AEB7-350F796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96CAD-73B5-45C3-9AF6-14CB46A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13DB3-B468-424A-90B4-6F588083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048BE-0FA3-4106-A5B1-8884ACF5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B4E23-A7E4-42B2-9687-BDDDDB45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AECD2-F71A-4C14-8E63-F8C774FD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29541-4327-4B2E-B118-A93F6DE3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6EE53-246C-4423-BF7D-ECA1CB83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91A7-6EFA-49FB-8C63-8989BA829D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E27-E3F5-4164-8EDB-A3E345CE04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4AB-0B73-4D2C-BC8E-FA4BDB37FC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4018-0AD2-4CFF-A5C0-949299C0B7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18D9-4296-4426-B116-72D29557EC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098-EA46-4C0D-B196-220BF6F224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60E4-A801-4D37-8151-BF631C31A2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0B8E-2BE5-4184-A871-11C64CB7AB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AD3-E112-4E7E-86A8-CC846D61EF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C26A-A9CC-4E0F-8B85-3AD41E6FFD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B53-13F0-46C9-B3E2-495BD9BC8C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93FB-181E-48FE-A112-6987C094AA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5527-EE29-4D0C-901D-67204F48F0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suctio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qiu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500720" y="5589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济宁十二中 陈伟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908000" y="69228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物理从永磁体谈起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PPT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7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304920" y="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活动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380880" y="990720"/>
            <a:ext cx="8763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利用你手中的材料，通过实验研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哪些是磁体？你判定的依据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磁体各处的磁性强弱是否一样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哪里最强  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说明什么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                                                       3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如何感受到磁极间的相互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怎样使物体磁化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619280" y="76500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基本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性、磁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547640" y="2421000"/>
            <a:ext cx="54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磁极间的相互作用规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547640" y="4221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磁化与去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1258920" y="981000"/>
            <a:ext cx="217440" cy="3672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-210240" y="1341360"/>
            <a:ext cx="13993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磁的基本知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124000" y="3068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同名磁极相互排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异名磁极相互吸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9898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将小磁针放在条形磁体周围的某一点，观察小磁针静止时的指向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手轻轻地拨动小磁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小磁针的指向如何变化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变换一个位置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小磁针的的指向变化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让小磁针在磁体周围缓慢地转动一圈，你有什么发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以上实验现象说明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WordArt 3"/>
          <p:cNvSpPr txBox="1"/>
          <p:nvPr/>
        </p:nvSpPr>
        <p:spPr>
          <a:xfrm>
            <a:off x="3348000" y="404640"/>
            <a:ext cx="4896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知磁场的存在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468360" y="404640"/>
            <a:ext cx="23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：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3203640" y="333360"/>
            <a:ext cx="279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</a:rPr>
              <a:t>认识磁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09480" y="457200"/>
            <a:ext cx="8229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活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用铁屑显示永磁体的磁场分布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762120" y="2209680"/>
            <a:ext cx="7619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方法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将条形磁体放在白纸上，再在磁体上平放玻璃板。               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玻璃板上均匀地撒下少量铁屑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轻敲玻璃板 。          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画出你所看到磁场分布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4467240" cy="33433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"/>
          <p:cNvPicPr/>
          <p:nvPr/>
        </p:nvPicPr>
        <p:blipFill>
          <a:blip r:embed="rId2"/>
          <a:stretch/>
        </p:blipFill>
        <p:spPr>
          <a:xfrm>
            <a:off x="5334120" y="404640"/>
            <a:ext cx="3341520" cy="3419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456000" cy="2562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3961080" cy="20876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6"/>
          <p:cNvSpPr/>
          <p:nvPr/>
        </p:nvSpPr>
        <p:spPr>
          <a:xfrm>
            <a:off x="1116000" y="6093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名磁极周围的铁屑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650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116000" y="18900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条形磁铁的磁感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条形磁铁磁场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4321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684360" y="5805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感线分布规律：从磁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Ｎ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 来，回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36360" y="61657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J244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12014"/>
          <p:cNvPicPr/>
          <p:nvPr/>
        </p:nvPicPr>
        <p:blipFill>
          <a:blip r:embed="rId1"/>
          <a:srcRect l="0" t="0" r="-133" b="-94"/>
          <a:stretch/>
        </p:blipFill>
        <p:spPr>
          <a:xfrm>
            <a:off x="0" y="-457200"/>
            <a:ext cx="6804000" cy="79185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6784920" y="0"/>
            <a:ext cx="1521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指南针为什么能指示南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qiu2"/>
          <p:cNvPicPr/>
          <p:nvPr/>
        </p:nvPicPr>
        <p:blipFill>
          <a:blip r:embed="rId1"/>
          <a:stretch/>
        </p:blipFill>
        <p:spPr>
          <a:xfrm>
            <a:off x="0" y="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5300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5724360" y="479736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地磁场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979640" y="5589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Times New Roman"/>
              </a:rPr>
              <a:t>地磁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北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</a:rPr>
              <a:t>极在地理南极附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Times New Roman"/>
              </a:rPr>
              <a:t>地磁南极在地理北极附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788000" y="321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理南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4859280" y="112536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理北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知识小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知识与技能：基本概念、基本规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过程与方法：转换法、模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通过本节课的学习，你认为对你触动最大以及你最感兴趣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6360" y="61657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奇妙的液体磁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固态的磁铁人们并不陌生，然而现代科学技术却创造了一种全新的材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液体磁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装有液体的杯子里投进一枚硬币，它会渐渐沉下去。然后，将杯子置于磁场之中，硬币又会浮上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就是液体磁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机械轴和机体之间滴上几滴铁磁液体，使它们保持在那里并再利用一个环形磁铁将其磁化，这就成了一个液体磁铁的密封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磁场的作用下，铁磁液体还能改变黏度，并能一起到变“硬”为止。这就使液体磁铁有了广阔的应用前景。例如出现了液体磁铁的汽车自动调整机构，这种机构能根据道路的状况调整汽车的弹性。而将液体磁铁用于制造机器人的“手”时，它更显得柔软灵活，能平稳地伸缩。最为有趣的是，如果液体磁铁来紧固机床加工的复杂零部件时，只要将零部件置于铁磁液体中，接通电磁场，铁磁液体将瞬时变浓，直至凝固成硬石头一样，牢牢地紧固住零部件；等到加工完毕，只需断开电流，铁磁液体又恢复了常态，零部件又可自如地取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你知道吗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9907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468360" y="2205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知道吗，假如你沿南北方向放一条铁棒，许多年后，地磁场会把它磁化。你会用小磁针探测你的家，寻找家中被磁化的物体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82872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133200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23880" y="12952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描述磁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磁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司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83528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2009"/>
          <p:cNvPicPr/>
          <p:nvPr/>
        </p:nvPicPr>
        <p:blipFill>
          <a:blip r:embed="rId1"/>
          <a:stretch/>
        </p:blipFill>
        <p:spPr>
          <a:xfrm>
            <a:off x="-179280" y="-385920"/>
            <a:ext cx="9504360" cy="77756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1908000" y="64008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质量达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,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高为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m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直径为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圆柱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6360" y="61657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12009"/>
          <p:cNvPicPr/>
          <p:nvPr/>
        </p:nvPicPr>
        <p:blipFill>
          <a:blip r:embed="rId1"/>
          <a:stretch/>
        </p:blipFill>
        <p:spPr>
          <a:xfrm>
            <a:off x="0" y="2971800"/>
            <a:ext cx="4643280" cy="3886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3"/>
          <p:cNvSpPr/>
          <p:nvPr/>
        </p:nvSpPr>
        <p:spPr>
          <a:xfrm>
            <a:off x="3276720" y="3048120"/>
            <a:ext cx="138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qiu2"/>
          <p:cNvPicPr/>
          <p:nvPr/>
        </p:nvPicPr>
        <p:blipFill>
          <a:blip r:embed="rId2"/>
          <a:stretch/>
        </p:blipFill>
        <p:spPr>
          <a:xfrm>
            <a:off x="0" y="0"/>
            <a:ext cx="4643280" cy="3316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电磁起重机"/>
          <p:cNvPicPr/>
          <p:nvPr/>
        </p:nvPicPr>
        <p:blipFill>
          <a:blip r:embed="rId3"/>
          <a:srcRect l="0" t="0" r="0" b="-39"/>
          <a:stretch/>
        </p:blipFill>
        <p:spPr>
          <a:xfrm>
            <a:off x="4724280" y="0"/>
            <a:ext cx="4419720" cy="3357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司南"/>
          <p:cNvPicPr/>
          <p:nvPr/>
        </p:nvPicPr>
        <p:blipFill>
          <a:blip r:embed="rId4"/>
          <a:srcRect l="0" t="5965" r="0" b="0"/>
          <a:stretch/>
        </p:blipFill>
        <p:spPr>
          <a:xfrm>
            <a:off x="4859280" y="3454560"/>
            <a:ext cx="4284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539640" y="112536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第十四章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  电磁铁与自动控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58920" y="26370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节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从永磁体谈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556000" y="4149720"/>
            <a:ext cx="42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古老而年轻的磁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2:05:12Z</dcterms:created>
  <dc:creator/>
  <dc:description/>
  <cp:keywords>幻灯片之家 http:/www.eeppt.com</cp:keywords>
  <dc:language>en-US</dc:language>
  <cp:lastModifiedBy/>
  <dcterms:modified xsi:type="dcterms:W3CDTF">2015-07-20T04:00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