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3CAA-8C75-42D9-9246-9376BEE0B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04FD-BA23-42D6-8541-865C2B7A5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E4FA-9A46-493E-B9DA-691E38F42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2F4F-60E8-45DD-9AE9-BA39B3C5B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B39A6-679F-4190-AAB5-6497F8684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E1CE7-514A-4C69-86EF-93B173B23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87450-7390-485B-AC04-FEF9EC703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62F81-71F2-49CB-B9E3-AE387331B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6C30E-68B5-4539-B259-80FA5ABAE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E760D-E0D8-4CFB-998C-198580C4F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70C3C-F039-4D80-8B72-20C2BADB4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9937-D554-44B2-B0FD-4AFC4EA22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5ED1F-F367-4928-82D7-64F7ED81C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8DD62-0FFA-4A36-AC9B-F20002D08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2CB44-21AE-4F62-BC6B-249EBD4A5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267E1-976E-4F63-BE17-53B96996F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523E8-D8A8-4DD2-90CD-5DA688BFB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6162-54E2-4C90-B393-90EABC312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4D43-F6AF-45CE-A43F-DE49FCB7E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656C-AC6F-4823-AC2E-8BF12FCF1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97B5-3CD9-4F2E-BA5B-7460EBDD0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D7FC-D44A-4DD2-B9AB-35BDC6E65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4C6F-4361-45DF-AF12-9332148AB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DD5F-B1BC-49F6-A794-252E8A98E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9360" y="-9360"/>
            <a:ext cx="9156600" cy="6872040"/>
          </a:xfrm>
          <a:custGeom>
            <a:avLst/>
            <a:gdLst/>
            <a:ahLst/>
            <a:rect l="l" t="t" r="r" b="b"/>
            <a:pathLst>
              <a:path w="5768" h="4329">
                <a:moveTo>
                  <a:pt x="5766" y="605"/>
                </a:moveTo>
                <a:cubicBezTo>
                  <a:pt x="5767" y="2464"/>
                  <a:pt x="5768" y="4325"/>
                  <a:pt x="5768" y="4325"/>
                </a:cubicBezTo>
                <a:lnTo>
                  <a:pt x="1082" y="4329"/>
                </a:lnTo>
                <a:cubicBezTo>
                  <a:pt x="318" y="3809"/>
                  <a:pt x="9" y="3349"/>
                  <a:pt x="13" y="3351"/>
                </a:cubicBezTo>
                <a:lnTo>
                  <a:pt x="0" y="0"/>
                </a:lnTo>
                <a:lnTo>
                  <a:pt x="2428" y="7"/>
                </a:lnTo>
                <a:cubicBezTo>
                  <a:pt x="2428" y="12"/>
                  <a:pt x="3096" y="401"/>
                  <a:pt x="5766" y="605"/>
                </a:cubicBezTo>
                <a:close/>
              </a:path>
            </a:pathLst>
          </a:custGeom>
          <a:gradFill rotWithShape="0">
            <a:gsLst>
              <a:gs pos="0">
                <a:srgbClr val="fdf58d">
                  <a:alpha val="70196"/>
                </a:srgbClr>
              </a:gs>
              <a:gs pos="100000">
                <a:srgbClr val="fdfdf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-4680" y="5500800"/>
            <a:ext cx="1441440" cy="1358640"/>
          </a:xfrm>
          <a:custGeom>
            <a:avLst/>
            <a:gdLst/>
            <a:ahLst/>
            <a:rect l="l" t="t" r="r" b="b"/>
            <a:pathLst>
              <a:path w="1089" h="1100">
                <a:moveTo>
                  <a:pt x="0" y="0"/>
                </a:moveTo>
                <a:cubicBezTo>
                  <a:pt x="0" y="550"/>
                  <a:pt x="0" y="1100"/>
                  <a:pt x="0" y="1100"/>
                </a:cubicBezTo>
                <a:lnTo>
                  <a:pt x="1089" y="1100"/>
                </a:lnTo>
                <a:cubicBezTo>
                  <a:pt x="1089" y="1100"/>
                  <a:pt x="596" y="865"/>
                  <a:pt x="0" y="0"/>
                </a:cubicBez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27040" y="0"/>
            <a:ext cx="0" cy="591012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677960" y="0"/>
            <a:ext cx="0" cy="6832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830680" y="0"/>
            <a:ext cx="0" cy="68612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983040" y="0"/>
            <a:ext cx="0" cy="68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133960" y="388800"/>
            <a:ext cx="0" cy="64868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6286680" y="619200"/>
            <a:ext cx="0" cy="6256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7439040" y="773280"/>
            <a:ext cx="0" cy="610236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8591400" y="900000"/>
            <a:ext cx="0" cy="59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 flipH="1">
            <a:off x="0" y="419040"/>
            <a:ext cx="51912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 flipH="1">
            <a:off x="-360" y="154152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-360" y="266544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3240" y="378792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3240" y="491184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693720" y="6035760"/>
            <a:ext cx="842328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4005360" y="2692440"/>
            <a:ext cx="1128600" cy="107964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7459560" y="4937040"/>
            <a:ext cx="112104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>
            <a:off x="549360" y="3808440"/>
            <a:ext cx="1128600" cy="10796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"/>
          <p:cNvSpPr/>
          <p:nvPr/>
        </p:nvSpPr>
        <p:spPr>
          <a:xfrm>
            <a:off x="6307200" y="6064200"/>
            <a:ext cx="1128600" cy="7970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"/>
          <p:cNvSpPr/>
          <p:nvPr/>
        </p:nvSpPr>
        <p:spPr>
          <a:xfrm>
            <a:off x="2846520" y="0"/>
            <a:ext cx="1128600" cy="404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"/>
          <p:cNvSpPr/>
          <p:nvPr/>
        </p:nvSpPr>
        <p:spPr>
          <a:xfrm>
            <a:off x="2852640" y="4938840"/>
            <a:ext cx="1121040" cy="1079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/>
          <p:nvPr/>
        </p:nvSpPr>
        <p:spPr>
          <a:xfrm>
            <a:off x="6300720" y="1566720"/>
            <a:ext cx="112068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Gulim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Gulim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Gulim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84C96-C5C4-41ED-8107-F77F016B1A75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4041720" y="0"/>
            <a:ext cx="5105520" cy="739800"/>
          </a:xfrm>
          <a:custGeom>
            <a:avLst/>
            <a:gdLst/>
            <a:ahLst/>
            <a:rect l="l" t="t" r="r" b="b"/>
            <a:pathLst>
              <a:path w="3130" h="453">
                <a:moveTo>
                  <a:pt x="3130" y="453"/>
                </a:moveTo>
                <a:cubicBezTo>
                  <a:pt x="3130" y="226"/>
                  <a:pt x="3130" y="0"/>
                  <a:pt x="3130" y="0"/>
                </a:cubicBezTo>
                <a:lnTo>
                  <a:pt x="0" y="0"/>
                </a:lnTo>
                <a:cubicBezTo>
                  <a:pt x="0" y="0"/>
                  <a:pt x="1298" y="389"/>
                  <a:pt x="3130" y="453"/>
                </a:cubicBez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29" name="" descr=""/>
          <p:cNvPicPr/>
          <p:nvPr/>
        </p:nvPicPr>
        <p:blipFill>
          <a:blip r:embed="rId2"/>
          <a:srcRect l="22412" t="16378" r="0" b="27484"/>
          <a:stretch/>
        </p:blipFill>
        <p:spPr>
          <a:xfrm rot="786600">
            <a:off x="6629040" y="-380520"/>
            <a:ext cx="2417760" cy="1995480"/>
          </a:xfrm>
          <a:prstGeom prst="rect">
            <a:avLst/>
          </a:prstGeom>
          <a:ln w="0">
            <a:noFill/>
          </a:ln>
        </p:spPr>
      </p:pic>
      <p:pic>
        <p:nvPicPr>
          <p:cNvPr id="30" name="" descr=""/>
          <p:cNvPicPr/>
          <p:nvPr/>
        </p:nvPicPr>
        <p:blipFill>
          <a:blip r:embed="rId3"/>
          <a:stretch/>
        </p:blipFill>
        <p:spPr>
          <a:xfrm flipH="1" rot="20740800">
            <a:off x="49320" y="5726160"/>
            <a:ext cx="1224000" cy="137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6048360"/>
            <a:ext cx="2762280" cy="809640"/>
          </a:xfrm>
          <a:custGeom>
            <a:avLst/>
            <a:gdLst/>
            <a:ahLst/>
            <a:rect l="l" t="t" r="r" b="b"/>
            <a:pathLst>
              <a:path w="1740" h="510">
                <a:moveTo>
                  <a:pt x="0" y="0"/>
                </a:moveTo>
                <a:lnTo>
                  <a:pt x="0" y="510"/>
                </a:lnTo>
                <a:cubicBezTo>
                  <a:pt x="0" y="510"/>
                  <a:pt x="870" y="510"/>
                  <a:pt x="1740" y="510"/>
                </a:cubicBezTo>
                <a:cubicBezTo>
                  <a:pt x="1650" y="258"/>
                  <a:pt x="1595" y="30"/>
                  <a:pt x="1595" y="30"/>
                </a:cubicBezTo>
                <a:cubicBezTo>
                  <a:pt x="798" y="54"/>
                  <a:pt x="0" y="0"/>
                  <a:pt x="0" y="0"/>
                </a:cubicBez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90920" y="4705200"/>
            <a:ext cx="6400800" cy="2152800"/>
          </a:xfrm>
          <a:custGeom>
            <a:avLst/>
            <a:gdLst/>
            <a:ahLst/>
            <a:rect l="l" t="t" r="r" b="b"/>
            <a:pathLst>
              <a:path w="4032" h="1356">
                <a:moveTo>
                  <a:pt x="1116" y="0"/>
                </a:moveTo>
                <a:cubicBezTo>
                  <a:pt x="2370" y="1254"/>
                  <a:pt x="3840" y="636"/>
                  <a:pt x="3840" y="636"/>
                </a:cubicBezTo>
                <a:cubicBezTo>
                  <a:pt x="4032" y="966"/>
                  <a:pt x="4032" y="1356"/>
                  <a:pt x="4032" y="1356"/>
                </a:cubicBezTo>
                <a:cubicBezTo>
                  <a:pt x="4032" y="1356"/>
                  <a:pt x="2160" y="1356"/>
                  <a:pt x="288" y="1356"/>
                </a:cubicBezTo>
                <a:cubicBezTo>
                  <a:pt x="120" y="1140"/>
                  <a:pt x="0" y="828"/>
                  <a:pt x="0" y="828"/>
                </a:cubicBezTo>
                <a:lnTo>
                  <a:pt x="1116" y="0"/>
                </a:ln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00640" y="781200"/>
            <a:ext cx="4743360" cy="5048280"/>
          </a:xfrm>
          <a:custGeom>
            <a:avLst/>
            <a:gdLst/>
            <a:ahLst/>
            <a:rect l="l" t="t" r="r" b="b"/>
            <a:pathLst>
              <a:path w="2988" h="3180">
                <a:moveTo>
                  <a:pt x="510" y="1098"/>
                </a:moveTo>
                <a:cubicBezTo>
                  <a:pt x="1710" y="840"/>
                  <a:pt x="2280" y="0"/>
                  <a:pt x="2280" y="0"/>
                </a:cubicBezTo>
                <a:cubicBezTo>
                  <a:pt x="2700" y="96"/>
                  <a:pt x="2988" y="342"/>
                  <a:pt x="2988" y="342"/>
                </a:cubicBezTo>
                <a:lnTo>
                  <a:pt x="2988" y="2772"/>
                </a:lnTo>
                <a:cubicBezTo>
                  <a:pt x="2988" y="2772"/>
                  <a:pt x="2202" y="3180"/>
                  <a:pt x="1452" y="3060"/>
                </a:cubicBezTo>
                <a:cubicBezTo>
                  <a:pt x="636" y="2940"/>
                  <a:pt x="0" y="2406"/>
                  <a:pt x="0" y="2406"/>
                </a:cubicBezTo>
                <a:lnTo>
                  <a:pt x="510" y="1098"/>
                </a:lnTo>
                <a:close/>
              </a:path>
            </a:pathLst>
          </a:custGeom>
          <a:solidFill>
            <a:srgbClr val="ffc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800600" y="0"/>
            <a:ext cx="3276720" cy="2409840"/>
          </a:xfrm>
          <a:custGeom>
            <a:avLst/>
            <a:gdLst/>
            <a:ahLst/>
            <a:rect l="l" t="t" r="r" b="b"/>
            <a:pathLst>
              <a:path w="2064" h="1518">
                <a:moveTo>
                  <a:pt x="0" y="0"/>
                </a:moveTo>
                <a:cubicBezTo>
                  <a:pt x="0" y="0"/>
                  <a:pt x="138" y="759"/>
                  <a:pt x="276" y="1518"/>
                </a:cubicBezTo>
                <a:cubicBezTo>
                  <a:pt x="1518" y="1194"/>
                  <a:pt x="2064" y="0"/>
                  <a:pt x="2064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6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6583320" cy="7267680"/>
          </a:xfrm>
          <a:custGeom>
            <a:avLst/>
            <a:gdLst/>
            <a:ahLst/>
            <a:rect l="l" t="t" r="r" b="b"/>
            <a:pathLst>
              <a:path w="4014" h="4455">
                <a:moveTo>
                  <a:pt x="0" y="0"/>
                </a:moveTo>
                <a:lnTo>
                  <a:pt x="3612" y="0"/>
                </a:lnTo>
                <a:cubicBezTo>
                  <a:pt x="4014" y="984"/>
                  <a:pt x="3812" y="2307"/>
                  <a:pt x="3222" y="3042"/>
                </a:cubicBezTo>
                <a:cubicBezTo>
                  <a:pt x="1988" y="4455"/>
                  <a:pt x="0" y="3744"/>
                  <a:pt x="0" y="3744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6372360" cy="7072200"/>
          </a:xfrm>
          <a:custGeom>
            <a:avLst/>
            <a:gdLst/>
            <a:ahLst/>
            <a:rect l="l" t="t" r="r" b="b"/>
            <a:pathLst>
              <a:path w="4014" h="4455">
                <a:moveTo>
                  <a:pt x="0" y="0"/>
                </a:moveTo>
                <a:lnTo>
                  <a:pt x="3612" y="0"/>
                </a:lnTo>
                <a:cubicBezTo>
                  <a:pt x="4014" y="984"/>
                  <a:pt x="3812" y="2307"/>
                  <a:pt x="3222" y="3042"/>
                </a:cubicBezTo>
                <a:cubicBezTo>
                  <a:pt x="1988" y="4455"/>
                  <a:pt x="0" y="3744"/>
                  <a:pt x="0" y="3744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df58d"/>
              </a:gs>
              <a:gs pos="100000">
                <a:srgbClr val="fdfbe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1440"/>
            <a:ext cx="0" cy="6015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293840" y="1440"/>
            <a:ext cx="0" cy="6207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338560" y="1440"/>
            <a:ext cx="0" cy="6183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382920" y="1440"/>
            <a:ext cx="0" cy="5972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427640" y="1440"/>
            <a:ext cx="0" cy="5450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6480" y="252360"/>
            <a:ext cx="5813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6480" y="1317600"/>
            <a:ext cx="6000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6120" y="2382840"/>
            <a:ext cx="601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120" y="3449520"/>
            <a:ext cx="580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120" y="4514760"/>
            <a:ext cx="5319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480" y="5581800"/>
            <a:ext cx="4217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362320" y="277920"/>
            <a:ext cx="1012680" cy="1025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5840" y="2427120"/>
            <a:ext cx="101268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271440"/>
            <a:ext cx="25092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332000" y="1440"/>
            <a:ext cx="1012680" cy="235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65200" y="4541760"/>
            <a:ext cx="1009800" cy="1033560"/>
          </a:xfrm>
          <a:custGeom>
            <a:avLst/>
            <a:gdLst/>
            <a:ahLst/>
            <a:rect l="l" t="t" r="r" b="b"/>
            <a:pathLst>
              <a:path w="636" h="651">
                <a:moveTo>
                  <a:pt x="0" y="0"/>
                </a:moveTo>
                <a:lnTo>
                  <a:pt x="0" y="645"/>
                </a:lnTo>
                <a:lnTo>
                  <a:pt x="636" y="651"/>
                </a:lnTo>
                <a:lnTo>
                  <a:pt x="63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5840" y="2435400"/>
            <a:ext cx="1012680" cy="1025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5684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Gulim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124080" y="6406920"/>
            <a:ext cx="28958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Gulim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55272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Gulim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41429-B98E-4C2E-ACE5-07405AA7FFEE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6680" y="4714920"/>
            <a:ext cx="1276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  <a:ea typeface="Gulim"/>
              </a:rPr>
              <a:t>L/O/G/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8077320" y="0"/>
            <a:ext cx="1075680" cy="6858000"/>
            <a:chOff x="8077320" y="0"/>
            <a:chExt cx="1075680" cy="6858000"/>
          </a:xfrm>
        </p:grpSpPr>
        <p:sp>
          <p:nvSpPr>
            <p:cNvPr id="95" name=""/>
            <p:cNvSpPr/>
            <p:nvPr/>
          </p:nvSpPr>
          <p:spPr>
            <a:xfrm>
              <a:off x="8077320" y="0"/>
              <a:ext cx="1066320" cy="1114560"/>
            </a:xfrm>
            <a:custGeom>
              <a:avLst/>
              <a:gdLst/>
              <a:ahLst/>
              <a:rect l="l" t="t" r="r" b="b"/>
              <a:pathLst>
                <a:path w="672" h="720">
                  <a:moveTo>
                    <a:pt x="0" y="432"/>
                  </a:moveTo>
                  <a:cubicBezTo>
                    <a:pt x="186" y="216"/>
                    <a:pt x="288" y="0"/>
                    <a:pt x="288" y="0"/>
                  </a:cubicBezTo>
                  <a:lnTo>
                    <a:pt x="672" y="0"/>
                  </a:lnTo>
                  <a:lnTo>
                    <a:pt x="672" y="720"/>
                  </a:lnTo>
                  <a:cubicBezTo>
                    <a:pt x="672" y="720"/>
                    <a:pt x="384" y="516"/>
                    <a:pt x="0" y="432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893080" y="5549760"/>
              <a:ext cx="259920" cy="1308240"/>
            </a:xfrm>
            <a:custGeom>
              <a:avLst/>
              <a:gdLst/>
              <a:ahLst/>
              <a:rect l="l" t="t" r="r" b="b"/>
              <a:pathLst>
                <a:path w="212" h="824">
                  <a:moveTo>
                    <a:pt x="206" y="0"/>
                  </a:moveTo>
                  <a:cubicBezTo>
                    <a:pt x="104" y="54"/>
                    <a:pt x="0" y="82"/>
                    <a:pt x="0" y="82"/>
                  </a:cubicBezTo>
                  <a:cubicBezTo>
                    <a:pt x="0" y="82"/>
                    <a:pt x="148" y="378"/>
                    <a:pt x="168" y="824"/>
                  </a:cubicBezTo>
                  <a:lnTo>
                    <a:pt x="212" y="822"/>
                  </a:lnTo>
                  <a:cubicBezTo>
                    <a:pt x="212" y="822"/>
                    <a:pt x="209" y="411"/>
                    <a:pt x="206" y="0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495760" y="1333440"/>
            <a:ext cx="66060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479920" y="1440"/>
            <a:ext cx="0" cy="4238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57880" y="3495600"/>
            <a:ext cx="1012680" cy="1025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rcRect l="22412" t="16378" r="0" b="27484"/>
          <a:stretch/>
        </p:blipFill>
        <p:spPr>
          <a:xfrm rot="393000">
            <a:off x="2666520" y="609480"/>
            <a:ext cx="2664000" cy="21970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3925800"/>
            <a:ext cx="1692360" cy="144792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196992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3300"/>
                </a:solidFill>
                <a:latin typeface="좋은 귀염둥이빼로"/>
                <a:ea typeface="좋은 귀염둥이빼로"/>
              </a:rPr>
              <a:t>     </a:t>
            </a:r>
            <a:r>
              <a:rPr b="1" lang="en-US" sz="7200" spc="-1" strike="noStrike">
                <a:solidFill>
                  <a:srgbClr val="cc3300"/>
                </a:solidFill>
                <a:latin typeface="좋은 귀염둥이빼로"/>
                <a:ea typeface="좋은 귀염둥이빼로"/>
              </a:rPr>
              <a:t>Test</a:t>
            </a:r>
            <a:endParaRPr b="1" lang="en-US" sz="7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050920" y="44370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좋은 귀염둥이빼로"/>
              </a:rPr>
              <a:t>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92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90120" y="189000"/>
            <a:ext cx="284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Y얕은샘물M"/>
                <a:ea typeface="HY얕은샘물M"/>
              </a:rPr>
              <a:t>温馨的</a:t>
            </a:r>
            <a:r>
              <a:rPr b="0" lang="zh-CN" sz="4000" spc="-1" strike="noStrike">
                <a:solidFill>
                  <a:srgbClr val="000000"/>
                </a:solidFill>
                <a:latin typeface="HY얕은샘물M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HY얕은샘물M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8229600" cy="927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좋은 귀염둥이빼로"/>
                <a:ea typeface="좋은 귀염둥이빼로"/>
              </a:rPr>
              <a:t>111</a:t>
            </a: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492000" y="3715920"/>
            <a:ext cx="446436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좋은 귀염둥이빼로"/>
                <a:ea typeface="좋은 귀염둥이빼로"/>
              </a:rPr>
              <a:t>3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4360" y="1700280"/>
            <a:ext cx="7416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69440" indent="-46944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좋은 귀염둥이빼로"/>
                <a:ea typeface="좋은 귀염둥이빼로"/>
              </a:rPr>
              <a:t>22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1212120" y="3472560"/>
            <a:ext cx="1825920" cy="1843200"/>
            <a:chOff x="1212120" y="3472560"/>
            <a:chExt cx="1825920" cy="1843200"/>
          </a:xfrm>
        </p:grpSpPr>
        <p:sp>
          <p:nvSpPr>
            <p:cNvPr id="148" name=""/>
            <p:cNvSpPr/>
            <p:nvPr/>
          </p:nvSpPr>
          <p:spPr>
            <a:xfrm rot="3418800">
              <a:off x="1447200" y="3745440"/>
              <a:ext cx="1355400" cy="1296720"/>
            </a:xfrm>
            <a:prstGeom prst="rect">
              <a:avLst/>
            </a:prstGeom>
            <a:gradFill rotWithShape="0">
              <a:gsLst>
                <a:gs pos="0">
                  <a:srgbClr val="5cb1fe"/>
                </a:gs>
                <a:gs pos="100000">
                  <a:srgbClr val="2a5175"/>
                </a:gs>
              </a:gsLst>
              <a:lin ang="1980000"/>
            </a:gradFill>
            <a:ln w="38160">
              <a:solidFill>
                <a:srgbClr val="ffffff"/>
              </a:solidFill>
              <a:miter/>
            </a:ln>
            <a:effectLst>
              <a:outerShdw dist="77353" dir="56247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811520" y="3932640"/>
              <a:ext cx="575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99"/>
                  </a:solidFill>
                  <a:latin typeface="좋은 귀염둥이빼로"/>
                  <a:ea typeface="좋은 귀염둥이빼로"/>
                </a:rPr>
                <a:t>A</a:t>
              </a:r>
              <a:r>
                <a:rPr b="1" lang="en-US" sz="2400" spc="-1" strike="noStrike">
                  <a:solidFill>
                    <a:srgbClr val="ffff99"/>
                  </a:solidFill>
                  <a:latin typeface="좋은 귀염둥이빼로"/>
                  <a:ea typeface="좋은 귀염둥이빼로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 rot="18480600">
            <a:off x="1331640" y="3685680"/>
            <a:ext cx="3571920" cy="441360"/>
          </a:xfrm>
          <a:prstGeom prst="rect">
            <a:avLst/>
          </a:prstGeom>
          <a:ln w="0">
            <a:noFill/>
          </a:ln>
        </p:spPr>
      </p:pic>
      <p:grpSp>
        <p:nvGrpSpPr>
          <p:cNvPr id="151" name=""/>
          <p:cNvGrpSpPr/>
          <p:nvPr/>
        </p:nvGrpSpPr>
        <p:grpSpPr>
          <a:xfrm>
            <a:off x="1620720" y="2139840"/>
            <a:ext cx="5913000" cy="2308320"/>
            <a:chOff x="1620720" y="2139840"/>
            <a:chExt cx="5913000" cy="2308320"/>
          </a:xfrm>
        </p:grpSpPr>
        <p:sp>
          <p:nvSpPr>
            <p:cNvPr id="152" name=""/>
            <p:cNvSpPr/>
            <p:nvPr/>
          </p:nvSpPr>
          <p:spPr>
            <a:xfrm>
              <a:off x="1620720" y="2219040"/>
              <a:ext cx="2097000" cy="2211480"/>
            </a:xfrm>
            <a:custGeom>
              <a:avLst/>
              <a:gdLst/>
              <a:ahLst/>
              <a:rect l="l" t="t" r="r" b="b"/>
              <a:pathLst>
                <a:path w="1335" h="1479">
                  <a:moveTo>
                    <a:pt x="763" y="102"/>
                  </a:moveTo>
                  <a:cubicBezTo>
                    <a:pt x="920" y="0"/>
                    <a:pt x="1137" y="178"/>
                    <a:pt x="1209" y="244"/>
                  </a:cubicBezTo>
                  <a:cubicBezTo>
                    <a:pt x="1281" y="310"/>
                    <a:pt x="1335" y="312"/>
                    <a:pt x="1325" y="314"/>
                  </a:cubicBezTo>
                  <a:cubicBezTo>
                    <a:pt x="1262" y="339"/>
                    <a:pt x="1010" y="74"/>
                    <a:pt x="843" y="267"/>
                  </a:cubicBezTo>
                  <a:cubicBezTo>
                    <a:pt x="554" y="534"/>
                    <a:pt x="389" y="1337"/>
                    <a:pt x="305" y="1479"/>
                  </a:cubicBezTo>
                  <a:lnTo>
                    <a:pt x="0" y="1303"/>
                  </a:lnTo>
                  <a:cubicBezTo>
                    <a:pt x="76" y="1074"/>
                    <a:pt x="398" y="270"/>
                    <a:pt x="763" y="10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5436360" y="2219040"/>
              <a:ext cx="2097000" cy="2211480"/>
            </a:xfrm>
            <a:custGeom>
              <a:avLst/>
              <a:gdLst/>
              <a:ahLst/>
              <a:rect l="l" t="t" r="r" b="b"/>
              <a:pathLst>
                <a:path w="1335" h="1479">
                  <a:moveTo>
                    <a:pt x="763" y="102"/>
                  </a:moveTo>
                  <a:cubicBezTo>
                    <a:pt x="920" y="0"/>
                    <a:pt x="1137" y="178"/>
                    <a:pt x="1209" y="244"/>
                  </a:cubicBezTo>
                  <a:cubicBezTo>
                    <a:pt x="1281" y="310"/>
                    <a:pt x="1335" y="312"/>
                    <a:pt x="1325" y="314"/>
                  </a:cubicBezTo>
                  <a:cubicBezTo>
                    <a:pt x="1262" y="339"/>
                    <a:pt x="1010" y="74"/>
                    <a:pt x="843" y="267"/>
                  </a:cubicBezTo>
                  <a:cubicBezTo>
                    <a:pt x="554" y="534"/>
                    <a:pt x="389" y="1337"/>
                    <a:pt x="305" y="1479"/>
                  </a:cubicBezTo>
                  <a:lnTo>
                    <a:pt x="0" y="1303"/>
                  </a:lnTo>
                  <a:cubicBezTo>
                    <a:pt x="76" y="1074"/>
                    <a:pt x="398" y="270"/>
                    <a:pt x="763" y="10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356000" y="2139840"/>
              <a:ext cx="625320" cy="2308320"/>
            </a:xfrm>
            <a:custGeom>
              <a:avLst/>
              <a:gdLst/>
              <a:ahLst/>
              <a:rect l="l" t="t" r="r" b="b"/>
              <a:pathLst>
                <a:path w="398" h="1542">
                  <a:moveTo>
                    <a:pt x="229" y="318"/>
                  </a:moveTo>
                  <a:cubicBezTo>
                    <a:pt x="169" y="114"/>
                    <a:pt x="110" y="0"/>
                    <a:pt x="80" y="240"/>
                  </a:cubicBezTo>
                  <a:cubicBezTo>
                    <a:pt x="50" y="480"/>
                    <a:pt x="0" y="1379"/>
                    <a:pt x="10" y="1542"/>
                  </a:cubicBezTo>
                  <a:lnTo>
                    <a:pt x="362" y="1525"/>
                  </a:lnTo>
                  <a:cubicBezTo>
                    <a:pt x="398" y="1321"/>
                    <a:pt x="289" y="522"/>
                    <a:pt x="229" y="31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2430360" y="1125360"/>
            <a:ext cx="4266720" cy="1093320"/>
            <a:chOff x="2430360" y="1125360"/>
            <a:chExt cx="4266720" cy="1093320"/>
          </a:xfrm>
        </p:grpSpPr>
        <p:grpSp>
          <p:nvGrpSpPr>
            <p:cNvPr id="156" name=""/>
            <p:cNvGrpSpPr/>
            <p:nvPr/>
          </p:nvGrpSpPr>
          <p:grpSpPr>
            <a:xfrm>
              <a:off x="2430360" y="1125360"/>
              <a:ext cx="4266720" cy="1093320"/>
              <a:chOff x="2430360" y="1125360"/>
              <a:chExt cx="4266720" cy="1093320"/>
            </a:xfrm>
          </p:grpSpPr>
          <p:sp>
            <p:nvSpPr>
              <p:cNvPr id="157" name=""/>
              <p:cNvSpPr/>
              <p:nvPr/>
            </p:nvSpPr>
            <p:spPr>
              <a:xfrm>
                <a:off x="2430360" y="1125360"/>
                <a:ext cx="4266720" cy="1093320"/>
              </a:xfrm>
              <a:prstGeom prst="roundRect">
                <a:avLst>
                  <a:gd name="adj" fmla="val 50000"/>
                </a:avLst>
              </a:prstGeom>
              <a:solidFill>
                <a:srgbClr val="fcfcfc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493000" y="1218240"/>
                <a:ext cx="4132440" cy="921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32400"/>
                  </a:gs>
                  <a:gs pos="50000">
                    <a:srgbClr val="cc3300">
                      <a:alpha val="90196"/>
                    </a:srgbClr>
                  </a:gs>
                  <a:gs pos="100000">
                    <a:srgbClr val="9324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2782800" y="1470960"/>
              <a:ext cx="355752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356120" y="5632920"/>
            <a:ext cx="1321200" cy="531720"/>
            <a:chOff x="1356120" y="5632920"/>
            <a:chExt cx="1321200" cy="531720"/>
          </a:xfrm>
        </p:grpSpPr>
        <p:grpSp>
          <p:nvGrpSpPr>
            <p:cNvPr id="161" name=""/>
            <p:cNvGrpSpPr/>
            <p:nvPr/>
          </p:nvGrpSpPr>
          <p:grpSpPr>
            <a:xfrm>
              <a:off x="1590480" y="5636160"/>
              <a:ext cx="1086840" cy="508320"/>
              <a:chOff x="1590480" y="5636160"/>
              <a:chExt cx="1086840" cy="508320"/>
            </a:xfrm>
          </p:grpSpPr>
          <p:sp>
            <p:nvSpPr>
              <p:cNvPr id="162" name=""/>
              <p:cNvSpPr/>
              <p:nvPr/>
            </p:nvSpPr>
            <p:spPr>
              <a:xfrm flipH="1" flipV="1" rot="3964800">
                <a:off x="2172240" y="5497560"/>
                <a:ext cx="20808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 flipV="1" rot="4780200">
                <a:off x="2049840" y="5545440"/>
                <a:ext cx="20808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H="1" flipV="1" rot="5076000">
                <a:off x="1975320" y="5553720"/>
                <a:ext cx="20808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 flipV="1" rot="5608200">
                <a:off x="1884600" y="5560200"/>
                <a:ext cx="20808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1356120" y="5632920"/>
              <a:ext cx="1083600" cy="531720"/>
              <a:chOff x="1356120" y="5632920"/>
              <a:chExt cx="1083600" cy="531720"/>
            </a:xfrm>
          </p:grpSpPr>
          <p:sp>
            <p:nvSpPr>
              <p:cNvPr id="167" name=""/>
              <p:cNvSpPr/>
              <p:nvPr/>
            </p:nvSpPr>
            <p:spPr>
              <a:xfrm flipH="1" flipV="1" rot="5317800">
                <a:off x="1939680" y="5557680"/>
                <a:ext cx="20880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H="1" flipV="1" rot="6133800">
                <a:off x="1809000" y="5556240"/>
                <a:ext cx="20880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 flipV="1" rot="6429000">
                <a:off x="1735920" y="5535000"/>
                <a:ext cx="20880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 flipV="1" rot="6961200">
                <a:off x="1649880" y="5506200"/>
                <a:ext cx="20880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"/>
          <p:cNvSpPr/>
          <p:nvPr/>
        </p:nvSpPr>
        <p:spPr>
          <a:xfrm rot="5400000">
            <a:off x="586080" y="3399480"/>
            <a:ext cx="2787840" cy="25923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8c8c8">
                  <a:alpha val="98039"/>
                </a:srgbClr>
              </a:gs>
              <a:gs pos="50000">
                <a:srgbClr val="ffffff"/>
              </a:gs>
              <a:gs pos="100000">
                <a:srgbClr val="c8c8c8">
                  <a:alpha val="98039"/>
                </a:srgbClr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55640" y="3324240"/>
            <a:ext cx="2448000" cy="554040"/>
          </a:xfrm>
          <a:custGeom>
            <a:avLst/>
            <a:gdLst/>
            <a:ahLst/>
            <a:rect l="l" t="t" r="r" b="b"/>
            <a:pathLst>
              <a:path w="1270" h="303">
                <a:moveTo>
                  <a:pt x="5" y="303"/>
                </a:moveTo>
                <a:cubicBezTo>
                  <a:pt x="5" y="303"/>
                  <a:pt x="0" y="253"/>
                  <a:pt x="21" y="177"/>
                </a:cubicBezTo>
                <a:cubicBezTo>
                  <a:pt x="48" y="130"/>
                  <a:pt x="69" y="44"/>
                  <a:pt x="172" y="22"/>
                </a:cubicBezTo>
                <a:cubicBezTo>
                  <a:pt x="275" y="0"/>
                  <a:pt x="235" y="13"/>
                  <a:pt x="361" y="11"/>
                </a:cubicBezTo>
                <a:cubicBezTo>
                  <a:pt x="487" y="9"/>
                  <a:pt x="813" y="12"/>
                  <a:pt x="932" y="12"/>
                </a:cubicBezTo>
                <a:cubicBezTo>
                  <a:pt x="1050" y="12"/>
                  <a:pt x="998" y="2"/>
                  <a:pt x="1070" y="14"/>
                </a:cubicBezTo>
                <a:cubicBezTo>
                  <a:pt x="1143" y="26"/>
                  <a:pt x="1215" y="84"/>
                  <a:pt x="1260" y="189"/>
                </a:cubicBezTo>
                <a:cubicBezTo>
                  <a:pt x="1270" y="262"/>
                  <a:pt x="1266" y="302"/>
                  <a:pt x="1266" y="302"/>
                </a:cubicBezTo>
                <a:lnTo>
                  <a:pt x="5" y="303"/>
                </a:lnTo>
                <a:close/>
              </a:path>
            </a:pathLst>
          </a:custGeom>
          <a:solidFill>
            <a:srgbClr val="ffc31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3357720"/>
            <a:ext cx="1224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좋은 귀염둥이빼로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5400000">
            <a:off x="3321360" y="3399480"/>
            <a:ext cx="2787840" cy="25923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8c8c8">
                  <a:alpha val="98039"/>
                </a:srgbClr>
              </a:gs>
              <a:gs pos="50000">
                <a:srgbClr val="ffffff"/>
              </a:gs>
              <a:gs pos="100000">
                <a:srgbClr val="c8c8c8">
                  <a:alpha val="98039"/>
                </a:srgbClr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492360" y="3324240"/>
            <a:ext cx="2448000" cy="476280"/>
          </a:xfrm>
          <a:custGeom>
            <a:avLst/>
            <a:gdLst/>
            <a:ahLst/>
            <a:rect l="l" t="t" r="r" b="b"/>
            <a:pathLst>
              <a:path w="1261" h="303">
                <a:moveTo>
                  <a:pt x="6" y="297"/>
                </a:moveTo>
                <a:cubicBezTo>
                  <a:pt x="6" y="297"/>
                  <a:pt x="0" y="225"/>
                  <a:pt x="18" y="174"/>
                </a:cubicBezTo>
                <a:cubicBezTo>
                  <a:pt x="36" y="123"/>
                  <a:pt x="105" y="45"/>
                  <a:pt x="171" y="30"/>
                </a:cubicBezTo>
                <a:cubicBezTo>
                  <a:pt x="237" y="15"/>
                  <a:pt x="227" y="16"/>
                  <a:pt x="352" y="13"/>
                </a:cubicBezTo>
                <a:cubicBezTo>
                  <a:pt x="477" y="10"/>
                  <a:pt x="804" y="10"/>
                  <a:pt x="922" y="10"/>
                </a:cubicBezTo>
                <a:cubicBezTo>
                  <a:pt x="1039" y="10"/>
                  <a:pt x="988" y="0"/>
                  <a:pt x="1061" y="12"/>
                </a:cubicBezTo>
                <a:cubicBezTo>
                  <a:pt x="1133" y="24"/>
                  <a:pt x="1206" y="83"/>
                  <a:pt x="1251" y="190"/>
                </a:cubicBezTo>
                <a:cubicBezTo>
                  <a:pt x="1261" y="263"/>
                  <a:pt x="1257" y="303"/>
                  <a:pt x="1257" y="303"/>
                </a:cubicBezTo>
                <a:lnTo>
                  <a:pt x="6" y="297"/>
                </a:lnTo>
                <a:close/>
              </a:path>
            </a:pathLst>
          </a:custGeom>
          <a:solidFill>
            <a:srgbClr val="a8d02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067280" y="3284640"/>
            <a:ext cx="1224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좋은 귀염둥이빼로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5400000">
            <a:off x="6058080" y="3399480"/>
            <a:ext cx="2787840" cy="25923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8c8c8">
                  <a:alpha val="98039"/>
                </a:srgbClr>
              </a:gs>
              <a:gs pos="50000">
                <a:srgbClr val="ffffff"/>
              </a:gs>
              <a:gs pos="100000">
                <a:srgbClr val="c8c8c8">
                  <a:alpha val="98039"/>
                </a:srgbClr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29440" y="3324240"/>
            <a:ext cx="2448000" cy="476280"/>
          </a:xfrm>
          <a:custGeom>
            <a:avLst/>
            <a:gdLst/>
            <a:ahLst/>
            <a:rect l="l" t="t" r="r" b="b"/>
            <a:pathLst>
              <a:path w="1260" h="292">
                <a:moveTo>
                  <a:pt x="5" y="292"/>
                </a:moveTo>
                <a:cubicBezTo>
                  <a:pt x="0" y="270"/>
                  <a:pt x="16" y="49"/>
                  <a:pt x="192" y="0"/>
                </a:cubicBezTo>
                <a:lnTo>
                  <a:pt x="1060" y="0"/>
                </a:lnTo>
                <a:cubicBezTo>
                  <a:pt x="1241" y="48"/>
                  <a:pt x="1260" y="186"/>
                  <a:pt x="1254" y="291"/>
                </a:cubicBezTo>
                <a:lnTo>
                  <a:pt x="5" y="292"/>
                </a:lnTo>
                <a:close/>
              </a:path>
            </a:pathLst>
          </a:custGeom>
          <a:solidFill>
            <a:srgbClr val="5cb1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877080" y="3284640"/>
            <a:ext cx="1224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좋은 귀염둥이빼로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692360" y="6237360"/>
            <a:ext cx="57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模板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a8d02a"/>
                </a:solidFill>
                <a:uFillTx/>
                <a:latin typeface="Arial"/>
                <a:hlinkClick r:id="rId2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097080" y="2416320"/>
            <a:ext cx="2743200" cy="2743200"/>
          </a:xfrm>
          <a:prstGeom prst="ellips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40080" y="2930400"/>
            <a:ext cx="1619280" cy="1619280"/>
          </a:xfrm>
          <a:prstGeom prst="ellipse">
            <a:avLst/>
          </a:prstGeom>
          <a:solidFill>
            <a:srgbClr val="dcdcd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2700360" y="3645000"/>
            <a:ext cx="2446200" cy="144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916360" y="2276640"/>
            <a:ext cx="2303280" cy="1152360"/>
          </a:xfrm>
          <a:prstGeom prst="line">
            <a:avLst/>
          </a:prstGeom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2411280" y="3933720"/>
            <a:ext cx="2841840" cy="1224000"/>
          </a:xfrm>
          <a:prstGeom prst="line">
            <a:avLst/>
          </a:prstGeom>
          <a:ln w="1260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11680" y="4016520"/>
            <a:ext cx="2055960" cy="78084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611680" y="2492280"/>
            <a:ext cx="1768680" cy="1067040"/>
          </a:xfrm>
          <a:prstGeom prst="line">
            <a:avLst/>
          </a:prstGeom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878360" y="3321000"/>
            <a:ext cx="895320" cy="89532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2021040" y="1484280"/>
            <a:ext cx="1167120" cy="1175400"/>
            <a:chOff x="2021040" y="1484280"/>
            <a:chExt cx="1167120" cy="1175400"/>
          </a:xfrm>
        </p:grpSpPr>
        <p:sp>
          <p:nvSpPr>
            <p:cNvPr id="190" name=""/>
            <p:cNvSpPr/>
            <p:nvPr/>
          </p:nvSpPr>
          <p:spPr>
            <a:xfrm>
              <a:off x="2021040" y="148428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2055600" y="1520640"/>
              <a:ext cx="1118520" cy="1139040"/>
              <a:chOff x="2055600" y="1520640"/>
              <a:chExt cx="1118520" cy="1139040"/>
            </a:xfrm>
          </p:grpSpPr>
          <p:pic>
            <p:nvPicPr>
              <p:cNvPr id="19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055600" y="1520640"/>
                <a:ext cx="107244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3" name=""/>
              <p:cNvSpPr/>
              <p:nvPr/>
            </p:nvSpPr>
            <p:spPr>
              <a:xfrm>
                <a:off x="2055600" y="1520640"/>
                <a:ext cx="1079280" cy="1085760"/>
              </a:xfrm>
              <a:prstGeom prst="ellipse">
                <a:avLst/>
              </a:prstGeom>
              <a:solidFill>
                <a:srgbClr val="a8d02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94" name="" descr=""/>
              <p:cNvPicPr/>
              <p:nvPr/>
            </p:nvPicPr>
            <p:blipFill>
              <a:blip r:embed="rId2"/>
              <a:srcRect l="0" t="14289" r="0" b="0"/>
              <a:stretch/>
            </p:blipFill>
            <p:spPr>
              <a:xfrm>
                <a:off x="2066040" y="1565640"/>
                <a:ext cx="79056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95" name=""/>
              <p:cNvGrpSpPr/>
              <p:nvPr/>
            </p:nvGrpSpPr>
            <p:grpSpPr>
              <a:xfrm>
                <a:off x="2405880" y="1958040"/>
                <a:ext cx="768240" cy="701640"/>
                <a:chOff x="2405880" y="1958040"/>
                <a:chExt cx="768240" cy="701640"/>
              </a:xfrm>
            </p:grpSpPr>
            <p:grpSp>
              <p:nvGrpSpPr>
                <p:cNvPr id="196" name=""/>
                <p:cNvGrpSpPr/>
                <p:nvPr/>
              </p:nvGrpSpPr>
              <p:grpSpPr>
                <a:xfrm>
                  <a:off x="2582640" y="1958040"/>
                  <a:ext cx="591480" cy="694440"/>
                  <a:chOff x="2582640" y="1958040"/>
                  <a:chExt cx="591480" cy="694440"/>
                </a:xfrm>
              </p:grpSpPr>
              <p:sp>
                <p:nvSpPr>
                  <p:cNvPr id="197" name=""/>
                  <p:cNvSpPr/>
                  <p:nvPr/>
                </p:nvSpPr>
                <p:spPr>
                  <a:xfrm flipH="1" flipV="1" rot="1528800">
                    <a:off x="2912760" y="195984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 flipH="1" flipV="1" rot="2344200">
                    <a:off x="2867040" y="204444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 flipH="1" flipV="1" rot="2640000">
                    <a:off x="2829960" y="208620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 flipH="1" flipV="1" rot="3172200">
                    <a:off x="2784240" y="213372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1" name=""/>
                <p:cNvGrpSpPr/>
                <p:nvPr/>
              </p:nvGrpSpPr>
              <p:grpSpPr>
                <a:xfrm>
                  <a:off x="2405880" y="2149920"/>
                  <a:ext cx="743760" cy="509760"/>
                  <a:chOff x="2405880" y="2149920"/>
                  <a:chExt cx="743760" cy="509760"/>
                </a:xfrm>
              </p:grpSpPr>
              <p:sp>
                <p:nvSpPr>
                  <p:cNvPr id="202" name=""/>
                  <p:cNvSpPr/>
                  <p:nvPr/>
                </p:nvSpPr>
                <p:spPr>
                  <a:xfrm flipH="1" flipV="1" rot="2881800">
                    <a:off x="2817360" y="210600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 flipH="1" flipV="1" rot="3697200">
                    <a:off x="2743200" y="216648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 flipH="1" flipV="1" rot="3993000">
                    <a:off x="2692800" y="219132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 flipH="1" flipV="1" rot="4525200">
                    <a:off x="2632680" y="221796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06" name=""/>
            <p:cNvGrpSpPr/>
            <p:nvPr/>
          </p:nvGrpSpPr>
          <p:grpSpPr>
            <a:xfrm>
              <a:off x="2511000" y="1985760"/>
              <a:ext cx="677160" cy="617760"/>
              <a:chOff x="2511000" y="1985760"/>
              <a:chExt cx="677160" cy="617760"/>
            </a:xfrm>
          </p:grpSpPr>
          <p:grpSp>
            <p:nvGrpSpPr>
              <p:cNvPr id="207" name=""/>
              <p:cNvGrpSpPr/>
              <p:nvPr/>
            </p:nvGrpSpPr>
            <p:grpSpPr>
              <a:xfrm>
                <a:off x="2666880" y="1985760"/>
                <a:ext cx="521280" cy="611640"/>
                <a:chOff x="2666880" y="1985760"/>
                <a:chExt cx="521280" cy="611640"/>
              </a:xfrm>
            </p:grpSpPr>
            <p:sp>
              <p:nvSpPr>
                <p:cNvPr id="208" name=""/>
                <p:cNvSpPr/>
                <p:nvPr/>
              </p:nvSpPr>
              <p:spPr>
                <a:xfrm flipH="1" flipV="1" rot="1528800">
                  <a:off x="2956320" y="198756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flipV="1" rot="2344200">
                  <a:off x="2917800" y="2062080"/>
                  <a:ext cx="123840" cy="50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 flipH="1" flipV="1" rot="2640000">
                  <a:off x="2885400" y="209844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flipH="1" flipV="1" rot="3172200">
                  <a:off x="2844720" y="214020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2" name=""/>
              <p:cNvGrpSpPr/>
              <p:nvPr/>
            </p:nvGrpSpPr>
            <p:grpSpPr>
              <a:xfrm>
                <a:off x="2511000" y="2154240"/>
                <a:ext cx="654120" cy="449280"/>
                <a:chOff x="2511000" y="2154240"/>
                <a:chExt cx="654120" cy="449280"/>
              </a:xfrm>
            </p:grpSpPr>
            <p:sp>
              <p:nvSpPr>
                <p:cNvPr id="213" name=""/>
                <p:cNvSpPr/>
                <p:nvPr/>
              </p:nvSpPr>
              <p:spPr>
                <a:xfrm flipH="1" flipV="1" rot="2881800">
                  <a:off x="2872080" y="211572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flipH="1" flipV="1" rot="3697200">
                  <a:off x="2807280" y="2170440"/>
                  <a:ext cx="12420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 flipH="1" flipV="1" rot="3993000">
                  <a:off x="2763360" y="2190960"/>
                  <a:ext cx="12456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 flipH="1" flipV="1" rot="4525200">
                  <a:off x="2710080" y="2215080"/>
                  <a:ext cx="124560" cy="50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7" name=""/>
            <p:cNvSpPr/>
            <p:nvPr/>
          </p:nvSpPr>
          <p:spPr>
            <a:xfrm>
              <a:off x="2522160" y="17604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1835280" y="3068640"/>
            <a:ext cx="1167120" cy="1175400"/>
            <a:chOff x="1835280" y="3068640"/>
            <a:chExt cx="1167120" cy="1175400"/>
          </a:xfrm>
        </p:grpSpPr>
        <p:sp>
          <p:nvSpPr>
            <p:cNvPr id="219" name=""/>
            <p:cNvSpPr/>
            <p:nvPr/>
          </p:nvSpPr>
          <p:spPr>
            <a:xfrm>
              <a:off x="1835280" y="306864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0" name=""/>
            <p:cNvGrpSpPr/>
            <p:nvPr/>
          </p:nvGrpSpPr>
          <p:grpSpPr>
            <a:xfrm>
              <a:off x="1869840" y="3105000"/>
              <a:ext cx="1118520" cy="1139040"/>
              <a:chOff x="1869840" y="3105000"/>
              <a:chExt cx="1118520" cy="1139040"/>
            </a:xfrm>
          </p:grpSpPr>
          <p:pic>
            <p:nvPicPr>
              <p:cNvPr id="22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869840" y="3105000"/>
                <a:ext cx="107244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2" name=""/>
              <p:cNvSpPr/>
              <p:nvPr/>
            </p:nvSpPr>
            <p:spPr>
              <a:xfrm>
                <a:off x="1869840" y="3105000"/>
                <a:ext cx="1079280" cy="1085760"/>
              </a:xfrm>
              <a:prstGeom prst="ellipse">
                <a:avLst/>
              </a:prstGeom>
              <a:solidFill>
                <a:srgbClr val="ffc31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23" name="" descr=""/>
              <p:cNvPicPr/>
              <p:nvPr/>
            </p:nvPicPr>
            <p:blipFill>
              <a:blip r:embed="rId4"/>
              <a:srcRect l="0" t="14289" r="0" b="0"/>
              <a:stretch/>
            </p:blipFill>
            <p:spPr>
              <a:xfrm>
                <a:off x="1880280" y="3150000"/>
                <a:ext cx="79056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24" name=""/>
              <p:cNvGrpSpPr/>
              <p:nvPr/>
            </p:nvGrpSpPr>
            <p:grpSpPr>
              <a:xfrm>
                <a:off x="2220120" y="3542400"/>
                <a:ext cx="768240" cy="701640"/>
                <a:chOff x="2220120" y="3542400"/>
                <a:chExt cx="768240" cy="701640"/>
              </a:xfrm>
            </p:grpSpPr>
            <p:grpSp>
              <p:nvGrpSpPr>
                <p:cNvPr id="225" name=""/>
                <p:cNvGrpSpPr/>
                <p:nvPr/>
              </p:nvGrpSpPr>
              <p:grpSpPr>
                <a:xfrm>
                  <a:off x="2396880" y="3542400"/>
                  <a:ext cx="591480" cy="694440"/>
                  <a:chOff x="2396880" y="3542400"/>
                  <a:chExt cx="591480" cy="694440"/>
                </a:xfrm>
              </p:grpSpPr>
              <p:sp>
                <p:nvSpPr>
                  <p:cNvPr id="226" name=""/>
                  <p:cNvSpPr/>
                  <p:nvPr/>
                </p:nvSpPr>
                <p:spPr>
                  <a:xfrm flipH="1" flipV="1" rot="1528800">
                    <a:off x="2727000" y="354420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 flipH="1" flipV="1" rot="2344200">
                    <a:off x="2681280" y="362880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 flipH="1" flipV="1" rot="2640000">
                    <a:off x="2644200" y="367056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 flipH="1" flipV="1" rot="3172200">
                    <a:off x="2598480" y="371808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0" name=""/>
                <p:cNvGrpSpPr/>
                <p:nvPr/>
              </p:nvGrpSpPr>
              <p:grpSpPr>
                <a:xfrm>
                  <a:off x="2220120" y="3734280"/>
                  <a:ext cx="743760" cy="509760"/>
                  <a:chOff x="2220120" y="3734280"/>
                  <a:chExt cx="743760" cy="509760"/>
                </a:xfrm>
              </p:grpSpPr>
              <p:sp>
                <p:nvSpPr>
                  <p:cNvPr id="231" name=""/>
                  <p:cNvSpPr/>
                  <p:nvPr/>
                </p:nvSpPr>
                <p:spPr>
                  <a:xfrm flipH="1" flipV="1" rot="2881800">
                    <a:off x="2631600" y="369036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 flipH="1" flipV="1" rot="3697200">
                    <a:off x="2557440" y="375084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 flipH="1" flipV="1" rot="3993000">
                    <a:off x="2507040" y="377568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 flipH="1" flipV="1" rot="4525200">
                    <a:off x="2446920" y="380232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35" name=""/>
            <p:cNvGrpSpPr/>
            <p:nvPr/>
          </p:nvGrpSpPr>
          <p:grpSpPr>
            <a:xfrm>
              <a:off x="2325240" y="3570120"/>
              <a:ext cx="677160" cy="617760"/>
              <a:chOff x="2325240" y="3570120"/>
              <a:chExt cx="677160" cy="617760"/>
            </a:xfrm>
          </p:grpSpPr>
          <p:grpSp>
            <p:nvGrpSpPr>
              <p:cNvPr id="236" name=""/>
              <p:cNvGrpSpPr/>
              <p:nvPr/>
            </p:nvGrpSpPr>
            <p:grpSpPr>
              <a:xfrm>
                <a:off x="2481120" y="3570120"/>
                <a:ext cx="521280" cy="611640"/>
                <a:chOff x="2481120" y="3570120"/>
                <a:chExt cx="521280" cy="611640"/>
              </a:xfrm>
            </p:grpSpPr>
            <p:sp>
              <p:nvSpPr>
                <p:cNvPr id="237" name=""/>
                <p:cNvSpPr/>
                <p:nvPr/>
              </p:nvSpPr>
              <p:spPr>
                <a:xfrm flipH="1" flipV="1" rot="1528800">
                  <a:off x="2770560" y="357192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flipH="1" flipV="1" rot="2344200">
                  <a:off x="2732040" y="3646440"/>
                  <a:ext cx="123840" cy="50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 flipH="1" flipV="1" rot="2640000">
                  <a:off x="2699640" y="368280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flipH="1" flipV="1" rot="3172200">
                  <a:off x="2658960" y="372456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1" name=""/>
              <p:cNvGrpSpPr/>
              <p:nvPr/>
            </p:nvGrpSpPr>
            <p:grpSpPr>
              <a:xfrm>
                <a:off x="2325240" y="3738600"/>
                <a:ext cx="654120" cy="449280"/>
                <a:chOff x="2325240" y="3738600"/>
                <a:chExt cx="654120" cy="449280"/>
              </a:xfrm>
            </p:grpSpPr>
            <p:sp>
              <p:nvSpPr>
                <p:cNvPr id="242" name=""/>
                <p:cNvSpPr/>
                <p:nvPr/>
              </p:nvSpPr>
              <p:spPr>
                <a:xfrm flipH="1" flipV="1" rot="2881800">
                  <a:off x="2686320" y="370008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 flipH="1" flipV="1" rot="3697200">
                  <a:off x="2621520" y="3754800"/>
                  <a:ext cx="12420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 flipH="1" flipV="1" rot="3993000">
                  <a:off x="2577600" y="3775320"/>
                  <a:ext cx="12456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flipV="1" rot="4525200">
                  <a:off x="2524320" y="3799440"/>
                  <a:ext cx="124560" cy="50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6" name=""/>
            <p:cNvSpPr/>
            <p:nvPr/>
          </p:nvSpPr>
          <p:spPr>
            <a:xfrm>
              <a:off x="2325600" y="3394080"/>
              <a:ext cx="183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2021040" y="4653000"/>
            <a:ext cx="1167120" cy="1175400"/>
            <a:chOff x="2021040" y="4653000"/>
            <a:chExt cx="1167120" cy="1175400"/>
          </a:xfrm>
        </p:grpSpPr>
        <p:sp>
          <p:nvSpPr>
            <p:cNvPr id="248" name=""/>
            <p:cNvSpPr/>
            <p:nvPr/>
          </p:nvSpPr>
          <p:spPr>
            <a:xfrm>
              <a:off x="2021040" y="465300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2055600" y="4689360"/>
              <a:ext cx="1118520" cy="1139040"/>
              <a:chOff x="2055600" y="4689360"/>
              <a:chExt cx="1118520" cy="1139040"/>
            </a:xfrm>
          </p:grpSpPr>
          <p:pic>
            <p:nvPicPr>
              <p:cNvPr id="25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055600" y="4689360"/>
                <a:ext cx="107244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1" name=""/>
              <p:cNvSpPr/>
              <p:nvPr/>
            </p:nvSpPr>
            <p:spPr>
              <a:xfrm>
                <a:off x="2055600" y="4689360"/>
                <a:ext cx="1079280" cy="1085760"/>
              </a:xfrm>
              <a:prstGeom prst="ellipse">
                <a:avLst/>
              </a:prstGeom>
              <a:solidFill>
                <a:srgbClr val="ff616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52" name="" descr=""/>
              <p:cNvPicPr/>
              <p:nvPr/>
            </p:nvPicPr>
            <p:blipFill>
              <a:blip r:embed="rId6"/>
              <a:srcRect l="0" t="14289" r="0" b="0"/>
              <a:stretch/>
            </p:blipFill>
            <p:spPr>
              <a:xfrm>
                <a:off x="2066040" y="4734360"/>
                <a:ext cx="79056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53" name=""/>
              <p:cNvGrpSpPr/>
              <p:nvPr/>
            </p:nvGrpSpPr>
            <p:grpSpPr>
              <a:xfrm>
                <a:off x="2405880" y="5126760"/>
                <a:ext cx="768240" cy="701640"/>
                <a:chOff x="2405880" y="5126760"/>
                <a:chExt cx="768240" cy="7016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2582640" y="5126760"/>
                  <a:ext cx="591480" cy="694440"/>
                  <a:chOff x="2582640" y="5126760"/>
                  <a:chExt cx="591480" cy="694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 flipH="1" flipV="1" rot="1528800">
                    <a:off x="2912760" y="512856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 flipH="1" flipV="1" rot="2344200">
                    <a:off x="2867040" y="521316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 flipH="1" flipV="1" rot="2640000">
                    <a:off x="2829960" y="525492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 flipH="1" flipV="1" rot="3172200">
                    <a:off x="2784240" y="530244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9" name=""/>
                <p:cNvGrpSpPr/>
                <p:nvPr/>
              </p:nvGrpSpPr>
              <p:grpSpPr>
                <a:xfrm>
                  <a:off x="2405880" y="5318640"/>
                  <a:ext cx="743760" cy="509760"/>
                  <a:chOff x="2405880" y="5318640"/>
                  <a:chExt cx="743760" cy="50976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 flipH="1" flipV="1" rot="2881800">
                    <a:off x="2817360" y="527472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 flipH="1" flipV="1" rot="3697200">
                    <a:off x="2743200" y="533520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 flipH="1" flipV="1" rot="3993000">
                    <a:off x="2692800" y="536004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 flipH="1" flipV="1" rot="4525200">
                    <a:off x="2632680" y="538668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64" name=""/>
            <p:cNvGrpSpPr/>
            <p:nvPr/>
          </p:nvGrpSpPr>
          <p:grpSpPr>
            <a:xfrm>
              <a:off x="2511000" y="5154480"/>
              <a:ext cx="677160" cy="617760"/>
              <a:chOff x="2511000" y="5154480"/>
              <a:chExt cx="677160" cy="617760"/>
            </a:xfrm>
          </p:grpSpPr>
          <p:grpSp>
            <p:nvGrpSpPr>
              <p:cNvPr id="265" name=""/>
              <p:cNvGrpSpPr/>
              <p:nvPr/>
            </p:nvGrpSpPr>
            <p:grpSpPr>
              <a:xfrm>
                <a:off x="2666880" y="5154480"/>
                <a:ext cx="521280" cy="611640"/>
                <a:chOff x="2666880" y="5154480"/>
                <a:chExt cx="521280" cy="611640"/>
              </a:xfrm>
            </p:grpSpPr>
            <p:sp>
              <p:nvSpPr>
                <p:cNvPr id="266" name=""/>
                <p:cNvSpPr/>
                <p:nvPr/>
              </p:nvSpPr>
              <p:spPr>
                <a:xfrm flipH="1" flipV="1" rot="1528800">
                  <a:off x="2956320" y="515628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 flipH="1" flipV="1" rot="2344200">
                  <a:off x="2917800" y="5230800"/>
                  <a:ext cx="123840" cy="50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 flipH="1" flipV="1" rot="2640000">
                  <a:off x="2885400" y="526716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 rot="3172200">
                  <a:off x="2844720" y="530892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2511000" y="5322960"/>
                <a:ext cx="654120" cy="449280"/>
                <a:chOff x="2511000" y="5322960"/>
                <a:chExt cx="654120" cy="449280"/>
              </a:xfrm>
            </p:grpSpPr>
            <p:sp>
              <p:nvSpPr>
                <p:cNvPr id="271" name=""/>
                <p:cNvSpPr/>
                <p:nvPr/>
              </p:nvSpPr>
              <p:spPr>
                <a:xfrm flipH="1" flipV="1" rot="2881800">
                  <a:off x="2872080" y="528444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 flipH="1" flipV="1" rot="3697200">
                  <a:off x="2807280" y="5339160"/>
                  <a:ext cx="12420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 flipH="1" flipV="1" rot="3993000">
                  <a:off x="2763360" y="5359680"/>
                  <a:ext cx="12456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 flipV="1" rot="4525200">
                  <a:off x="2710080" y="5383800"/>
                  <a:ext cx="124560" cy="50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75" name=""/>
            <p:cNvSpPr/>
            <p:nvPr/>
          </p:nvSpPr>
          <p:spPr>
            <a:xfrm>
              <a:off x="2533320" y="490392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7596360" y="4221000"/>
            <a:ext cx="1167120" cy="1175400"/>
            <a:chOff x="7596360" y="4221000"/>
            <a:chExt cx="1167120" cy="1175400"/>
          </a:xfrm>
        </p:grpSpPr>
        <p:sp>
          <p:nvSpPr>
            <p:cNvPr id="277" name=""/>
            <p:cNvSpPr/>
            <p:nvPr/>
          </p:nvSpPr>
          <p:spPr>
            <a:xfrm>
              <a:off x="7596360" y="422100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8" name=""/>
            <p:cNvGrpSpPr/>
            <p:nvPr/>
          </p:nvGrpSpPr>
          <p:grpSpPr>
            <a:xfrm>
              <a:off x="7630920" y="4257360"/>
              <a:ext cx="1118520" cy="1139040"/>
              <a:chOff x="7630920" y="4257360"/>
              <a:chExt cx="1118520" cy="1139040"/>
            </a:xfrm>
          </p:grpSpPr>
          <p:pic>
            <p:nvPicPr>
              <p:cNvPr id="279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7630920" y="4257360"/>
                <a:ext cx="107244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0" name=""/>
              <p:cNvSpPr/>
              <p:nvPr/>
            </p:nvSpPr>
            <p:spPr>
              <a:xfrm>
                <a:off x="7630920" y="4257360"/>
                <a:ext cx="1079280" cy="1085760"/>
              </a:xfrm>
              <a:prstGeom prst="ellipse">
                <a:avLst/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81" name="" descr=""/>
              <p:cNvPicPr/>
              <p:nvPr/>
            </p:nvPicPr>
            <p:blipFill>
              <a:blip r:embed="rId8"/>
              <a:srcRect l="0" t="14289" r="0" b="0"/>
              <a:stretch/>
            </p:blipFill>
            <p:spPr>
              <a:xfrm>
                <a:off x="7641360" y="4302360"/>
                <a:ext cx="79056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82" name=""/>
              <p:cNvGrpSpPr/>
              <p:nvPr/>
            </p:nvGrpSpPr>
            <p:grpSpPr>
              <a:xfrm>
                <a:off x="7981200" y="4694760"/>
                <a:ext cx="768240" cy="701640"/>
                <a:chOff x="7981200" y="4694760"/>
                <a:chExt cx="768240" cy="70164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8157960" y="4694760"/>
                  <a:ext cx="591480" cy="694440"/>
                  <a:chOff x="8157960" y="4694760"/>
                  <a:chExt cx="591480" cy="69444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 flipH="1" flipV="1" rot="1528800">
                    <a:off x="8488080" y="469656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 rot="2344200">
                    <a:off x="8442360" y="478116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 flipH="1" flipV="1" rot="2640000">
                    <a:off x="8405280" y="482292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 rot="3172200">
                    <a:off x="8359560" y="487044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8" name=""/>
                <p:cNvGrpSpPr/>
                <p:nvPr/>
              </p:nvGrpSpPr>
              <p:grpSpPr>
                <a:xfrm>
                  <a:off x="7981200" y="4886640"/>
                  <a:ext cx="743760" cy="509760"/>
                  <a:chOff x="7981200" y="4886640"/>
                  <a:chExt cx="743760" cy="509760"/>
                </a:xfrm>
              </p:grpSpPr>
              <p:sp>
                <p:nvSpPr>
                  <p:cNvPr id="289" name=""/>
                  <p:cNvSpPr/>
                  <p:nvPr/>
                </p:nvSpPr>
                <p:spPr>
                  <a:xfrm flipH="1" flipV="1" rot="2881800">
                    <a:off x="8392680" y="484272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 flipV="1" rot="3697200">
                    <a:off x="8318520" y="490320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 flipH="1" flipV="1" rot="3993000">
                    <a:off x="8268120" y="492804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 rot="4525200">
                    <a:off x="8208000" y="495468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93" name=""/>
            <p:cNvGrpSpPr/>
            <p:nvPr/>
          </p:nvGrpSpPr>
          <p:grpSpPr>
            <a:xfrm>
              <a:off x="8086320" y="4722480"/>
              <a:ext cx="677160" cy="617760"/>
              <a:chOff x="8086320" y="4722480"/>
              <a:chExt cx="677160" cy="617760"/>
            </a:xfrm>
          </p:grpSpPr>
          <p:grpSp>
            <p:nvGrpSpPr>
              <p:cNvPr id="294" name=""/>
              <p:cNvGrpSpPr/>
              <p:nvPr/>
            </p:nvGrpSpPr>
            <p:grpSpPr>
              <a:xfrm>
                <a:off x="8242200" y="4722480"/>
                <a:ext cx="521280" cy="611640"/>
                <a:chOff x="8242200" y="4722480"/>
                <a:chExt cx="521280" cy="611640"/>
              </a:xfrm>
            </p:grpSpPr>
            <p:sp>
              <p:nvSpPr>
                <p:cNvPr id="295" name=""/>
                <p:cNvSpPr/>
                <p:nvPr/>
              </p:nvSpPr>
              <p:spPr>
                <a:xfrm flipH="1" flipV="1" rot="1528800">
                  <a:off x="8531640" y="472428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 flipH="1" flipV="1" rot="2344200">
                  <a:off x="8493120" y="4798800"/>
                  <a:ext cx="123840" cy="50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 flipH="1" flipV="1" rot="2640000">
                  <a:off x="8460720" y="483516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 flipH="1" flipV="1" rot="3172200">
                  <a:off x="8420040" y="487692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8086320" y="4890960"/>
                <a:ext cx="654120" cy="449280"/>
                <a:chOff x="8086320" y="4890960"/>
                <a:chExt cx="654120" cy="449280"/>
              </a:xfrm>
            </p:grpSpPr>
            <p:sp>
              <p:nvSpPr>
                <p:cNvPr id="300" name=""/>
                <p:cNvSpPr/>
                <p:nvPr/>
              </p:nvSpPr>
              <p:spPr>
                <a:xfrm flipH="1" flipV="1" rot="2881800">
                  <a:off x="8447400" y="485244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 flipH="1" flipV="1" rot="3697200">
                  <a:off x="8382600" y="4907160"/>
                  <a:ext cx="12420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 flipH="1" flipV="1" rot="3993000">
                  <a:off x="8338680" y="4927680"/>
                  <a:ext cx="12456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 flipH="1" flipV="1" rot="4525200">
                  <a:off x="8285400" y="4951800"/>
                  <a:ext cx="124560" cy="50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4" name=""/>
            <p:cNvSpPr/>
            <p:nvPr/>
          </p:nvSpPr>
          <p:spPr>
            <a:xfrm>
              <a:off x="7948440" y="4394160"/>
              <a:ext cx="45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00"/>
                  </a:solidFill>
                  <a:latin typeface="Arial"/>
                  <a:ea typeface="Gulim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7093080" y="1773360"/>
            <a:ext cx="1167120" cy="1175400"/>
            <a:chOff x="7093080" y="1773360"/>
            <a:chExt cx="1167120" cy="1175400"/>
          </a:xfrm>
        </p:grpSpPr>
        <p:sp>
          <p:nvSpPr>
            <p:cNvPr id="306" name=""/>
            <p:cNvSpPr/>
            <p:nvPr/>
          </p:nvSpPr>
          <p:spPr>
            <a:xfrm>
              <a:off x="7093080" y="177336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7" name=""/>
            <p:cNvGrpSpPr/>
            <p:nvPr/>
          </p:nvGrpSpPr>
          <p:grpSpPr>
            <a:xfrm>
              <a:off x="7127640" y="1809720"/>
              <a:ext cx="1118520" cy="1139040"/>
              <a:chOff x="7127640" y="1809720"/>
              <a:chExt cx="1118520" cy="1139040"/>
            </a:xfrm>
          </p:grpSpPr>
          <p:pic>
            <p:nvPicPr>
              <p:cNvPr id="30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7127640" y="1809720"/>
                <a:ext cx="107244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9" name=""/>
              <p:cNvSpPr/>
              <p:nvPr/>
            </p:nvSpPr>
            <p:spPr>
              <a:xfrm>
                <a:off x="7127640" y="1809720"/>
                <a:ext cx="1079280" cy="1085760"/>
              </a:xfrm>
              <a:prstGeom prst="ellipse">
                <a:avLst/>
              </a:prstGeom>
              <a:solidFill>
                <a:srgbClr val="5cb1f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10" name="" descr=""/>
              <p:cNvPicPr/>
              <p:nvPr/>
            </p:nvPicPr>
            <p:blipFill>
              <a:blip r:embed="rId10"/>
              <a:srcRect l="0" t="14289" r="0" b="0"/>
              <a:stretch/>
            </p:blipFill>
            <p:spPr>
              <a:xfrm>
                <a:off x="7138080" y="1854720"/>
                <a:ext cx="79056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11" name=""/>
              <p:cNvGrpSpPr/>
              <p:nvPr/>
            </p:nvGrpSpPr>
            <p:grpSpPr>
              <a:xfrm>
                <a:off x="7477920" y="2247120"/>
                <a:ext cx="768240" cy="701640"/>
                <a:chOff x="7477920" y="2247120"/>
                <a:chExt cx="768240" cy="701640"/>
              </a:xfrm>
            </p:grpSpPr>
            <p:grpSp>
              <p:nvGrpSpPr>
                <p:cNvPr id="312" name=""/>
                <p:cNvGrpSpPr/>
                <p:nvPr/>
              </p:nvGrpSpPr>
              <p:grpSpPr>
                <a:xfrm>
                  <a:off x="7654680" y="2247120"/>
                  <a:ext cx="591480" cy="694440"/>
                  <a:chOff x="7654680" y="2247120"/>
                  <a:chExt cx="591480" cy="694440"/>
                </a:xfrm>
              </p:grpSpPr>
              <p:sp>
                <p:nvSpPr>
                  <p:cNvPr id="313" name=""/>
                  <p:cNvSpPr/>
                  <p:nvPr/>
                </p:nvSpPr>
                <p:spPr>
                  <a:xfrm flipH="1" flipV="1" rot="1528800">
                    <a:off x="7984800" y="224892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 flipH="1" flipV="1" rot="2344200">
                    <a:off x="7939080" y="233352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" name=""/>
                  <p:cNvSpPr/>
                  <p:nvPr/>
                </p:nvSpPr>
                <p:spPr>
                  <a:xfrm flipH="1" flipV="1" rot="2640000">
                    <a:off x="7902000" y="237528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 flipH="1" flipV="1" rot="3172200">
                    <a:off x="7856280" y="242280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7" name=""/>
                <p:cNvGrpSpPr/>
                <p:nvPr/>
              </p:nvGrpSpPr>
              <p:grpSpPr>
                <a:xfrm>
                  <a:off x="7477920" y="2439000"/>
                  <a:ext cx="743760" cy="509760"/>
                  <a:chOff x="7477920" y="2439000"/>
                  <a:chExt cx="743760" cy="509760"/>
                </a:xfrm>
              </p:grpSpPr>
              <p:sp>
                <p:nvSpPr>
                  <p:cNvPr id="318" name=""/>
                  <p:cNvSpPr/>
                  <p:nvPr/>
                </p:nvSpPr>
                <p:spPr>
                  <a:xfrm flipH="1" flipV="1" rot="2881800">
                    <a:off x="7889400" y="239508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 flipH="1" flipV="1" rot="3697200">
                    <a:off x="7815240" y="245556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 flipH="1" flipV="1" rot="3993000">
                    <a:off x="7764840" y="248040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 flipH="1" flipV="1" rot="4525200">
                    <a:off x="7704720" y="250704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22" name=""/>
            <p:cNvGrpSpPr/>
            <p:nvPr/>
          </p:nvGrpSpPr>
          <p:grpSpPr>
            <a:xfrm>
              <a:off x="7583040" y="2274840"/>
              <a:ext cx="677160" cy="617760"/>
              <a:chOff x="7583040" y="2274840"/>
              <a:chExt cx="677160" cy="617760"/>
            </a:xfrm>
          </p:grpSpPr>
          <p:grpSp>
            <p:nvGrpSpPr>
              <p:cNvPr id="323" name=""/>
              <p:cNvGrpSpPr/>
              <p:nvPr/>
            </p:nvGrpSpPr>
            <p:grpSpPr>
              <a:xfrm>
                <a:off x="7738920" y="2274840"/>
                <a:ext cx="521280" cy="611640"/>
                <a:chOff x="7738920" y="2274840"/>
                <a:chExt cx="521280" cy="611640"/>
              </a:xfrm>
            </p:grpSpPr>
            <p:sp>
              <p:nvSpPr>
                <p:cNvPr id="324" name=""/>
                <p:cNvSpPr/>
                <p:nvPr/>
              </p:nvSpPr>
              <p:spPr>
                <a:xfrm flipH="1" flipV="1" rot="1528800">
                  <a:off x="8028360" y="227664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 flipH="1" flipV="1" rot="2344200">
                  <a:off x="7989840" y="2351160"/>
                  <a:ext cx="123840" cy="50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 flipH="1" flipV="1" rot="2640000">
                  <a:off x="7957440" y="238752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 flipH="1" flipV="1" rot="3172200">
                  <a:off x="7916760" y="242928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7583040" y="2443320"/>
                <a:ext cx="654120" cy="449280"/>
                <a:chOff x="7583040" y="2443320"/>
                <a:chExt cx="654120" cy="449280"/>
              </a:xfrm>
            </p:grpSpPr>
            <p:sp>
              <p:nvSpPr>
                <p:cNvPr id="329" name=""/>
                <p:cNvSpPr/>
                <p:nvPr/>
              </p:nvSpPr>
              <p:spPr>
                <a:xfrm flipH="1" flipV="1" rot="2881800">
                  <a:off x="7944120" y="240480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 flipH="1" flipV="1" rot="3697200">
                  <a:off x="7879320" y="2459520"/>
                  <a:ext cx="12420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 flipH="1" flipV="1" rot="3993000">
                  <a:off x="7835400" y="2480040"/>
                  <a:ext cx="12456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 flipH="1" flipV="1" rot="4525200">
                  <a:off x="7782120" y="2504160"/>
                  <a:ext cx="124560" cy="50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3" name=""/>
            <p:cNvSpPr/>
            <p:nvPr/>
          </p:nvSpPr>
          <p:spPr>
            <a:xfrm>
              <a:off x="7445160" y="1946520"/>
              <a:ext cx="45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33cc"/>
                  </a:solidFill>
                  <a:latin typeface="Arial"/>
                  <a:ea typeface="Gulim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4988160" y="3397320"/>
            <a:ext cx="829080" cy="845280"/>
            <a:chOff x="4988160" y="3397320"/>
            <a:chExt cx="829080" cy="845280"/>
          </a:xfrm>
        </p:grpSpPr>
        <p:pic>
          <p:nvPicPr>
            <p:cNvPr id="335" name="" descr=""/>
            <p:cNvPicPr/>
            <p:nvPr/>
          </p:nvPicPr>
          <p:blipFill>
            <a:blip r:embed="rId11"/>
            <a:stretch/>
          </p:blipFill>
          <p:spPr>
            <a:xfrm rot="4977600">
              <a:off x="5112000" y="3529800"/>
              <a:ext cx="573120" cy="5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"/>
            <p:cNvSpPr/>
            <p:nvPr/>
          </p:nvSpPr>
          <p:spPr>
            <a:xfrm rot="4977000">
              <a:off x="5113080" y="3528000"/>
              <a:ext cx="570240" cy="568440"/>
            </a:xfrm>
            <a:prstGeom prst="ellipse">
              <a:avLst/>
            </a:prstGeom>
            <a:gradFill rotWithShape="0">
              <a:gsLst>
                <a:gs pos="0">
                  <a:srgbClr val="3b3b3b"/>
                </a:gs>
                <a:gs pos="50000">
                  <a:srgbClr val="808080">
                    <a:alpha val="50196"/>
                  </a:srgbClr>
                </a:gs>
                <a:gs pos="100000">
                  <a:srgbClr val="3b3b3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7" name=""/>
            <p:cNvGrpSpPr/>
            <p:nvPr/>
          </p:nvGrpSpPr>
          <p:grpSpPr>
            <a:xfrm>
              <a:off x="5091120" y="3590280"/>
              <a:ext cx="226440" cy="501120"/>
              <a:chOff x="5091120" y="3590280"/>
              <a:chExt cx="226440" cy="501120"/>
            </a:xfrm>
          </p:grpSpPr>
          <p:grpSp>
            <p:nvGrpSpPr>
              <p:cNvPr id="338" name=""/>
              <p:cNvGrpSpPr/>
              <p:nvPr/>
            </p:nvGrpSpPr>
            <p:grpSpPr>
              <a:xfrm>
                <a:off x="5097600" y="3683160"/>
                <a:ext cx="219960" cy="408240"/>
                <a:chOff x="5097600" y="3683160"/>
                <a:chExt cx="219960" cy="408240"/>
              </a:xfrm>
            </p:grpSpPr>
            <p:sp>
              <p:nvSpPr>
                <p:cNvPr id="339" name=""/>
                <p:cNvSpPr/>
                <p:nvPr/>
              </p:nvSpPr>
              <p:spPr>
                <a:xfrm flipH="1" flipV="1" rot="8941800">
                  <a:off x="5169600" y="379080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 flipH="1" flipV="1" rot="9757200">
                  <a:off x="5145120" y="374724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 flipH="1" flipV="1" rot="10053000">
                  <a:off x="5138640" y="3718800"/>
                  <a:ext cx="74880" cy="302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 flipH="1" flipV="1" rot="10585200">
                  <a:off x="5130720" y="368460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3" name=""/>
              <p:cNvGrpSpPr/>
              <p:nvPr/>
            </p:nvGrpSpPr>
            <p:grpSpPr>
              <a:xfrm>
                <a:off x="5091120" y="3590280"/>
                <a:ext cx="169560" cy="423000"/>
                <a:chOff x="5091120" y="3590280"/>
                <a:chExt cx="169560" cy="423000"/>
              </a:xfrm>
            </p:grpSpPr>
            <p:sp>
              <p:nvSpPr>
                <p:cNvPr id="344" name=""/>
                <p:cNvSpPr/>
                <p:nvPr/>
              </p:nvSpPr>
              <p:spPr>
                <a:xfrm flipH="1" flipV="1" rot="10294800">
                  <a:off x="5132880" y="370656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flipH="1" flipV="1" rot="11110200">
                  <a:off x="5127840" y="365688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 flipH="1" flipV="1" rot="11406000">
                  <a:off x="5133240" y="362808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 flipH="1" flipV="1" rot="11938200">
                  <a:off x="5137920" y="3593880"/>
                  <a:ext cx="74880" cy="302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48" name=""/>
            <p:cNvSpPr/>
            <p:nvPr/>
          </p:nvSpPr>
          <p:spPr>
            <a:xfrm flipH="1" rot="1129200">
              <a:off x="5078880" y="3483360"/>
              <a:ext cx="646560" cy="672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02" y="16773"/>
                  </a:moveTo>
                  <a:arcTo wR="10800" hR="10800" stAng="8785564" swAng="179920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802" y="16773"/>
                  </a:moveTo>
                  <a:arcTo wR="10800" hR="10800" stAng="8785564" swAng="17992071"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9" name="" descr=""/>
            <p:cNvPicPr/>
            <p:nvPr/>
          </p:nvPicPr>
          <p:blipFill>
            <a:blip r:embed="rId12"/>
            <a:srcRect l="0" t="23740" r="0" b="0"/>
            <a:stretch/>
          </p:blipFill>
          <p:spPr>
            <a:xfrm rot="2407200">
              <a:off x="5268240" y="3560400"/>
              <a:ext cx="425160" cy="278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9640" y="450720"/>
            <a:ext cx="378144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00"/>
              </a:solidFill>
              <a:latin typeface="Arial"/>
              <a:ea typeface="좋은 귀염둥이빼로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468360" y="1916280"/>
            <a:ext cx="647640" cy="648720"/>
            <a:chOff x="468360" y="1916280"/>
            <a:chExt cx="647640" cy="648720"/>
          </a:xfrm>
        </p:grpSpPr>
        <p:sp>
          <p:nvSpPr>
            <p:cNvPr id="352" name=""/>
            <p:cNvSpPr/>
            <p:nvPr/>
          </p:nvSpPr>
          <p:spPr>
            <a:xfrm>
              <a:off x="506520" y="2289960"/>
              <a:ext cx="571320" cy="27504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8360" y="1916280"/>
              <a:ext cx="647640" cy="569160"/>
            </a:xfrm>
            <a:prstGeom prst="rect">
              <a:avLst/>
            </a:prstGeom>
            <a:gradFill rotWithShape="0">
              <a:gsLst>
                <a:gs pos="0">
                  <a:srgbClr val="ff6161"/>
                </a:gs>
                <a:gs pos="100000">
                  <a:srgbClr val="feb1b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Gulim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468360" y="3017880"/>
            <a:ext cx="647640" cy="626760"/>
            <a:chOff x="468360" y="3017880"/>
            <a:chExt cx="647640" cy="626760"/>
          </a:xfrm>
        </p:grpSpPr>
        <p:sp>
          <p:nvSpPr>
            <p:cNvPr id="355" name=""/>
            <p:cNvSpPr/>
            <p:nvPr/>
          </p:nvSpPr>
          <p:spPr>
            <a:xfrm>
              <a:off x="506520" y="3378960"/>
              <a:ext cx="571320" cy="2656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68360" y="3017880"/>
              <a:ext cx="647640" cy="549720"/>
            </a:xfrm>
            <a:prstGeom prst="rect">
              <a:avLst/>
            </a:prstGeom>
            <a:gradFill rotWithShape="0">
              <a:gsLst>
                <a:gs pos="0">
                  <a:srgbClr val="a8d02a"/>
                </a:gs>
                <a:gs pos="100000">
                  <a:srgbClr val="deecb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Gulim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57" name=""/>
          <p:cNvCxnSpPr>
            <a:stCxn id="352" idx="0"/>
            <a:endCxn id="356" idx="0"/>
          </p:cNvCxnSpPr>
          <p:nvPr/>
        </p:nvCxnSpPr>
        <p:spPr>
          <a:xfrm>
            <a:off x="790560" y="2490840"/>
            <a:ext cx="2160" cy="527760"/>
          </a:xfrm>
          <a:prstGeom prst="straightConnector1">
            <a:avLst/>
          </a:prstGeom>
          <a:ln w="9360">
            <a:solidFill>
              <a:srgbClr val="808080"/>
            </a:solidFill>
            <a:miter/>
          </a:ln>
        </p:spPr>
      </p:cxnSp>
      <p:cxnSp>
        <p:nvCxnSpPr>
          <p:cNvPr id="358" name=""/>
          <p:cNvCxnSpPr>
            <a:stCxn id="355" idx="0"/>
            <a:endCxn id="359" idx="0"/>
          </p:cNvCxnSpPr>
          <p:nvPr/>
        </p:nvCxnSpPr>
        <p:spPr>
          <a:xfrm>
            <a:off x="790560" y="3573000"/>
            <a:ext cx="2160" cy="575640"/>
          </a:xfrm>
          <a:prstGeom prst="straightConnector1">
            <a:avLst/>
          </a:prstGeom>
          <a:ln w="9360">
            <a:solidFill>
              <a:srgbClr val="808080"/>
            </a:solidFill>
            <a:miter/>
          </a:ln>
        </p:spPr>
      </p:cxnSp>
      <p:sp>
        <p:nvSpPr>
          <p:cNvPr id="360" name=""/>
          <p:cNvSpPr/>
          <p:nvPr/>
        </p:nvSpPr>
        <p:spPr>
          <a:xfrm>
            <a:off x="900000" y="2637000"/>
            <a:ext cx="7704360" cy="0"/>
          </a:xfrm>
          <a:prstGeom prst="line">
            <a:avLst/>
          </a:prstGeom>
          <a:ln cap="rnd" w="38160">
            <a:solidFill>
              <a:srgbClr val="969696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468360" y="4148280"/>
            <a:ext cx="647640" cy="575640"/>
            <a:chOff x="468360" y="4148280"/>
            <a:chExt cx="647640" cy="575640"/>
          </a:xfrm>
        </p:grpSpPr>
        <p:sp>
          <p:nvSpPr>
            <p:cNvPr id="362" name=""/>
            <p:cNvSpPr/>
            <p:nvPr/>
          </p:nvSpPr>
          <p:spPr>
            <a:xfrm>
              <a:off x="506520" y="4479840"/>
              <a:ext cx="571320" cy="2440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68360" y="4148280"/>
              <a:ext cx="647640" cy="5050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Gulim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900000" y="3214800"/>
            <a:ext cx="7704000" cy="579240"/>
            <a:chOff x="900000" y="3214800"/>
            <a:chExt cx="7704000" cy="579240"/>
          </a:xfrm>
        </p:grpSpPr>
        <p:sp>
          <p:nvSpPr>
            <p:cNvPr id="364" name=""/>
            <p:cNvSpPr/>
            <p:nvPr/>
          </p:nvSpPr>
          <p:spPr>
            <a:xfrm>
              <a:off x="900000" y="3741480"/>
              <a:ext cx="7704000" cy="0"/>
            </a:xfrm>
            <a:prstGeom prst="line">
              <a:avLst/>
            </a:prstGeom>
            <a:ln cap="rnd" w="38160">
              <a:solidFill>
                <a:srgbClr val="969696"/>
              </a:solidFill>
              <a:custDash>
                <a:ds d="100000" sp="1000"/>
              </a:custDash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073160" y="3214800"/>
              <a:ext cx="18396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900000" y="4294080"/>
            <a:ext cx="7704000" cy="579600"/>
            <a:chOff x="900000" y="4294080"/>
            <a:chExt cx="7704000" cy="579600"/>
          </a:xfrm>
        </p:grpSpPr>
        <p:sp>
          <p:nvSpPr>
            <p:cNvPr id="367" name=""/>
            <p:cNvSpPr/>
            <p:nvPr/>
          </p:nvSpPr>
          <p:spPr>
            <a:xfrm>
              <a:off x="900000" y="4821120"/>
              <a:ext cx="7704000" cy="0"/>
            </a:xfrm>
            <a:prstGeom prst="line">
              <a:avLst/>
            </a:prstGeom>
            <a:ln cap="rnd" w="38160">
              <a:solidFill>
                <a:srgbClr val="969696"/>
              </a:solidFill>
              <a:custDash>
                <a:ds d="100000" sp="1000"/>
              </a:custDash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073160" y="4294080"/>
              <a:ext cx="1839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69" name=""/>
          <p:cNvCxnSpPr>
            <a:endCxn id="370" idx="0"/>
          </p:cNvCxnSpPr>
          <p:nvPr/>
        </p:nvCxnSpPr>
        <p:spPr>
          <a:xfrm flipH="1">
            <a:off x="791640" y="4654440"/>
            <a:ext cx="5760" cy="504000"/>
          </a:xfrm>
          <a:prstGeom prst="straightConnector1">
            <a:avLst/>
          </a:prstGeom>
          <a:ln w="9360">
            <a:solidFill>
              <a:srgbClr val="808080"/>
            </a:solidFill>
            <a:miter/>
          </a:ln>
        </p:spPr>
      </p:cxnSp>
      <p:grpSp>
        <p:nvGrpSpPr>
          <p:cNvPr id="371" name=""/>
          <p:cNvGrpSpPr/>
          <p:nvPr/>
        </p:nvGrpSpPr>
        <p:grpSpPr>
          <a:xfrm>
            <a:off x="468360" y="5157720"/>
            <a:ext cx="647640" cy="576360"/>
            <a:chOff x="468360" y="5157720"/>
            <a:chExt cx="647640" cy="576360"/>
          </a:xfrm>
        </p:grpSpPr>
        <p:sp>
          <p:nvSpPr>
            <p:cNvPr id="372" name=""/>
            <p:cNvSpPr/>
            <p:nvPr/>
          </p:nvSpPr>
          <p:spPr>
            <a:xfrm>
              <a:off x="506520" y="5489640"/>
              <a:ext cx="571320" cy="24444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68360" y="5157720"/>
              <a:ext cx="647640" cy="505440"/>
            </a:xfrm>
            <a:prstGeom prst="rect">
              <a:avLst/>
            </a:prstGeom>
            <a:solidFill>
              <a:srgbClr val="81f3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Gulim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828720" y="5297400"/>
            <a:ext cx="7704000" cy="581400"/>
            <a:chOff x="828720" y="5297400"/>
            <a:chExt cx="7704000" cy="581400"/>
          </a:xfrm>
        </p:grpSpPr>
        <p:sp>
          <p:nvSpPr>
            <p:cNvPr id="374" name=""/>
            <p:cNvSpPr/>
            <p:nvPr/>
          </p:nvSpPr>
          <p:spPr>
            <a:xfrm>
              <a:off x="828720" y="5829120"/>
              <a:ext cx="7704000" cy="0"/>
            </a:xfrm>
            <a:prstGeom prst="line">
              <a:avLst/>
            </a:prstGeom>
            <a:ln cap="rnd" w="38160">
              <a:solidFill>
                <a:srgbClr val="969696"/>
              </a:solidFill>
              <a:custDash>
                <a:ds d="100000" sp="1000"/>
              </a:custDash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003320" y="529740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000000"/>
                  </a:solidFill>
                  <a:latin typeface="Arial"/>
                  <a:ea typeface="좋은 귀염둥이빼로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682560" y="1413000"/>
            <a:ext cx="5645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a8d02a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8229600" cy="927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c3300"/>
              </a:solidFill>
              <a:latin typeface="Arial"/>
              <a:ea typeface="좋은 귀염둥이빼로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39280" y="2204640"/>
            <a:ext cx="79311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800" spc="-1" strike="noStrike">
              <a:solidFill>
                <a:srgbClr val="000000"/>
              </a:solidFill>
              <a:latin typeface="Arial"/>
              <a:ea typeface="PMingLi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"/>
          <p:cNvGrpSpPr/>
          <p:nvPr/>
        </p:nvGrpSpPr>
        <p:grpSpPr>
          <a:xfrm>
            <a:off x="1044720" y="2781360"/>
            <a:ext cx="7414560" cy="3456000"/>
            <a:chOff x="1044720" y="2781360"/>
            <a:chExt cx="7414560" cy="3456000"/>
          </a:xfrm>
        </p:grpSpPr>
        <p:sp>
          <p:nvSpPr>
            <p:cNvPr id="380" name=""/>
            <p:cNvSpPr/>
            <p:nvPr/>
          </p:nvSpPr>
          <p:spPr>
            <a:xfrm>
              <a:off x="3884400" y="2781360"/>
              <a:ext cx="153720" cy="34560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cccccc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350720" y="2781360"/>
              <a:ext cx="153720" cy="34560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cccccc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044720" y="3070440"/>
              <a:ext cx="3311280" cy="28796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b14343"/>
                </a:gs>
                <a:gs pos="50000">
                  <a:srgbClr val="ff6161"/>
                </a:gs>
                <a:gs pos="100000">
                  <a:srgbClr val="b1434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381280" y="2781360"/>
              <a:ext cx="153720" cy="34560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cccccc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978680" y="2781360"/>
              <a:ext cx="151920" cy="34560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cccccc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074920" y="3070440"/>
              <a:ext cx="3384360" cy="28796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74901d"/>
                </a:gs>
                <a:gs pos="50000">
                  <a:srgbClr val="a8d02a"/>
                </a:gs>
                <a:gs pos="100000">
                  <a:srgbClr val="7490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 flipV="1">
            <a:off x="1044720" y="1972440"/>
            <a:ext cx="792000" cy="879480"/>
          </a:xfrm>
          <a:prstGeom prst="ellipse">
            <a:avLst/>
          </a:prstGeom>
          <a:solidFill>
            <a:srgbClr val="ff616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714240" y="2133720"/>
            <a:ext cx="140976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5076720" y="1988280"/>
            <a:ext cx="792360" cy="863640"/>
          </a:xfrm>
          <a:prstGeom prst="ellipse">
            <a:avLst/>
          </a:prstGeom>
          <a:solidFill>
            <a:srgbClr val="a8d02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788000" y="2133720"/>
            <a:ext cx="133488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11280" y="630360"/>
            <a:ext cx="820872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3564000" y="1988280"/>
            <a:ext cx="792000" cy="863640"/>
          </a:xfrm>
          <a:prstGeom prst="ellipse">
            <a:avLst/>
          </a:prstGeom>
          <a:solidFill>
            <a:srgbClr val="a8d02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7667640" y="1988280"/>
            <a:ext cx="792000" cy="879480"/>
          </a:xfrm>
          <a:prstGeom prst="ellipse">
            <a:avLst/>
          </a:prstGeom>
          <a:solidFill>
            <a:srgbClr val="ff616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使用规范说明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BAC0-28E3-407D-A62E-B0043349027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4000" y="556920"/>
            <a:ext cx="649116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cc"/>
              </a:solidFill>
              <a:latin typeface="좋은 귀염둥이빼로"/>
              <a:ea typeface="좋은 귀염둥이빼로"/>
            </a:endParaRPr>
          </a:p>
        </p:txBody>
      </p:sp>
      <p:sp>
        <p:nvSpPr>
          <p:cNvPr id="397" name=""/>
          <p:cNvSpPr/>
          <p:nvPr/>
        </p:nvSpPr>
        <p:spPr>
          <a:xfrm>
            <a:off x="1692360" y="4149720"/>
            <a:ext cx="6518160" cy="0"/>
          </a:xfrm>
          <a:prstGeom prst="line">
            <a:avLst/>
          </a:prstGeom>
          <a:ln cap="rnd" w="38160">
            <a:solidFill>
              <a:srgbClr val="969696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1725480" y="5256360"/>
            <a:ext cx="6518520" cy="2880"/>
          </a:xfrm>
          <a:prstGeom prst="line">
            <a:avLst/>
          </a:prstGeom>
          <a:ln cap="rnd" w="38160">
            <a:solidFill>
              <a:srgbClr val="969696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1692360" y="2852640"/>
            <a:ext cx="6551640" cy="44640"/>
          </a:xfrm>
          <a:prstGeom prst="line">
            <a:avLst/>
          </a:prstGeom>
          <a:ln cap="rnd" w="38160">
            <a:solidFill>
              <a:srgbClr val="969696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811080" y="1989000"/>
            <a:ext cx="1744560" cy="4103280"/>
            <a:chOff x="811080" y="1989000"/>
            <a:chExt cx="1744560" cy="4103280"/>
          </a:xfrm>
        </p:grpSpPr>
        <p:cxnSp>
          <p:nvCxnSpPr>
            <p:cNvPr id="401" name=""/>
            <p:cNvCxnSpPr>
              <a:stCxn id="402" idx="0"/>
              <a:endCxn id="403" idx="0"/>
            </p:cNvCxnSpPr>
            <p:nvPr/>
          </p:nvCxnSpPr>
          <p:spPr>
            <a:xfrm>
              <a:off x="1665000" y="3732120"/>
              <a:ext cx="5760" cy="575280"/>
            </a:xfrm>
            <a:prstGeom prst="straightConnector1">
              <a:avLst/>
            </a:prstGeom>
            <a:ln w="9360">
              <a:solidFill>
                <a:srgbClr val="808080"/>
              </a:solidFill>
              <a:miter/>
            </a:ln>
          </p:spPr>
        </p:cxnSp>
        <p:cxnSp>
          <p:nvCxnSpPr>
            <p:cNvPr id="404" name=""/>
            <p:cNvCxnSpPr>
              <a:stCxn id="405" idx="0"/>
              <a:endCxn id="406" idx="0"/>
            </p:cNvCxnSpPr>
            <p:nvPr/>
          </p:nvCxnSpPr>
          <p:spPr>
            <a:xfrm>
              <a:off x="1665000" y="4876560"/>
              <a:ext cx="5760" cy="581400"/>
            </a:xfrm>
            <a:prstGeom prst="straightConnector1">
              <a:avLst/>
            </a:prstGeom>
            <a:ln w="9360">
              <a:solidFill>
                <a:srgbClr val="808080"/>
              </a:solidFill>
              <a:miter/>
            </a:ln>
          </p:spPr>
        </p:cxnSp>
        <p:cxnSp>
          <p:nvCxnSpPr>
            <p:cNvPr id="407" name=""/>
            <p:cNvCxnSpPr/>
            <p:nvPr/>
          </p:nvCxnSpPr>
          <p:spPr>
            <a:xfrm>
              <a:off x="1691640" y="2491920"/>
              <a:ext cx="2520" cy="662760"/>
            </a:xfrm>
            <a:prstGeom prst="straightConnector1">
              <a:avLst/>
            </a:prstGeom>
            <a:ln w="9360">
              <a:solidFill>
                <a:srgbClr val="808080"/>
              </a:solidFill>
              <a:miter/>
            </a:ln>
          </p:spPr>
        </p:cxnSp>
        <p:grpSp>
          <p:nvGrpSpPr>
            <p:cNvPr id="408" name=""/>
            <p:cNvGrpSpPr/>
            <p:nvPr/>
          </p:nvGrpSpPr>
          <p:grpSpPr>
            <a:xfrm>
              <a:off x="811080" y="3154320"/>
              <a:ext cx="1717560" cy="2937960"/>
              <a:chOff x="811080" y="3154320"/>
              <a:chExt cx="1717560" cy="2937960"/>
            </a:xfrm>
          </p:grpSpPr>
          <p:grpSp>
            <p:nvGrpSpPr>
              <p:cNvPr id="409" name=""/>
              <p:cNvGrpSpPr/>
              <p:nvPr/>
            </p:nvGrpSpPr>
            <p:grpSpPr>
              <a:xfrm>
                <a:off x="811080" y="4306680"/>
                <a:ext cx="1717560" cy="642600"/>
                <a:chOff x="811080" y="4306680"/>
                <a:chExt cx="1717560" cy="642600"/>
              </a:xfrm>
            </p:grpSpPr>
            <p:sp>
              <p:nvSpPr>
                <p:cNvPr id="405" name=""/>
                <p:cNvSpPr/>
                <p:nvPr/>
              </p:nvSpPr>
              <p:spPr>
                <a:xfrm>
                  <a:off x="912240" y="4676760"/>
                  <a:ext cx="1514520" cy="272520"/>
                </a:xfrm>
                <a:custGeom>
                  <a:avLst/>
                  <a:gdLst/>
                  <a:ahLst/>
                  <a:rect l="l" t="t" r="r" b="b"/>
                  <a:pathLst>
                    <a:path w="1120" h="252">
                      <a:moveTo>
                        <a:pt x="1120" y="252"/>
                      </a:moveTo>
                      <a:lnTo>
                        <a:pt x="1116" y="250"/>
                      </a:lnTo>
                      <a:lnTo>
                        <a:pt x="1100" y="246"/>
                      </a:lnTo>
                      <a:lnTo>
                        <a:pt x="1074" y="240"/>
                      </a:lnTo>
                      <a:lnTo>
                        <a:pt x="1038" y="232"/>
                      </a:lnTo>
                      <a:lnTo>
                        <a:pt x="992" y="222"/>
                      </a:lnTo>
                      <a:lnTo>
                        <a:pt x="938" y="212"/>
                      </a:lnTo>
                      <a:lnTo>
                        <a:pt x="876" y="204"/>
                      </a:lnTo>
                      <a:lnTo>
                        <a:pt x="806" y="196"/>
                      </a:lnTo>
                      <a:lnTo>
                        <a:pt x="730" y="190"/>
                      </a:lnTo>
                      <a:lnTo>
                        <a:pt x="646" y="184"/>
                      </a:lnTo>
                      <a:lnTo>
                        <a:pt x="556" y="184"/>
                      </a:lnTo>
                      <a:lnTo>
                        <a:pt x="466" y="184"/>
                      </a:lnTo>
                      <a:lnTo>
                        <a:pt x="384" y="190"/>
                      </a:lnTo>
                      <a:lnTo>
                        <a:pt x="308" y="196"/>
                      </a:lnTo>
                      <a:lnTo>
                        <a:pt x="238" y="204"/>
                      </a:lnTo>
                      <a:lnTo>
                        <a:pt x="178" y="212"/>
                      </a:lnTo>
                      <a:lnTo>
                        <a:pt x="126" y="222"/>
                      </a:lnTo>
                      <a:lnTo>
                        <a:pt x="82" y="232"/>
                      </a:lnTo>
                      <a:lnTo>
                        <a:pt x="46" y="240"/>
                      </a:lnTo>
                      <a:lnTo>
                        <a:pt x="20" y="246"/>
                      </a:lnTo>
                      <a:lnTo>
                        <a:pt x="6" y="250"/>
                      </a:lnTo>
                      <a:lnTo>
                        <a:pt x="0" y="252"/>
                      </a:lnTo>
                      <a:lnTo>
                        <a:pt x="0" y="62"/>
                      </a:lnTo>
                      <a:lnTo>
                        <a:pt x="560" y="0"/>
                      </a:lnTo>
                      <a:lnTo>
                        <a:pt x="1120" y="62"/>
                      </a:lnTo>
                      <a:lnTo>
                        <a:pt x="1120" y="252"/>
                      </a:lnTo>
                      <a:lnTo>
                        <a:pt x="1120" y="252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811080" y="4306680"/>
                  <a:ext cx="1717560" cy="563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a8d02a"/>
                    </a:gs>
                    <a:gs pos="100000">
                      <a:srgbClr val="deecb0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0" name=""/>
              <p:cNvGrpSpPr/>
              <p:nvPr/>
            </p:nvGrpSpPr>
            <p:grpSpPr>
              <a:xfrm>
                <a:off x="811080" y="5457960"/>
                <a:ext cx="1717560" cy="634320"/>
                <a:chOff x="811080" y="5457960"/>
                <a:chExt cx="1717560" cy="634320"/>
              </a:xfrm>
            </p:grpSpPr>
            <p:sp>
              <p:nvSpPr>
                <p:cNvPr id="411" name=""/>
                <p:cNvSpPr/>
                <p:nvPr/>
              </p:nvSpPr>
              <p:spPr>
                <a:xfrm>
                  <a:off x="912240" y="5823360"/>
                  <a:ext cx="1514520" cy="268920"/>
                </a:xfrm>
                <a:custGeom>
                  <a:avLst/>
                  <a:gdLst/>
                  <a:ahLst/>
                  <a:rect l="l" t="t" r="r" b="b"/>
                  <a:pathLst>
                    <a:path w="1120" h="252">
                      <a:moveTo>
                        <a:pt x="1120" y="252"/>
                      </a:moveTo>
                      <a:lnTo>
                        <a:pt x="1116" y="250"/>
                      </a:lnTo>
                      <a:lnTo>
                        <a:pt x="1100" y="246"/>
                      </a:lnTo>
                      <a:lnTo>
                        <a:pt x="1074" y="240"/>
                      </a:lnTo>
                      <a:lnTo>
                        <a:pt x="1038" y="232"/>
                      </a:lnTo>
                      <a:lnTo>
                        <a:pt x="992" y="222"/>
                      </a:lnTo>
                      <a:lnTo>
                        <a:pt x="938" y="212"/>
                      </a:lnTo>
                      <a:lnTo>
                        <a:pt x="876" y="204"/>
                      </a:lnTo>
                      <a:lnTo>
                        <a:pt x="806" y="196"/>
                      </a:lnTo>
                      <a:lnTo>
                        <a:pt x="730" y="190"/>
                      </a:lnTo>
                      <a:lnTo>
                        <a:pt x="646" y="184"/>
                      </a:lnTo>
                      <a:lnTo>
                        <a:pt x="556" y="184"/>
                      </a:lnTo>
                      <a:lnTo>
                        <a:pt x="466" y="184"/>
                      </a:lnTo>
                      <a:lnTo>
                        <a:pt x="384" y="190"/>
                      </a:lnTo>
                      <a:lnTo>
                        <a:pt x="308" y="196"/>
                      </a:lnTo>
                      <a:lnTo>
                        <a:pt x="238" y="204"/>
                      </a:lnTo>
                      <a:lnTo>
                        <a:pt x="178" y="212"/>
                      </a:lnTo>
                      <a:lnTo>
                        <a:pt x="126" y="222"/>
                      </a:lnTo>
                      <a:lnTo>
                        <a:pt x="82" y="232"/>
                      </a:lnTo>
                      <a:lnTo>
                        <a:pt x="46" y="240"/>
                      </a:lnTo>
                      <a:lnTo>
                        <a:pt x="20" y="246"/>
                      </a:lnTo>
                      <a:lnTo>
                        <a:pt x="6" y="250"/>
                      </a:lnTo>
                      <a:lnTo>
                        <a:pt x="0" y="252"/>
                      </a:lnTo>
                      <a:lnTo>
                        <a:pt x="0" y="62"/>
                      </a:lnTo>
                      <a:lnTo>
                        <a:pt x="560" y="0"/>
                      </a:lnTo>
                      <a:lnTo>
                        <a:pt x="1120" y="62"/>
                      </a:lnTo>
                      <a:lnTo>
                        <a:pt x="1120" y="252"/>
                      </a:lnTo>
                      <a:lnTo>
                        <a:pt x="1120" y="252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811080" y="5457960"/>
                  <a:ext cx="1717560" cy="556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5cb1fe"/>
                    </a:gs>
                    <a:gs pos="100000">
                      <a:srgbClr val="d6ebfd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2" name=""/>
              <p:cNvGrpSpPr/>
              <p:nvPr/>
            </p:nvGrpSpPr>
            <p:grpSpPr>
              <a:xfrm>
                <a:off x="811080" y="3154320"/>
                <a:ext cx="1717560" cy="651960"/>
                <a:chOff x="811080" y="3154320"/>
                <a:chExt cx="1717560" cy="651960"/>
              </a:xfrm>
            </p:grpSpPr>
            <p:sp>
              <p:nvSpPr>
                <p:cNvPr id="402" name=""/>
                <p:cNvSpPr/>
                <p:nvPr/>
              </p:nvSpPr>
              <p:spPr>
                <a:xfrm>
                  <a:off x="912240" y="3529800"/>
                  <a:ext cx="1514520" cy="276480"/>
                </a:xfrm>
                <a:custGeom>
                  <a:avLst/>
                  <a:gdLst/>
                  <a:ahLst/>
                  <a:rect l="l" t="t" r="r" b="b"/>
                  <a:pathLst>
                    <a:path w="1120" h="252">
                      <a:moveTo>
                        <a:pt x="1120" y="252"/>
                      </a:moveTo>
                      <a:lnTo>
                        <a:pt x="1116" y="250"/>
                      </a:lnTo>
                      <a:lnTo>
                        <a:pt x="1100" y="246"/>
                      </a:lnTo>
                      <a:lnTo>
                        <a:pt x="1074" y="240"/>
                      </a:lnTo>
                      <a:lnTo>
                        <a:pt x="1038" y="232"/>
                      </a:lnTo>
                      <a:lnTo>
                        <a:pt x="992" y="222"/>
                      </a:lnTo>
                      <a:lnTo>
                        <a:pt x="938" y="212"/>
                      </a:lnTo>
                      <a:lnTo>
                        <a:pt x="876" y="204"/>
                      </a:lnTo>
                      <a:lnTo>
                        <a:pt x="806" y="196"/>
                      </a:lnTo>
                      <a:lnTo>
                        <a:pt x="730" y="190"/>
                      </a:lnTo>
                      <a:lnTo>
                        <a:pt x="646" y="184"/>
                      </a:lnTo>
                      <a:lnTo>
                        <a:pt x="556" y="184"/>
                      </a:lnTo>
                      <a:lnTo>
                        <a:pt x="466" y="184"/>
                      </a:lnTo>
                      <a:lnTo>
                        <a:pt x="384" y="190"/>
                      </a:lnTo>
                      <a:lnTo>
                        <a:pt x="308" y="196"/>
                      </a:lnTo>
                      <a:lnTo>
                        <a:pt x="238" y="204"/>
                      </a:lnTo>
                      <a:lnTo>
                        <a:pt x="178" y="212"/>
                      </a:lnTo>
                      <a:lnTo>
                        <a:pt x="126" y="222"/>
                      </a:lnTo>
                      <a:lnTo>
                        <a:pt x="82" y="232"/>
                      </a:lnTo>
                      <a:lnTo>
                        <a:pt x="46" y="240"/>
                      </a:lnTo>
                      <a:lnTo>
                        <a:pt x="20" y="246"/>
                      </a:lnTo>
                      <a:lnTo>
                        <a:pt x="6" y="250"/>
                      </a:lnTo>
                      <a:lnTo>
                        <a:pt x="0" y="252"/>
                      </a:lnTo>
                      <a:lnTo>
                        <a:pt x="0" y="62"/>
                      </a:lnTo>
                      <a:lnTo>
                        <a:pt x="560" y="0"/>
                      </a:lnTo>
                      <a:lnTo>
                        <a:pt x="1120" y="62"/>
                      </a:lnTo>
                      <a:lnTo>
                        <a:pt x="1120" y="252"/>
                      </a:lnTo>
                      <a:lnTo>
                        <a:pt x="1120" y="252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811080" y="3154320"/>
                  <a:ext cx="1717560" cy="5720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c319"/>
                    </a:gs>
                    <a:gs pos="100000">
                      <a:srgbClr val="fedf88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14" name=""/>
            <p:cNvGrpSpPr/>
            <p:nvPr/>
          </p:nvGrpSpPr>
          <p:grpSpPr>
            <a:xfrm>
              <a:off x="838080" y="1989000"/>
              <a:ext cx="1717560" cy="651960"/>
              <a:chOff x="838080" y="1989000"/>
              <a:chExt cx="1717560" cy="651960"/>
            </a:xfrm>
          </p:grpSpPr>
          <p:sp>
            <p:nvSpPr>
              <p:cNvPr id="415" name=""/>
              <p:cNvSpPr/>
              <p:nvPr/>
            </p:nvSpPr>
            <p:spPr>
              <a:xfrm>
                <a:off x="939240" y="2364480"/>
                <a:ext cx="1514520" cy="276480"/>
              </a:xfrm>
              <a:custGeom>
                <a:avLst/>
                <a:gdLst/>
                <a:ahLst/>
                <a:rect l="l" t="t" r="r" b="b"/>
                <a:pathLst>
                  <a:path w="1120" h="252">
                    <a:moveTo>
                      <a:pt x="1120" y="252"/>
                    </a:moveTo>
                    <a:lnTo>
                      <a:pt x="1116" y="250"/>
                    </a:lnTo>
                    <a:lnTo>
                      <a:pt x="1100" y="246"/>
                    </a:lnTo>
                    <a:lnTo>
                      <a:pt x="1074" y="240"/>
                    </a:lnTo>
                    <a:lnTo>
                      <a:pt x="1038" y="232"/>
                    </a:lnTo>
                    <a:lnTo>
                      <a:pt x="992" y="222"/>
                    </a:lnTo>
                    <a:lnTo>
                      <a:pt x="938" y="212"/>
                    </a:lnTo>
                    <a:lnTo>
                      <a:pt x="876" y="204"/>
                    </a:lnTo>
                    <a:lnTo>
                      <a:pt x="806" y="196"/>
                    </a:lnTo>
                    <a:lnTo>
                      <a:pt x="730" y="190"/>
                    </a:lnTo>
                    <a:lnTo>
                      <a:pt x="646" y="184"/>
                    </a:lnTo>
                    <a:lnTo>
                      <a:pt x="556" y="184"/>
                    </a:lnTo>
                    <a:lnTo>
                      <a:pt x="466" y="184"/>
                    </a:lnTo>
                    <a:lnTo>
                      <a:pt x="384" y="190"/>
                    </a:lnTo>
                    <a:lnTo>
                      <a:pt x="308" y="196"/>
                    </a:lnTo>
                    <a:lnTo>
                      <a:pt x="238" y="204"/>
                    </a:lnTo>
                    <a:lnTo>
                      <a:pt x="178" y="212"/>
                    </a:lnTo>
                    <a:lnTo>
                      <a:pt x="126" y="222"/>
                    </a:lnTo>
                    <a:lnTo>
                      <a:pt x="82" y="232"/>
                    </a:lnTo>
                    <a:lnTo>
                      <a:pt x="46" y="240"/>
                    </a:lnTo>
                    <a:lnTo>
                      <a:pt x="20" y="246"/>
                    </a:lnTo>
                    <a:lnTo>
                      <a:pt x="6" y="250"/>
                    </a:lnTo>
                    <a:lnTo>
                      <a:pt x="0" y="252"/>
                    </a:lnTo>
                    <a:lnTo>
                      <a:pt x="0" y="62"/>
                    </a:lnTo>
                    <a:lnTo>
                      <a:pt x="560" y="0"/>
                    </a:lnTo>
                    <a:lnTo>
                      <a:pt x="1120" y="62"/>
                    </a:lnTo>
                    <a:lnTo>
                      <a:pt x="1120" y="252"/>
                    </a:lnTo>
                    <a:lnTo>
                      <a:pt x="1120" y="252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838080" y="1989000"/>
                <a:ext cx="1717560" cy="572040"/>
              </a:xfrm>
              <a:prstGeom prst="rect">
                <a:avLst/>
              </a:prstGeom>
              <a:solidFill>
                <a:srgbClr val="ff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7" name=""/>
          <p:cNvSpPr/>
          <p:nvPr/>
        </p:nvSpPr>
        <p:spPr>
          <a:xfrm flipH="1">
            <a:off x="7380000" y="1125360"/>
            <a:ext cx="576360" cy="0"/>
          </a:xfrm>
          <a:prstGeom prst="line">
            <a:avLst/>
          </a:prstGeom>
          <a:ln w="1015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8T06:56:52Z</dcterms:created>
  <dc:creator>admin</dc:creator>
  <dc:description/>
  <dc:language>en-US</dc:language>
  <cp:lastModifiedBy>news</cp:lastModifiedBy>
  <dcterms:modified xsi:type="dcterms:W3CDTF">2015-07-20T09:39:39Z</dcterms:modified>
  <cp:revision>70</cp:revision>
  <dc:subject/>
  <dc:title>ThemeGallery Power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