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7.gif" ContentType="image/gif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E066-C310-4A82-9165-4A3DCEFCA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CC6E-B740-421D-977F-1D02221D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FEA0FE-0251-443F-9D14-C88B7665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2DBA8-3C8B-4EB7-9870-FC90B848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D418A-7F13-46D4-9119-26278E91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AB82E-5E35-4EB0-89D5-3839426A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3A740-4E40-46FC-97A3-78379E14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B611DA-8DCE-4BBE-927B-4075CDFC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4E8925-9479-4EDC-AD1A-788920D5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6EA8C-654A-4D0A-B289-7B2E7A683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F751A5-8C12-4776-B6C0-7EB46ACF9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D22D6-8CD5-46C6-8883-1026EEF04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8DA3-EBA6-4997-A1FA-E0B63DAE9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E3591-EEBD-4A0D-BDD5-DBF24FDC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EEFF58-52F1-4090-929D-93D19CB5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61492D-506C-4BAD-A2D7-F9925563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38A60E-8BD9-4B2A-92FB-D6548329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64F9FA-B2BC-429C-A97F-5E2461C4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8A9A9B-AA9A-498B-81BB-F7819C3C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1AA64-61D7-41EF-B356-D849B684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98C8E8-8078-40D4-8A47-A920E50C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A8235-2748-496A-BC12-F0740749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8F5BBB-5D65-4DD7-B026-2520FA871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1105-57CC-4348-ABBD-41BE04B98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F6BCD-C67E-45B0-ACE5-7B783D4B5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D6B75-9607-458E-A575-283EB8EAF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A2492-3527-44A8-941B-DA883061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54653-95E8-4CC7-A929-E803E183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89C24-45A2-4B4D-8F21-37506567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B2E6E-7BC0-48EC-8531-D9BEB13E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49867-7870-420F-8895-118FC5BB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D0B8D-C3BC-4B91-87D4-87E7AC47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1A76C-79B3-42BF-9EFD-08C5810F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77CE5-B9D8-4EF5-80A0-E4108672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ECA3-1BF8-4EEE-9320-B51609DF4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3F102-AA98-489E-AC91-E8A7F97A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DF6109-867E-439D-8104-CF64463DB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932FF-BEFE-4DC6-9F59-1A28F20E7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2DB1C2-0D8E-4C28-AC6E-DB58252AA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3215DF-7365-43E3-8BD7-BD2C54C3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B58CB2-D9DC-4F80-BA5F-6E32618A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74AE87-902E-4947-BC8B-7E75EEA0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7B9D5E-FAB1-4712-94E0-ECD13738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0FB6CA-BE73-4C72-BC83-1A38AA6A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6AC40D-018C-413D-9860-CD1B1F5F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B4EB-5858-4580-9C4D-139FBE17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8F60F7-3280-4012-9815-F7322B0E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B71D1-1C2A-4070-9485-199B3CB4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931FA3-98F1-4C59-A229-6618B79F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3055BF-B459-4A2B-BF50-6531E182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EF8F20-9AC8-4EBE-A441-7122385AA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6ED472-4795-4BBE-B604-1F5BE3ED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33EA88-1101-4D33-8D7D-8F2C4655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0D924C-AB01-4049-8D76-B4E5FA72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F96AA3-BEAD-460C-98F7-C95B9009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A2EAC0-03D4-40EE-B7FA-75A9567D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9A92-2B2E-4D2D-AA53-C54D8906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91AC53-FB0B-4EDF-943D-9BAE9F4C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A3F028-47CD-4247-B115-2FEA3FF9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FD4816-8456-473E-909E-95439A64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AE4B3C-B062-435D-ADD2-9EFCB5E0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AC2DFF-42FE-46D6-882B-D30719A7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4B0178-D1BD-49AC-B368-370319994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D4B2EB-2DAD-4FE9-BCE3-EF741C630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E1E1-6169-4810-BC79-F3CF216F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90E2-4637-4E2F-8689-3B02175D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2F62-E03B-457A-B171-52BF4C54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5A25-AF8B-421B-A7B5-8251F92A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61F7-892A-485C-9709-460BAD4C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03BD-C5A2-410F-A81F-58B64025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F70C-B5C8-497C-A553-BACABA73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7822-986C-4549-ACC4-7C98706A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BF71-9960-4E7E-90B8-E8AB8E505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7DA3-7DF7-4997-95DC-B3E0DF20E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F93AE-C83C-487A-8D04-0D886BE72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71DEA-8F07-4F46-9185-2F40070A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B1E0D-FAE4-4432-836F-2B0AF5ED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3F474-3ACC-4E76-ABE1-8AFFCFF1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BC780-BF38-48CD-A766-090EB191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E440-9754-42E2-BA5C-3E24D1D6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2D970-4AD1-4982-B7E3-83D889CD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F924C-1DB2-43FA-BCC3-F778B3C9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774AA-6932-4F0E-B456-3416F763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8F0E4-5D74-40E4-9775-34EBB900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594E7-638C-4090-8616-08235A83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BCCA2-B081-4EFC-BF46-916A398EC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BA257-8A04-4C1D-9771-A7FEA0113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BCA2E-7885-4F28-846C-BA1F2DB2C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F2C77-B5F4-49D6-A0C4-6DFCB2D7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62D65-2C49-4F8E-9528-2F321035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111A-EF44-411B-BB02-1DE3764B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0DB44-4A5B-4B29-A9D6-D5A5604A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7A24C-7F91-49BC-8816-92842E5B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8CE47-9855-481F-9A03-6603D607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B1B5C-D723-40A4-AB34-478E92F9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C6B80-A898-421F-B075-330FCABA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7B86B-5A48-4FE6-88CB-78AAB0D9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D2FF9-E9A9-49B0-8E00-1243E734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D35F9-C32F-4EDE-9D58-B4E66695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ADAC3-860C-439F-9E66-3EB3C68A7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7FBC3-FABB-47FC-ACAD-52285F75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03F9-625F-4514-BD2B-26541F31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460EA-D66F-4183-9557-E3EB8B22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7CD04-2270-441E-9A90-BDFB0F25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C9525-BA47-48B1-AF56-CE5FDB4C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40190-F5E6-4CAB-AA40-3F7FA51D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E0E6A-A9B8-46A2-96B8-CDBF764C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1D4E4-7BC7-49F1-89CB-2C1DD353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2DC2F-D68D-499D-B97C-A62BC060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3540D-725D-4E1C-9331-61A1E6DF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E40AF-E896-4A3C-A1DB-F6F395E3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E0445-1C7A-4D5B-8031-5A9B06297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AAFC-9A51-4CBA-9D5F-D81418A1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07A3D-81D6-4A9A-B738-95E806F03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FA6EC-5543-4EDC-AFD1-8D70C2FC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77C60-7B9E-4DB7-AD72-14C4D811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4EC55-582D-434F-AA00-F862B7B1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729F4-D3A3-4D34-9964-0BCE000B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AC785-235C-4D6D-B8F9-5EB0CD17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13876-FEF5-45EF-ADC5-0E4B5CC0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C38D7-9253-4BB6-AD6C-E53670D9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20A40-EBE9-4827-8946-3E406734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8B9D9-89DE-4833-822B-282E9F89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FFDC-C8D3-4490-A1A1-B1C7F759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E70C7-54F8-46DC-AFF1-2A6A3F90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32544-04B9-425A-9CF3-08842DAAC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DD943-FA93-4EEB-B44E-55F065E66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35CAC-09F7-467D-A249-528935F1E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88FB0-F81B-4A51-ABB4-F501C586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1A2E2-0DAE-4FA4-B884-58550887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64CB5-0A05-4478-915F-E8B8BA9B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32686-8533-4BA9-AD5F-1CCB4EDD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74F71-9BA6-40C8-A129-E89960D2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770EE-42A6-4E94-A8CE-CCDBABFC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EFAA-28B1-4A10-ABDF-01442BEA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FE292-A702-47FA-BB0D-114E75B9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5F61E-1905-45F6-80ED-4B3BEDA0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EF1C0-23B0-4089-B80F-476A919D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B1653-4E4A-44CE-8783-F8F43AB2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12AF2-BB09-4FD6-AF2D-66907881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9AAF2-8B3B-4F1D-81CD-4C96DFA5C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1A8D2-95DD-41A1-AF62-22D7DC70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82206-2829-4DB6-A275-0C6EE21E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1E040-D810-45C6-A525-66AD26BD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5F3E1-09B5-4F2C-B097-5625A54B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8D1A-D62D-4956-9B8D-D952ECDC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906BD-477F-4628-96BB-92E6B2CA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ADE2C-75D6-4D1F-8C02-C875F769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E0962-C25B-4EEF-AFD5-65BD5961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951A3-047C-42D6-B9B4-8CBE7344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D3D42-16A7-4D26-950A-C2B21E30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45143-0B2E-43A2-AAF2-2F52F6E7D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02A4E-20D4-4564-B9E1-37C94DD1B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B18AA-CC5E-499D-9D84-F855A941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502F8-1B60-4DFC-8D4B-399EA09F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6E540D-9405-419A-BE4F-246622CB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E365-10D1-4318-80B3-8D58F5716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F5D2-2DD7-4150-9940-3E3FC02804B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1200-2386-429C-989F-C03C90C40A0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7E1D-845A-46FE-83D0-FD09FEB4807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E85A-36AA-4451-B359-EAB37B60AB3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46B4-3E4E-4A37-865B-B7CDBE9745F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A024-5264-42DF-9224-A92CF663707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264D-B2ED-43F1-9CC5-3D74A1991B0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A1A6-CC11-40B8-81A4-CD13554390E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F11C-4430-4EB5-BD6E-C870385ADE8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09B1-C482-499C-9F4F-83D9526D893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5F0D-85B9-4ADA-BD77-10D7D0B4A0D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1DD0-F74D-4DF8-A1A6-842A0F8E254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6" descr="bj"/>
          <p:cNvPicPr/>
          <p:nvPr/>
        </p:nvPicPr>
        <p:blipFill>
          <a:blip r:embed="rId1"/>
          <a:stretch/>
        </p:blipFill>
        <p:spPr>
          <a:xfrm>
            <a:off x="-334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5" descr="壁虎１"/>
          <p:cNvPicPr/>
          <p:nvPr/>
        </p:nvPicPr>
        <p:blipFill>
          <a:blip r:embed="rId2"/>
          <a:stretch/>
        </p:blipFill>
        <p:spPr>
          <a:xfrm>
            <a:off x="2567160" y="776160"/>
            <a:ext cx="4308480" cy="5761080"/>
          </a:xfrm>
          <a:prstGeom prst="rect">
            <a:avLst/>
          </a:prstGeom>
          <a:ln w="0">
            <a:noFill/>
          </a:ln>
        </p:spPr>
      </p:pic>
      <p:sp>
        <p:nvSpPr>
          <p:cNvPr id="535" name="矩形 1"/>
          <p:cNvSpPr/>
          <p:nvPr/>
        </p:nvSpPr>
        <p:spPr>
          <a:xfrm>
            <a:off x="2774520" y="236520"/>
            <a:ext cx="434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小壁虎借尾巴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矩形 6"/>
          <p:cNvSpPr/>
          <p:nvPr/>
        </p:nvSpPr>
        <p:spPr>
          <a:xfrm>
            <a:off x="302400" y="6453360"/>
            <a:ext cx="28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pic_253127"/>
          <p:cNvPicPr/>
          <p:nvPr/>
        </p:nvPicPr>
        <p:blipFill>
          <a:blip r:embed="rId1"/>
          <a:stretch/>
        </p:blipFill>
        <p:spPr>
          <a:xfrm>
            <a:off x="179280" y="0"/>
            <a:ext cx="4392720" cy="336060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3" descr="yz"/>
          <p:cNvPicPr/>
          <p:nvPr/>
        </p:nvPicPr>
        <p:blipFill>
          <a:blip r:embed="rId2"/>
          <a:stretch/>
        </p:blipFill>
        <p:spPr>
          <a:xfrm>
            <a:off x="4572000" y="3276720"/>
            <a:ext cx="434340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WordArt 6"/>
          <p:cNvSpPr txBox="1"/>
          <p:nvPr/>
        </p:nvSpPr>
        <p:spPr>
          <a:xfrm>
            <a:off x="826920" y="260280"/>
            <a:ext cx="2160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自学要求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3" name="Text Box 7"/>
          <p:cNvSpPr/>
          <p:nvPr/>
        </p:nvSpPr>
        <p:spPr>
          <a:xfrm>
            <a:off x="395280" y="2349360"/>
            <a:ext cx="74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１、读一读第４、５自然段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找出小壁虎和老牛、燕子的对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２、同桌小伙伴合作读一读小壁虎和老牛、燕子的对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pic_253127"/>
          <p:cNvPicPr/>
          <p:nvPr/>
        </p:nvPicPr>
        <p:blipFill>
          <a:blip r:embed="rId1"/>
          <a:stretch/>
        </p:blipFill>
        <p:spPr>
          <a:xfrm>
            <a:off x="179280" y="0"/>
            <a:ext cx="4240440" cy="32446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3" descr="yz"/>
          <p:cNvPicPr/>
          <p:nvPr/>
        </p:nvPicPr>
        <p:blipFill>
          <a:blip r:embed="rId2"/>
          <a:stretch/>
        </p:blipFill>
        <p:spPr>
          <a:xfrm flipH="1">
            <a:off x="4952520" y="3530520"/>
            <a:ext cx="3962520" cy="308952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4"/>
          <p:cNvSpPr/>
          <p:nvPr/>
        </p:nvSpPr>
        <p:spPr>
          <a:xfrm>
            <a:off x="4572000" y="3078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壁虎爬呀爬，爬到大树上。他看见老牛甩着尾巴，在树下吃草。小壁虎说：“牛伯伯，您把尾巴借给我行吗？”老牛说：“不行啊，我要用尾巴赶蝇子呢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152280" y="3657600"/>
            <a:ext cx="403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壁虎爬呀爬，爬到房檐下。他看见燕子摆着尾巴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空中飞来飞去。小壁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说：“燕子阿姨，您把尾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借给我行吗？”燕子说：“不行啊，我要用尾巴掌握方向呢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4" descr="pic_253127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AutoShape 5"/>
          <p:cNvSpPr/>
          <p:nvPr/>
        </p:nvSpPr>
        <p:spPr>
          <a:xfrm>
            <a:off x="2627280" y="620640"/>
            <a:ext cx="4176720" cy="2232000"/>
          </a:xfrm>
          <a:prstGeom prst="cloudCallout">
            <a:avLst>
              <a:gd name="adj1" fmla="val -44717"/>
              <a:gd name="adj2" fmla="val 6102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牛伯伯，您把尾巴借给我行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6"/>
          <p:cNvSpPr/>
          <p:nvPr/>
        </p:nvSpPr>
        <p:spPr>
          <a:xfrm>
            <a:off x="0" y="4365720"/>
            <a:ext cx="3635280" cy="2232000"/>
          </a:xfrm>
          <a:prstGeom prst="cloudCallout">
            <a:avLst>
              <a:gd name="adj1" fmla="val 76027"/>
              <a:gd name="adj2" fmla="val -1607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行啊，我要用尾巴赶蝇子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2"/>
          <p:cNvSpPr/>
          <p:nvPr/>
        </p:nvSpPr>
        <p:spPr>
          <a:xfrm>
            <a:off x="2666880" y="129528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Picture 3" descr="yz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5" name="AutoShape 5"/>
          <p:cNvSpPr/>
          <p:nvPr/>
        </p:nvSpPr>
        <p:spPr>
          <a:xfrm flipV="1">
            <a:off x="4932360" y="2780280"/>
            <a:ext cx="3168720" cy="1584360"/>
          </a:xfrm>
          <a:prstGeom prst="wedgeRoundRectCallout">
            <a:avLst>
              <a:gd name="adj1" fmla="val -44291"/>
              <a:gd name="adj2" fmla="val 7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6"/>
          <p:cNvSpPr/>
          <p:nvPr/>
        </p:nvSpPr>
        <p:spPr>
          <a:xfrm>
            <a:off x="468360" y="549360"/>
            <a:ext cx="3527280" cy="1366920"/>
          </a:xfrm>
          <a:prstGeom prst="wedgeRoundRectCallout">
            <a:avLst>
              <a:gd name="adj1" fmla="val 35328"/>
              <a:gd name="adj2" fmla="val 73226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7"/>
          <p:cNvSpPr/>
          <p:nvPr/>
        </p:nvSpPr>
        <p:spPr>
          <a:xfrm>
            <a:off x="468360" y="836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行啊，我要用尾巴掌握方向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8"/>
          <p:cNvSpPr/>
          <p:nvPr/>
        </p:nvSpPr>
        <p:spPr>
          <a:xfrm>
            <a:off x="5076720" y="299736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燕子阿姨，您把尾巴借给我行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8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4" descr="BAS000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1" name="WordArt 5"/>
          <p:cNvSpPr txBox="1"/>
          <p:nvPr/>
        </p:nvSpPr>
        <p:spPr>
          <a:xfrm>
            <a:off x="539640" y="907920"/>
            <a:ext cx="830592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-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动物的尾巴不同，用处也不同。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3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2" descr="nkongq1"/>
          <p:cNvPicPr/>
          <p:nvPr/>
        </p:nvPicPr>
        <p:blipFill>
          <a:blip r:embed="rId2"/>
          <a:stretch/>
        </p:blipFill>
        <p:spPr>
          <a:xfrm>
            <a:off x="2514600" y="1828800"/>
            <a:ext cx="563868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3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2" descr="laohu3"/>
          <p:cNvPicPr/>
          <p:nvPr/>
        </p:nvPicPr>
        <p:blipFill>
          <a:blip r:embed="rId2"/>
          <a:stretch/>
        </p:blipFill>
        <p:spPr>
          <a:xfrm>
            <a:off x="2590920" y="1752480"/>
            <a:ext cx="5410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3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2" descr="BRL00039"/>
          <p:cNvPicPr/>
          <p:nvPr/>
        </p:nvPicPr>
        <p:blipFill>
          <a:blip r:embed="rId2"/>
          <a:stretch/>
        </p:blipFill>
        <p:spPr>
          <a:xfrm>
            <a:off x="2971800" y="1828800"/>
            <a:ext cx="4572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3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2" descr="48"/>
          <p:cNvPicPr/>
          <p:nvPr/>
        </p:nvPicPr>
        <p:blipFill>
          <a:blip r:embed="rId2"/>
          <a:stretch/>
        </p:blipFill>
        <p:spPr>
          <a:xfrm>
            <a:off x="2514600" y="2133720"/>
            <a:ext cx="57913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6" descr="b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4"/>
          <p:cNvSpPr/>
          <p:nvPr/>
        </p:nvSpPr>
        <p:spPr>
          <a:xfrm>
            <a:off x="853200" y="1557360"/>
            <a:ext cx="71773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iǎo  bì   hǔ            jiè  wěi  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 壁 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借 尾 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ì  tiáo shé             xīn wěi 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 条 蛇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 尾 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ō shuǐ    zhǎng wò     táo zǒu        nán gu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拨 水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掌 握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逃 走    难 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én  zi        jiě jie        shuǎi zhe      yíng 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蚊 子   姐 姐    甩 着    蝇 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7"/>
          <p:cNvSpPr/>
          <p:nvPr/>
        </p:nvSpPr>
        <p:spPr>
          <a:xfrm>
            <a:off x="6156360" y="333360"/>
            <a:ext cx="2160720" cy="936720"/>
          </a:xfrm>
          <a:prstGeom prst="cloudCallout">
            <a:avLst>
              <a:gd name="adj1" fmla="val -43754"/>
              <a:gd name="adj2" fmla="val 100675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WordArt 8"/>
          <p:cNvSpPr txBox="1"/>
          <p:nvPr/>
        </p:nvSpPr>
        <p:spPr>
          <a:xfrm>
            <a:off x="6516720" y="54936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华文新魏"/>
              </a:rPr>
              <a:t>我会读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3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2" descr="daxian3"/>
          <p:cNvPicPr/>
          <p:nvPr/>
        </p:nvPicPr>
        <p:blipFill>
          <a:blip r:embed="rId2"/>
          <a:stretch/>
        </p:blipFill>
        <p:spPr>
          <a:xfrm>
            <a:off x="2666880" y="1752480"/>
            <a:ext cx="5715000" cy="468792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4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2" descr="Picture2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17" name="WordArt 3"/>
          <p:cNvSpPr txBox="1"/>
          <p:nvPr/>
        </p:nvSpPr>
        <p:spPr>
          <a:xfrm>
            <a:off x="762120" y="762120"/>
            <a:ext cx="2514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填一填：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18" name="Rectangle 5"/>
          <p:cNvSpPr/>
          <p:nvPr/>
        </p:nvSpPr>
        <p:spPr>
          <a:xfrm>
            <a:off x="838080" y="1828800"/>
            <a:ext cx="7543800" cy="4495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WordArt 6"/>
          <p:cNvSpPr txBox="1"/>
          <p:nvPr/>
        </p:nvSpPr>
        <p:spPr>
          <a:xfrm>
            <a:off x="1143000" y="2133720"/>
            <a:ext cx="4648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小壁虎爬呀爬，爬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20" name="Line 9"/>
          <p:cNvSpPr/>
          <p:nvPr/>
        </p:nvSpPr>
        <p:spPr>
          <a:xfrm>
            <a:off x="6172200" y="2895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WordArt 10"/>
          <p:cNvSpPr txBox="1"/>
          <p:nvPr/>
        </p:nvSpPr>
        <p:spPr>
          <a:xfrm>
            <a:off x="8001000" y="2666880"/>
            <a:ext cx="228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22" name="WordArt 11"/>
          <p:cNvSpPr txBox="1"/>
          <p:nvPr/>
        </p:nvSpPr>
        <p:spPr>
          <a:xfrm>
            <a:off x="1219320" y="320040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他看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23" name="Line 12"/>
          <p:cNvSpPr/>
          <p:nvPr/>
        </p:nvSpPr>
        <p:spPr>
          <a:xfrm>
            <a:off x="281952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WordArt 13"/>
          <p:cNvSpPr txBox="1"/>
          <p:nvPr/>
        </p:nvSpPr>
        <p:spPr>
          <a:xfrm>
            <a:off x="4191120" y="3276720"/>
            <a:ext cx="533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25" name="Line 14"/>
          <p:cNvSpPr/>
          <p:nvPr/>
        </p:nvSpPr>
        <p:spPr>
          <a:xfrm>
            <a:off x="4876920" y="38098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WordArt 15"/>
          <p:cNvSpPr txBox="1"/>
          <p:nvPr/>
        </p:nvSpPr>
        <p:spPr>
          <a:xfrm>
            <a:off x="7924680" y="3657600"/>
            <a:ext cx="228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8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27" name="WordArt 16"/>
          <p:cNvSpPr txBox="1"/>
          <p:nvPr/>
        </p:nvSpPr>
        <p:spPr>
          <a:xfrm>
            <a:off x="1295280" y="4267080"/>
            <a:ext cx="6934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小壁虎说：“         ？”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28" name="Line 17"/>
          <p:cNvSpPr/>
          <p:nvPr/>
        </p:nvSpPr>
        <p:spPr>
          <a:xfrm>
            <a:off x="4572000" y="48006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18"/>
          <p:cNvSpPr/>
          <p:nvPr/>
        </p:nvSpPr>
        <p:spPr>
          <a:xfrm>
            <a:off x="1143000" y="5943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WordArt 19"/>
          <p:cNvSpPr txBox="1"/>
          <p:nvPr/>
        </p:nvSpPr>
        <p:spPr>
          <a:xfrm>
            <a:off x="2590920" y="5181480"/>
            <a:ext cx="5257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说：“                。”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31" name="Line 20"/>
          <p:cNvSpPr/>
          <p:nvPr/>
        </p:nvSpPr>
        <p:spPr>
          <a:xfrm>
            <a:off x="6934320" y="3809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21"/>
          <p:cNvSpPr/>
          <p:nvPr/>
        </p:nvSpPr>
        <p:spPr>
          <a:xfrm>
            <a:off x="3886200" y="586728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3" name="Picture 22" descr="袋鼠"/>
          <p:cNvPicPr/>
          <p:nvPr/>
        </p:nvPicPr>
        <p:blipFill>
          <a:blip r:embed="rId2"/>
          <a:stretch/>
        </p:blipFill>
        <p:spPr>
          <a:xfrm>
            <a:off x="3492360" y="189000"/>
            <a:ext cx="1656000" cy="17002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23" descr="松鼠"/>
          <p:cNvPicPr/>
          <p:nvPr/>
        </p:nvPicPr>
        <p:blipFill>
          <a:blip r:embed="rId3"/>
          <a:stretch/>
        </p:blipFill>
        <p:spPr>
          <a:xfrm>
            <a:off x="5292720" y="189000"/>
            <a:ext cx="1728720" cy="165564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24" descr="啄木鸟"/>
          <p:cNvPicPr/>
          <p:nvPr/>
        </p:nvPicPr>
        <p:blipFill>
          <a:blip r:embed="rId4"/>
          <a:stretch/>
        </p:blipFill>
        <p:spPr>
          <a:xfrm>
            <a:off x="7308720" y="189000"/>
            <a:ext cx="1440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11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7" name="Text Box 8"/>
          <p:cNvSpPr/>
          <p:nvPr/>
        </p:nvSpPr>
        <p:spPr>
          <a:xfrm>
            <a:off x="2124000" y="134136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小壁虎借不到尾巴，心里很难过。他爬呀爬，爬回家里找妈妈。小壁虎把借尾巴的事告诉了妈妈。妈妈笑着说：“傻孩子，你转过身子看看。”小壁虎转身一看，高兴地叫起来：“我长出了一条新尾巴啦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Picture 4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7"/>
          <p:cNvSpPr/>
          <p:nvPr/>
        </p:nvSpPr>
        <p:spPr>
          <a:xfrm>
            <a:off x="2124000" y="184464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小壁虎在墙角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它用尾巴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8"/>
          <p:cNvSpPr/>
          <p:nvPr/>
        </p:nvSpPr>
        <p:spPr>
          <a:xfrm>
            <a:off x="2124000" y="263700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小鱼在河里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它用尾巴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9"/>
          <p:cNvSpPr/>
          <p:nvPr/>
        </p:nvSpPr>
        <p:spPr>
          <a:xfrm>
            <a:off x="2087640" y="3429000"/>
            <a:ext cx="70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老黄牛在树下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它用尾巴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0"/>
          <p:cNvSpPr/>
          <p:nvPr/>
        </p:nvSpPr>
        <p:spPr>
          <a:xfrm>
            <a:off x="2158920" y="4221000"/>
            <a:ext cx="70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燕子在空中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它用尾巴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8"/>
          <p:cNvSpPr/>
          <p:nvPr/>
        </p:nvSpPr>
        <p:spPr>
          <a:xfrm>
            <a:off x="1087560" y="612612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矩形 7"/>
          <p:cNvSpPr/>
          <p:nvPr/>
        </p:nvSpPr>
        <p:spPr>
          <a:xfrm>
            <a:off x="250920" y="166536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7" descr="b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4"/>
          <p:cNvSpPr/>
          <p:nvPr/>
        </p:nvSpPr>
        <p:spPr>
          <a:xfrm>
            <a:off x="1765440" y="1125360"/>
            <a:ext cx="62096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bì    hǔ   jiè  wén  shé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Times New Roman"/>
              </a:rPr>
              <a:t>壁   虎   借   蚊    蛇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6"/>
          <p:cNvSpPr/>
          <p:nvPr/>
        </p:nvSpPr>
        <p:spPr>
          <a:xfrm>
            <a:off x="1692360" y="3887640"/>
            <a:ext cx="64087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táo   nán     jiě    xīn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Times New Roman"/>
              </a:rPr>
              <a:t>逃     难      姐     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40" descr="bj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2"/>
          <p:cNvSpPr/>
          <p:nvPr/>
        </p:nvSpPr>
        <p:spPr>
          <a:xfrm>
            <a:off x="990720" y="1066680"/>
            <a:ext cx="579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2346480" y="497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 flipV="1">
            <a:off x="1219320" y="36576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19"/>
          <p:cNvSpPr/>
          <p:nvPr/>
        </p:nvSpPr>
        <p:spPr>
          <a:xfrm>
            <a:off x="7543800" y="4572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4"/>
          <p:cNvSpPr/>
          <p:nvPr/>
        </p:nvSpPr>
        <p:spPr>
          <a:xfrm>
            <a:off x="1512720" y="4135320"/>
            <a:ext cx="597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cc"/>
                </a:solidFill>
                <a:latin typeface="Times New Roman"/>
              </a:rPr>
              <a:t>逃   难   姐   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25"/>
          <p:cNvSpPr/>
          <p:nvPr/>
        </p:nvSpPr>
        <p:spPr>
          <a:xfrm>
            <a:off x="900000" y="2492280"/>
            <a:ext cx="720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cc"/>
                </a:solidFill>
                <a:latin typeface="Times New Roman"/>
              </a:rPr>
              <a:t>壁   虎    借   蛇   蚊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26"/>
          <p:cNvSpPr/>
          <p:nvPr/>
        </p:nvSpPr>
        <p:spPr>
          <a:xfrm>
            <a:off x="3348000" y="20667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29"/>
          <p:cNvSpPr/>
          <p:nvPr/>
        </p:nvSpPr>
        <p:spPr>
          <a:xfrm>
            <a:off x="5508720" y="206676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0"/>
          <p:cNvSpPr/>
          <p:nvPr/>
        </p:nvSpPr>
        <p:spPr>
          <a:xfrm>
            <a:off x="6804000" y="206064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1"/>
          <p:cNvSpPr/>
          <p:nvPr/>
        </p:nvSpPr>
        <p:spPr>
          <a:xfrm>
            <a:off x="2268360" y="379584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AutoShape 41"/>
          <p:cNvSpPr/>
          <p:nvPr/>
        </p:nvSpPr>
        <p:spPr>
          <a:xfrm flipH="1">
            <a:off x="538920" y="404640"/>
            <a:ext cx="2305080" cy="936720"/>
          </a:xfrm>
          <a:prstGeom prst="cloudCallout">
            <a:avLst>
              <a:gd name="adj1" fmla="val -55856"/>
              <a:gd name="adj2" fmla="val 100675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WordArt 42"/>
          <p:cNvSpPr txBox="1"/>
          <p:nvPr/>
        </p:nvSpPr>
        <p:spPr>
          <a:xfrm>
            <a:off x="971640" y="62064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华文新魏"/>
              </a:rPr>
              <a:t>我会读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4" descr="pic_253126"/>
          <p:cNvPicPr/>
          <p:nvPr/>
        </p:nvPicPr>
        <p:blipFill>
          <a:blip r:embed="rId1"/>
          <a:stretch/>
        </p:blipFill>
        <p:spPr>
          <a:xfrm>
            <a:off x="0" y="549360"/>
            <a:ext cx="5580000" cy="457020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5"/>
          <p:cNvSpPr/>
          <p:nvPr/>
        </p:nvSpPr>
        <p:spPr>
          <a:xfrm>
            <a:off x="6226920" y="1557360"/>
            <a:ext cx="208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壁虎爬呀爬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爬到小河边。他看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鱼摇着尾巴，在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里游来游去。小壁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说：“小鱼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姐，您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尾巴借给我行吗？”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鱼说：“不行啊，我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尾巴拨水呢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Picture 4" descr="pic_253126"/>
          <p:cNvPicPr/>
          <p:nvPr/>
        </p:nvPicPr>
        <p:blipFill>
          <a:blip r:embed="rId1"/>
          <a:stretch/>
        </p:blipFill>
        <p:spPr>
          <a:xfrm>
            <a:off x="0" y="0"/>
            <a:ext cx="9144000" cy="7034040"/>
          </a:xfrm>
          <a:prstGeom prst="rect">
            <a:avLst/>
          </a:prstGeom>
          <a:ln w="0">
            <a:noFill/>
          </a:ln>
        </p:spPr>
      </p:pic>
      <p:sp>
        <p:nvSpPr>
          <p:cNvPr id="563" name="AutoShape 5"/>
          <p:cNvSpPr/>
          <p:nvPr/>
        </p:nvSpPr>
        <p:spPr>
          <a:xfrm>
            <a:off x="2050920" y="260280"/>
            <a:ext cx="3384720" cy="2087640"/>
          </a:xfrm>
          <a:prstGeom prst="wedgeEllipseCallout">
            <a:avLst>
              <a:gd name="adj1" fmla="val -30393"/>
              <a:gd name="adj2" fmla="val 62319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鱼姐姐，您把尾巴借给我行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6"/>
          <p:cNvSpPr/>
          <p:nvPr/>
        </p:nvSpPr>
        <p:spPr>
          <a:xfrm>
            <a:off x="1187280" y="4076640"/>
            <a:ext cx="3600720" cy="1800360"/>
          </a:xfrm>
          <a:prstGeom prst="wedgeEllipseCallout">
            <a:avLst>
              <a:gd name="adj1" fmla="val 31657"/>
              <a:gd name="adj2" fmla="val -62171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不行啊，我要用尾巴拨水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395280" y="314172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因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所以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5334120" y="152388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WordArt 5"/>
          <p:cNvSpPr txBox="1"/>
          <p:nvPr/>
        </p:nvSpPr>
        <p:spPr>
          <a:xfrm>
            <a:off x="1187280" y="1052640"/>
            <a:ext cx="252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会说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9" name="Text Box 6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4" descr="pic_253126"/>
          <p:cNvPicPr/>
          <p:nvPr/>
        </p:nvPicPr>
        <p:blipFill>
          <a:blip r:embed="rId1"/>
          <a:stretch/>
        </p:blipFill>
        <p:spPr>
          <a:xfrm>
            <a:off x="0" y="0"/>
            <a:ext cx="9144000" cy="7034040"/>
          </a:xfrm>
          <a:prstGeom prst="rect">
            <a:avLst/>
          </a:prstGeom>
          <a:ln w="0">
            <a:noFill/>
          </a:ln>
        </p:spPr>
      </p:pic>
      <p:sp>
        <p:nvSpPr>
          <p:cNvPr id="573" name="AutoShape 5"/>
          <p:cNvSpPr/>
          <p:nvPr/>
        </p:nvSpPr>
        <p:spPr>
          <a:xfrm>
            <a:off x="2050920" y="260280"/>
            <a:ext cx="3384720" cy="2087640"/>
          </a:xfrm>
          <a:prstGeom prst="wedgeEllipseCallout">
            <a:avLst>
              <a:gd name="adj1" fmla="val -30393"/>
              <a:gd name="adj2" fmla="val 62319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鱼姐姐，您把尾巴借给我行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AutoShape 6"/>
          <p:cNvSpPr/>
          <p:nvPr/>
        </p:nvSpPr>
        <p:spPr>
          <a:xfrm>
            <a:off x="1187280" y="4076640"/>
            <a:ext cx="3600720" cy="1800360"/>
          </a:xfrm>
          <a:prstGeom prst="wedgeEllipseCallout">
            <a:avLst>
              <a:gd name="adj1" fmla="val 31657"/>
              <a:gd name="adj2" fmla="val -62171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不行啊，我要用尾巴拨水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pic_253126"/>
          <p:cNvPicPr/>
          <p:nvPr/>
        </p:nvPicPr>
        <p:blipFill>
          <a:blip r:embed="rId1"/>
          <a:stretch/>
        </p:blipFill>
        <p:spPr>
          <a:xfrm>
            <a:off x="0" y="549360"/>
            <a:ext cx="5580000" cy="457020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3"/>
          <p:cNvSpPr/>
          <p:nvPr/>
        </p:nvSpPr>
        <p:spPr>
          <a:xfrm>
            <a:off x="6226920" y="1557360"/>
            <a:ext cx="208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壁虎爬呀爬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爬到小河边。他看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鱼摇着尾巴，在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里游来游去。小壁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说：“小鱼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姐，您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尾巴借给我行吗？”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鱼说：“不行啊，我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尾巴拨水呢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6T14:41:03Z</dcterms:created>
  <dc:creator/>
  <dc:description/>
  <cp:keywords>幻灯片之家 http:/www.eeppt.com</cp:keywords>
  <dc:language>en-US</dc:language>
  <cp:lastModifiedBy/>
  <dcterms:modified xsi:type="dcterms:W3CDTF">2015-07-20T04:13:1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