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gif" ContentType="image/gif"/>
  <Override PartName="/ppt/media/image3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098A-979A-46B9-9741-7D244F61DF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D1FE-0B94-475D-AAD5-8D35C9444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74C2-CB5D-4F19-AAD9-6A676A769E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DFE7B-DBC4-4AC6-8D4F-82A31BC38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761DC-3058-463B-AAD2-B9D81609B4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15FF0-A3DD-4FFB-9F56-82F4B3914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A966-E15A-4A17-9F94-EF45BE88C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A0F4C-FEAC-46BE-BC7A-B937C4F894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FAD7D-EC79-4123-AEFD-999F9C7E6B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EE01-238C-4AD0-8259-F617E3A88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EEB09-077C-490F-8009-7A7A337E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9180D-A094-46AB-9F6E-8C289C4F0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C2CBC9-2FBE-4619-A41C-71FCFB6F23D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motoyes.net/bbs/viewthread.php?tid=2918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sina.yangchun.gov.cn/photo/index1.html" TargetMode="External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rxys.com/gb/ss8.htm" TargetMode="External"/><Relationship Id="rId2" Type="http://schemas.openxmlformats.org/officeDocument/2006/relationships/image" Target="../media/image10.jpeg"/><Relationship Id="rId3" Type="http://schemas.openxmlformats.org/officeDocument/2006/relationships/hyperlink" Target="http://www.eeppt.com/moban/kejian/" TargetMode="Externa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bj3.netsh.com/bbs/94063/103/31271.html" TargetMode="External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88so.com/Ecard/Pic/55/55_79.html" TargetMode="External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zhengzhou.news.sohu.com/news/20050101/n223749392.shtml" TargetMode="External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http://news.sina.com.cn/c/2005-05-07/12506573486.shtml" TargetMode="External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zjol.com.cn/gb/node2/node138665/node139992/node143067/userobject15ai1877656.html" TargetMode="External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xici.net/House/Service/b365041/d32424719.htm" TargetMode="Externa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edu.tom.com/1267/2004213-5338.html" TargetMode="External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chinamm.tom.com/1306/1362/200462-81886.html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ilitary.china.com/zh_cn/history2/06/11027560/20050720/12499864_2.html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hinawestnews.net/gb/westnews/xwzx/xbxw/sxgc/userobject1ai335865.html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ctech.ca/zzjoy/swtp/yeluotuo.html" TargetMode="External"/><Relationship Id="rId2" Type="http://schemas.openxmlformats.org/officeDocument/2006/relationships/image" Target="../media/image6.jpeg"/><Relationship Id="rId3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4" Type="http://schemas.openxmlformats.org/officeDocument/2006/relationships/image" Target="../media/image7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dgjy.com.cn/kjpeixun/frontpage/keshang/&#22823;&#28207;&#23454;&#39564;&#23567;&#23398;%20&#36213;&#22999;&#22999;/&#32593;&#39029;/index.htm" TargetMode="Externa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lhwh.net/html/b2-2.htm" TargetMode="External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6" descr="20045131810122894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720" y="1125360"/>
            <a:ext cx="813456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8000" spc="-1" strike="noStrike">
                <a:solidFill>
                  <a:srgbClr val="ffff00"/>
                </a:solidFill>
                <a:latin typeface="方正超粗黑简体"/>
                <a:ea typeface="方正超粗黑简体"/>
              </a:rPr>
              <a:t> 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79280" y="63817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968120" y="1052640"/>
            <a:ext cx="47631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想别人没想到的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课件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_1066790623_kd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4000" y="333360"/>
            <a:ext cx="7848360" cy="5892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5" descr="sscg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0"/>
            <a:ext cx="7238880" cy="7153200"/>
          </a:xfrm>
          <a:prstGeom prst="rect">
            <a:avLst/>
          </a:prstGeom>
          <a:ln w="0">
            <a:noFill/>
          </a:ln>
        </p:spPr>
      </p:pic>
      <p:sp>
        <p:nvSpPr>
          <p:cNvPr id="89" name=""/>
          <p:cNvSpPr/>
          <p:nvPr/>
        </p:nvSpPr>
        <p:spPr>
          <a:xfrm>
            <a:off x="2268360" y="909720"/>
            <a:ext cx="6112080" cy="40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ppt课件模板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http://www.eeppt.com/moban/kejian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又一个画家，画了一个和尚，奔走于深山丛林道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fazx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700360" y="1700280"/>
            <a:ext cx="2990880" cy="428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只有一个画家，画了一座山，山腰中有一个老和尚挑着一付水桶，到山间的激流中去担水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Picture 5" descr="24858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24000" y="1989000"/>
            <a:ext cx="4535640" cy="4535640"/>
          </a:xfrm>
          <a:prstGeom prst="rect">
            <a:avLst/>
          </a:prstGeom>
          <a:ln w="0">
            <a:noFill/>
          </a:ln>
        </p:spPr>
      </p:pic>
      <p:sp>
        <p:nvSpPr>
          <p:cNvPr id="97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谁画得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5" descr="mgczt"/>
          <p:cNvPicPr/>
          <p:nvPr/>
        </p:nvPicPr>
        <p:blipFill>
          <a:blip r:embed="rId1"/>
          <a:stretch/>
        </p:blipFill>
        <p:spPr>
          <a:xfrm>
            <a:off x="1979640" y="1484280"/>
            <a:ext cx="5184720" cy="5067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到了揭榜那天，第三幅画却被列为佳品，大家围着欣赏，并且同声称赞不绝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面中露出寺庙一角，便不是深山所藏了，藏应该是看不见的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和尚在奔走，也可以解释是云游或在赶路，不能说明山中有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此画列为上品，因为深得题意，“藏”字，通过到山间去挑水的老和尚，清楚的点出；深山有古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．试一试，在一张白纸上怎样画出最多的人？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1031" descr="Img22374938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826920" y="1484280"/>
            <a:ext cx="7274160" cy="4816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哪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7" descr="U47P1T1D6573486F21DT2005050712504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76360" y="1773360"/>
            <a:ext cx="6697800" cy="44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00099115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979640" y="1700280"/>
            <a:ext cx="6769080" cy="508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0944-9E30-4A04-B421-DEB6E6566C2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矩形 9"/>
          <p:cNvSpPr/>
          <p:nvPr/>
        </p:nvSpPr>
        <p:spPr>
          <a:xfrm>
            <a:off x="3851280" y="3357720"/>
            <a:ext cx="662040" cy="2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moban/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行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hangye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节日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模板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eri/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素材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背景图片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beijing/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图表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tubiao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优秀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xiazai/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powerpoint/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ord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 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word/              Excel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程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excel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资料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ziliao/                PPT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课件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kejian/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范文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fanwen/             </a:t>
            </a: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试卷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shiti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ffffff"/>
                </a:solidFill>
                <a:latin typeface="Arial"/>
              </a:rPr>
              <a:t>教案下载：</a:t>
            </a: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www.1ppt.com/jiaoan/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画画比赛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6836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要让你们在一张纸上画尽可能多的骆驼，你会怎样画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11" descr="200592814253176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498680" y="2708280"/>
            <a:ext cx="5761080" cy="384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比一比，那幅画的人最多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04021302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835280" y="1916280"/>
            <a:ext cx="6191280" cy="464328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0" y="6381720"/>
            <a:ext cx="337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总结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只要肯动脑筋，大胆创新，就会有很多新发现，就会有意想不到的收获。所以，在今后的学习、生活中，我们也要多动脑筋，做一个有创新精神的孩子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100160" y="6126120"/>
            <a:ext cx="67658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 u="sng">
                <a:solidFill>
                  <a:srgbClr val="009999"/>
                </a:solidFill>
                <a:uFillTx/>
                <a:latin typeface="Verdana"/>
                <a:hlinkClick r:id="rId1"/>
              </a:rPr>
              <a:t>PPT之家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整理发布，更多免费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Verdana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040602wujunru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859280" y="2276640"/>
            <a:ext cx="3888000" cy="291600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初读课文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自由读课文，读准字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画出生字词，同桌合作，识记字形，理解词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课文讲了一件什么事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）不理解的地方作上记号，与同桌讨论解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识字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召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zhào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   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骆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luò)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驼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uo)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连绵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mián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起伏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fú)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若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ruò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隐若现    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恰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qià)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4" descr="12499864_2005072017454091297700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356000" y="2349360"/>
            <a:ext cx="4392720" cy="271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分组讨论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三个徒弟的画分别是什么样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你觉得谁画得最棒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）从三个徒弟的画中，你体会到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4" descr="00044677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2195640" y="3500280"/>
            <a:ext cx="4535280" cy="288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齐读课题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大徒弟：用细笔画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二徒弟：画许多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小徒弟：只画山、一头骆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画师满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zg563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5940360" y="1700280"/>
            <a:ext cx="2857680" cy="3962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image004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684360" y="3933720"/>
            <a:ext cx="40320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为什么这幅画最好？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4" descr="image00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1042920" y="2349360"/>
            <a:ext cx="6696000" cy="4033800"/>
          </a:xfrm>
          <a:prstGeom prst="rect">
            <a:avLst/>
          </a:prstGeom>
          <a:ln w="0">
            <a:noFill/>
          </a:ln>
        </p:spPr>
      </p:pic>
      <p:sp>
        <p:nvSpPr>
          <p:cNvPr id="72" name=""/>
          <p:cNvSpPr/>
          <p:nvPr/>
        </p:nvSpPr>
        <p:spPr>
          <a:xfrm>
            <a:off x="160200" y="6369120"/>
            <a:ext cx="337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BankGothic Lt BT"/>
              </a:rPr>
              <a:t>www.eeppt.co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页脚占位符 4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试一试：怎样画深山藏古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好几百年前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个皇帝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非常喜欢作画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为此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它还设立了一个御画院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集中了国内顶级画家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有一次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他想试一试画家们高下优劣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就出了一个题目叫“深山藏古寺”，要他们分头作画，来表达这个意思。画家们饺尽脑汁，争锋斗雄，寻求最理想的角度，以表示这个主题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同学们，如果你是画家，你会怎样画呢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页脚占位符 5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425916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隐隐约约的落出一个寺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一个画家，画了重重叠叠的山峦，高矗入云的参天大树，林荫深处，隐隐约约的落出一个寺角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5" descr="lxt68465q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19760" y="333360"/>
            <a:ext cx="4224240" cy="6369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09T08:14:38Z</dcterms:created>
  <dc:creator/>
  <dc:description/>
  <cp:keywords>幻灯片之家 http:/www.eeppt.com</cp:keywords>
  <dc:language>en-US</dc:language>
  <cp:lastModifiedBy/>
  <dcterms:modified xsi:type="dcterms:W3CDTF">2015-07-17T14:57:16Z</dcterms:modified>
  <cp:revision>13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  <property fmtid="{D5CDD505-2E9C-101B-9397-08002B2CF9AE}" pid="3" name="Version">
    <vt:r8>9</vt:r8>
  </property>
</Properties>
</file>