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5AEE-0E75-4DEC-A0EA-81B52E902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55CD-741F-46FC-A4B3-CFDD8A69D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D677-5CB4-4F14-B880-BC053B306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9807-263E-41A9-B405-1A3D353F6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C7CEA-C650-4981-B14D-BF0EFBC44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874AB-6EE2-4B19-B21D-158A8F31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E0F42-3B2C-482D-8D00-7AAA620E3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0919A-3CB9-4081-9874-1FFAAA57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206CC-84C9-4E87-BFA5-85AB0E6E2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13E32-E068-4EF4-B4FA-963E0E72C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CAC70-6E5A-414B-ADC3-88816CCE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87BB-1499-4053-8641-B4BD63E8F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F4E9B-67FF-4FB0-88F3-03BBCE5F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18A3B-13D7-43A7-B856-7ACC1575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2899D-2A0D-4E42-B976-1EBFBAD88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EB29F-6E4F-45B8-8268-68881EB1A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1E291-4495-43B6-B196-2A05122C3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E34A-F708-4FA9-B8A9-292FD78DB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8DC4-15A2-42CA-A1A4-C4963DD7F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4824-F232-4950-A4AE-6FEDF8EB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7796-F8CA-4146-B1F1-D314751F8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007A-C391-4164-979D-0085AC32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13A7-7C9A-443C-ADA0-4D5D7918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3215-7251-4B1B-8B0D-6F7BC9E7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E6847-E8C0-46D8-864A-1DBCD3744A8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78118-27A6-4A2E-BB7E-9C3D830913C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0EA65-0D84-4F1A-9D6D-9A7B8255DDA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10"/>
          <p:cNvSpPr/>
          <p:nvPr/>
        </p:nvSpPr>
        <p:spPr>
          <a:xfrm>
            <a:off x="281160" y="528480"/>
            <a:ext cx="6904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5" name="图片 3" descr=""/>
          <p:cNvPicPr/>
          <p:nvPr/>
        </p:nvPicPr>
        <p:blipFill>
          <a:blip r:embed="rId1"/>
          <a:stretch/>
        </p:blipFill>
        <p:spPr>
          <a:xfrm>
            <a:off x="324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7" descr="559"/>
          <p:cNvPicPr/>
          <p:nvPr/>
        </p:nvPicPr>
        <p:blipFill>
          <a:blip r:embed="rId2"/>
          <a:stretch/>
        </p:blipFill>
        <p:spPr>
          <a:xfrm>
            <a:off x="826920" y="260280"/>
            <a:ext cx="3424320" cy="3775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7" descr="559"/>
          <p:cNvPicPr/>
          <p:nvPr/>
        </p:nvPicPr>
        <p:blipFill>
          <a:blip r:embed="rId3"/>
          <a:stretch/>
        </p:blipFill>
        <p:spPr>
          <a:xfrm>
            <a:off x="5435640" y="1628640"/>
            <a:ext cx="3489120" cy="3775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7" descr="559"/>
          <p:cNvPicPr/>
          <p:nvPr/>
        </p:nvPicPr>
        <p:blipFill>
          <a:blip r:embed="rId4"/>
          <a:stretch/>
        </p:blipFill>
        <p:spPr>
          <a:xfrm>
            <a:off x="4356000" y="31680"/>
            <a:ext cx="3106800" cy="3775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7" descr="559"/>
          <p:cNvPicPr/>
          <p:nvPr/>
        </p:nvPicPr>
        <p:blipFill>
          <a:blip r:embed="rId5"/>
          <a:stretch/>
        </p:blipFill>
        <p:spPr>
          <a:xfrm>
            <a:off x="25560" y="2205000"/>
            <a:ext cx="3552840" cy="3774960"/>
          </a:xfrm>
          <a:prstGeom prst="rect">
            <a:avLst/>
          </a:prstGeom>
          <a:ln w="0">
            <a:noFill/>
          </a:ln>
        </p:spPr>
      </p:pic>
      <p:sp>
        <p:nvSpPr>
          <p:cNvPr id="90" name="矩形 12"/>
          <p:cNvSpPr/>
          <p:nvPr/>
        </p:nvSpPr>
        <p:spPr>
          <a:xfrm>
            <a:off x="203040" y="552924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"/>
                            </p:stCondLst>
                            <p:childTnLst>
                              <p:par>
                                <p:cTn id="9" nodeType="afterEffect" fill="hold" presetClass="exit" presetID="10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" dur="1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17" nodeType="afterEffect" fill="hold" presetClass="exit" presetID="10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" dur="1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25" nodeType="afterEffect" fill="hold" presetClass="exit" presetID="10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" dur="1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xit" presetID="10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4" dur="1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1T11:19:00Z</dcterms:created>
  <dc:creator>zjt</dc:creator>
  <dc:description/>
  <cp:keywords/>
  <dc:language>en-US</dc:language>
  <cp:lastModifiedBy>a</cp:lastModifiedBy>
  <dcterms:modified xsi:type="dcterms:W3CDTF">2015-07-21T02:43:31Z</dcterms:modified>
  <cp:revision>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