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F78-DD46-4674-BF7E-5A3631A0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130-9347-469E-9E0F-27043D2E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FF8-EA98-48FC-90DF-AB9C98EC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31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7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95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31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67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887-FF1C-40BB-9196-BBD505D2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EF4B-6490-45D7-987C-CCC8B7A7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88AE-B005-4016-9F97-793A9624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B5E3-B212-4AFA-A446-E36FBD8C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DA33-C375-4253-B70F-03FBF7A4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6FF6-6727-4E8E-AA01-55A8BE48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60160" y="220680"/>
            <a:ext cx="6561000" cy="54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CBC4-80CD-47D5-9168-3C259F3B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6376-B568-4660-8000-513F2DD3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E13-6983-4E28-B1E9-52DF117E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FBD5-F3FC-453C-9456-350E22BD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D7D8-5A6F-41F0-AB05-9819021B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27D4-8609-4E9F-AED7-190722A3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BA25-8763-4B58-9B90-67A0AB52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31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67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95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31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67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EA04-38FF-41FA-9E54-B9F84400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F22-D7BB-494B-BE37-0D85B423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7FB-2CCB-4211-951E-B5A25C9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F20-329E-414E-B9E5-9BAF185B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60160" y="220680"/>
            <a:ext cx="6561000" cy="54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A24-8EB5-497D-A896-2475095E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65D-BB73-4CC3-87E8-A00F16A1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52A-FD27-4626-B734-779DAE5C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CBE-1DA4-4640-B5A7-B2AC7D4F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9600" y="162000"/>
            <a:ext cx="9183600" cy="6696000"/>
            <a:chOff x="-39600" y="162000"/>
            <a:chExt cx="9183600" cy="6696000"/>
          </a:xfrm>
        </p:grpSpPr>
        <p:pic>
          <p:nvPicPr>
            <p:cNvPr id="1" name="Picture 3" descr="artplus_music_watermelody02_f"/>
            <p:cNvPicPr/>
            <p:nvPr/>
          </p:nvPicPr>
          <p:blipFill>
            <a:blip r:embed="rId3"/>
            <a:stretch/>
          </p:blipFill>
          <p:spPr>
            <a:xfrm>
              <a:off x="0" y="162000"/>
              <a:ext cx="9144000" cy="159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Group 4"/>
            <p:cNvGrpSpPr/>
            <p:nvPr/>
          </p:nvGrpSpPr>
          <p:grpSpPr>
            <a:xfrm>
              <a:off x="-39600" y="181080"/>
              <a:ext cx="7950240" cy="6676920"/>
              <a:chOff x="-39600" y="181080"/>
              <a:chExt cx="7950240" cy="6676920"/>
            </a:xfrm>
          </p:grpSpPr>
          <p:pic>
            <p:nvPicPr>
              <p:cNvPr id="3" name="Picture 5" descr="artplus_plant_butterfly03_d"/>
              <p:cNvPicPr/>
              <p:nvPr/>
            </p:nvPicPr>
            <p:blipFill>
              <a:blip r:embed="rId4"/>
              <a:srcRect l="0" t="0" r="0" b="9247"/>
              <a:stretch/>
            </p:blipFill>
            <p:spPr>
              <a:xfrm>
                <a:off x="-39600" y="5397480"/>
                <a:ext cx="1139760" cy="146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Picture 6" descr="artplus_plant_butterfly03_i"/>
              <p:cNvPicPr/>
              <p:nvPr/>
            </p:nvPicPr>
            <p:blipFill>
              <a:blip r:embed="rId5"/>
              <a:stretch/>
            </p:blipFill>
            <p:spPr>
              <a:xfrm>
                <a:off x="6789960" y="181080"/>
                <a:ext cx="1120680" cy="113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1618920" y="6576480"/>
            <a:ext cx="21337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739680" y="6566040"/>
            <a:ext cx="4691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8527680" y="6568560"/>
            <a:ext cx="336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A1A8-0E33-4525-BEB2-E58803A7235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6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7569360" y="236520"/>
            <a:ext cx="1428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654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338040" y="295200"/>
            <a:ext cx="212256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0" y="374760"/>
            <a:ext cx="8742240" cy="6483240"/>
            <a:chOff x="0" y="374760"/>
            <a:chExt cx="8742240" cy="6483240"/>
          </a:xfrm>
        </p:grpSpPr>
        <p:pic>
          <p:nvPicPr>
            <p:cNvPr id="49" name="Picture 9" descr="artplus_plant_butterfly03_i"/>
            <p:cNvPicPr/>
            <p:nvPr/>
          </p:nvPicPr>
          <p:blipFill>
            <a:blip r:embed="rId3"/>
            <a:stretch/>
          </p:blipFill>
          <p:spPr>
            <a:xfrm>
              <a:off x="7223040" y="374760"/>
              <a:ext cx="1312920" cy="133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Group 10"/>
            <p:cNvGrpSpPr/>
            <p:nvPr/>
          </p:nvGrpSpPr>
          <p:grpSpPr>
            <a:xfrm>
              <a:off x="0" y="1121040"/>
              <a:ext cx="8742240" cy="5736960"/>
              <a:chOff x="0" y="1121040"/>
              <a:chExt cx="8742240" cy="5736960"/>
            </a:xfrm>
          </p:grpSpPr>
          <p:pic>
            <p:nvPicPr>
              <p:cNvPr id="51" name="Picture 11" descr="artplus_plant_butterfly03_d"/>
              <p:cNvPicPr/>
              <p:nvPr/>
            </p:nvPicPr>
            <p:blipFill>
              <a:blip r:embed="rId4"/>
              <a:srcRect l="0" t="0" r="0" b="9247"/>
              <a:stretch/>
            </p:blipFill>
            <p:spPr>
              <a:xfrm>
                <a:off x="7526160" y="5298840"/>
                <a:ext cx="1216080" cy="155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2" descr="artplus_music_watermelody02_d"/>
              <p:cNvPicPr/>
              <p:nvPr/>
            </p:nvPicPr>
            <p:blipFill>
              <a:blip r:embed="rId5"/>
              <a:stretch/>
            </p:blipFill>
            <p:spPr>
              <a:xfrm>
                <a:off x="0" y="1121040"/>
                <a:ext cx="3325680" cy="573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13" descr="artplus_plant_butterfly03_k"/>
              <p:cNvPicPr/>
              <p:nvPr/>
            </p:nvPicPr>
            <p:blipFill>
              <a:blip r:embed="rId6"/>
              <a:stretch/>
            </p:blipFill>
            <p:spPr>
              <a:xfrm>
                <a:off x="0" y="1191960"/>
                <a:ext cx="7758000" cy="477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14" descr="artplus_plant_butterfly03_e"/>
              <p:cNvPicPr/>
              <p:nvPr/>
            </p:nvPicPr>
            <p:blipFill>
              <a:blip r:embed="rId7"/>
              <a:stretch/>
            </p:blipFill>
            <p:spPr>
              <a:xfrm>
                <a:off x="2354400" y="3914640"/>
                <a:ext cx="2384280" cy="29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6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654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5375160" y="6464160"/>
            <a:ext cx="27892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3784320" y="6479640"/>
            <a:ext cx="15699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5040" y="6478560"/>
            <a:ext cx="4431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A1FA-3449-473A-AF29-F30C13948C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944800" y="3728880"/>
            <a:ext cx="6199200" cy="362160"/>
          </a:xfrm>
          <a:prstGeom prst="rect">
            <a:avLst/>
          </a:prstGeom>
          <a:solidFill>
            <a:srgbClr val="94b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2657160" y="1197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向日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然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654d"/>
                </a:solidFill>
                <a:latin typeface="Times New Roman"/>
              </a:rPr>
              <a:t>使用规范说明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94b628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4b628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4b628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 flipV="1">
            <a:off x="1042920" y="5603760"/>
            <a:ext cx="3306960" cy="487440"/>
          </a:xfrm>
          <a:prstGeom prst="ellipse">
            <a:avLst/>
          </a:prstGeom>
          <a:solidFill>
            <a:srgbClr val="e45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"/>
          <p:cNvSpPr/>
          <p:nvPr/>
        </p:nvSpPr>
        <p:spPr>
          <a:xfrm flipV="1">
            <a:off x="4611600" y="5576760"/>
            <a:ext cx="3305160" cy="486000"/>
          </a:xfrm>
          <a:prstGeom prst="ellipse">
            <a:avLst/>
          </a:prstGeom>
          <a:solidFill>
            <a:srgbClr val="e45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654d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1147680" y="2655720"/>
            <a:ext cx="3106800" cy="3076560"/>
            <a:chOff x="1147680" y="2655720"/>
            <a:chExt cx="3106800" cy="3076560"/>
          </a:xfrm>
        </p:grpSpPr>
        <p:sp>
          <p:nvSpPr>
            <p:cNvPr id="106" name="Rectangle 6"/>
            <p:cNvSpPr/>
            <p:nvPr/>
          </p:nvSpPr>
          <p:spPr>
            <a:xfrm>
              <a:off x="3757680" y="26589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1492200" y="26557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"/>
            <p:cNvSpPr/>
            <p:nvPr/>
          </p:nvSpPr>
          <p:spPr>
            <a:xfrm>
              <a:off x="1147680" y="285408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a8a"/>
                </a:gs>
                <a:gs pos="50000">
                  <a:srgbClr val="19c5c5"/>
                </a:gs>
                <a:gs pos="100000">
                  <a:srgbClr val="118a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147680" y="338760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0f7575"/>
                </a:gs>
                <a:gs pos="50000">
                  <a:srgbClr val="19c5c5"/>
                </a:gs>
                <a:gs pos="100000">
                  <a:srgbClr val="0f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147680" y="39211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a8a"/>
                </a:gs>
                <a:gs pos="50000">
                  <a:srgbClr val="19c5c5"/>
                </a:gs>
                <a:gs pos="100000">
                  <a:srgbClr val="118a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1"/>
            <p:cNvSpPr/>
            <p:nvPr/>
          </p:nvSpPr>
          <p:spPr>
            <a:xfrm>
              <a:off x="1147680" y="445428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0f7575"/>
                </a:gs>
                <a:gs pos="50000">
                  <a:srgbClr val="19c5c5"/>
                </a:gs>
                <a:gs pos="100000">
                  <a:srgbClr val="0f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2"/>
            <p:cNvSpPr/>
            <p:nvPr/>
          </p:nvSpPr>
          <p:spPr>
            <a:xfrm>
              <a:off x="1147680" y="498780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a8a"/>
                </a:gs>
                <a:gs pos="50000">
                  <a:srgbClr val="19c5c5"/>
                </a:gs>
                <a:gs pos="100000">
                  <a:srgbClr val="118a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13"/>
          <p:cNvSpPr/>
          <p:nvPr/>
        </p:nvSpPr>
        <p:spPr>
          <a:xfrm>
            <a:off x="1273320" y="1536840"/>
            <a:ext cx="655308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4"/>
          <p:cNvGrpSpPr/>
          <p:nvPr/>
        </p:nvGrpSpPr>
        <p:grpSpPr>
          <a:xfrm>
            <a:off x="4668840" y="2651040"/>
            <a:ext cx="3191040" cy="3081240"/>
            <a:chOff x="4668840" y="2651040"/>
            <a:chExt cx="3191040" cy="3081240"/>
          </a:xfrm>
        </p:grpSpPr>
        <p:sp>
          <p:nvSpPr>
            <p:cNvPr id="115" name="Rectangle 15"/>
            <p:cNvSpPr/>
            <p:nvPr/>
          </p:nvSpPr>
          <p:spPr>
            <a:xfrm>
              <a:off x="7399440" y="26510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5006880" y="26589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7"/>
            <p:cNvSpPr/>
            <p:nvPr/>
          </p:nvSpPr>
          <p:spPr>
            <a:xfrm>
              <a:off x="4668840" y="28591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aa8"/>
                </a:gs>
                <a:gs pos="50000">
                  <a:srgbClr val="276af1"/>
                </a:gs>
                <a:gs pos="100000">
                  <a:srgbClr val="1b4a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8"/>
            <p:cNvSpPr/>
            <p:nvPr/>
          </p:nvSpPr>
          <p:spPr>
            <a:xfrm>
              <a:off x="4668840" y="339228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73f8f"/>
                </a:gs>
                <a:gs pos="50000">
                  <a:srgbClr val="276af1"/>
                </a:gs>
                <a:gs pos="100000">
                  <a:srgbClr val="173f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4668840" y="392580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aa8"/>
                </a:gs>
                <a:gs pos="50000">
                  <a:srgbClr val="276af1"/>
                </a:gs>
                <a:gs pos="100000">
                  <a:srgbClr val="1b4a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4668840" y="44593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73f8f"/>
                </a:gs>
                <a:gs pos="50000">
                  <a:srgbClr val="276af1"/>
                </a:gs>
                <a:gs pos="100000">
                  <a:srgbClr val="173f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1"/>
            <p:cNvSpPr/>
            <p:nvPr/>
          </p:nvSpPr>
          <p:spPr>
            <a:xfrm>
              <a:off x="4668840" y="499248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aa8"/>
                </a:gs>
                <a:gs pos="50000">
                  <a:srgbClr val="276af1"/>
                </a:gs>
                <a:gs pos="100000">
                  <a:srgbClr val="1b4a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zh-CN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2009880" y="56624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5575320" y="56228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35280" y="63104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0:37:58Z</dcterms:created>
  <dc:creator>a-dang</dc:creator>
  <dc:description/>
  <cp:keywords/>
  <dc:language>en-US</dc:language>
  <cp:lastModifiedBy>a</cp:lastModifiedBy>
  <dcterms:modified xsi:type="dcterms:W3CDTF">2015-07-21T02:27:16Z</dcterms:modified>
  <cp:revision>6</cp:revision>
  <dc:subject/>
  <dc:title>ThemeGallery  PowerTemplat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