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FC2-AC7B-44B2-91A7-B89E2997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CB1-8067-47A8-B0C3-C23D616E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D8B-BE24-4822-A0CB-E88F50B3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E4C-D2F3-4735-942E-02044EDB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4CE-05BF-49E5-8F8F-CCFC9D46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DFA-DAB3-431E-AAB6-6250E598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2E2-30B8-4344-B0A1-BAC62EF4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B88-DCD2-4B71-A8BE-A555F934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A4F-B0DE-43C6-8E1F-3064E4D0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B2D-E67C-4E88-B7D0-6190409F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897-5A2D-4768-841F-82D58D03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980-2850-4857-B436-5051C8D9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0572-8E9F-4D62-81E5-746918F2CDED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xsdxdbj_zongjie.avi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c2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s情境创设"/>
          <p:cNvPicPr/>
          <p:nvPr/>
        </p:nvPicPr>
        <p:blipFill>
          <a:blip r:embed="rId2"/>
          <a:stretch/>
        </p:blipFill>
        <p:spPr>
          <a:xfrm>
            <a:off x="666720" y="987480"/>
            <a:ext cx="1771560" cy="536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567800" y="1523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比较大小：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44" name="Group 8"/>
          <p:cNvGrpSpPr/>
          <p:nvPr/>
        </p:nvGrpSpPr>
        <p:grpSpPr>
          <a:xfrm>
            <a:off x="1759320" y="2057400"/>
            <a:ext cx="5682240" cy="534960"/>
            <a:chOff x="1759320" y="2057400"/>
            <a:chExt cx="5682240" cy="534960"/>
          </a:xfrm>
        </p:grpSpPr>
        <p:sp>
          <p:nvSpPr>
            <p:cNvPr id="45" name="Text Box 5"/>
            <p:cNvSpPr/>
            <p:nvPr/>
          </p:nvSpPr>
          <p:spPr>
            <a:xfrm>
              <a:off x="1759320" y="2071800"/>
              <a:ext cx="568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832        799                   6124       6214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6" name="Oval 6"/>
            <p:cNvSpPr/>
            <p:nvPr/>
          </p:nvSpPr>
          <p:spPr>
            <a:xfrm>
              <a:off x="2514600" y="205740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7" name="Oval 7"/>
            <p:cNvSpPr/>
            <p:nvPr/>
          </p:nvSpPr>
          <p:spPr>
            <a:xfrm>
              <a:off x="6095880" y="205740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48" name="Text Box 9"/>
          <p:cNvSpPr/>
          <p:nvPr/>
        </p:nvSpPr>
        <p:spPr>
          <a:xfrm>
            <a:off x="6097680" y="19810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&lt;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557800" y="19810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&gt;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144160" y="27115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说说怎样比较整数的大小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922040" y="3505320"/>
            <a:ext cx="43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当整数位数不同时，位数多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的那个数就大；当整数位数相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时，从高位开始比较，按数位顺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序一位一位地比，哪一位的数大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那个数就大，就不再比下一位了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2" name="Picture 13" descr="a7"/>
          <p:cNvPicPr/>
          <p:nvPr/>
        </p:nvPicPr>
        <p:blipFill>
          <a:blip r:embed="rId3"/>
          <a:stretch/>
        </p:blipFill>
        <p:spPr>
          <a:xfrm>
            <a:off x="6865920" y="3352680"/>
            <a:ext cx="1287360" cy="240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1280" y="6381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1" lang="en-US" sz="1800" spc="-1" strike="noStrike">
                <a:solidFill>
                  <a:srgbClr val="002ec2"/>
                </a:solidFill>
                <a:latin typeface="Times New Roman"/>
              </a:rPr>
              <a:t>http://www.eeppt.com/moban/kejian/</a:t>
            </a:r>
            <a:endParaRPr b="1" lang="en-US" sz="1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9AA-D8C1-4427-BD0B-B143B6C8BF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203560" y="1819440"/>
            <a:ext cx="27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比较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.2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4.0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的大小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392920" y="274320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整数部分：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比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小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65240" y="350532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.25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 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&lt;  4.05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61" name="Picture 7" descr="a6"/>
          <p:cNvPicPr/>
          <p:nvPr/>
        </p:nvPicPr>
        <p:blipFill>
          <a:blip r:embed="rId3"/>
          <a:stretch/>
        </p:blipFill>
        <p:spPr>
          <a:xfrm>
            <a:off x="1450800" y="3962520"/>
            <a:ext cx="114012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3314880" y="4267080"/>
            <a:ext cx="36795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比较两个小数的大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小，先看它们的整数部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分，整数部分大的那个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数就大。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295360" y="1523880"/>
            <a:ext cx="27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比较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.3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.4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的大小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44240" y="2224080"/>
            <a:ext cx="19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整数部分都是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50360" y="281952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十分位上的数各是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和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525760" y="38862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十分位上的数哪个大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698800" y="390852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（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大 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014000" y="3352680"/>
            <a:ext cx="27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各是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角 和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角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402000" y="458640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.35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&lt; 2.41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71" name="Picture 11" descr="a6"/>
          <p:cNvPicPr/>
          <p:nvPr/>
        </p:nvPicPr>
        <p:blipFill>
          <a:blip r:embed="rId3"/>
          <a:stretch/>
        </p:blipFill>
        <p:spPr>
          <a:xfrm>
            <a:off x="7191360" y="3657600"/>
            <a:ext cx="1190520" cy="23893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2743200" y="5302080"/>
            <a:ext cx="41911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　　当整数部分相同时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比较十分位上的数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c2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696320" y="1600200"/>
            <a:ext cx="38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比较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.07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.059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的大小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440080" y="2757600"/>
            <a:ext cx="517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整数部分和十分位上的数都相同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就要看百分位，百分位上的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，表示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7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.0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与表示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.0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377880" y="4281480"/>
            <a:ext cx="32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.07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&gt;  0.059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78" name="Picture 6" descr="a8"/>
          <p:cNvPicPr/>
          <p:nvPr/>
        </p:nvPicPr>
        <p:blipFill>
          <a:blip r:embed="rId3"/>
          <a:stretch/>
        </p:blipFill>
        <p:spPr>
          <a:xfrm>
            <a:off x="1371600" y="4191120"/>
            <a:ext cx="1409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1676520"/>
            <a:ext cx="6095880" cy="4284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0" name="Picture 8" descr="ds知识应用"/>
          <p:cNvPicPr/>
          <p:nvPr/>
        </p:nvPicPr>
        <p:blipFill>
          <a:blip r:embed="rId4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3300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/>
  <dc:description/>
  <cp:keywords>幻灯片之家 http:/www.eeppt.com</cp:keywords>
  <dc:language>en-US</dc:language>
  <cp:lastModifiedBy/>
  <dcterms:modified xsi:type="dcterms:W3CDTF">2015-07-03T12:07:03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