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3335000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56D-7926-495A-AE8C-B39830A6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43C-B598-4DB4-B53B-0B5221B9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64A-DC17-4BE5-8C9A-5C1AEA3F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83B-DF95-4003-8697-12AE6071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930-0931-46FD-AF54-C6FE16A0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EB8-10C2-417E-A529-DEB1C501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3F3-2643-4525-BCE8-B3AA8350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A75-C729-48F5-8589-41002114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029-D623-49CD-A3D2-E5F781DE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3F5-F371-4DBF-9B59-F28A493A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4ED-E41B-4F35-A262-12AEBCA4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AB6-67AC-49AE-9E65-34F8A807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543D-D7E5-41A6-BDBD-6C7B31F66EC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8DA4-65F3-4BDE-B162-7D14E317B0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33512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4397040" y="10969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谢谢观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476280" y="94154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2200" y="270000"/>
            <a:ext cx="1196964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7320" y="1806480"/>
            <a:ext cx="13020480" cy="742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0626840" y="474840"/>
            <a:ext cx="2025360" cy="496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1"/>
          <a:stretch/>
        </p:blipFill>
        <p:spPr>
          <a:xfrm>
            <a:off x="0" y="0"/>
            <a:ext cx="13335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cp:keywords/>
  <dc:language>en-US</dc:language>
  <cp:lastModifiedBy>a</cp:lastModifiedBy>
  <dcterms:modified xsi:type="dcterms:W3CDTF">2015-07-21T02:35:50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