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chimes.wav" ContentType="audio/x-wav"/>
  <Override PartName="/ppt/media/whoosh.wav" ContentType="audio/x-wav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D5BE-EE9E-4368-9D1A-FCEEF3A8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12C5-0073-4124-89AE-22CC92DA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F7C78-DAED-4FDA-8922-41735FBF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11843-8178-423E-8E11-46233C17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ED6E6-D7B8-4D1F-9DCE-0C0A8715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650DE-FF70-4F82-8C6A-9C4032D9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15504-BA3D-4464-9892-CE42848E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9467B-B714-4C3D-B2D6-E8E18943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E673C-4A40-4876-A3C7-ABD35AD1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6EB6A-3C72-4A64-8FB3-A8B25D6A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2DD1F-0131-4CD2-9D53-96593223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4AD5E-BB4E-4F9C-9A2F-97EB119B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0551-6E22-465A-A396-AA686528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703EE-0893-47F7-B18C-5E219346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AFE81-38B2-4750-A2B4-F7A9E106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E2ABF-F4BC-427B-BCAB-C7A59601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27E34-C3D1-4BFD-97B9-F062EAFD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757B2-DCDE-4B4C-A3FD-BC170800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ED436-5C74-4A29-8390-69DA1C30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660BE-A765-48FA-982F-99AC1998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A1D3E-40F6-418E-9BF9-17247F8D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2AB1D-A0E0-4223-B878-65C0D005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BAE51-3A92-4239-8819-3D8D30BE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73E4-2E50-4C26-AD81-E88FF1EC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AF425-5987-4A86-82A6-EBE5D8B5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FA92D-24E9-4800-A794-F5C2B368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3ADF9-21EE-42A5-8990-4F5EBFD4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CD166-0A44-42B2-81FF-44DEE8D5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711AD-9B57-43EA-BDE7-C41DD529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C3D7B-CDC1-4163-B2AB-495CB045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55DA3-2E00-48E0-893C-B4E6908F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0857E-0CDA-46A6-B61E-7DB67601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E18B1-25D6-4248-BBE2-1CBFED9B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4301D-AB6D-49A7-B67E-6AFE5399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786A-E450-41DA-8CC7-D8054BE5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30285-FB36-4151-89D0-2A9F1824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AF7A8-A311-423A-A531-69B434CB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061F2-02F6-4B48-939D-A966399A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3F388-9D3D-4E5C-8841-75A6B2B7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25458-1140-42B2-AE38-5F1528EF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73663-6841-40B8-8336-E7986EAB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1A305-4B7A-46C5-A9C7-3C466AD0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4B5FA-2FC4-450E-9065-3B4E5923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CE689-21A5-44E8-8323-14805347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0347A-E0DE-427B-AF1A-E1EA7C85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6C26-4301-4DC5-88E1-2366ECFA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FA4C7-369C-499F-ABAA-CCC33DEB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0E0A0-ADCA-402F-9C0C-AE6B154C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CA899-180E-439B-BC34-AC64C24C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378C0-1BCC-4454-A8B1-15DDD8F3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C3B37-DBFB-4B5A-A838-0F407326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EFB038-DBD1-4AB8-8873-717DA20F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0EC69E-16BD-4B96-B847-A23473E2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28FCAA-D54E-4BB4-A6C3-C242BD4D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48086F-8E19-47AC-9C66-967AACDA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5CA864-F293-4031-9836-2B6C07A9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2987-0710-4B95-ADE0-935E35DA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E13F1F-FA2D-49D2-82E8-B806880B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064B02-E5D4-4D98-849D-63D27EC0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8510F5-85BC-4CF8-B6B2-4FDD9A8F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3B4228-E7FC-46F0-83C3-F1BD403C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44335C-FAAF-4584-87E6-3E4AC147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B5F0D0-0523-4790-BE3E-A14327EC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2F542B-A500-4BD7-8925-05AACB1E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BFE3C3-2C99-49EF-9C92-2D0F55B2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16149A-5CEC-41B8-956C-58A2EF7E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757908-6DEA-40DB-A998-41AC2F68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B441-DC8B-4D2D-A189-37DB69E1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B35D97-D9A0-40BB-BD74-933A09BC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94B389-E078-4129-8E61-9BADD245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5A3027-1480-47D8-87BE-50A431E1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3B63C6-072F-4225-9FC1-99C249FD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27D68C-8D75-42BE-A0A9-E8954019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4A719A-83AB-40E2-A7E1-A4B3F71B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61494D-7E3B-4D60-945D-E43308F5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17D72E-3742-4D0F-B4F3-D37A6761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B32CEB-711F-4A3A-958B-88F9F031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3B6A8F-62AA-46A8-899C-3B1CF0D7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7C1A-DF77-4F45-98C1-FB06D46E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F6FCD0-FBC5-4D03-88E2-BEDA4AFF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547111-F8D1-4FAD-97C2-237B4DFD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E01790-45CF-46AD-A49C-D91C05DA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20D3BB-2AA1-4F3D-BFC1-B78FFFF4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19FE83-DEFC-4D32-9930-D6C16368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9E4229-3F33-4F2F-9CD5-EBB2B4AF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08DA67-90CD-49A2-A82F-3F8BD92F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7DB631-EC87-4AB4-968D-1448CA8A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B5474D-CEEF-41B6-B2DC-AF65593B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42C1E6-E444-41A8-9D85-5E20B3BB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4F85-A138-4C9C-AB68-D4CD546C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8E8F34-7202-4440-9450-387AA2E6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C79BA0-0C9E-45AB-88EE-82D0C89A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46E5AC-CD97-4692-9730-8FB3B451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7D9EFE-CE07-413C-BC77-4987E020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A46ECF-1090-4597-8C74-DE0BEB28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18FF05-7044-4D8E-B525-4114143F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CEFF19-7DC4-4331-BF34-96B10D29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5A040A-8503-4678-A710-F3FDE7C7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095ECE-95F1-4A7F-B431-1B79B80C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A70AA0-FBC0-4B1F-A6BA-24063918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2919-B88F-4CE3-A646-351E91AB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B6A1A0-C02E-420C-9885-3A9F15BF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B7D538-3721-4C9B-AA59-AAB0CEE3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50D9D7-255E-47FB-BA7D-81D6870D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63D6-5225-4580-8932-AC18100D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2A26-9A5A-4609-B7B3-545A7EFD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2BED-157F-45C5-A21E-252BE52A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94FD-2790-4F71-883B-0BFFDE66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7BC1-6BF3-4865-8394-E1EF706B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6240-F4AB-44DB-B2A0-113B1CA3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36436-2A70-40A7-96C5-4F6C0130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AEA33-6E3C-413D-915F-BE723AC3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ADB82-2006-40FA-8960-D5310C7B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86D5F-2096-4ACE-96DE-EC981B03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4EFA4-DD2A-4540-8EF8-701ABB73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6888-C001-437C-A92B-E3CD9867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64BE2-3AE8-47B0-8B3E-9AE16FA5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B8CF6-1885-468A-9E2D-036F35CE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3C5DF-063E-4B26-AEB3-C55DEDAD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B9B9E-4287-4CF4-9BFF-7BBA0029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4088B-06CE-4B80-BB9E-F81ECA3F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80C5A-F337-4F34-9414-5E3985E8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0205F-ABF3-4116-9A17-6EEC8629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1E3A7-232D-4C48-8AD1-4227F505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FC416-CE43-4309-B0AF-AD4B1A86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D61D7-B882-43C9-A968-08ACCF79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4B66-AAF6-4EC8-AB9B-7A73663F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EF32D-1EE6-43A3-A837-0595A26E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190E4-AE27-4DB4-8261-AC363836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3F740-7AE2-4413-B265-208E771C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F503B-3C5A-4D21-B07E-6187D04B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6F0FD-43EC-4A37-AD9F-1B91CA37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B097B-2A47-4DB7-8A47-3F0E52CC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045AE-AA31-40BB-93E4-BE5823CC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6125F-4DF2-4B7A-84A3-FC9A1D5A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0E3A6-F359-4183-9AEB-694BFDFA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EE512-09A0-40DD-B445-33A86DF8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4DD4-88CD-4967-B82D-33D4FC12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E9605-D47E-41B7-97B7-8E46B420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B4188-3C69-4D90-82E1-9B11201F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6B233-A8EE-4E41-A97A-BDDF1BC3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45C7E-493F-4F19-BA07-E5EF6C33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BEA3E-4F01-480B-8933-00B03805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C4566-6832-4E97-AA20-E834FF66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AE00C-B579-4A1B-8477-268A8E50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97933-2E16-46EC-88B5-6C51D624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55088-BBFE-482B-AA94-092EB93A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E850A-03FB-46E5-9AF3-DFD0B347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566A-BBE2-4A3D-9619-7BB5439B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21477-9B6E-4FE9-94F2-00278101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4C616-768B-411C-AE10-2E1592B1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96EB0-F909-481F-AAB7-BEECFA6E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1191C-C9E1-446B-8999-BADB34B2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B66FE-7F41-4BAA-A4D6-4F995343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79D87-29FC-4794-B662-AFD9E97D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60364-B8D3-43CD-ADCC-CB17FEF0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3C0ED-5226-4FD4-BB8B-AA99C690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28A32-1781-4639-B6EC-B286977E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FF540-72B6-4F34-AA42-976D7D2C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50DE-BB02-4BE1-A454-0A41830B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F7366-E550-4C8E-B1D0-1D27CC59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4D9B9-34C7-483C-B83E-920C1783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E951F-BA6E-4F7E-AEAE-D4EAE69D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AE4AB-6842-4C8C-8CAC-52835A22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D1B37-321C-44F5-9BA4-FA2E3183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A816E-FE68-4D4A-ABAC-44FA301C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852B9-35BD-4CE7-8160-FFC0DAFB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DD040-53B2-4F96-B075-C27C44A1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F7C4B-B758-4314-B9A5-3AAB0A0D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FAC77-F14F-4EF2-904F-B7C9F5AA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964C-C117-42E3-AC41-58DA6BED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6870E-68D2-42FD-B696-C6CD0337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D0A96-3FBD-4299-9068-31CC307F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8AEFD-E06E-46E2-BDE0-24DC6AA9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5AA29-7A08-4E5F-8C8C-75ACCC5A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4350F-0A52-4596-A78C-3570AFC5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BE250-C99C-4B9F-9B0D-252F19F9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3D135-EC23-4545-A0E0-7FAE86E2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BB86E-26AF-43AD-8EC8-62D971BD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2AD77-3561-4280-BF78-85D3013E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5317D-F023-4A6D-B7A6-5A008261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70EB-729E-451E-A314-7CB130DF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7FB04-86B9-4089-89A5-50E2579D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0600F-FA06-4BFE-A37F-015B1B6D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A1A33-58DF-4D35-B997-AA495E7D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0A547-1B19-46B0-B7AE-2BFCAC1C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3BC34-B984-4365-AC6F-B30F444D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834B9-3B69-473E-B9DE-D8C93D29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F1057-1AC9-40B3-B410-192D5898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57759-78B4-44B4-AF98-378D0A96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9F51F-A6BF-4299-A5F7-A7051C45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D8CEC-5A7A-4147-A4BE-D9338BFA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5633-A529-4147-AA0A-1AAABC2054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64C6-850E-4978-8EB8-E7C50AC5220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19EA-C7A9-4D42-B064-CF5B59C41C1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797C-66DF-4FD3-9EEF-08598028627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463F-14CD-4FE0-BE90-A9F1CBE8E25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80C1-CA32-49CE-A4E3-62EFA3705AC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A124-16B8-4887-9CBB-67FDD9D35D1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F837-A4B4-4EF8-8F19-7D1921879FB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7FF8-C115-4874-8587-54946A068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012D-0C1B-4023-B3CA-098DCDF376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57B2-81CA-4C42-AB51-935B5E30AB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A396-8B65-4455-92FF-31184080A35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6C2C-2B67-43A3-8FA5-145B0F3BBF9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3D04-20FB-4A8B-952D-5D28F14AEB2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2C61-E0DD-4FE1-9C1E-CC8A0AEA988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56B4-53D8-43F1-979E-547D2B346C6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13fb39b0c49ce8ae3ccf2d6ead9d9a75aabce280e1b0edcffe5879465c4802a39e6a8a9707bd195268008459542f7484c77226aabde1b11918b78cb550abed0b603bb052&amp;a=10&amp;b=29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2004114161589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3"/>
          <p:cNvSpPr/>
          <p:nvPr/>
        </p:nvSpPr>
        <p:spPr>
          <a:xfrm>
            <a:off x="7435800" y="2286000"/>
            <a:ext cx="79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58" name="矩形 2"/>
          <p:cNvSpPr/>
          <p:nvPr/>
        </p:nvSpPr>
        <p:spPr>
          <a:xfrm>
            <a:off x="395280" y="709560"/>
            <a:ext cx="867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Calibri"/>
                <a:ea typeface="黑体"/>
              </a:rPr>
              <a:t>月光启蒙</a:t>
            </a:r>
            <a:r>
              <a:rPr b="1" lang="en-US" sz="8800" spc="-1" strike="noStrike">
                <a:solidFill>
                  <a:srgbClr val="ffff00"/>
                </a:solidFill>
                <a:latin typeface="Calibri"/>
                <a:ea typeface="黑体"/>
              </a:rPr>
              <a:t>PPT</a:t>
            </a:r>
            <a:r>
              <a:rPr b="1" lang="zh-CN" sz="8800" spc="-1" strike="noStrike">
                <a:solidFill>
                  <a:srgbClr val="ffff00"/>
                </a:solidFill>
                <a:latin typeface="Calibri"/>
                <a:ea typeface="黑体"/>
              </a:rPr>
              <a:t>模板</a:t>
            </a:r>
            <a:endParaRPr b="1" lang="en-US" sz="8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4500720" y="256536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启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：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开启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、开导；</a:t>
            </a: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60" name="Text Box 8"/>
          <p:cNvSpPr/>
          <p:nvPr/>
        </p:nvSpPr>
        <p:spPr>
          <a:xfrm>
            <a:off x="4303800" y="328464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蒙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：蒙昧无知；</a:t>
            </a: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61" name="Text Box 9"/>
          <p:cNvSpPr/>
          <p:nvPr/>
        </p:nvSpPr>
        <p:spPr>
          <a:xfrm>
            <a:off x="3708360" y="393372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启蒙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：使初学的人得到基本的、入门的知识，智慧得以初步开发。 </a:t>
            </a: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62" name="矩形 8"/>
          <p:cNvSpPr/>
          <p:nvPr/>
        </p:nvSpPr>
        <p:spPr>
          <a:xfrm>
            <a:off x="360" y="6504120"/>
            <a:ext cx="33991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黑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黑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黑体"/>
              </a:rPr>
              <a:t>http://www.eeppt.com</a:t>
            </a:r>
            <a:endParaRPr b="1" lang="en-US" sz="16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2"/>
          <p:cNvSpPr/>
          <p:nvPr/>
        </p:nvSpPr>
        <p:spPr>
          <a:xfrm>
            <a:off x="684360" y="1557360"/>
            <a:ext cx="835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她用甜甜的嗓音深情地为我吟唱，轻轻的，像三月的和风，像小溪的流水。小院立即飘满了她芳香的音韵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720" name="Picture 17" descr="复件 思考"/>
          <p:cNvPicPr/>
          <p:nvPr/>
        </p:nvPicPr>
        <p:blipFill>
          <a:blip r:embed="rId2"/>
          <a:stretch/>
        </p:blipFill>
        <p:spPr>
          <a:xfrm>
            <a:off x="539640" y="26028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4"/>
          <p:cNvSpPr/>
          <p:nvPr/>
        </p:nvSpPr>
        <p:spPr>
          <a:xfrm>
            <a:off x="1476360" y="189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     唱歌谣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22" name="Rectangle 5"/>
          <p:cNvSpPr/>
          <p:nvPr/>
        </p:nvSpPr>
        <p:spPr>
          <a:xfrm>
            <a:off x="1476360" y="692280"/>
            <a:ext cx="15829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语句赏析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23" name="Line 8"/>
          <p:cNvSpPr/>
          <p:nvPr/>
        </p:nvSpPr>
        <p:spPr>
          <a:xfrm>
            <a:off x="2124000" y="2205000"/>
            <a:ext cx="1511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24" name="Line 9"/>
          <p:cNvSpPr/>
          <p:nvPr/>
        </p:nvSpPr>
        <p:spPr>
          <a:xfrm>
            <a:off x="7308720" y="220500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25" name="Line 10"/>
          <p:cNvSpPr/>
          <p:nvPr/>
        </p:nvSpPr>
        <p:spPr>
          <a:xfrm>
            <a:off x="755640" y="278136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26" name="Line 11"/>
          <p:cNvSpPr/>
          <p:nvPr/>
        </p:nvSpPr>
        <p:spPr>
          <a:xfrm>
            <a:off x="1476360" y="2781360"/>
            <a:ext cx="0" cy="3603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611280" y="3068640"/>
            <a:ext cx="3240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比喻句形象生动地写出了母亲的嗓音甜美、轻柔。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28" name="Oval 14"/>
          <p:cNvSpPr/>
          <p:nvPr/>
        </p:nvSpPr>
        <p:spPr>
          <a:xfrm>
            <a:off x="5940360" y="2349360"/>
            <a:ext cx="1656000" cy="5032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29" name="Line 15"/>
          <p:cNvSpPr/>
          <p:nvPr/>
        </p:nvSpPr>
        <p:spPr>
          <a:xfrm>
            <a:off x="6732720" y="2852640"/>
            <a:ext cx="0" cy="5050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30" name="Text Box 16"/>
          <p:cNvSpPr/>
          <p:nvPr/>
        </p:nvSpPr>
        <p:spPr>
          <a:xfrm>
            <a:off x="3995640" y="3284640"/>
            <a:ext cx="504036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芳香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原指（花草）香气，文中指母亲甜甜的嗓音，沁人心脾，仿佛芳香四溢。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实际也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通感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修辞手法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就是把听觉、视觉、嗅觉、味觉、触觉沟通起来。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31" name="Text Box 17"/>
          <p:cNvSpPr/>
          <p:nvPr/>
        </p:nvSpPr>
        <p:spPr>
          <a:xfrm>
            <a:off x="5076720" y="1484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yín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32" name="Text Box 18"/>
          <p:cNvSpPr/>
          <p:nvPr/>
        </p:nvSpPr>
        <p:spPr>
          <a:xfrm>
            <a:off x="4140360" y="4653000"/>
            <a:ext cx="500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文中还有，例如：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黄河留给家乡的故道不长五谷，却长歌谣。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"/>
          <p:cNvSpPr/>
          <p:nvPr/>
        </p:nvSpPr>
        <p:spPr>
          <a:xfrm>
            <a:off x="684360" y="1557360"/>
            <a:ext cx="835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她用甜甜的嗓音深情地为我吟唱，轻轻的，像三月的和风，像小溪的流水。小院立即飘满了她芳香的音韵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734" name="Picture 17" descr="复件 思考"/>
          <p:cNvPicPr/>
          <p:nvPr/>
        </p:nvPicPr>
        <p:blipFill>
          <a:blip r:embed="rId2"/>
          <a:stretch/>
        </p:blipFill>
        <p:spPr>
          <a:xfrm>
            <a:off x="539640" y="26028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4"/>
          <p:cNvSpPr/>
          <p:nvPr/>
        </p:nvSpPr>
        <p:spPr>
          <a:xfrm>
            <a:off x="1476360" y="1890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     唱歌谣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1476360" y="692280"/>
            <a:ext cx="15829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语句赏析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2"/>
          <p:cNvSpPr/>
          <p:nvPr/>
        </p:nvSpPr>
        <p:spPr>
          <a:xfrm>
            <a:off x="684360" y="1557360"/>
            <a:ext cx="835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她用甜甜的嗓音深情地为我吟唱，轻轻的，像三月的和风，像小溪的流水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小院立即飘满了她芳香的音韵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738" name="Picture 17" descr="复件 思考"/>
          <p:cNvPicPr/>
          <p:nvPr/>
        </p:nvPicPr>
        <p:blipFill>
          <a:blip r:embed="rId2"/>
          <a:stretch/>
        </p:blipFill>
        <p:spPr>
          <a:xfrm>
            <a:off x="539640" y="26028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739" name="Text Box 4"/>
          <p:cNvSpPr/>
          <p:nvPr/>
        </p:nvSpPr>
        <p:spPr>
          <a:xfrm>
            <a:off x="1476360" y="18900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    唱歌谣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40" name="Rectangle 5"/>
          <p:cNvSpPr/>
          <p:nvPr/>
        </p:nvSpPr>
        <p:spPr>
          <a:xfrm>
            <a:off x="1476360" y="692280"/>
            <a:ext cx="15829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语句赏析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41" name="Line 6"/>
          <p:cNvSpPr/>
          <p:nvPr/>
        </p:nvSpPr>
        <p:spPr>
          <a:xfrm>
            <a:off x="2268360" y="2997360"/>
            <a:ext cx="0" cy="5745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42" name="Text Box 7"/>
          <p:cNvSpPr/>
          <p:nvPr/>
        </p:nvSpPr>
        <p:spPr>
          <a:xfrm>
            <a:off x="1403280" y="3716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仿写：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43" name="Text Box 9"/>
          <p:cNvSpPr/>
          <p:nvPr/>
        </p:nvSpPr>
        <p:spPr>
          <a:xfrm>
            <a:off x="2268360" y="3573360"/>
            <a:ext cx="662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盛夏，池里的荷花竞相开放，像亭亭玉立的少女，如热情奔放的女郎，美丽极了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精美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说课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2"/>
          <p:cNvSpPr/>
          <p:nvPr/>
        </p:nvSpPr>
        <p:spPr>
          <a:xfrm>
            <a:off x="684360" y="1557360"/>
            <a:ext cx="835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她用甜甜的嗓音深情地为我吟唱，轻轻的，像三月的和风，像小溪的流水。小院立即飘满了她芳香的音韵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748" name="Picture 17" descr="复件 思考"/>
          <p:cNvPicPr/>
          <p:nvPr/>
        </p:nvPicPr>
        <p:blipFill>
          <a:blip r:embed="rId2"/>
          <a:stretch/>
        </p:blipFill>
        <p:spPr>
          <a:xfrm>
            <a:off x="539640" y="26028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749" name="Text Box 4"/>
          <p:cNvSpPr/>
          <p:nvPr/>
        </p:nvSpPr>
        <p:spPr>
          <a:xfrm>
            <a:off x="1476360" y="189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    唱歌谣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50" name="Rectangle 5"/>
          <p:cNvSpPr/>
          <p:nvPr/>
        </p:nvSpPr>
        <p:spPr>
          <a:xfrm>
            <a:off x="1476360" y="692280"/>
            <a:ext cx="15829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语句赏析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51" name="Text Box 7"/>
          <p:cNvSpPr/>
          <p:nvPr/>
        </p:nvSpPr>
        <p:spPr>
          <a:xfrm>
            <a:off x="1332000" y="306864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听到母亲的吟唱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有哪些感受？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52" name="Text Box 8"/>
          <p:cNvSpPr/>
          <p:nvPr/>
        </p:nvSpPr>
        <p:spPr>
          <a:xfrm>
            <a:off x="1332000" y="3573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感受：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53" name="Text Box 9"/>
          <p:cNvSpPr/>
          <p:nvPr/>
        </p:nvSpPr>
        <p:spPr>
          <a:xfrm>
            <a:off x="2124000" y="357336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母亲的嗓音甜美、轻柔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54" name="Text Box 10"/>
          <p:cNvSpPr/>
          <p:nvPr/>
        </p:nvSpPr>
        <p:spPr>
          <a:xfrm>
            <a:off x="2124000" y="4076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母亲流畅的歌声沁人心脾，仿佛芳香四溢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55" name="Text Box 11"/>
          <p:cNvSpPr/>
          <p:nvPr/>
        </p:nvSpPr>
        <p:spPr>
          <a:xfrm>
            <a:off x="2124000" y="458136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母亲吟唱注入深情，包含着对我深沉的爱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56" name="Text Box 12"/>
          <p:cNvSpPr/>
          <p:nvPr/>
        </p:nvSpPr>
        <p:spPr>
          <a:xfrm>
            <a:off x="1476360" y="5013360"/>
            <a:ext cx="7488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母亲的歌声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从小懂得了对故乡的爱，对民间艺术的爱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2"/>
          <p:cNvSpPr/>
          <p:nvPr/>
        </p:nvSpPr>
        <p:spPr>
          <a:xfrm>
            <a:off x="395280" y="141300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那时，我们日子清苦，但精神生活是丰富的。黄河留给家乡的故道不长五谷，却长歌谣。母亲天资聪颖，一听就会。再加上我的外婆是唱民歌的能手，我的父亲是唱莲花落的民间艺人。母亲用歌谣把故乡的爱，伴着月光给了我，让一颗混沌的童心豁然开朗。</a:t>
            </a:r>
            <a:br>
              <a:rPr sz="2400"/>
            </a:b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758" name="Picture 17" descr="复件 思考"/>
          <p:cNvPicPr/>
          <p:nvPr/>
        </p:nvPicPr>
        <p:blipFill>
          <a:blip r:embed="rId2"/>
          <a:stretch/>
        </p:blipFill>
        <p:spPr>
          <a:xfrm>
            <a:off x="539640" y="26028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759" name="Text Box 4"/>
          <p:cNvSpPr/>
          <p:nvPr/>
        </p:nvSpPr>
        <p:spPr>
          <a:xfrm>
            <a:off x="1476360" y="1890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    唱歌谣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1476360" y="620640"/>
            <a:ext cx="15829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语句赏析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61" name="Text Box 7"/>
          <p:cNvSpPr/>
          <p:nvPr/>
        </p:nvSpPr>
        <p:spPr>
          <a:xfrm>
            <a:off x="6443640" y="198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yǐng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62" name="Text Box 8"/>
          <p:cNvSpPr/>
          <p:nvPr/>
        </p:nvSpPr>
        <p:spPr>
          <a:xfrm>
            <a:off x="7451640" y="256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lào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63" name="Text Box 9"/>
          <p:cNvSpPr/>
          <p:nvPr/>
        </p:nvSpPr>
        <p:spPr>
          <a:xfrm>
            <a:off x="250920" y="36450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hùn dùn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64" name="Text Box 10"/>
          <p:cNvSpPr/>
          <p:nvPr/>
        </p:nvSpPr>
        <p:spPr>
          <a:xfrm>
            <a:off x="1908000" y="3645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huò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2"/>
          <p:cNvSpPr/>
          <p:nvPr/>
        </p:nvSpPr>
        <p:spPr>
          <a:xfrm>
            <a:off x="395280" y="141300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那时，我们日子清苦，但精神生活是丰富的。黄河留给家乡的故道不长五谷，却长歌谣。母亲天资聪颖，一听就会。再加上我的外婆是唱民歌的能手，我的父亲是唱莲花落的民间艺人。母亲用歌谣把故乡的爱，伴着月光给了我，让一颗混沌的童心豁然开朗。</a:t>
            </a:r>
            <a:br>
              <a:rPr sz="2400"/>
            </a:b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766" name="Picture 17" descr="复件 思考"/>
          <p:cNvPicPr/>
          <p:nvPr/>
        </p:nvPicPr>
        <p:blipFill>
          <a:blip r:embed="rId2"/>
          <a:stretch/>
        </p:blipFill>
        <p:spPr>
          <a:xfrm>
            <a:off x="539640" y="26028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4"/>
          <p:cNvSpPr/>
          <p:nvPr/>
        </p:nvSpPr>
        <p:spPr>
          <a:xfrm>
            <a:off x="1476360" y="18900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    唱歌谣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68" name="Rectangle 5"/>
          <p:cNvSpPr/>
          <p:nvPr/>
        </p:nvSpPr>
        <p:spPr>
          <a:xfrm>
            <a:off x="1476360" y="620640"/>
            <a:ext cx="15829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语句赏析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69" name="Oval 6"/>
          <p:cNvSpPr/>
          <p:nvPr/>
        </p:nvSpPr>
        <p:spPr>
          <a:xfrm>
            <a:off x="2340000" y="2276640"/>
            <a:ext cx="360360" cy="36036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70" name="Oval 7"/>
          <p:cNvSpPr/>
          <p:nvPr/>
        </p:nvSpPr>
        <p:spPr>
          <a:xfrm>
            <a:off x="3851280" y="2276640"/>
            <a:ext cx="360360" cy="36036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71" name="Line 8"/>
          <p:cNvSpPr/>
          <p:nvPr/>
        </p:nvSpPr>
        <p:spPr>
          <a:xfrm flipV="1">
            <a:off x="2556000" y="1483920"/>
            <a:ext cx="576000" cy="7923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72" name="Text Box 9"/>
          <p:cNvSpPr/>
          <p:nvPr/>
        </p:nvSpPr>
        <p:spPr>
          <a:xfrm>
            <a:off x="2843280" y="1125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生长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73" name="Line 10"/>
          <p:cNvSpPr/>
          <p:nvPr/>
        </p:nvSpPr>
        <p:spPr>
          <a:xfrm flipV="1">
            <a:off x="4067280" y="1483920"/>
            <a:ext cx="576000" cy="7923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74" name="Text Box 11"/>
          <p:cNvSpPr/>
          <p:nvPr/>
        </p:nvSpPr>
        <p:spPr>
          <a:xfrm>
            <a:off x="4356000" y="1125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产生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75" name="Line 12"/>
          <p:cNvSpPr/>
          <p:nvPr/>
        </p:nvSpPr>
        <p:spPr>
          <a:xfrm>
            <a:off x="7308720" y="2060640"/>
            <a:ext cx="12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76" name="Line 13"/>
          <p:cNvSpPr/>
          <p:nvPr/>
        </p:nvSpPr>
        <p:spPr>
          <a:xfrm>
            <a:off x="468360" y="2637000"/>
            <a:ext cx="4390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77" name="Line 14"/>
          <p:cNvSpPr/>
          <p:nvPr/>
        </p:nvSpPr>
        <p:spPr>
          <a:xfrm>
            <a:off x="1403280" y="3213000"/>
            <a:ext cx="345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78" name="Line 15"/>
          <p:cNvSpPr/>
          <p:nvPr/>
        </p:nvSpPr>
        <p:spPr>
          <a:xfrm>
            <a:off x="5148360" y="3213000"/>
            <a:ext cx="3311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79" name="Line 16"/>
          <p:cNvSpPr/>
          <p:nvPr/>
        </p:nvSpPr>
        <p:spPr>
          <a:xfrm>
            <a:off x="468360" y="3716280"/>
            <a:ext cx="1150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80" name="Line 17"/>
          <p:cNvSpPr/>
          <p:nvPr/>
        </p:nvSpPr>
        <p:spPr>
          <a:xfrm>
            <a:off x="4500720" y="3213000"/>
            <a:ext cx="0" cy="10796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81" name="Text Box 18"/>
          <p:cNvSpPr/>
          <p:nvPr/>
        </p:nvSpPr>
        <p:spPr>
          <a:xfrm>
            <a:off x="3780000" y="4292640"/>
            <a:ext cx="504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家乡环境、外婆和父亲对她的影响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她对故乡有着浓浓的爱。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2"/>
          <p:cNvSpPr/>
          <p:nvPr/>
        </p:nvSpPr>
        <p:spPr>
          <a:xfrm>
            <a:off x="395280" y="1413000"/>
            <a:ext cx="8353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那时，我们日子清苦，但精神生活是丰富的。黄河留给家乡的故道不长五谷，却长歌谣。母亲天资聪颖，一听就会。再加上我的外婆是唱民歌的能手，我的父亲是唱莲花落的民间艺人。母亲用歌谣把故乡的爱，伴着月光给了我，让一颗混沌的童心豁然开朗。</a:t>
            </a:r>
            <a:br>
              <a:rPr sz="2400"/>
            </a:b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783" name="Picture 17" descr="复件 思考"/>
          <p:cNvPicPr/>
          <p:nvPr/>
        </p:nvPicPr>
        <p:blipFill>
          <a:blip r:embed="rId2"/>
          <a:stretch/>
        </p:blipFill>
        <p:spPr>
          <a:xfrm>
            <a:off x="539640" y="26028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784" name="Text Box 4"/>
          <p:cNvSpPr/>
          <p:nvPr/>
        </p:nvSpPr>
        <p:spPr>
          <a:xfrm>
            <a:off x="1476360" y="189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85" name="Rectangle 5"/>
          <p:cNvSpPr/>
          <p:nvPr/>
        </p:nvSpPr>
        <p:spPr>
          <a:xfrm>
            <a:off x="1476360" y="620640"/>
            <a:ext cx="15829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语句赏析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86" name="Text Box 6"/>
          <p:cNvSpPr/>
          <p:nvPr/>
        </p:nvSpPr>
        <p:spPr>
          <a:xfrm>
            <a:off x="1116000" y="400536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文中哪句话可以解释“月光启蒙”？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87" name="Line 7"/>
          <p:cNvSpPr/>
          <p:nvPr/>
        </p:nvSpPr>
        <p:spPr>
          <a:xfrm flipV="1">
            <a:off x="4067280" y="335736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88" name="Line 8"/>
          <p:cNvSpPr/>
          <p:nvPr/>
        </p:nvSpPr>
        <p:spPr>
          <a:xfrm>
            <a:off x="1692360" y="3284640"/>
            <a:ext cx="6769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89" name="Line 9"/>
          <p:cNvSpPr/>
          <p:nvPr/>
        </p:nvSpPr>
        <p:spPr>
          <a:xfrm>
            <a:off x="468360" y="3716280"/>
            <a:ext cx="2951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90" name="Text Box 10"/>
          <p:cNvSpPr/>
          <p:nvPr/>
        </p:nvSpPr>
        <p:spPr>
          <a:xfrm>
            <a:off x="1116000" y="4437000"/>
            <a:ext cx="7272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母亲唱着歌谣，在不知不觉间培养了我热爱家乡、热爱生活的情感。这就是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启蒙教育，母亲真是我的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启蒙老师。  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她就是用这样动人的歌谣，为我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引读：打开了民间文学的宝库，给我送来月夜浓郁的诗情。她让明月星光陪伴我的童年，用智慧才华启迪我的想象。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2"/>
          <p:cNvSpPr/>
          <p:nvPr/>
        </p:nvSpPr>
        <p:spPr>
          <a:xfrm>
            <a:off x="684360" y="1557360"/>
            <a:ext cx="835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她用甜甜的嗓音深情地为我吟唱，轻轻的，像三月的和风，像小溪的流水。小院立即飘满了她芳香的音韵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792" name="Picture 17" descr="复件 思考"/>
          <p:cNvPicPr/>
          <p:nvPr/>
        </p:nvPicPr>
        <p:blipFill>
          <a:blip r:embed="rId2"/>
          <a:stretch/>
        </p:blipFill>
        <p:spPr>
          <a:xfrm>
            <a:off x="539640" y="26028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793" name="Text Box 4"/>
          <p:cNvSpPr/>
          <p:nvPr/>
        </p:nvSpPr>
        <p:spPr>
          <a:xfrm>
            <a:off x="1476360" y="189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94" name="Rectangle 5"/>
          <p:cNvSpPr/>
          <p:nvPr/>
        </p:nvSpPr>
        <p:spPr>
          <a:xfrm>
            <a:off x="1476360" y="692280"/>
            <a:ext cx="15829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语句赏析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95" name="Text Box 6"/>
          <p:cNvSpPr/>
          <p:nvPr/>
        </p:nvSpPr>
        <p:spPr>
          <a:xfrm>
            <a:off x="157320" y="6280200"/>
            <a:ext cx="3379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2"/>
          <p:cNvSpPr/>
          <p:nvPr/>
        </p:nvSpPr>
        <p:spPr>
          <a:xfrm>
            <a:off x="1476360" y="1557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母亲唱累了，就给我讲</a:t>
            </a: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97" name="Text Box 3"/>
          <p:cNvSpPr/>
          <p:nvPr/>
        </p:nvSpPr>
        <p:spPr>
          <a:xfrm>
            <a:off x="1476360" y="2205000"/>
            <a:ext cx="5977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嫦娥奔月的故事</a:t>
            </a: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牛郎织女天河相会的故事</a:t>
            </a: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……</a:t>
            </a: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798" name="Picture 17" descr="复件 思考"/>
          <p:cNvPicPr/>
          <p:nvPr/>
        </p:nvPicPr>
        <p:blipFill>
          <a:blip r:embed="rId2"/>
          <a:stretch/>
        </p:blipFill>
        <p:spPr>
          <a:xfrm>
            <a:off x="46836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799" name="Rectangle 5"/>
          <p:cNvSpPr/>
          <p:nvPr/>
        </p:nvSpPr>
        <p:spPr>
          <a:xfrm>
            <a:off x="1476360" y="549360"/>
            <a:ext cx="15829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语句赏析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00" name="Text Box 6"/>
          <p:cNvSpPr/>
          <p:nvPr/>
        </p:nvSpPr>
        <p:spPr>
          <a:xfrm>
            <a:off x="1476360" y="18900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    讲故事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01" name="Line 7"/>
          <p:cNvSpPr/>
          <p:nvPr/>
        </p:nvSpPr>
        <p:spPr>
          <a:xfrm>
            <a:off x="2195640" y="3933720"/>
            <a:ext cx="0" cy="3603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1476360" y="436572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母亲还会讲哪些神话故事？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1476360" y="4869000"/>
            <a:ext cx="65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女娲补天   精卫填海   夸父追日   八仙过海   后羿射日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4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5"/>
          <p:cNvSpPr/>
          <p:nvPr/>
        </p:nvSpPr>
        <p:spPr>
          <a:xfrm>
            <a:off x="324000" y="692280"/>
            <a:ext cx="43192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打开大自然绿色的课本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祖国敞开了绿色的大门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给孩子一片清凉的绿阴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去吧，去呼吸山水间芬芳的空气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去吧，去打开大自然绿色的课本。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让明亮的眼睛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去发现翠竹的挺拔，松柏的苍劲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用绚丽的色彩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去描绘果园的丰收，沃野的耕耘。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鸣禽、野花要和你们联欢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生活里洋溢着欢乐和温馨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祖国的山水要和你们相聚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请听一听它们心中的声音。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67" name="Text Box 6"/>
          <p:cNvSpPr/>
          <p:nvPr/>
        </p:nvSpPr>
        <p:spPr>
          <a:xfrm>
            <a:off x="4356000" y="907920"/>
            <a:ext cx="45007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青山说：攀登吧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饱览无限的风光，满怀少年的豪情！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绿水说：前进吧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奔向浩瀚的大海，显示少年的胸襟！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去吧，天空会撒开片片去锦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给你们送去明媚的早晨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去吧，大地会吹来阵阵微风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给你们留下愉快的黄昏。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祖国敞开了绿色的大门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给孩子一片清凉的绿阴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去吧，去呼吸山水间芬芳的空气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去吧，去打开大自然绿色的课本。 </a:t>
            </a:r>
            <a:br>
              <a:rPr sz="1800"/>
            </a:b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668" name="Picture 17" descr="复件 思考"/>
          <p:cNvPicPr/>
          <p:nvPr/>
        </p:nvPicPr>
        <p:blipFill>
          <a:blip r:embed="rId3"/>
          <a:stretch/>
        </p:blipFill>
        <p:spPr>
          <a:xfrm>
            <a:off x="10800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23"/>
          <p:cNvSpPr/>
          <p:nvPr/>
        </p:nvSpPr>
        <p:spPr>
          <a:xfrm>
            <a:off x="900000" y="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温习课文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4" descr="1702"/>
          <p:cNvPicPr/>
          <p:nvPr/>
        </p:nvPicPr>
        <p:blipFill>
          <a:blip r:embed="rId2"/>
          <a:srcRect l="11998" t="37349" r="14003" b="9226"/>
          <a:stretch/>
        </p:blipFill>
        <p:spPr>
          <a:xfrm>
            <a:off x="108000" y="907920"/>
            <a:ext cx="5105520" cy="5834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805" name="Picture 17" descr="复件 思考"/>
          <p:cNvPicPr/>
          <p:nvPr/>
        </p:nvPicPr>
        <p:blipFill>
          <a:blip r:embed="rId3"/>
          <a:stretch/>
        </p:blipFill>
        <p:spPr>
          <a:xfrm>
            <a:off x="611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806" name="Rectangle 6"/>
          <p:cNvSpPr/>
          <p:nvPr/>
        </p:nvSpPr>
        <p:spPr>
          <a:xfrm>
            <a:off x="5508720" y="1332000"/>
            <a:ext cx="3311280" cy="16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此时明月已至中天，母亲沉浸在如水的月色里，像一尊玉石雕像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把母亲比作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玉石雕像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，说明了母亲的美丽、圣洁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6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07" name="Text Box 7"/>
          <p:cNvSpPr/>
          <p:nvPr/>
        </p:nvSpPr>
        <p:spPr>
          <a:xfrm>
            <a:off x="1476360" y="189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grpSp>
        <p:nvGrpSpPr>
          <p:cNvPr id="808" name="Group 8"/>
          <p:cNvGrpSpPr/>
          <p:nvPr/>
        </p:nvGrpSpPr>
        <p:grpSpPr>
          <a:xfrm>
            <a:off x="5508720" y="4941720"/>
            <a:ext cx="3384360" cy="1368720"/>
            <a:chOff x="5508720" y="4941720"/>
            <a:chExt cx="3384360" cy="1368720"/>
          </a:xfrm>
        </p:grpSpPr>
        <p:sp>
          <p:nvSpPr>
            <p:cNvPr id="809" name="Rectangle 9"/>
            <p:cNvSpPr/>
            <p:nvPr/>
          </p:nvSpPr>
          <p:spPr>
            <a:xfrm>
              <a:off x="5981760" y="5195880"/>
              <a:ext cx="2571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朗读时要读出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“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我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”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对母亲的崇敬之情。</a:t>
              </a:r>
              <a:endParaRPr b="1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810" name="AutoShape 10"/>
            <p:cNvSpPr/>
            <p:nvPr/>
          </p:nvSpPr>
          <p:spPr>
            <a:xfrm>
              <a:off x="5508720" y="4941720"/>
              <a:ext cx="3384360" cy="1368720"/>
            </a:xfrm>
            <a:prstGeom prst="cloudCallout">
              <a:avLst>
                <a:gd name="adj1" fmla="val -34259"/>
                <a:gd name="adj2" fmla="val -11825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9999"/>
                </a:solidFill>
                <a:latin typeface="黑体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sp>
        <p:nvSpPr>
          <p:cNvPr id="811" name="Text Box 12"/>
          <p:cNvSpPr/>
          <p:nvPr/>
        </p:nvSpPr>
        <p:spPr>
          <a:xfrm>
            <a:off x="6084720" y="386064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对母亲的崇敬之情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2"/>
          <p:cNvSpPr/>
          <p:nvPr/>
        </p:nvSpPr>
        <p:spPr>
          <a:xfrm>
            <a:off x="755640" y="1413000"/>
            <a:ext cx="7993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小红孩，上南山，割荆草，编箔篮，筛大米，做干饭。小狗吃，小猫看，急得老鼠啃锅沿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813" name="Picture 17" descr="复件 思考"/>
          <p:cNvPicPr/>
          <p:nvPr/>
        </p:nvPicPr>
        <p:blipFill>
          <a:blip r:embed="rId2"/>
          <a:stretch/>
        </p:blipFill>
        <p:spPr>
          <a:xfrm>
            <a:off x="539640" y="26028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814" name="Text Box 4"/>
          <p:cNvSpPr/>
          <p:nvPr/>
        </p:nvSpPr>
        <p:spPr>
          <a:xfrm>
            <a:off x="1476360" y="189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    唱童谣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15" name="Rectangle 5"/>
          <p:cNvSpPr/>
          <p:nvPr/>
        </p:nvSpPr>
        <p:spPr>
          <a:xfrm>
            <a:off x="1403280" y="765000"/>
            <a:ext cx="129564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童谣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16" name="Text Box 7"/>
          <p:cNvSpPr/>
          <p:nvPr/>
        </p:nvSpPr>
        <p:spPr>
          <a:xfrm>
            <a:off x="1403280" y="2492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童谣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17" name="Text Box 8"/>
          <p:cNvSpPr/>
          <p:nvPr/>
        </p:nvSpPr>
        <p:spPr>
          <a:xfrm>
            <a:off x="755640" y="2997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小老鼠，上灯台，偷油喝，下不来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老鼠老鼠你别急，抱个狸猫来哄你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18" name="Text Box 9"/>
          <p:cNvSpPr/>
          <p:nvPr/>
        </p:nvSpPr>
        <p:spPr>
          <a:xfrm>
            <a:off x="1403280" y="4005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童谣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19" name="Text Box 10"/>
          <p:cNvSpPr/>
          <p:nvPr/>
        </p:nvSpPr>
        <p:spPr>
          <a:xfrm>
            <a:off x="755640" y="4508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毛娃哭，住瓦屋，毛娃笑，坐花轿。毛娃醒，吃油饼。毛娃睡，盖花被。毛娃走，唤花狗，花狗伸着花舌头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2"/>
          <p:cNvSpPr/>
          <p:nvPr/>
        </p:nvSpPr>
        <p:spPr>
          <a:xfrm>
            <a:off x="684360" y="1125360"/>
            <a:ext cx="84596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民谣童谣唱过了，我还不想睡，就缠着她给我说谜语，让我猜。母亲说：“仔细听着：麻屋子，红帐子，里边睡个白胖子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—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是什么呀？”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我问：“朝哪里猜？”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母亲说：“朝吃的猜”。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我歪着头想了一会儿，硬是解不开。母亲笑着说：“你真笨，这是咱种的花生呀。”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821" name="Picture 17" descr="复件 思考"/>
          <p:cNvPicPr/>
          <p:nvPr/>
        </p:nvPicPr>
        <p:blipFill>
          <a:blip r:embed="rId2"/>
          <a:stretch/>
        </p:blipFill>
        <p:spPr>
          <a:xfrm>
            <a:off x="539640" y="26028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822" name="Text Box 4"/>
          <p:cNvSpPr/>
          <p:nvPr/>
        </p:nvSpPr>
        <p:spPr>
          <a:xfrm>
            <a:off x="1476360" y="189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23" name="Rectangle 5"/>
          <p:cNvSpPr/>
          <p:nvPr/>
        </p:nvSpPr>
        <p:spPr>
          <a:xfrm>
            <a:off x="2987640" y="0"/>
            <a:ext cx="12970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猜谜语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2"/>
          <p:cNvSpPr/>
          <p:nvPr/>
        </p:nvSpPr>
        <p:spPr>
          <a:xfrm>
            <a:off x="395280" y="1052640"/>
            <a:ext cx="845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母亲不识字，却是我的启蒙老师。是母亲用一双勤劳的手为我打开了民间文学的宝库，给我送来月夜浓郁的诗情。她让明月星光陪伴我的童年，用智慧才华启迪我的想象。她在月光下唱的那些明快、流畅、含蓄、风趣的民歌民谣，使我展开了想象的翅膀，飞向诗歌的王国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825" name="Picture 17" descr="复件 思考"/>
          <p:cNvPicPr/>
          <p:nvPr/>
        </p:nvPicPr>
        <p:blipFill>
          <a:blip r:embed="rId2"/>
          <a:stretch/>
        </p:blipFill>
        <p:spPr>
          <a:xfrm>
            <a:off x="539640" y="26028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826" name="Text Box 4"/>
          <p:cNvSpPr/>
          <p:nvPr/>
        </p:nvSpPr>
        <p:spPr>
          <a:xfrm>
            <a:off x="1476360" y="189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1378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母亲不识字，却是我的启蒙老师。是母亲用一双勤劳的手为我打开了民间文学的宝库，给我送来月夜浓郁的诗情。她让明月星光陪伴我的童年，用智慧才华启迪我的想象。她在月光下唱的那些明快、流畅、含蓄、风趣的民歌民谣，使我展开了想象的翅膀，飞向诗歌的王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8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829" name="Text Box 7"/>
          <p:cNvSpPr/>
          <p:nvPr/>
        </p:nvSpPr>
        <p:spPr>
          <a:xfrm>
            <a:off x="1187280" y="189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1378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母亲不识字，却是我的启蒙老师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是母亲用一双勤劳的手为我打开了民间文学的宝库，给我送来月夜浓郁的诗情。她让明月星光陪伴我的童年，用智慧才华启迪我的想象。她在月光下唱的那些明快、流畅、含蓄、风趣的民歌民谣，使我展开了想象的翅膀，飞向诗歌的王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4"/>
          <p:cNvSpPr/>
          <p:nvPr/>
        </p:nvSpPr>
        <p:spPr>
          <a:xfrm>
            <a:off x="1187280" y="189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33" name="Line 5"/>
          <p:cNvSpPr/>
          <p:nvPr/>
        </p:nvSpPr>
        <p:spPr>
          <a:xfrm>
            <a:off x="2771640" y="1268280"/>
            <a:ext cx="0" cy="2376720"/>
          </a:xfrm>
          <a:prstGeom prst="line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539640" y="3645000"/>
            <a:ext cx="7921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答：因为母亲用歌谣、故事、童谣、谜语，让我在不知不觉中受到了诗歌的感染，丰富了想象力，使我爱上诗歌，所以，母亲是我的启蒙老师。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35" name="Text Box 7"/>
          <p:cNvSpPr/>
          <p:nvPr/>
        </p:nvSpPr>
        <p:spPr>
          <a:xfrm>
            <a:off x="611280" y="5157720"/>
            <a:ext cx="792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抒发了作者终生难忘对母亲的感激、怀念和敬爱之情。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36" name="Text Box 8"/>
          <p:cNvSpPr/>
          <p:nvPr/>
        </p:nvSpPr>
        <p:spPr>
          <a:xfrm>
            <a:off x="157320" y="6280200"/>
            <a:ext cx="3379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1378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讨论一下：作者为什么用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月光启蒙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作为课题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8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4"/>
          <p:cNvSpPr/>
          <p:nvPr/>
        </p:nvSpPr>
        <p:spPr>
          <a:xfrm>
            <a:off x="1187280" y="189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想一想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40" name="Text Box 5"/>
          <p:cNvSpPr/>
          <p:nvPr/>
        </p:nvSpPr>
        <p:spPr>
          <a:xfrm>
            <a:off x="755640" y="1557360"/>
            <a:ext cx="777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、母亲对孩子的启蒙教育多是在夏夜月光下进行的，所以以此为题。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41" name="Text Box 6"/>
          <p:cNvSpPr/>
          <p:nvPr/>
        </p:nvSpPr>
        <p:spPr>
          <a:xfrm>
            <a:off x="755640" y="2421000"/>
            <a:ext cx="77770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、这种启蒙教育是充满着母爱和诗意的，给孩子留下美好的回忆。而且月光能营造美的意境，以此为题与全文的情景吻合。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42" name="Text Box 7"/>
          <p:cNvSpPr/>
          <p:nvPr/>
        </p:nvSpPr>
        <p:spPr>
          <a:xfrm>
            <a:off x="755640" y="3357720"/>
            <a:ext cx="777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、月光朦胧，给人很多想象的空间，激发人们对美好生活的向往与追求，所以月光本身对孩子也有启蒙作用。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43" name="Text Box 8"/>
          <p:cNvSpPr/>
          <p:nvPr/>
        </p:nvSpPr>
        <p:spPr>
          <a:xfrm>
            <a:off x="1106640" y="6118200"/>
            <a:ext cx="67593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AutoShape 4"/>
          <p:cNvSpPr/>
          <p:nvPr/>
        </p:nvSpPr>
        <p:spPr>
          <a:xfrm>
            <a:off x="250920" y="692280"/>
            <a:ext cx="6192720" cy="4537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71" name="Text Box 2"/>
          <p:cNvSpPr/>
          <p:nvPr/>
        </p:nvSpPr>
        <p:spPr>
          <a:xfrm>
            <a:off x="250920" y="1148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认识作者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72" name="Text Box 3"/>
          <p:cNvSpPr/>
          <p:nvPr/>
        </p:nvSpPr>
        <p:spPr>
          <a:xfrm>
            <a:off x="179280" y="537372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主要著作有诗集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煤海短歌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、儿童长诗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带血的泥哨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、儿童知识读物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在黑宝石的家里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等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10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多部。诗选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去打开大自然绿色的课本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被编入全国小学语文教科书。 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6443640" y="836640"/>
            <a:ext cx="244800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孙友田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 当代诗人，江苏省作家协会理事，中国作家协会会员，享受国务院特殊津贴的杰出诗人。 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1187280" y="1916280"/>
            <a:ext cx="784872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读准字音，认清字形。　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能正确、较流利地朗读课文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画出生词及不理解的词语，联系上下文理解。 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边读边思：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月光下，我受到了母亲怎样的启蒙教育？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675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"/>
          <p:cNvSpPr/>
          <p:nvPr/>
        </p:nvSpPr>
        <p:spPr>
          <a:xfrm>
            <a:off x="1187280" y="260280"/>
            <a:ext cx="194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自读课文</a:t>
            </a: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77" name="Text Box 2"/>
          <p:cNvSpPr/>
          <p:nvPr/>
        </p:nvSpPr>
        <p:spPr>
          <a:xfrm>
            <a:off x="1187280" y="112536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用自己喜欢的方式再读课文</a:t>
            </a: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/>
          </p:nvPr>
        </p:nvSpPr>
        <p:spPr>
          <a:xfrm>
            <a:off x="826560" y="980640"/>
            <a:ext cx="7705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暑热    洒满     时辰    启迪    梧桐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含蓄    凤凰     吟唱    音韵    割荆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混沌    沉浸     雕像    搂抱    编箔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筛米    童谣     缠着    启蒙    啃锅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浓郁    篱笆     褂子    狸猫    脆脆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豁然开朗   篱笆小院   天资聪颖   幽默风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嫦娥奔月   牛郎织女   高深莫测   已至中天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    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23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23"/>
          <p:cNvSpPr/>
          <p:nvPr/>
        </p:nvSpPr>
        <p:spPr>
          <a:xfrm>
            <a:off x="1116000" y="189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我会读</a:t>
            </a: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81" name="Text Box 8"/>
          <p:cNvSpPr/>
          <p:nvPr/>
        </p:nvSpPr>
        <p:spPr>
          <a:xfrm>
            <a:off x="4140360" y="981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hen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82" name="Text Box 9"/>
          <p:cNvSpPr/>
          <p:nvPr/>
        </p:nvSpPr>
        <p:spPr>
          <a:xfrm>
            <a:off x="5724360" y="98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í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83" name="Text Box 10"/>
          <p:cNvSpPr/>
          <p:nvPr/>
        </p:nvSpPr>
        <p:spPr>
          <a:xfrm>
            <a:off x="7020000" y="16286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j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ī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ng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84" name="Text Box 11"/>
          <p:cNvSpPr/>
          <p:nvPr/>
        </p:nvSpPr>
        <p:spPr>
          <a:xfrm>
            <a:off x="755640" y="2421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hùn dùn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85" name="Text Box 12"/>
          <p:cNvSpPr/>
          <p:nvPr/>
        </p:nvSpPr>
        <p:spPr>
          <a:xfrm>
            <a:off x="7093080" y="24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bó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86" name="Text Box 13"/>
          <p:cNvSpPr/>
          <p:nvPr/>
        </p:nvSpPr>
        <p:spPr>
          <a:xfrm>
            <a:off x="5364000" y="386064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lí māo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87" name="Text Box 14"/>
          <p:cNvSpPr/>
          <p:nvPr/>
        </p:nvSpPr>
        <p:spPr>
          <a:xfrm>
            <a:off x="826920" y="458136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huò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88" name="Text Box 15"/>
          <p:cNvSpPr/>
          <p:nvPr/>
        </p:nvSpPr>
        <p:spPr>
          <a:xfrm>
            <a:off x="5724360" y="4581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yǐng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690" name="Text Box 5"/>
          <p:cNvSpPr/>
          <p:nvPr/>
        </p:nvSpPr>
        <p:spPr>
          <a:xfrm>
            <a:off x="468360" y="1773360"/>
            <a:ext cx="856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第一段（    ）：写童年夏夜生活的美妙，是母亲的歌谣使 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我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懂得了对故乡的爱，对民间艺术的爱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91" name="Text Box 6"/>
          <p:cNvSpPr/>
          <p:nvPr/>
        </p:nvSpPr>
        <p:spPr>
          <a:xfrm>
            <a:off x="503280" y="299736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第二段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（    ）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写母亲在夏夜给“我”讲神化故事、唱童谣、   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猜谜语，启迪了“我”的想象和智慧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539640" y="429264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第三段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（    ）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写母亲是启蒙老师，为“我”飞向诗歌王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国奠定了基础。 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971640" y="18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理清课文脉络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94" name="Text Box 7"/>
          <p:cNvSpPr/>
          <p:nvPr/>
        </p:nvSpPr>
        <p:spPr>
          <a:xfrm>
            <a:off x="1692360" y="191628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5 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95" name="Text Box 8"/>
          <p:cNvSpPr/>
          <p:nvPr/>
        </p:nvSpPr>
        <p:spPr>
          <a:xfrm>
            <a:off x="1692360" y="314172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3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96" name="Text Box 9"/>
          <p:cNvSpPr/>
          <p:nvPr/>
        </p:nvSpPr>
        <p:spPr>
          <a:xfrm>
            <a:off x="1908000" y="4437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4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97" name="Text Box 10"/>
          <p:cNvSpPr/>
          <p:nvPr/>
        </p:nvSpPr>
        <p:spPr>
          <a:xfrm>
            <a:off x="971640" y="98100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请同学们小组合作学习，给课文分段，概括大意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351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本文是一篇淳朴优美、感情真挚的散文。作者回忆了自己（    ）时，在美妙的夏夜，在月光的沐浴下，母亲给自己（          ）、（         ）和（      ）的情景，表达了作者（                       ）的感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700" name="Text Box 23"/>
          <p:cNvSpPr/>
          <p:nvPr/>
        </p:nvSpPr>
        <p:spPr>
          <a:xfrm>
            <a:off x="1258920" y="333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填一填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01" name="Text Box 5"/>
          <p:cNvSpPr/>
          <p:nvPr/>
        </p:nvSpPr>
        <p:spPr>
          <a:xfrm>
            <a:off x="1547640" y="220500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童年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02" name="Text Box 6"/>
          <p:cNvSpPr/>
          <p:nvPr/>
        </p:nvSpPr>
        <p:spPr>
          <a:xfrm>
            <a:off x="1835280" y="2924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唱民谣、童谣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03" name="Text Box 7"/>
          <p:cNvSpPr/>
          <p:nvPr/>
        </p:nvSpPr>
        <p:spPr>
          <a:xfrm>
            <a:off x="4356000" y="292428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讲神话故事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04" name="Text Box 8"/>
          <p:cNvSpPr/>
          <p:nvPr/>
        </p:nvSpPr>
        <p:spPr>
          <a:xfrm>
            <a:off x="6659640" y="2924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猜谜语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05" name="Text Box 9"/>
          <p:cNvSpPr/>
          <p:nvPr/>
        </p:nvSpPr>
        <p:spPr>
          <a:xfrm>
            <a:off x="3419640" y="36450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对母亲启蒙教育的感激和怀念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4"/>
          <p:cNvSpPr/>
          <p:nvPr/>
        </p:nvSpPr>
        <p:spPr>
          <a:xfrm>
            <a:off x="755640" y="1844640"/>
            <a:ext cx="7993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月亮出来亮堂堂，打开楼门洗衣裳，洗得白白的，晒得脆脆的。</a:t>
            </a:r>
            <a:endParaRPr b="1" lang="en-US" sz="32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707" name="Picture 17" descr="复件 思考"/>
          <p:cNvPicPr/>
          <p:nvPr/>
        </p:nvPicPr>
        <p:blipFill>
          <a:blip r:embed="rId2"/>
          <a:stretch/>
        </p:blipFill>
        <p:spPr>
          <a:xfrm>
            <a:off x="539640" y="26028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6"/>
          <p:cNvSpPr/>
          <p:nvPr/>
        </p:nvSpPr>
        <p:spPr>
          <a:xfrm>
            <a:off x="1476360" y="189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  唱歌谣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09" name="Rectangle 7"/>
          <p:cNvSpPr/>
          <p:nvPr/>
        </p:nvSpPr>
        <p:spPr>
          <a:xfrm>
            <a:off x="1547640" y="692280"/>
            <a:ext cx="12956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歌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10" name="Line 8"/>
          <p:cNvSpPr/>
          <p:nvPr/>
        </p:nvSpPr>
        <p:spPr>
          <a:xfrm>
            <a:off x="2268360" y="3573360"/>
            <a:ext cx="0" cy="5749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11" name="Text Box 9"/>
          <p:cNvSpPr/>
          <p:nvPr/>
        </p:nvSpPr>
        <p:spPr>
          <a:xfrm>
            <a:off x="1908000" y="4292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写出了母亲的勤劳、辛苦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2"/>
          <p:cNvSpPr/>
          <p:nvPr/>
        </p:nvSpPr>
        <p:spPr>
          <a:xfrm>
            <a:off x="611280" y="1628640"/>
            <a:ext cx="7993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月儿弯弯像小船，带俺娘俩去云南。飞了千里万里路，凤凰落在梧桐树。凤凰凤凰一摆头，先盖瓦屋后盖楼。东楼西楼都盖上，再盖南楼和北楼。</a:t>
            </a: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713" name="Picture 17" descr="复件 思考"/>
          <p:cNvPicPr/>
          <p:nvPr/>
        </p:nvPicPr>
        <p:blipFill>
          <a:blip r:embed="rId2"/>
          <a:stretch/>
        </p:blipFill>
        <p:spPr>
          <a:xfrm>
            <a:off x="539640" y="26028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4"/>
          <p:cNvSpPr/>
          <p:nvPr/>
        </p:nvSpPr>
        <p:spPr>
          <a:xfrm>
            <a:off x="147636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    唱歌谣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15" name="Rectangle 5"/>
          <p:cNvSpPr/>
          <p:nvPr/>
        </p:nvSpPr>
        <p:spPr>
          <a:xfrm>
            <a:off x="1547640" y="692280"/>
            <a:ext cx="12956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歌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16" name="Line 6"/>
          <p:cNvSpPr/>
          <p:nvPr/>
        </p:nvSpPr>
        <p:spPr>
          <a:xfrm>
            <a:off x="2268360" y="3573360"/>
            <a:ext cx="0" cy="5749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17" name="Text Box 7"/>
          <p:cNvSpPr/>
          <p:nvPr/>
        </p:nvSpPr>
        <p:spPr>
          <a:xfrm>
            <a:off x="1908000" y="429264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对幸福美好生活的无限向往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18" name="Text Box 8"/>
          <p:cNvSpPr/>
          <p:nvPr/>
        </p:nvSpPr>
        <p:spPr>
          <a:xfrm>
            <a:off x="157320" y="6351480"/>
            <a:ext cx="3379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08:57:40Z</dcterms:created>
  <dc:creator/>
  <dc:description/>
  <cp:keywords>幻灯片之家 http:/www.eeppt.com</cp:keywords>
  <dc:language>en-US</dc:language>
  <cp:lastModifiedBy/>
  <dcterms:modified xsi:type="dcterms:W3CDTF">2015-07-20T06:06:0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