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8.gif" ContentType="image/gif"/>
  <Override PartName="/ppt/media/image20.gif" ContentType="image/gif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4.jpeg" ContentType="image/jpeg"/>
  <Override PartName="/ppt/media/image19.jpeg" ContentType="image/jpeg"/>
  <Override PartName="/ppt/media/image21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2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B7BD-95D1-4954-9A13-79EB9179C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1FE4-C50B-45AF-947A-FB340D750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BBF0-C06B-49BE-9026-53E33302C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4940-4201-452C-9671-31BAF6252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BBA8D-5E71-43CC-99E8-3B79BD3AF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1727A-C547-4124-AE08-FADF09818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20923-3FA6-43B4-A701-630DD1B41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A5F91-71EA-4A4E-8E99-21689ABFD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726E7-DCC1-4216-AAF6-ACFE3CC06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43B67-49A4-4985-B284-C7157F00B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0C7B0-32AA-44AD-9D80-B8877FBDE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5A1B-10F0-4E73-A3D9-51AA2749F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A979C-F681-4188-9A88-55DB2242A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F4FEF-BA83-4F0A-9CD2-F130F6DED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125C9-5A49-4FEC-9371-6BF5788EA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5CE13-9DA5-49D6-9A3E-1CD3901D7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BB1E1-E780-458A-A7A4-7AFDA51F0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8047-640B-4588-B96C-76769C19F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9B56-2BF6-4657-AA15-0456C9A34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F595-DB7B-48D1-9357-4A5A3E6BE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35FE-E039-430A-BEBF-39EDE914F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F2B4-B28B-4CFD-AE31-1010A10EE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8A73-E9B3-4EC7-9154-0919A52D5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2403-97A6-4035-98D1-00F23A174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9F631-4DB9-4F30-9EBA-3B9DD4A4AD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D8FD3-4C86-4B91-B777-224DB29095D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0.gif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图片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WordArt 5" descr=""/>
          <p:cNvPicPr/>
          <p:nvPr/>
        </p:nvPicPr>
        <p:blipFill>
          <a:blip r:embed="rId2"/>
          <a:stretch/>
        </p:blipFill>
        <p:spPr>
          <a:xfrm>
            <a:off x="993600" y="1262160"/>
            <a:ext cx="7473960" cy="1736640"/>
          </a:xfrm>
          <a:prstGeom prst="rect">
            <a:avLst/>
          </a:prstGeom>
          <a:ln w="0">
            <a:noFill/>
          </a:ln>
        </p:spPr>
      </p:pic>
      <p:sp>
        <p:nvSpPr>
          <p:cNvPr id="84" name="矩形 4"/>
          <p:cNvSpPr/>
          <p:nvPr/>
        </p:nvSpPr>
        <p:spPr>
          <a:xfrm>
            <a:off x="203040" y="650412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读第五自然段，思考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找出此段中的两组对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日子清苦，精神生活是丰富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家乡的故道不长五谷，却长歌谣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作者受到了哪些方面的艺术影响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家乡影响：日子虽清苦，但精神生活丰富；黄河故道不长五谷长歌谣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家庭影响：外婆与父亲影响母亲，母亲影响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母亲的歌谣对我有怎样的影响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母亲用歌谣把故乡的爱，伴着月光给了我，让一颗混沌的童心豁然开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1" dur="2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1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6" dur="20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1" dur="2000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养蚕谣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小麦青青大麦黄，家家户户养蚕忙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姐妹双双去采桑，采得桑叶拿蚕养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日一日又一日，蚕儿宝宝长肥胖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总共脱去四次壳，蚕老就把山来上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结的茧子雪雪白，抽出丝来细又长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织成绸缎光又亮，穿在身上真凉爽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0000cc"/>
                </a:solidFill>
                <a:uFillTx/>
                <a:latin typeface="Arial"/>
              </a:rPr>
              <a:t>小露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小露珠</a:t>
            </a:r>
            <a:br>
              <a:rPr sz="3200"/>
            </a:b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叶上哭</a:t>
            </a:r>
            <a:br>
              <a:rPr sz="3200"/>
            </a:b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见了月亮妈妈呜呜呜</a:t>
            </a:r>
            <a:br>
              <a:rPr sz="3200"/>
            </a:b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太阳爸爸来劝她</a:t>
            </a:r>
            <a:br>
              <a:rPr sz="3200"/>
            </a:b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她笑了</a:t>
            </a:r>
            <a:br>
              <a:rPr sz="3200"/>
            </a:b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就往太阳爸爸怀里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-36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楷体_GB2312"/>
              </a:rPr>
              <a:t>唐僧骑马咚哩个咚，后面跟着个孙悟空 </a:t>
            </a:r>
            <a:br>
              <a:rPr sz="3200"/>
            </a:b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楷体_GB2312"/>
              </a:rPr>
              <a:t>孙悟空跑的快，后面跟着个猪八戒 </a:t>
            </a:r>
            <a:br>
              <a:rPr sz="3200"/>
            </a:b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楷体_GB2312"/>
              </a:rPr>
              <a:t>猪八戒扛着耙，后面跟着个沙和尚 </a:t>
            </a:r>
            <a:br>
              <a:rPr sz="3200"/>
            </a:b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楷体_GB2312"/>
              </a:rPr>
              <a:t>沙和尚挑着箩，后面跟着个老妖婆 </a:t>
            </a:r>
            <a:br>
              <a:rPr sz="3200"/>
            </a:b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楷体_GB2312"/>
              </a:rPr>
              <a:t>老妖婆心眼坏，骗过了唐僧和八戒 </a:t>
            </a:r>
            <a:br>
              <a:rPr sz="3200"/>
            </a:b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楷体_GB2312"/>
              </a:rPr>
              <a:t>（要当心呵！） </a:t>
            </a:r>
            <a:br>
              <a:rPr sz="3200"/>
            </a:b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楷体_GB2312"/>
              </a:rPr>
              <a:t>多亏孙悟空眼睛亮，冒金光 </a:t>
            </a:r>
            <a:br>
              <a:rPr sz="3200"/>
            </a:b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楷体_GB2312"/>
              </a:rPr>
              <a:t>高高举起金箍棒，金箍棒有力量 </a:t>
            </a:r>
            <a:br>
              <a:rPr sz="3200"/>
            </a:b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楷体_GB2312"/>
              </a:rPr>
              <a:t>妖魔鬼怪消灭光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762120" y="68580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685800" y="1066680"/>
            <a:ext cx="792468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那时，我们日子</a:t>
            </a:r>
            <a:r>
              <a:rPr b="1" lang="zh-CN" sz="4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清苦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但精神生活是</a:t>
            </a:r>
            <a:r>
              <a:rPr b="1" lang="zh-CN" sz="4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丰富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。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黄河留给家乡的故道不</a:t>
            </a:r>
            <a:r>
              <a:rPr b="1" lang="zh-CN" sz="5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长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五谷，却</a:t>
            </a:r>
            <a:r>
              <a:rPr b="1" lang="zh-CN" sz="5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长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歌谣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685800" y="4267080"/>
            <a:ext cx="5638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Times New Roman"/>
              </a:rPr>
              <a:t>（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产生</a:t>
            </a:r>
            <a:r>
              <a:rPr b="1" lang="zh-CN" sz="4000" spc="-1" strike="noStrike">
                <a:solidFill>
                  <a:srgbClr val="ffcc00"/>
                </a:solidFill>
                <a:latin typeface="Times New Roman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5638680" y="3505320"/>
            <a:ext cx="198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Times New Roman"/>
              </a:rPr>
              <a:t>（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生长</a:t>
            </a:r>
            <a:r>
              <a:rPr b="1" lang="zh-CN" sz="4000" spc="-1" strike="noStrike">
                <a:solidFill>
                  <a:srgbClr val="ffcc00"/>
                </a:solidFill>
                <a:latin typeface="Times New Roman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童谣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这些童谣写出了童真童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猜谜活动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母子俩的猜谜活动充满了欢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8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母亲不识字，为什么却是我的启蒙老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22960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答：因为母亲用歌谣、故事、童谣、谜语，让我在不知不觉中受到了诗歌的感染，丰富了想象力，使我爱上诗歌，所以，母亲是我的启蒙老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0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全文的中心段落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第十四自然段：点题，歌颂母亲无尽的智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33cc"/>
                </a:solidFill>
                <a:latin typeface="Arial"/>
              </a:rPr>
              <a:t>“</a:t>
            </a: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启”：开导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“</a:t>
            </a: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蒙”：蒙昧无知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启蒙”：使初学的人得到基本的、入门的知识，智慧得以初步开发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图片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5"/>
          <p:cNvSpPr/>
          <p:nvPr/>
        </p:nvSpPr>
        <p:spPr>
          <a:xfrm>
            <a:off x="900000" y="907920"/>
            <a:ext cx="7093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lang="zh-CN" sz="6600" spc="-1" strike="noStrike">
                <a:solidFill>
                  <a:srgbClr val="ff0000"/>
                </a:solidFill>
                <a:latin typeface="Arial"/>
              </a:rPr>
              <a:t>总结课文，母亲和我之间发生了哪几件事？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G4~KNVL~7@CK@9SH)B8GT87"/>
          <p:cNvPicPr/>
          <p:nvPr/>
        </p:nvPicPr>
        <p:blipFill>
          <a:blip r:embed="rId2"/>
          <a:stretch/>
        </p:blipFill>
        <p:spPr>
          <a:xfrm>
            <a:off x="611280" y="333360"/>
            <a:ext cx="8208720" cy="466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WordArt 2"/>
          <p:cNvSpPr txBox="1"/>
          <p:nvPr/>
        </p:nvSpPr>
        <p:spPr>
          <a:xfrm>
            <a:off x="6300720" y="404640"/>
            <a:ext cx="2521080" cy="31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f0dc4a"/>
                </a:solidFill>
                <a:latin typeface="隶书"/>
              </a:rPr>
              <a:t>月光启蒙</a:t>
            </a:r>
            <a:endParaRPr b="1" lang="en-US" sz="1800" spc="1" strike="noStrike">
              <a:ln w="0">
                <a:noFill/>
              </a:ln>
              <a:solidFill>
                <a:srgbClr val="f0dc4a"/>
              </a:solidFill>
              <a:latin typeface="隶书"/>
              <a:ea typeface="隶书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34920" y="1233360"/>
            <a:ext cx="9109080" cy="4930920"/>
          </a:xfrm>
          <a:prstGeom prst="rect">
            <a:avLst/>
          </a:prstGeom>
          <a:noFill/>
          <a:ln w="76320">
            <a:solidFill>
              <a:srgbClr val="0073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684360" y="1989000"/>
            <a:ext cx="799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82300"/>
                </a:solidFill>
                <a:latin typeface="Arial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114443"/>
                </a:solidFill>
                <a:latin typeface="Arial"/>
                <a:ea typeface="楷体_GB2312"/>
              </a:rPr>
              <a:t>你能用课文中的一句话来解释一下“月光启蒙”的意思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528480" y="393372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823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b82300"/>
                </a:solidFill>
                <a:latin typeface="楷体_GB2312"/>
                <a:ea typeface="楷体_GB2312"/>
              </a:rPr>
              <a:t>母亲用歌谣把故乡的爱，伴着月光给了我，让一颗混沌的童心豁然开朗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7" descr="喜洋洋"/>
          <p:cNvPicPr/>
          <p:nvPr/>
        </p:nvPicPr>
        <p:blipFill>
          <a:blip r:embed="rId2"/>
          <a:stretch/>
        </p:blipFill>
        <p:spPr>
          <a:xfrm>
            <a:off x="250920" y="1197000"/>
            <a:ext cx="1152360" cy="11523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762120" y="791640"/>
            <a:ext cx="7543800" cy="51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900" spc="-1" strike="noStrike">
                <a:solidFill>
                  <a:srgbClr val="000000"/>
                </a:solidFill>
                <a:latin typeface="宋体"/>
              </a:rPr>
              <a:t>她用甜甜的嗓音深情地为我吟唱，轻轻的，像三月的和风，像小溪的流水。小院立即飘满了她那芳香的音韵。</a:t>
            </a:r>
            <a:br>
              <a:rPr sz="2900"/>
            </a:br>
            <a:r>
              <a:rPr b="1" lang="zh-CN" sz="29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</a:t>
            </a:r>
            <a:r>
              <a:rPr b="0" i="1" lang="zh-CN" sz="4800" spc="-1" strike="noStrike">
                <a:solidFill>
                  <a:srgbClr val="660066"/>
                </a:solidFill>
                <a:latin typeface="Times New Roman"/>
                <a:ea typeface="华文新魏"/>
              </a:rPr>
              <a:t>母亲的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母亲的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母亲的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母亲的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母亲的歌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母亲的歌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母亲的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228600" y="6207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2"/>
          <p:cNvSpPr/>
          <p:nvPr/>
        </p:nvSpPr>
        <p:spPr>
          <a:xfrm>
            <a:off x="1828800" y="1676520"/>
            <a:ext cx="7543800" cy="47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800" spc="-1" strike="noStrike">
                <a:solidFill>
                  <a:srgbClr val="660066"/>
                </a:solidFill>
                <a:latin typeface="Times New Roman"/>
                <a:ea typeface="华文新魏"/>
              </a:rPr>
              <a:t>母亲的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母亲的歌轻轻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母亲的歌甜甜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母亲的歌香香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母亲的歌是三月的和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母亲的歌是小溪的流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母亲的歌是永远的月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380880" y="42876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900" spc="-1" strike="noStrike">
                <a:solidFill>
                  <a:srgbClr val="000000"/>
                </a:solidFill>
                <a:latin typeface="宋体"/>
              </a:rPr>
              <a:t>她用甜甜的嗓音深情地为我吟唱，轻轻的，像三月的和风，像小溪的流水。小院立即飘满了她那芳香的音韵。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矩形 7"/>
          <p:cNvSpPr/>
          <p:nvPr/>
        </p:nvSpPr>
        <p:spPr>
          <a:xfrm>
            <a:off x="790560" y="981000"/>
            <a:ext cx="10810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2" descr="02_1"/>
          <p:cNvPicPr/>
          <p:nvPr/>
        </p:nvPicPr>
        <p:blipFill>
          <a:blip r:embed="rId2"/>
          <a:stretch/>
        </p:blipFill>
        <p:spPr>
          <a:xfrm>
            <a:off x="-6480" y="243000"/>
            <a:ext cx="5077080" cy="638172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3"/>
          <p:cNvSpPr/>
          <p:nvPr/>
        </p:nvSpPr>
        <p:spPr>
          <a:xfrm>
            <a:off x="5508720" y="404640"/>
            <a:ext cx="33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母亲患了老年痴呆症，失去了记忆。我赶回老家去看她时，她安详地坐在藤椅里，依然那么和蔼、慈祥，但却不知我从哪里来，不知我来干什么，甚至不知我是谁。不再谈她的往事，不再谈我的童年，只是对着我笑，笑得我泪流满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4">
            <a:hlinkClick r:id="" action="ppaction://hlinkshowjump?jump=firstslide"/>
          </p:cNvPr>
          <p:cNvSpPr/>
          <p:nvPr/>
        </p:nvSpPr>
        <p:spPr>
          <a:xfrm>
            <a:off x="8172360" y="6237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WordArt 2"/>
          <p:cNvSpPr txBox="1"/>
          <p:nvPr/>
        </p:nvSpPr>
        <p:spPr>
          <a:xfrm>
            <a:off x="6084720" y="404640"/>
            <a:ext cx="2521080" cy="64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f0dc4a"/>
                </a:solidFill>
                <a:latin typeface="隶书"/>
              </a:rPr>
              <a:t>月光启蒙</a:t>
            </a:r>
            <a:endParaRPr b="1" lang="en-US" sz="1800" spc="1" strike="noStrike">
              <a:ln w="0">
                <a:noFill/>
              </a:ln>
              <a:solidFill>
                <a:srgbClr val="f0dc4a"/>
              </a:solidFill>
              <a:latin typeface="隶书"/>
              <a:ea typeface="隶书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372960" y="907920"/>
            <a:ext cx="854100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4443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114443"/>
                </a:solidFill>
                <a:latin typeface="楷体_GB2312"/>
                <a:ea typeface="楷体_GB2312"/>
              </a:rPr>
              <a:t>母亲患了老年痴呆症，失去了记忆。我赶回老家去看她时，她安详地坐在藤椅里，依然那么和蔼、慈祥，但却不知我从哪里来，不知我来干什么，甚至不知我是谁。不再谈她的往事，不再谈我的童年，只是对着我笑，笑得我泪流满面。微风吹乱了母亲的满头白发，如同故乡的天空飘满愁絮</a:t>
            </a:r>
            <a:r>
              <a:rPr b="1" lang="en-US" sz="2800" spc="-1" strike="noStrike">
                <a:solidFill>
                  <a:srgbClr val="114443"/>
                </a:solidFill>
                <a:latin typeface="Arial"/>
                <a:ea typeface="楷体_GB2312"/>
              </a:rPr>
              <a:t>……</a:t>
            </a:r>
            <a:r>
              <a:rPr b="1" lang="en-US" sz="2800" spc="-1" strike="noStrike">
                <a:solidFill>
                  <a:srgbClr val="114443"/>
                </a:solidFill>
                <a:latin typeface="楷体_GB2312"/>
                <a:ea typeface="楷体_GB2312"/>
              </a:rPr>
              <a:t> </a:t>
            </a:r>
            <a:br>
              <a:rPr sz="2800"/>
            </a:br>
            <a:r>
              <a:rPr b="1" lang="zh-CN" sz="2800" spc="-1" strike="noStrike">
                <a:solidFill>
                  <a:srgbClr val="114443"/>
                </a:solidFill>
                <a:latin typeface="楷体_GB2312"/>
                <a:ea typeface="楷体_GB2312"/>
              </a:rPr>
              <a:t>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1455840" y="5378400"/>
            <a:ext cx="6645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6"/>
          <p:cNvSpPr/>
          <p:nvPr/>
        </p:nvSpPr>
        <p:spPr>
          <a:xfrm>
            <a:off x="324000" y="4724280"/>
            <a:ext cx="86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4443"/>
                </a:solidFill>
                <a:latin typeface="Arial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114443"/>
                </a:solidFill>
                <a:latin typeface="Arial"/>
                <a:ea typeface="楷体_GB2312"/>
              </a:rPr>
              <a:t>坐在面前的母亲忘却了她给我的那份爱。故乡的天空不会忘记。母亲失去了记忆，而我心中却永远珍藏着那一轮明月</a:t>
            </a:r>
            <a:r>
              <a:rPr b="1" lang="en-US" sz="2800" spc="-1" strike="noStrike">
                <a:solidFill>
                  <a:srgbClr val="114443"/>
                </a:solidFill>
                <a:latin typeface="Arial"/>
                <a:ea typeface="楷体_GB2312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2"/>
          <p:cNvSpPr/>
          <p:nvPr/>
        </p:nvSpPr>
        <p:spPr>
          <a:xfrm>
            <a:off x="250920" y="1289160"/>
            <a:ext cx="8675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母亲的忌日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日。这三个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像三把尖刀插在我心里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  人常说，父爱如山，母爱似水。母亲的爱如春天里飘洒的小雨，如青石中流出的甘泉，滋润万物，细微周到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  我老家在安徽北部黄河故道的边上，全家就靠几亩盐碱地维持生计，也难指望风调雨顺。那时我已有了三个弟弟，因生活清苦，很少吃到荤腥。一天，父亲笑着从外边提一条羊腿进家，说：煮煮，喝顿羊肉汤。母亲忙活起来。待羊腿煮烂放进瓦盆里拆肉时，母亲叫我们过去帮她干事。几个孩子围了上去，母亲撕一块填在这个嘴里，又撕一块填在那个嘴里，像喂她的一窝小鸟。转瞬间，一条羊腿只剩下一盆羊骨头。母亲怕父亲发火，反倒埋怨他：“买的羊腿太瘦了，拆不出肉！”五十多年过去了，吃过的山珍海味都忘却了，唯独这次手抓羊肉，记忆犹新，恍若昨日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3515400" y="189000"/>
            <a:ext cx="2192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母爱似水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4" descr="xin_1620303081606156318286"/>
          <p:cNvPicPr/>
          <p:nvPr/>
        </p:nvPicPr>
        <p:blipFill>
          <a:blip r:embed="rId2"/>
          <a:stretch/>
        </p:blipFill>
        <p:spPr>
          <a:xfrm>
            <a:off x="0" y="0"/>
            <a:ext cx="7561440" cy="1198440"/>
          </a:xfrm>
          <a:prstGeom prst="rect">
            <a:avLst/>
          </a:prstGeom>
          <a:ln w="0">
            <a:noFill/>
          </a:ln>
        </p:spPr>
      </p:pic>
      <p:pic>
        <p:nvPicPr>
          <p:cNvPr id="155" name="baiyueguang.mp3" descr=""/>
          <p:cNvPicPr/>
          <p:nvPr/>
        </p:nvPicPr>
        <p:blipFill>
          <a:blip r:embed="rId3"/>
          <a:stretch/>
        </p:blipFill>
        <p:spPr>
          <a:xfrm>
            <a:off x="8388360" y="549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4" dur="1" fill="hold"/>
                                        <p:tgtEl>
                                          <p:spTgt spid="1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set>
                                <p:cBhvr>
                                  <p:cTn id="255" dur="1" fill="hold">
                                    <p:stCondLst>
                                      <p:cond evt="end">
                                        <p:tn val="253"/>
                                      </p:cond>
                                    </p:stCondLst>
                                  </p:cTn>
                                  <p:tgtEl>
                                    <p:spTgt spid="1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6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6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2"/>
          <p:cNvSpPr/>
          <p:nvPr/>
        </p:nvSpPr>
        <p:spPr>
          <a:xfrm>
            <a:off x="324000" y="105264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母亲不识字，但她总喜欢一边为我纳鞋底，一边督促我：“写字去！”我写的字像她的针脚那样齐整。自从我学会走路，就穿她做的布鞋。鞋面是她织的粗布，纳鞋底用她纺的线绳。为了我一双爱动的赤脚，常常熬红她的眼睛。直至以后，我出外上学了，工作了，还仍然穿她做的布鞋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   母亲看着我们弟兄五人成家立业，生男育女。她心中装着儿子这一代，还装着孙子孙女这一代。我女儿断奶就送回家由她照看。夏天蚊子多，她让孙女睡在软床子里。所谓软床子，是用绳子编起来代替床板，人躺上去就如躺进网兜里。母亲睡在孙女身边，不停地用扇子赶着蚊子，嘴里还唱着动听的童谣。后来女儿告诉我：“奶奶睡在床框上，那床框就是一根木头。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0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中心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267920"/>
            <a:ext cx="8229600" cy="23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本文作者回忆了自己童年时，在夏夜月光的沐浴下，听母亲唱民谣、童谣和讲神话故事的情景，表达了作者对母亲启蒙教育的感激及对母亲的怀念之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3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相关背景介绍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、作者：孙友田，当代诗人。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20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世纪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70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年代后期任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《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雨花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》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编辑部编委、江苏省文联委员、中国诗歌协会理事。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90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年代后期任江苏作协诗歌工作委员会主任、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《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扬子江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》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诗刊执行主编。中国作家协会会员，江苏省作家协会理事。主要诗作有诗集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《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煤海短歌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》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，儿童长诗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《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带血的泥哨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》《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矿山鸟声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》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等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10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部，儿童知识读物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《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在黑宝石的家里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》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作者用“月光启蒙”做标题的原因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忙碌的母亲对孩子的“启蒙教育”多在夏夜月光下进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这种“启蒙教育”是充满着母爱与诗意的，给孩子留下美好的记忆，正如月光的诗意与美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月光朦胧，给人很多想象的空间，激发人们对美好生活的向往和追求，所以，“月光”本身对孩子也有启蒙作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写作特色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大量引用诗歌原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5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kw2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3"/>
          <p:cNvSpPr/>
          <p:nvPr/>
        </p:nvSpPr>
        <p:spPr>
          <a:xfrm>
            <a:off x="3635280" y="620640"/>
            <a:ext cx="264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Arial"/>
              </a:rPr>
              <a:t>月光启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6300720" y="1413000"/>
            <a:ext cx="180972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ff"/>
                </a:solidFill>
                <a:latin typeface="Arial"/>
              </a:rPr>
              <a:t>感谢母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6"/>
          <p:cNvSpPr/>
          <p:nvPr/>
        </p:nvSpPr>
        <p:spPr>
          <a:xfrm>
            <a:off x="5651640" y="2708280"/>
            <a:ext cx="3492360" cy="15562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ff"/>
                </a:solidFill>
                <a:latin typeface="Arial"/>
              </a:rPr>
              <a:t>祝愿天下的母亲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ff"/>
                </a:solidFill>
                <a:latin typeface="Arial"/>
              </a:rPr>
              <a:t>快乐、健康、长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0" y="476280"/>
            <a:ext cx="8748720" cy="564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联系上下文，体会一下带点词的意思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）黄河留给家乡的故道不长五谷，却长歌谣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长：产生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）小院立即飘满了她那芳香的音韵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芳香：母亲甜美的歌声沁人心脾，犹如    花的   “芳香”使人迷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默读课文，讨论一下：作者为什么用“月光启蒙”作为课题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答：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母亲对孩子的启蒙教育多是在夏夜月光下进行的，所以以此为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这种启蒙教育是充满着母爱和诗意的，给孩子留下美好的回忆。而且月光能营造美的意境，以此为题与全文的情景吻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月光朦胧，给人很多想象的空间，激发人们对美好生活的向往与追求，所以月光本身对孩子也有启蒙作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228600" y="628020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小作文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世界上的母亲都是一样的，在母亲节里，好好回忆一下，你的母亲在你成长的过程中给过你哪些帮助？你想对她说些什么？写封感恩信。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1106640" y="6118200"/>
            <a:ext cx="675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之家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相关背景介绍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莲花落：绍兴民间曲艺，用竹板打拍，一人或两人演唱，每段常用“莲花落，落莲花”一类语句作拖腔或结尾，俗称落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牛郎织女：一是星名。牛郎，指牵牛星；织女，指织女星。二是神话人物，织女为天帝孙女，长年织造云锦，自嫁于河西牛郎后，变不再织锦了。天帝大怒，责令她与牛郎分离，仅准每年七夕相会一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5"/>
          <p:cNvSpPr/>
          <p:nvPr/>
        </p:nvSpPr>
        <p:spPr>
          <a:xfrm>
            <a:off x="-3240" y="0"/>
            <a:ext cx="9144000" cy="68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暑热  洒满  时辰   褂子  流畅含蓄歌谣  凤凰    吟唱   音韵     沉浸  一尊雕像   思绪    搂着    洗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凤凰   老鼠  花轿    帐子   风趣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筛米  童谣  缠着    谜语　启蒙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莲花落   混沌的童心   俺娘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浓郁  陪伴  豁然开朗  篱笆小院 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天资聪颖   嫦娥奔月  高深莫测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已至中天   幽默风趣   梧桐树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割荆草  编箔篮  脆脆的   啃锅沿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多音字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混：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ùn(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混乱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)       hún(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混水摸鱼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和：</a:t>
            </a: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hé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（和气）    </a:t>
            </a: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hè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（一唱一和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       </a:t>
            </a: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huó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（和面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落：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ào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落枕）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uò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落叶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à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丢三落四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解：</a:t>
            </a: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jiě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（解放）</a:t>
            </a: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xiè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（浑身解数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       </a:t>
            </a: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jiè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（押解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cc"/>
                </a:solidFill>
                <a:latin typeface="Arial"/>
              </a:rPr>
              <a:t>请同学们小组合作学习，把课文分分段，概括大意。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Arial"/>
              </a:rPr>
              <a:t>第一段（</a:t>
            </a: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800000"/>
                </a:solidFill>
                <a:latin typeface="Arial"/>
              </a:rPr>
              <a:t>～</a:t>
            </a: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5</a:t>
            </a:r>
            <a:r>
              <a:rPr b="1" lang="zh-CN" sz="3600" spc="-1" strike="noStrike">
                <a:solidFill>
                  <a:srgbClr val="800000"/>
                </a:solidFill>
                <a:latin typeface="Arial"/>
              </a:rPr>
              <a:t>）：写童年夏夜生活的美妙，是母亲的歌谣使“我”懂得了对故乡的爱，对民间艺术的爱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Arial"/>
              </a:rPr>
              <a:t>第二段（</a:t>
            </a: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6</a:t>
            </a:r>
            <a:r>
              <a:rPr b="1" lang="zh-CN" sz="3600" spc="-1" strike="noStrike">
                <a:solidFill>
                  <a:srgbClr val="800000"/>
                </a:solidFill>
                <a:latin typeface="Arial"/>
              </a:rPr>
              <a:t>～</a:t>
            </a: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13</a:t>
            </a:r>
            <a:r>
              <a:rPr b="1" lang="zh-CN" sz="3600" spc="-1" strike="noStrike">
                <a:solidFill>
                  <a:srgbClr val="800000"/>
                </a:solidFill>
                <a:latin typeface="Arial"/>
              </a:rPr>
              <a:t>）：写母亲在夏夜给我讲神话故事、唱童谣、猜谜语，启迪了“我”的想象和智慧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Arial"/>
              </a:rPr>
              <a:t>第三段（</a:t>
            </a: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14</a:t>
            </a:r>
            <a:r>
              <a:rPr b="1" lang="zh-CN" sz="3600" spc="-1" strike="noStrike">
                <a:solidFill>
                  <a:srgbClr val="800000"/>
                </a:solidFill>
                <a:latin typeface="Arial"/>
              </a:rPr>
              <a:t>）：写母亲是启蒙老师，为“我”飞向诗歌王国奠定了基础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母亲对“我”的启蒙教育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艺术启蒙（歌谣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民间文学启蒙（民间神话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智慧启迪（猜谜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u=1711298291,1223405156&amp;fm=0&amp;gp=0"/>
          <p:cNvPicPr/>
          <p:nvPr/>
        </p:nvPicPr>
        <p:blipFill>
          <a:blip r:embed="rId1"/>
          <a:stretch/>
        </p:blipFill>
        <p:spPr>
          <a:xfrm>
            <a:off x="17640" y="1103400"/>
            <a:ext cx="9144000" cy="5191200"/>
          </a:xfrm>
          <a:prstGeom prst="rect">
            <a:avLst/>
          </a:prstGeom>
          <a:ln w="0">
            <a:noFill/>
          </a:ln>
        </p:spPr>
      </p:pic>
      <p:sp>
        <p:nvSpPr>
          <p:cNvPr id="98" name="WordArt 3"/>
          <p:cNvSpPr txBox="1"/>
          <p:nvPr/>
        </p:nvSpPr>
        <p:spPr>
          <a:xfrm>
            <a:off x="6300720" y="404640"/>
            <a:ext cx="2521080" cy="31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f0dc4a"/>
                </a:solidFill>
                <a:latin typeface="隶书"/>
              </a:rPr>
              <a:t>月光启蒙</a:t>
            </a:r>
            <a:endParaRPr b="1" lang="en-US" sz="1800" spc="1" strike="noStrike">
              <a:ln w="0">
                <a:noFill/>
              </a:ln>
              <a:solidFill>
                <a:srgbClr val="f0dc4a"/>
              </a:solidFill>
              <a:latin typeface="隶书"/>
              <a:ea typeface="隶书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34920" y="1233360"/>
            <a:ext cx="9109080" cy="4930920"/>
          </a:xfrm>
          <a:prstGeom prst="rect">
            <a:avLst/>
          </a:prstGeom>
          <a:noFill/>
          <a:ln w="76320">
            <a:solidFill>
              <a:srgbClr val="0073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468360" y="2205000"/>
            <a:ext cx="7883640" cy="16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4443"/>
                </a:solidFill>
                <a:latin typeface="Arial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b82300"/>
                </a:solidFill>
                <a:latin typeface="Arial"/>
                <a:ea typeface="楷体_GB2312"/>
              </a:rPr>
              <a:t>她用甜甜的嗓音深情地为我吟唱，轻轻的，像三月的和风，像小溪的流水。小院</a:t>
            </a:r>
            <a:br>
              <a:rPr sz="3200"/>
            </a:br>
            <a:r>
              <a:rPr b="1" lang="zh-CN" sz="3200" spc="-1" strike="noStrike">
                <a:solidFill>
                  <a:srgbClr val="b82300"/>
                </a:solidFill>
                <a:latin typeface="Arial"/>
                <a:ea typeface="楷体_GB2312"/>
              </a:rPr>
              <a:t> 立即飘满了她芳香的音韵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2102400" y="1413000"/>
            <a:ext cx="31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  <a:ea typeface="楷体_GB2312"/>
              </a:rPr>
              <a:t>母亲是怎样为我唱歌谣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1306800" y="4076640"/>
            <a:ext cx="604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82300"/>
                </a:solidFill>
                <a:latin typeface="Arial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  <a:ea typeface="楷体_GB2312"/>
              </a:rPr>
              <a:t>母亲（   ）为我吟唱，像三月的和风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  <a:ea typeface="楷体_GB2312"/>
              </a:rPr>
              <a:t>样（   ），像小溪的流水一样（   ）。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1929240" y="22050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甜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3945600" y="22050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深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0"/>
          <p:cNvSpPr/>
          <p:nvPr/>
        </p:nvSpPr>
        <p:spPr>
          <a:xfrm>
            <a:off x="7185600" y="22050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轻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3T10:52:48Z</dcterms:created>
  <dc:creator/>
  <dc:description/>
  <cp:keywords>幻灯片之家 http:/www.eeppt.com</cp:keywords>
  <dc:language>en-US</dc:language>
  <cp:lastModifiedBy/>
  <dcterms:modified xsi:type="dcterms:W3CDTF">2015-07-20T06:07:28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