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051-195E-4E22-88AC-8C3591E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E40-75E2-44DE-B018-0C346D4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AD3-61B9-4FDE-8840-4C559A8C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805-27AD-408B-B021-53C27CAA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22C-E8FD-46E6-A575-082424E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F98-674B-4C1C-BE8D-B8ABC67F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3DF-AD44-418B-9DF9-963EC12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66F-B745-4328-AEDE-B6B8C99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F84-7C5D-4F1C-AC13-723BDBF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1BF-B5BF-49CE-BDA3-2A34748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BBB-BD39-4F0D-993C-8F87688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D28-1504-48A2-97C0-F4304ED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8C4-8504-4B64-B775-31FD4D256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E:\2005年上学期\2005年三年级上学期\图片\夜书所见封面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叶绍翁（南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52360" y="667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萧萧梧叶送寒声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江上秋风动客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40" y="63691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gugaung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52" name="Wind2.wav" descr=""/>
          <p:cNvPicPr/>
          <p:nvPr/>
        </p:nvPicPr>
        <p:blipFill>
          <a:blip r:embed="rId2"/>
          <a:stretch/>
        </p:blipFill>
        <p:spPr>
          <a:xfrm>
            <a:off x="86104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E:\2005年上学期\2005年三年级上学期\图片\夜书所见.jpg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801400" y="0"/>
            <a:ext cx="311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知有儿童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夜深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EBB-386F-4F6F-93C3-2105421078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3960" y="666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[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宋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]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叶绍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应怜屐齿印苍苔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扣柴扉久不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春色满园关不住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一枝红杏出墙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" y="64404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舟夜书所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清）查慎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月黑见渔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孤光一点萤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微微风簇浪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散作满河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8:15Z</dcterms:created>
  <dc:creator/>
  <dc:description/>
  <cp:keywords>幻灯片之家 http:/www.eeppt.com</cp:keywords>
  <dc:language>en-US</dc:language>
  <cp:lastModifiedBy/>
  <dcterms:modified xsi:type="dcterms:W3CDTF">2015-07-18T13:50:5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