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5FD2-2C71-481B-BB9C-6B0C3D161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0253-610D-4332-A1BF-4B99171E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D5046-E37D-4E5A-BED1-7715418B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C5E1D-CA03-4962-9798-09F2D54C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70A72-FA11-4D2B-B55B-10A34B5B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72543-5F81-4EC2-9EBE-550E80D8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82F51-2E21-4605-9CA0-2FC9B5D1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3F184-D295-4438-9048-DCC7CA2C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54D57-BE63-448D-A03C-675E5440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6FFD62-1A45-435E-AAA6-55C211064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18C8D-952C-4D19-852B-D3559841E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55CA6-8A09-455A-9089-EF2251F3B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5F0C-71EB-4A0F-AEE2-3EB1595F2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DF7EC2-8D71-4175-8C96-63584D47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FD8D4-A2FF-4979-9C5C-FCA40EA8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B01C4D-7CBF-4991-A874-E50A6DB3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E34755-292F-481F-AF1D-46386A13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A43EE5-6BE1-4CA5-8822-CD854256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85900-815B-47BC-88A7-B4AA4433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A561AD-9F3B-4B11-9B32-662BF430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ED2C08-0CCF-4DA7-A27F-E064C1E4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488599-79CA-464E-908E-05866F3D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E76A92-3D3E-439E-8E7F-40A62C2D5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56B0-C83A-4802-8E7C-5BBD18423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1425A-DA5F-4598-B0A8-9D4B2C527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DCA7B-F9AD-4E4D-950A-13CBD5DF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80E5B-126B-4775-83C0-7C251475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B5369-E76F-4808-A345-CFAD4CDE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F80E5-23F3-450A-9E7E-B3FFC35F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EFC9F-9FE8-4110-9913-ABC9E880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F3871-0293-41FD-9250-33E171F9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D0A69-4496-46A0-A706-3A47E28F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700DF-1555-4A45-84B3-AF7F2E7B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1E5F3-8218-43E8-8A3D-68F48B95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962F-45FC-4709-99C9-7AFD1084A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CB65B-BD5C-4104-AC9D-88ED151C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95944-1578-4ECE-8761-B1407AF0D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B1C1A-0E6E-4176-AA7D-A4A1E20BF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BDACA4-A98D-4B02-AEEA-E1E546D2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FA521E-B81F-4347-BECD-17757736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576C8A-F545-4EC7-9444-38508ECF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E13A05-BAC5-4901-990F-F37AAE23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7EE406-0BD9-4D7A-817E-1B8079FA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048BEB-6FF8-42C3-AF23-A236BE72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987B7D-2F10-4BF0-B3E6-8A2BB380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A904-238C-4459-BF30-65A176A1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50748B-5742-44E5-9F73-DB2A605B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F8F4EB-5862-4364-91D7-E09A04D1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811416-B56D-468B-940C-B5D3C5F4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A51508-1263-4E72-9DE4-14239D79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49CF56-4B8D-43D1-A41D-7580639B5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374893-37DD-4010-9EFE-94405DE5E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0810EB-1931-4670-9628-88F283AD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A30341-6D31-418D-B08C-262FCA6D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4966C4-2790-4D8A-AFD0-2AD7D97B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A1E4E0-C110-4728-AF70-AAD2716E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C176-A2E3-4499-9AF4-BADDCED1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08E3E7-DD0B-478D-9469-F8217981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696B77-A92D-45E6-A54D-956620C7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4782BA-11B2-4B04-B870-03495E7B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2D7008-6977-47B3-B1E4-33055FFE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5295DF-09B4-44EA-99C8-0898F8F8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34D079-101A-4446-9C4E-F72326CED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CC5810-8146-440E-B6CE-FBA675FA9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CB5F-B053-4712-90DB-D71F68D6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646B-926E-41C1-A1BA-001F9D37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2979-5386-421B-8D12-8B43C50D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4CB6-53D1-4BB4-8128-E0115DB6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F016-7A94-4E82-A0FD-9562F16B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D22F-AFD2-4015-B555-C834ABF7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D1C1-A5DC-45A2-A0B9-1E33C014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AF6A-713F-4074-8EDC-088C7068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91A3-AFA8-4B93-8A6C-2939F6D2C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72F1-7641-4359-90F8-857CC1F21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F8DE5-0CB9-4E91-8080-D9EA1C605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B9E0E-95AC-431A-AF89-1E38E6F9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881E6-54BD-4F9E-971E-DAC0BA34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06ACF-0A2B-4E18-BB44-C0F0E440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09992-0661-4A71-9AE5-503C49D2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3E53-0874-444C-A843-CF461FB1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CBF5E-43B6-40C3-8088-C402CC72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31EBF-77BC-42B9-AC4E-74DA56EC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D825F-AF36-4A94-83B5-90802D9F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D2AAA-E30F-4751-839B-6E665921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6F838-BD05-4BC4-8727-FF7C9C71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3A887-9A62-4680-B5E8-0820A73DD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CE3D8-4560-46D1-8B24-93AF40E92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6CA31-4654-4F52-8EF1-C11129F6E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57308-7D9E-4CD3-AE4D-6431461B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24DE3-73E8-4531-A692-51F4DBE4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4CDC-71AB-4EF7-944B-E083310C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0E6F8-D0DD-46C8-9424-E143A263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20C65-73CA-478C-8E55-2AAF9B22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E64ED-F295-4E6E-846F-FA20849E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04CB9-734A-4102-B92F-B4B6B96C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D9120-A296-482B-A623-6A81620B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A6EFF-D8E6-40A6-AE6B-7EA60F70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97AA4-9E55-40F4-A16F-4888BABF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9246D-08F2-4FE5-B1DF-99786FF0D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2179F-1A5D-46C1-B94A-8E4A04232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5F5E7-8F92-4DB6-A3B4-B7B1568EA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ECF6-D43B-4A83-AF72-08CABB70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A5134-D8D0-47B2-87FF-A1E642F2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B6324-865C-4DA0-A085-F33A58D8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844FB-DB1B-440C-8596-CBC4E9C9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FD934-B721-4628-B729-20171ED3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D8867-8160-4636-8D3D-8B2D66E8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08BC1-5039-45EE-B5FC-7BBBEA9C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9B1D7-340E-4EB5-A6BA-E8F942DF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E3ACC-9B65-41D7-8E1A-2BCD6FA7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A5D5E-E4F9-45DC-B8CE-EC5347E7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7DF2E-BF85-4807-98CA-E7337BD8E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A992-F3BD-45A8-8EFC-9D40B1AE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16711-52C0-4B56-8FB4-978A130AD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D8048-EAC3-4736-921C-E15314D04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59703-E468-4A3C-8683-72B72C76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39FE6-4091-4A4A-91E5-CFE193C4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634BB-DBD8-44D9-8367-900959F9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1E0F6-ED93-487A-A196-658B93B2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45EBB-57F9-430B-9C16-6373765A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7510F-1CB6-46D1-A24C-3DF293E7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1BA04-ADEF-49DA-867B-E47729F2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4E8ED-B352-4CD7-88E7-16C56BCB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2205-23B3-42D4-857C-913721C4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14D23-F925-4E25-B48D-2958C34E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9EF84-0748-40E9-AB66-7369FFF6A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D6840-BED8-4D06-BFB3-F5853590F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FEA4C-8769-4F7B-96BC-85B969516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76EC3-C637-470A-8327-20A05D72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68DE0-082C-4F29-9018-07D47668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B576D-7914-4187-AE11-6D223087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AAE56-21A7-4982-97EC-49655ABD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27537-920E-411B-B9BC-8B3638E2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0E85F-4005-434C-B2BF-3CE4FED6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26A4-7875-4925-B54C-2161A59A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3E807-3BCB-4F75-8FA6-FAF41912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96717-B8D4-4F23-A7C0-EDAD8D3B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9ECF6-DB10-4173-B71C-3861C6E6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2ADC6-0E16-4D99-B8A8-462C39589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6B2E9-5892-4E1C-921A-0039ED94A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74212-8757-460E-9034-D4CA8D5AB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9D51C-31D1-440E-BC20-0A4CB09B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8F9BA-F545-414C-94FC-AD6726B3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312DC-B4C2-4E4F-AC53-9D199092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7D53B-E979-4F78-B920-7380367C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CA4C-368E-4323-AD21-F7EDCB98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BDEC6-72FC-437C-9181-3791FD69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6E482-7BB7-40F1-93CE-C08912FA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58029-2077-45EA-AC2D-59AFC0ED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7D153-0CE6-4C8D-8750-867E7E4F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539EC-6CE3-435C-99A2-CDA52FE8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500B4-DA29-4FDD-819C-C24F087E7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1B4E7-C1ED-4930-9863-25F780A9B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646289-2403-42E6-81A3-F171B7D9D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72348-C34D-46B8-8BBA-9E80F7C1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11202-6695-4EDD-A006-88E62EED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7DD0-6678-41B4-9169-98777659D7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F678-ED5E-4A08-B79A-41E06EEB70D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9FBB-BD36-4889-AAA5-75B37A34277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1696-0F4A-46DF-8319-98E02259B0D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38ED-C109-412D-B7DD-87F79CE6D8F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B851-4016-4D42-B0EB-2C516A41A1D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4990-58D2-43FF-8880-82AAE8C2D26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83B3-FCF9-478E-9B17-037EB378B05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2EDA-237E-45EE-A15A-542816FEA82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C1A3-41B1-4D68-9B07-8DF706D34DA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0FDE-0B11-4F9D-8512-A51B1206499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DE53-94EB-4F2A-940C-C9936648D18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D304-E7A6-414B-B931-B33AFFD28F5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4292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夜书所见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模板下载</a:t>
            </a:r>
            <a:br>
              <a:rPr sz="4000"/>
            </a:b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南宋）叶绍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矩形 4"/>
          <p:cNvSpPr/>
          <p:nvPr/>
        </p:nvSpPr>
        <p:spPr>
          <a:xfrm>
            <a:off x="302400" y="6453360"/>
            <a:ext cx="28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江上秋风动客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24000" y="234900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江上的秋风深深地触动了诗人思念家乡的情怀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4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4" descr="夜书所见"/>
          <p:cNvPicPr/>
          <p:nvPr/>
        </p:nvPicPr>
        <p:blipFill>
          <a:blip r:embed="rId1"/>
          <a:stretch/>
        </p:blipFill>
        <p:spPr>
          <a:xfrm>
            <a:off x="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5"/>
          <p:cNvSpPr/>
          <p:nvPr/>
        </p:nvSpPr>
        <p:spPr>
          <a:xfrm>
            <a:off x="5801400" y="0"/>
            <a:ext cx="311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知有儿童</a:t>
            </a:r>
            <a:r>
              <a:rPr b="1" lang="zh-CN" sz="6000" spc="-1" strike="noStrike">
                <a:solidFill>
                  <a:srgbClr val="ff6600"/>
                </a:solidFill>
                <a:latin typeface="Times New Roman"/>
              </a:rPr>
              <a:t>挑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促织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夜深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篱落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一灯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2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8458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15364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阵阵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吹动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发出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的声音，让人感觉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，江上的秋风使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不禁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684360" y="3428640"/>
            <a:ext cx="761976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料想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因为他看见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50920" y="1052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知有儿童挑促织，</a:t>
            </a:r>
            <a:br>
              <a:rPr sz="6000"/>
            </a:b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夜深篱落一灯明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50560" y="2636640"/>
            <a:ext cx="8591400" cy="34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料想是孩子们在捉蟋蟀，因为夜深了忽然看到远处篱笆下的灯火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夜书所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夜书所见</a:t>
            </a:r>
            <a:br>
              <a:rPr sz="6600"/>
            </a:b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（南宋）叶绍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萧萧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梧叶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送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寒声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江上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秋风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动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客情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知有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儿童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挑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促织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夜深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篱落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一灯明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82000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萧萧 梧叶 送 寒声，   江上 秋风 动 客情。  知有 儿童 挑 促织，  夜深 篱落 一灯 明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3"/>
          <p:cNvSpPr/>
          <p:nvPr/>
        </p:nvSpPr>
        <p:spPr>
          <a:xfrm flipH="1">
            <a:off x="2484360" y="1268280"/>
            <a:ext cx="287280" cy="72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4"/>
          <p:cNvSpPr/>
          <p:nvPr/>
        </p:nvSpPr>
        <p:spPr>
          <a:xfrm flipH="1">
            <a:off x="4572000" y="1197000"/>
            <a:ext cx="287280" cy="72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5"/>
          <p:cNvSpPr/>
          <p:nvPr/>
        </p:nvSpPr>
        <p:spPr>
          <a:xfrm flipH="1">
            <a:off x="5724000" y="1197000"/>
            <a:ext cx="287640" cy="72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6"/>
          <p:cNvSpPr/>
          <p:nvPr/>
        </p:nvSpPr>
        <p:spPr>
          <a:xfrm flipH="1">
            <a:off x="2556000" y="2349360"/>
            <a:ext cx="287280" cy="72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7"/>
          <p:cNvSpPr/>
          <p:nvPr/>
        </p:nvSpPr>
        <p:spPr>
          <a:xfrm flipH="1">
            <a:off x="4716360" y="2276640"/>
            <a:ext cx="287280" cy="72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8"/>
          <p:cNvSpPr/>
          <p:nvPr/>
        </p:nvSpPr>
        <p:spPr>
          <a:xfrm flipH="1">
            <a:off x="5796000" y="2349360"/>
            <a:ext cx="287280" cy="72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9"/>
          <p:cNvSpPr/>
          <p:nvPr/>
        </p:nvSpPr>
        <p:spPr>
          <a:xfrm flipH="1">
            <a:off x="2556000" y="3429000"/>
            <a:ext cx="287280" cy="72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10"/>
          <p:cNvSpPr/>
          <p:nvPr/>
        </p:nvSpPr>
        <p:spPr>
          <a:xfrm flipH="1">
            <a:off x="4642920" y="3429000"/>
            <a:ext cx="287640" cy="72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11"/>
          <p:cNvSpPr/>
          <p:nvPr/>
        </p:nvSpPr>
        <p:spPr>
          <a:xfrm flipH="1">
            <a:off x="5867280" y="3429000"/>
            <a:ext cx="287280" cy="72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12"/>
          <p:cNvSpPr/>
          <p:nvPr/>
        </p:nvSpPr>
        <p:spPr>
          <a:xfrm flipH="1">
            <a:off x="2627280" y="4581360"/>
            <a:ext cx="287280" cy="72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3"/>
          <p:cNvSpPr/>
          <p:nvPr/>
        </p:nvSpPr>
        <p:spPr>
          <a:xfrm flipH="1">
            <a:off x="4642920" y="4508640"/>
            <a:ext cx="287640" cy="72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4"/>
          <p:cNvSpPr/>
          <p:nvPr/>
        </p:nvSpPr>
        <p:spPr>
          <a:xfrm flipH="1">
            <a:off x="6659640" y="4581360"/>
            <a:ext cx="287280" cy="72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夜书所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夜书所见</a:t>
            </a:r>
            <a:br>
              <a:rPr sz="6600"/>
            </a:b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（南宋）叶绍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萧萧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梧叶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送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寒声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江上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秋风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动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客情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知有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儿童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挑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促织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夜深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篱落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一灯明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隶书"/>
              </a:rPr>
              <a:t>游园不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（南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</a:rPr>
              <a:t>宋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）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</a:rPr>
              <a:t>叶绍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应怜屐齿印苍苔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小扣柴扉久不开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春色满园关不住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一枝红杏出墙来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舟夜书所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清）查慎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月黑见渔灯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孤光一点萤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微微风簇浪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散作满河星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叶绍翁简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叶绍翁，南宋中期诗人。祖籍建安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今福建建瓯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长期隐居在钱塘西湖之滨。他的诗以七言绝句最佳，富有生活情趣。其中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游园不值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最为著名，历来被人们所传诵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15640" y="206028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促</a:t>
            </a:r>
            <a:endParaRPr b="0" lang="en-US" sz="3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1066680" y="9903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lvl="3" marL="1328040" indent="0">
              <a:lnSpc>
                <a:spcPct val="90000"/>
              </a:lnSpc>
              <a:spcBef>
                <a:spcPts val="8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深</a:t>
            </a:r>
            <a:endParaRPr b="0" lang="en-US" sz="3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619280" y="14126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忆</a:t>
            </a:r>
            <a:endParaRPr b="0" lang="en-US" sz="3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692360" y="155700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异</a:t>
            </a:r>
            <a:endParaRPr b="0" lang="en-US" sz="3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050920" y="14839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逢</a:t>
            </a:r>
            <a:endParaRPr b="0" lang="en-US" sz="3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676520" y="26665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佳</a:t>
            </a:r>
            <a:endParaRPr b="0" lang="en-US" sz="3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523880" y="-762120"/>
            <a:ext cx="647712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倍</a:t>
            </a:r>
            <a:endParaRPr b="0" lang="en-US" sz="3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763640" y="14839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遥</a:t>
            </a:r>
            <a:endParaRPr b="0" lang="en-US" sz="3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402920" y="1125360"/>
            <a:ext cx="6674040" cy="398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遍</a:t>
            </a:r>
            <a:endParaRPr b="0" lang="en-US" sz="3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99840" y="990360"/>
            <a:ext cx="65530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插</a:t>
            </a:r>
            <a:endParaRPr b="0" lang="en-US" sz="3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1106640" y="6118200"/>
            <a:ext cx="675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矩形 7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Picture 4" descr="夜书所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夜书所见</a:t>
            </a:r>
            <a:br>
              <a:rPr sz="6600"/>
            </a:b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（南宋）叶绍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萧萧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梧叶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送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寒声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江上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秋风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动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客情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知有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儿童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挑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促织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夜深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篱落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一灯明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夜书所见  电子课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71640" y="3213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这首诗描写的是什么季节？从哪里可以看出来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6" descr="夜书所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2"/>
          <p:cNvSpPr/>
          <p:nvPr/>
        </p:nvSpPr>
        <p:spPr>
          <a:xfrm>
            <a:off x="3027960" y="2205000"/>
            <a:ext cx="3106800" cy="34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萧萧梧叶送寒声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江上秋风动客情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知有儿童挑促织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夜深篱落一灯明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3100320" y="22860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隶书"/>
              </a:rPr>
              <a:t>夜书所见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6981480" y="19051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叶绍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渔舟唱晚.mp3" descr=""/>
          <p:cNvPicPr/>
          <p:nvPr/>
        </p:nvPicPr>
        <p:blipFill>
          <a:blip r:embed="rId2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" fill="hold"/>
                                        <p:tgtEl>
                                          <p:spTgt spid="5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萧萧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梧叶送寒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萧萧的秋风吹动梧桐树的叶子，送来一阵阵寒意（让人感到寒冷）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Picture 5" descr="gugaung1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953400"/>
          </a:xfrm>
          <a:prstGeom prst="rect">
            <a:avLst/>
          </a:prstGeom>
          <a:ln w="0">
            <a:noFill/>
          </a:ln>
        </p:spPr>
      </p:pic>
      <p:pic>
        <p:nvPicPr>
          <p:cNvPr id="553" name="Wind2.wav" descr=""/>
          <p:cNvPicPr/>
          <p:nvPr/>
        </p:nvPicPr>
        <p:blipFill>
          <a:blip r:embed="rId2"/>
          <a:stretch/>
        </p:blipFill>
        <p:spPr>
          <a:xfrm>
            <a:off x="86104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7"/>
          <p:cNvSpPr/>
          <p:nvPr/>
        </p:nvSpPr>
        <p:spPr>
          <a:xfrm>
            <a:off x="2397960" y="33336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Times New Roman"/>
              </a:rPr>
              <a:t>江上秋风动客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" fill="hold"/>
                                        <p:tgtEl>
                                          <p:spTgt spid="5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2"/>
          <p:cNvSpPr/>
          <p:nvPr/>
        </p:nvSpPr>
        <p:spPr>
          <a:xfrm>
            <a:off x="1117440" y="2276640"/>
            <a:ext cx="706752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江上的秋风使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禁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9T05:48:45Z</dcterms:created>
  <dc:creator/>
  <dc:description/>
  <cp:keywords>幻灯片之家 http:/www.eeppt.com</cp:keywords>
  <dc:language>en-US</dc:language>
  <cp:lastModifiedBy/>
  <dcterms:modified xsi:type="dcterms:W3CDTF">2015-07-20T04:25:5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