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C527-C044-4575-B509-C634E0055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EBA1-6205-4EAB-8638-4FAD279CE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F5F4-7D06-4D90-9F30-F5B02417F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8C44-5BAB-4A5B-BCC8-54C9F8A4F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EBB6E-373F-4D5A-B5DE-6BD08F7A0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AADC3-318D-4323-BB72-13EF5BB11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4DE7E-C92D-4E34-B30E-AC2E5BB94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870D4-5019-4ACF-8A7C-6E11CC7CE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9A0B5-774D-4FAC-B5D2-E47C44E4B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FADA3-82EB-4004-B934-5C18B5FFB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EC7BF-9601-4794-AD0D-382A31861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1248-B094-4AD7-A5FD-3D1DBD2EE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D7D72-6B4E-4B68-916C-9857DAB90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4DCAF-6F47-40AA-9C86-FDF9A9699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5B3E0-A449-4285-93A9-7511DAADF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E71D4-9C3D-4ED3-B041-4DFA146E2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E8B1F-3FD1-4DC1-8847-D4BB3F95A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AD75-FA22-4D4A-8366-D1B405A93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D260-0309-49B6-82B8-8EC44F170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E201-2F21-49BD-8A2D-AE026E8A1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5357-3C04-45A0-9661-BBDF1F383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3C3B-9C26-446D-BA53-13D1B9843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02DD-DA23-479A-829C-8FF0D75AD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D367-70F3-4077-B566-062D54AE2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E3630-3ABE-4389-A51C-1C2CCFAE82A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F04F5-F28F-41DF-B11E-05C14239B8B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EB0D7-2639-48C2-AA32-2D720CD776F5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83206-E101-41E4-97F5-FC6E5657A2F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2600" y="314280"/>
            <a:ext cx="9144000" cy="63309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2600" y="6280200"/>
            <a:ext cx="4419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图片素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044600" y="2898720"/>
            <a:ext cx="323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医学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素材图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AD047-8B3A-4657-AB33-C1A895C7A20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pc</dc:creator>
  <dc:description/>
  <dc:language>en-US</dc:language>
  <cp:lastModifiedBy>bianxiaoxiang</cp:lastModifiedBy>
  <dcterms:modified xsi:type="dcterms:W3CDTF">2015-07-21T02:25:00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