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chimes.wav" ContentType="audio/x-wav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0C0-2464-4418-A052-1047F5B5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5BB-E25D-4087-BEA1-BC9FA5B1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E05-03BE-4819-8F57-2B757398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244-2C05-4B60-9400-9C9D5E19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9E63-7413-457E-80A6-45DE605B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E629-C4E1-46DC-9DF4-B87B3B7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4B9A-70B0-4745-8103-398458F0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E7F1-0B9C-4985-808A-3A9CE519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95CC-6340-452B-B826-872C7BE1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5BE4-ECF6-4248-860B-6C096589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D6F9-7AF9-4545-8463-2803D9A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092-BBD2-45CB-B1D1-EF2B9F83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C5EF-122B-4D0B-A996-6B34C48F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5D50-A22D-45EC-94D7-F3E54A2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25E3-7C48-4E33-92BA-F8DE466D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6551-EDCF-40F9-99DD-CD7C59D0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A89E-20D6-4832-A3B5-692F9A87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03D8-7C4A-4EF0-90FE-0A0CD596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28395-165B-4788-A777-E6BC9C9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C420-D1E9-4A70-894B-4438859A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D82C-6AE0-4CC0-A1EE-CDF6D756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B651-7221-4180-8EC3-3263A773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28E-0E6C-4EA7-B903-DC0F7F6C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4B3F-2288-4713-B319-17C88893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34CE2-5B8F-4BE4-A3F1-FA3AA0F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B183-301E-4701-A2CC-6498F1B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0BE0-C4C4-4BE4-8A13-33769B8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0804-3642-4F62-B241-D53E9A3E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FC24-940E-4AE9-A489-71ADC613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771C-7D53-45C1-960B-87ACA36A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C9BEE-9212-4FF1-9A8C-DB412E87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F63B-D5D7-4839-92FB-F725D5E8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3569-28B1-4592-94DA-68537169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2F8-A8A4-41FA-A876-7351FE64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F52C-E6A4-4C61-9E78-D4ACAE30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C5DF-BC2D-4510-9AF6-77AEBE4B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7C644-A5B0-42DF-A981-556F5871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2A99-1619-460E-B76E-D140309E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3195-8F63-4103-8D18-5EAE5462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96349-24F5-47A6-9FDF-B54CF886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363E-BA3A-48DA-8CBB-F93508F6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A67F-EBFD-46AD-AA23-088B2A9A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2F32-109A-4217-A8EF-365F66F7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001BF-BF15-406F-9726-737A875C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F91-CE68-4AB5-80FC-D6B084D2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4D589-B14D-4470-A9B8-A25E39F5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FDED-6942-4B83-A062-63E2F539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DF4D-014F-4C2C-A78D-E2C01080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924FE-F310-4FC6-B196-8544C5EA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57A4-A1E3-4E92-8F7B-A2FC92AF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BDA2-A11A-47F6-8448-0728C4A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B0E5-9B7A-4A52-8246-3C412E5B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CE50-766F-4F12-9F43-AC02ED0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D44B3-B1C3-4A57-B199-CC32EE9E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09AF-E98C-4EC7-9F7E-C7C3DCF2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7CC-8E71-47BE-8A66-6C56410A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85B4-5C35-413C-82C1-B0FFA79C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1A4-2F71-4C3D-A38B-0EA24CD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D4EDC-FA7D-4639-B90D-1A5EA3EE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5ADED-1374-4221-A315-BBC6CD1F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26527-6ECB-4138-9AA6-ACC73A4D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03427-F17D-466D-AEBA-A031D6CA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39723-AD61-4DFE-BCDF-8C31244B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435DC-DB71-4F8B-A24A-76E39F26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29F2-4891-4C15-AEAA-BCF7332F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C87-3D4B-4B3A-AAD4-4D8F7CD6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997D4-F5F5-4D4A-9614-8AF1CF18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9FF0A-A912-4968-B519-4CFC748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1F407-732D-4B29-99A1-EB8AD712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07CB7-CE51-4892-B79B-3CDC88AC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28DF7-E24C-4B85-A631-CCC81564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292DA-7FCE-4FD8-A507-EF3CC4C4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72CE0-1A87-4011-8F07-06A96812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F523-1A36-4EB7-80F7-67402A94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F1304-5CAA-4AE1-8BAB-3FEC6095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4C78-4688-4C9C-8569-1FA9D3A6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A7A-F4C3-4CB7-BF34-52A17FE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1A95E-712C-4D93-B86A-287C0A98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F481B-5A7F-4411-9C34-9865B4DD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3AFC6-6D6D-4F60-8C66-FD97875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CA13-1FB6-4A44-8A5D-1E5320F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05B3C-0153-41DE-99CB-A6995649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F399-E8ED-463C-A141-74BF28F5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F97DD-E0DA-470D-A362-22764C59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5B0-6034-478C-8923-8DAC27175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2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4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6EA5-1FC4-4574-A787-55B8D3081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29E4-6774-46A4-86D1-E90987ECB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4759-3545-4C7C-B517-CAB463CC8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A460-4D44-422A-A66A-BE664440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5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1D18-E961-49CF-8F86-318428D35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7B0E-24A6-49EC-AC71-B09C86EB36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5364000" y="3789360"/>
            <a:ext cx="201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罗贯中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51" name="WordArt 9"/>
          <p:cNvSpPr txBox="1"/>
          <p:nvPr/>
        </p:nvSpPr>
        <p:spPr>
          <a:xfrm>
            <a:off x="2050920" y="1628640"/>
            <a:ext cx="47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杨 修 之 死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900000" y="-27000"/>
            <a:ext cx="6267600" cy="74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               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鸡肋事件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改建园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分食酥饼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语破奸心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5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轻视吴质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6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教植斩吏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</a:t>
            </a:r>
            <a:r>
              <a:rPr b="0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7.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巧作答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WordArt 5"/>
          <p:cNvSpPr txBox="1"/>
          <p:nvPr/>
        </p:nvSpPr>
        <p:spPr>
          <a:xfrm>
            <a:off x="324000" y="260280"/>
            <a:ext cx="25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隶书"/>
              </a:rPr>
              <a:t>整体感知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2"/>
          <p:cNvSpPr txBox="1"/>
          <p:nvPr/>
        </p:nvSpPr>
        <p:spPr>
          <a:xfrm rot="5400000">
            <a:off x="-648360" y="1377000"/>
            <a:ext cx="2808360" cy="86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合作探究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403280" y="1341360"/>
            <a:ext cx="720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关于杨修之死，有人推之于曹操，有人归之于杨修，有人说另有他因，你持何种观点？说明你的理由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WordArt 2"/>
          <p:cNvSpPr txBox="1"/>
          <p:nvPr/>
        </p:nvSpPr>
        <p:spPr>
          <a:xfrm rot="5400000">
            <a:off x="-973080" y="1989360"/>
            <a:ext cx="367344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隶书"/>
              </a:rPr>
              <a:t>撰写碑文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隶书"/>
              <a:ea typeface="隶书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1908000" y="765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隶书"/>
                <a:ea typeface="隶书"/>
              </a:rPr>
              <a:t>           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请用你对文章的感悟，自己选择角度在杨修的墓碑上写一句话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059280" y="4365720"/>
            <a:ext cx="590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聪明机智知识渊博可谓英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恃才放旷目中无人终尝苦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WordArt 3"/>
          <p:cNvSpPr txBox="1"/>
          <p:nvPr/>
        </p:nvSpPr>
        <p:spPr>
          <a:xfrm>
            <a:off x="1042920" y="907920"/>
            <a:ext cx="223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思想意蕴：</a:t>
            </a:r>
            <a:endParaRPr b="0" lang="en-US" sz="1800" spc="-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403280" y="177336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华文隶书"/>
                <a:ea typeface="华文隶书"/>
              </a:rPr>
              <a:t>      </a:t>
            </a: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三国演义</a:t>
            </a: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通过汉末三国时期百年间的政治，军事斗争故事提出了“明君仁政”的理想，表达了对历史人物忠义、智勇优秀品格的赞颂，而且有人认为全书贯穿着明显的“拥刘贬曹”的思想倾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2"/>
          <p:cNvSpPr txBox="1"/>
          <p:nvPr/>
        </p:nvSpPr>
        <p:spPr>
          <a:xfrm>
            <a:off x="539640" y="404640"/>
            <a:ext cx="26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授人以渔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1476360" y="13413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 何 阅 读 小 说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755640" y="236232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一、把握小说的三要素：人物、情节、环境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二、了解小说创作的时代背景和作家创作小说的动机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三、抓住人物的肖像、行动、心理和语言分析人物形象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2"/>
          <p:cNvSpPr txBox="1"/>
          <p:nvPr/>
        </p:nvSpPr>
        <p:spPr>
          <a:xfrm>
            <a:off x="3276720" y="476280"/>
            <a:ext cx="215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活动与探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468360" y="1341360"/>
            <a:ext cx="82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作家王蒙在看了电视剧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三国演义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之后，有一些很精彩的议论。如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那是英雄辈出的时代么？争权夺利，好勇斗狠，尔虞我诈，这是英雄么？刮骨疗毒，拔矢啖睛，一不怕疼二不怕死就是英雄么？这疼与死又所谓何来呢？他们关心的唯一热点无非是争权夺利，特别是争夺那唯一的一把龙椅罢了。他们为了争龙椅，不惜杀人如麻，血流成河；不惜决堤防水，乘风放火；不惜生灵涂炭，啼饥号寒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么多英雄怎么没有一个替老百姓说一句话的呢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又如他说</a:t>
            </a:r>
            <a:r>
              <a:rPr b="0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三国演义</a:t>
            </a:r>
            <a:r>
              <a:rPr b="0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中的政治是赤裸裸的权利政治。表现在：①是砍脑壳政治；②是阴谋政治；③是叛徒政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4"/>
          <p:cNvSpPr txBox="1"/>
          <p:nvPr/>
        </p:nvSpPr>
        <p:spPr>
          <a:xfrm>
            <a:off x="2627280" y="549360"/>
            <a:ext cx="3529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书海引航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98" name="Picture 6" descr="it"/>
          <p:cNvPicPr/>
          <p:nvPr/>
        </p:nvPicPr>
        <p:blipFill>
          <a:blip r:embed="rId1"/>
          <a:stretch/>
        </p:blipFill>
        <p:spPr>
          <a:xfrm>
            <a:off x="5580000" y="1916280"/>
            <a:ext cx="2314800" cy="3025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u=20739288,2547116374&amp;gp=3"/>
          <p:cNvPicPr/>
          <p:nvPr/>
        </p:nvPicPr>
        <p:blipFill>
          <a:blip r:embed="rId2"/>
          <a:stretch/>
        </p:blipFill>
        <p:spPr>
          <a:xfrm>
            <a:off x="2771640" y="1916280"/>
            <a:ext cx="2233800" cy="3025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8"/>
          <p:cNvSpPr/>
          <p:nvPr/>
        </p:nvSpPr>
        <p:spPr>
          <a:xfrm>
            <a:off x="2916360" y="501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重温经典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867280" y="5013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开阔视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2" name="在我生命中的每一天-成龙_陈淑桦.mp3" descr=""/>
          <p:cNvPicPr/>
          <p:nvPr/>
        </p:nvPicPr>
        <p:blipFill>
          <a:blip r:embed="rId3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66343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7"/>
          <p:cNvSpPr/>
          <p:nvPr/>
        </p:nvSpPr>
        <p:spPr>
          <a:xfrm>
            <a:off x="1187280" y="3068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WordArt 2"/>
          <p:cNvSpPr txBox="1"/>
          <p:nvPr/>
        </p:nvSpPr>
        <p:spPr>
          <a:xfrm>
            <a:off x="179280" y="620640"/>
            <a:ext cx="28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走近三国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635280" y="765000"/>
            <a:ext cx="496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    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三国演义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是我国第一部长篇章回体历史演义小说，原名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三国志通俗演义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，也称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三国志演义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作者罗贯中，号湖海散人，元末明初小说家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全书以东汉末年及魏、蜀、吴三国历史为题材。作者在民间传说和民间艺人创作的话本、戏曲的基础上，运用了陈寿的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三国志</a:t>
            </a:r>
            <a:r>
              <a:rPr b="1" lang="en-GB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和裴松之注的正史材料，结合自己丰富的生活经验创作而成。集中表现了统治集团之间的政治和军事斗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5" name="Picture 7" descr="u=2804782340,234915629&amp;gp=2"/>
          <p:cNvPicPr/>
          <p:nvPr/>
        </p:nvPicPr>
        <p:blipFill>
          <a:blip r:embed="rId2"/>
          <a:stretch/>
        </p:blipFill>
        <p:spPr>
          <a:xfrm>
            <a:off x="611280" y="2133720"/>
            <a:ext cx="2442960" cy="345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8" descr="u=43257401,810481547&amp;gp=0"/>
          <p:cNvPicPr/>
          <p:nvPr/>
        </p:nvPicPr>
        <p:blipFill>
          <a:blip r:embed="rId2"/>
          <a:stretch/>
        </p:blipFill>
        <p:spPr>
          <a:xfrm>
            <a:off x="5486400" y="2514600"/>
            <a:ext cx="2336760" cy="2819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u=2910403871,1863395670&amp;gp=3"/>
          <p:cNvPicPr/>
          <p:nvPr/>
        </p:nvPicPr>
        <p:blipFill>
          <a:blip r:embed="rId3"/>
          <a:stretch/>
        </p:blipFill>
        <p:spPr>
          <a:xfrm>
            <a:off x="1066680" y="1143000"/>
            <a:ext cx="2487600" cy="32004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10"/>
          <p:cNvSpPr txBox="1"/>
          <p:nvPr/>
        </p:nvSpPr>
        <p:spPr>
          <a:xfrm>
            <a:off x="1447920" y="457200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曹操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59" name="WordArt 11"/>
          <p:cNvSpPr txBox="1"/>
          <p:nvPr/>
        </p:nvSpPr>
        <p:spPr>
          <a:xfrm>
            <a:off x="5791320" y="5562720"/>
            <a:ext cx="1752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杨修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WordArt 4" descr=""/>
          <p:cNvPicPr/>
          <p:nvPr/>
        </p:nvPicPr>
        <p:blipFill>
          <a:blip r:embed="rId2"/>
          <a:stretch/>
        </p:blipFill>
        <p:spPr>
          <a:xfrm>
            <a:off x="244440" y="401760"/>
            <a:ext cx="2816280" cy="1298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324000" y="1628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准字音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395280" y="2276640"/>
            <a:ext cx="273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庖（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讫（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簏（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3059280" y="2276640"/>
            <a:ext cx="2663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谮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麾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绰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1403280" y="2276640"/>
            <a:ext cx="1295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áo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ì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3995640" y="2276640"/>
            <a:ext cx="1656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èn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uī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āo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5796000" y="112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词语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5940360" y="1773360"/>
            <a:ext cx="2879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沉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禀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班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谮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惑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对答如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179280" y="1557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下面的的句子译成现代汉语，力求简洁明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95280" y="2637000"/>
            <a:ext cx="8497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杨修为人</a:t>
            </a:r>
            <a:r>
              <a:rPr b="1" lang="zh-CN" sz="36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恃才放旷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，数犯曹操之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（操）</a:t>
            </a:r>
            <a:r>
              <a:rPr b="1" lang="zh-CN" sz="36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佯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惊问：“何人杀吾近侍？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3.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丞相非在梦中，君乃在梦中耳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4.</a:t>
            </a:r>
            <a:r>
              <a:rPr b="1" lang="zh-CN" sz="36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但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操有问，植即依条答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71" name="WordArt 7" descr=""/>
          <p:cNvPicPr/>
          <p:nvPr/>
        </p:nvPicPr>
        <p:blipFill>
          <a:blip r:embed="rId2"/>
          <a:stretch/>
        </p:blipFill>
        <p:spPr>
          <a:xfrm>
            <a:off x="244440" y="262080"/>
            <a:ext cx="2816280" cy="1292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WordArt 2"/>
          <p:cNvSpPr txBox="1"/>
          <p:nvPr/>
        </p:nvSpPr>
        <p:spPr>
          <a:xfrm>
            <a:off x="324000" y="260280"/>
            <a:ext cx="25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隶书"/>
              </a:rPr>
              <a:t>整体感知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755640" y="1268280"/>
            <a:ext cx="79218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思考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       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围绕着曹、杨二人之间的矛盾冲突，选文讲了七件故事，是哪七件呢？用简洁的语言概括故事情节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中宋"/>
              </a:rPr>
              <a:t>（温馨提示：概括每个故事不超过十个字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539640" y="476280"/>
            <a:ext cx="8136000" cy="49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黑体"/>
              </a:rPr>
              <a:t>补充注释</a:t>
            </a:r>
            <a:r>
              <a:rPr b="1" lang="en-US" sz="3600" spc="-1" strike="noStrike">
                <a:solidFill>
                  <a:srgbClr val="66ff33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马超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刘备手下的一员猛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朝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(zhāo)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歌长吴质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朝歌，汉代所置的县分，故地在今河南境内；长，县的行政长官。汉代制度，万户以上的大县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长官为“令”；万户以下的小县，长官称“长”。吴质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曹丕的亲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世子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王侯爵位的继承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答教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为应对尊长的提问而于事前拟好的答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魏延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刘备手下的大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庞德</a:t>
            </a:r>
            <a:r>
              <a:rPr b="1" lang="en-US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66ff33"/>
                </a:solidFill>
                <a:latin typeface="华文中宋"/>
                <a:ea typeface="华文中宋"/>
              </a:rPr>
              <a:t>曹操手下的大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324000" y="260280"/>
            <a:ext cx="25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隶书"/>
              </a:rPr>
              <a:t>整体感知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755640" y="1268280"/>
            <a:ext cx="792180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思考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       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华文中宋"/>
              </a:rPr>
              <a:t>围绕着曹、杨二人之间的矛盾冲突，选文讲了七件故事，是哪七件呢？用简洁的语言概括故事情节。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中宋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中宋"/>
              </a:rPr>
              <a:t>（温馨提示：概括每个故事不超过十个字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70B-3687-4FB3-AE1D-9BCCCAA8C9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6:39:51Z</dcterms:created>
  <dc:creator/>
  <dc:description/>
  <cp:keywords>幻灯片之家 http:/www.eeppt.com</cp:keywords>
  <dc:language>en-US</dc:language>
  <cp:lastModifiedBy/>
  <dcterms:modified xsi:type="dcterms:W3CDTF">2015-07-17T15:07:49Z</dcterms:modified>
  <cp:revision>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