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196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714-2DCF-4ED3-AACD-297258CA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5200"/>
            <a:ext cx="822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59560"/>
            <a:ext cx="822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00F-D7C3-48B8-ACCB-C52B6A8D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520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520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5956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5956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D63-6469-422A-BF42-FE2E6A13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5200"/>
            <a:ext cx="264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5200"/>
            <a:ext cx="264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5200"/>
            <a:ext cx="264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59560"/>
            <a:ext cx="264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59560"/>
            <a:ext cx="264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59560"/>
            <a:ext cx="264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373-7D67-4825-8BFD-884553E1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5200"/>
            <a:ext cx="8229600" cy="33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9E9-0CA7-4131-A643-F173C924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5200"/>
            <a:ext cx="8229600" cy="33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C85-1558-4FC5-9FED-6CC25847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5200"/>
            <a:ext cx="4015800" cy="33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5200"/>
            <a:ext cx="4015800" cy="33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469-7ED5-4716-B716-E3046402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814-7330-4322-8405-6B2491E6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4840"/>
            <a:ext cx="8229600" cy="39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873-98FC-447D-B5F4-9CB6D49A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520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5200"/>
            <a:ext cx="4015800" cy="33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5956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E2B-5672-42BC-8F0E-80C35295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5200"/>
            <a:ext cx="4015800" cy="33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520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5956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8A3-9FEA-422C-89C3-CB95798C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520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520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59560"/>
            <a:ext cx="822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9FF-9958-40D6-A8EE-1256F705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5200"/>
            <a:ext cx="8229600" cy="33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6236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6236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6236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B690-CA07-4F6B-A901-50F10214E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47926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40760"/>
            <a:ext cx="82072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47520"/>
            <a:ext cx="8928000" cy="38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249120"/>
            <a:ext cx="1388880" cy="260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4D6-27E3-4C28-8D64-8BE5925475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6:17:1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6:4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