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0C4-B1E9-42D9-A188-8E636A5C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FB4-D070-4781-BAF6-4478E335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AE6-AD39-4327-A648-77BB3848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57E-9C30-4E27-9BB8-04C184D9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8714-3951-4C1C-B591-58752AE8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B8BF-3C0A-41D0-B15C-A73AE541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7A3A-E030-4581-B7DD-3AE0A45A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0E9A-76A8-4E51-8685-C48ABD4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0868-175D-45F3-8A10-9CBA6B09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F52D-CAA8-457C-B44A-3DE340DF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E2CD-BBAA-42D2-98E7-2C54FB2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D63-6933-45B4-BFED-585CCB67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DC20-E97F-46DD-9A05-B8AB57A0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9156-1B09-4CBC-94DA-BF8FCF10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697C-9D32-467E-934F-3F8E9250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FA30-E4D2-4B49-A048-34D2E320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2AB7-8211-4E29-80CC-3C2EF6A6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B18-27C5-490F-AF17-6212C3B1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1B7-FBB8-4FCF-9891-39615B44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ABB-71F4-4CFF-872F-AB3F958D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144-8B2E-4980-9389-C5F2EAA4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CB8-303D-4B16-A7A6-CD193CB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5F8-546C-4ED5-9F5A-871A55E4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03C-E691-4D00-AE68-6259E03B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54AF-FB4D-4153-89AD-8696AF1DA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217B-AB60-4755-9692-468ADBDB46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38240" y="1341000"/>
            <a:ext cx="5267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四年来我走访了四川、云南、湖南、湖北、安徽、江西、山东、贵州、青海省的一些贫困山区，孩子们握着铅笔的一幕幕让我无法忘怀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              ─ 莫  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1311120" y="2313000"/>
            <a:ext cx="6481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一个志愿者的走访记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0"/>
          <p:cNvGrpSpPr/>
          <p:nvPr/>
        </p:nvGrpSpPr>
        <p:grpSpPr>
          <a:xfrm>
            <a:off x="1476360" y="765000"/>
            <a:ext cx="1289160" cy="3517920"/>
            <a:chOff x="1476360" y="765000"/>
            <a:chExt cx="1289160" cy="3517920"/>
          </a:xfrm>
        </p:grpSpPr>
        <p:pic>
          <p:nvPicPr>
            <p:cNvPr id="85" name="Picture 61" descr=""/>
            <p:cNvPicPr/>
            <p:nvPr/>
          </p:nvPicPr>
          <p:blipFill>
            <a:blip r:embed="rId1"/>
            <a:stretch/>
          </p:blipFill>
          <p:spPr>
            <a:xfrm>
              <a:off x="1619280" y="765000"/>
              <a:ext cx="1146240" cy="31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2" descr="070605-1"/>
            <p:cNvPicPr/>
            <p:nvPr/>
          </p:nvPicPr>
          <p:blipFill>
            <a:blip r:embed="rId2"/>
            <a:srcRect l="0" t="0" r="53635" b="0"/>
            <a:stretch/>
          </p:blipFill>
          <p:spPr>
            <a:xfrm>
              <a:off x="1476360" y="3960720"/>
              <a:ext cx="431640" cy="32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59" descr="图片22"/>
          <p:cNvPicPr/>
          <p:nvPr/>
        </p:nvPicPr>
        <p:blipFill>
          <a:blip r:embed="rId3"/>
          <a:srcRect l="0" t="0" r="0" b="13962"/>
          <a:stretch/>
        </p:blipFill>
        <p:spPr>
          <a:xfrm>
            <a:off x="4211640" y="0"/>
            <a:ext cx="4900680" cy="52135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6"/>
          <p:cNvGrpSpPr/>
          <p:nvPr/>
        </p:nvGrpSpPr>
        <p:grpSpPr>
          <a:xfrm>
            <a:off x="0" y="5300640"/>
            <a:ext cx="32537520" cy="1076400"/>
            <a:chOff x="0" y="5300640"/>
            <a:chExt cx="32537520" cy="1076400"/>
          </a:xfrm>
        </p:grpSpPr>
        <p:pic>
          <p:nvPicPr>
            <p:cNvPr id="89" name="Picture 33" descr=""/>
            <p:cNvPicPr/>
            <p:nvPr/>
          </p:nvPicPr>
          <p:blipFill>
            <a:blip r:embed="rId4"/>
            <a:stretch/>
          </p:blipFill>
          <p:spPr>
            <a:xfrm>
              <a:off x="0" y="5300640"/>
              <a:ext cx="1626876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5" descr=""/>
            <p:cNvPicPr/>
            <p:nvPr/>
          </p:nvPicPr>
          <p:blipFill>
            <a:blip r:embed="rId5"/>
            <a:stretch/>
          </p:blipFill>
          <p:spPr>
            <a:xfrm>
              <a:off x="16268760" y="5300640"/>
              <a:ext cx="162687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sound2.mp3" descr=""/>
          <p:cNvPicPr/>
          <p:nvPr/>
        </p:nvPicPr>
        <p:blipFill>
          <a:blip r:embed="rId6"/>
          <a:stretch/>
        </p:blipFill>
        <p:spPr>
          <a:xfrm>
            <a:off x="845964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3630600" y="16668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一支铅笔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1.11111E-006 L -1.77917 1.11111E-006 E">
                                      <p:cBhvr>
                                        <p:cTn id="14" dur="2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1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2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2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2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图片23"/>
          <p:cNvPicPr/>
          <p:nvPr/>
        </p:nvPicPr>
        <p:blipFill>
          <a:blip r:embed="rId1"/>
          <a:stretch/>
        </p:blipFill>
        <p:spPr>
          <a:xfrm>
            <a:off x="2316240" y="345960"/>
            <a:ext cx="4511520" cy="616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图片24"/>
          <p:cNvPicPr/>
          <p:nvPr/>
        </p:nvPicPr>
        <p:blipFill>
          <a:blip r:embed="rId2"/>
          <a:stretch/>
        </p:blipFill>
        <p:spPr>
          <a:xfrm>
            <a:off x="2460600" y="907920"/>
            <a:ext cx="4127400" cy="482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图片25"/>
          <p:cNvPicPr/>
          <p:nvPr/>
        </p:nvPicPr>
        <p:blipFill>
          <a:blip r:embed="rId3"/>
          <a:stretch/>
        </p:blipFill>
        <p:spPr>
          <a:xfrm>
            <a:off x="1116000" y="947880"/>
            <a:ext cx="6966000" cy="466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图片26"/>
          <p:cNvPicPr/>
          <p:nvPr/>
        </p:nvPicPr>
        <p:blipFill>
          <a:blip r:embed="rId4"/>
          <a:stretch/>
        </p:blipFill>
        <p:spPr>
          <a:xfrm>
            <a:off x="2556000" y="720720"/>
            <a:ext cx="3973320" cy="508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图片27"/>
          <p:cNvPicPr/>
          <p:nvPr/>
        </p:nvPicPr>
        <p:blipFill>
          <a:blip r:embed="rId5"/>
          <a:stretch/>
        </p:blipFill>
        <p:spPr>
          <a:xfrm>
            <a:off x="1211400" y="957240"/>
            <a:ext cx="6719760" cy="494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图片28"/>
          <p:cNvPicPr/>
          <p:nvPr/>
        </p:nvPicPr>
        <p:blipFill>
          <a:blip r:embed="rId6"/>
          <a:srcRect l="0" t="16442" r="0" b="0"/>
          <a:stretch/>
        </p:blipFill>
        <p:spPr>
          <a:xfrm>
            <a:off x="1611360" y="0"/>
            <a:ext cx="5921280" cy="521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图片29"/>
          <p:cNvPicPr/>
          <p:nvPr/>
        </p:nvPicPr>
        <p:blipFill>
          <a:blip r:embed="rId7"/>
          <a:stretch/>
        </p:blipFill>
        <p:spPr>
          <a:xfrm>
            <a:off x="2744640" y="1123920"/>
            <a:ext cx="3654720" cy="460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图片30"/>
          <p:cNvPicPr/>
          <p:nvPr/>
        </p:nvPicPr>
        <p:blipFill>
          <a:blip r:embed="rId8"/>
          <a:stretch/>
        </p:blipFill>
        <p:spPr>
          <a:xfrm>
            <a:off x="2195640" y="1039680"/>
            <a:ext cx="3941640" cy="477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图片31"/>
          <p:cNvPicPr/>
          <p:nvPr/>
        </p:nvPicPr>
        <p:blipFill>
          <a:blip r:embed="rId9"/>
          <a:stretch/>
        </p:blipFill>
        <p:spPr>
          <a:xfrm>
            <a:off x="2798640" y="1068480"/>
            <a:ext cx="3502080" cy="4016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图片32"/>
          <p:cNvPicPr/>
          <p:nvPr/>
        </p:nvPicPr>
        <p:blipFill>
          <a:blip r:embed="rId10"/>
          <a:stretch/>
        </p:blipFill>
        <p:spPr>
          <a:xfrm>
            <a:off x="2195640" y="1357200"/>
            <a:ext cx="475272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1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2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91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640" y="3831840"/>
            <a:ext cx="734544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因为被大山、被那些渴望读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孩子所感动，一名普通的志愿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莫凡在国内发起“ 麦田计划 ”。一个纯民间助学团队，致力于改善中国贫困山区孩子 的教育环境，包括为贫困山区中小学生提供读书资助、兴建校舍、成立图书室等项目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968640" y="1182600"/>
            <a:ext cx="3772080" cy="252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2"/>
          <a:stretch/>
        </p:blipFill>
        <p:spPr>
          <a:xfrm>
            <a:off x="1276200" y="3083040"/>
            <a:ext cx="214344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24360" y="3428640"/>
            <a:ext cx="367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给贫困孩子一个机会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763640" y="2763720"/>
            <a:ext cx="3384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关注山那边的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4:03:31Z</dcterms:created>
  <dc:creator/>
  <dc:description/>
  <cp:keywords>幻灯片之家 http:/www.eeppt.com</cp:keywords>
  <dc:language>en-US</dc:language>
  <cp:lastModifiedBy/>
  <dcterms:modified xsi:type="dcterms:W3CDTF">2015-07-20T05:52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