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84A-0893-4B98-9E30-D3B55F93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BDF-244E-4FFD-8365-51C21A74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2D0-0516-48BC-BCF9-5FA51FCE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B94-9099-4902-8B50-FB3B213E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221-1318-4477-AE7D-B28A21CF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753-5850-4263-9540-BCD3D921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E4E-D725-4BCD-85F7-9BF90CFF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C73-3F93-4202-AE3A-CEFFB99B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35D-0FDE-435F-80BF-F3A2ADA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9E0-A7DF-4F94-AD1F-F82D50D1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70A-4D81-4E8D-8B46-BCE53D9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459-B719-431F-9D94-F340072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6EC7-5A53-438B-9BD5-3861BD302A5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2" name="Picture 4" descr="k07-006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91360" y="112536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祖父的园子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祖父的园子──“我”的乐园</a:t>
            </a:r>
            <a:br>
              <a:rPr sz="4000"/>
            </a:b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留心观察生活，用心感受生活，真实表达感受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0" name="Picture 4" descr="k07-0011"/>
          <p:cNvPicPr/>
          <p:nvPr/>
        </p:nvPicPr>
        <p:blipFill>
          <a:blip r:embed="rId2"/>
          <a:stretch/>
        </p:blipFill>
        <p:spPr>
          <a:xfrm>
            <a:off x="32400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1160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0" y="1689120"/>
            <a:ext cx="9144000" cy="440388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>
            <a:off x="3419640" y="2276640"/>
            <a:ext cx="1008000" cy="504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6084720" y="3213000"/>
            <a:ext cx="100836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6300720" y="4221000"/>
            <a:ext cx="100800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971640" y="5084640"/>
            <a:ext cx="100800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4AF-9D21-4BD7-AE94-B3E04AF2CB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06640" y="6405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6084720" y="4373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981000"/>
            <a:ext cx="1446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萧红（１９１１～１９４２）中国现代著名女作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黑龙江省呼兰县人，原名张乃莹。１９３５年在上海出版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成名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生死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时，开始用萧红作笔名，蜚声文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萧红不到 １０年的创作生涯中，为祖国文学宝库留下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近百万字的作品，深受广大读者的喜爱，具有广泛而深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影响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6" name="Picture 5" descr="k07-007a"/>
          <p:cNvPicPr/>
          <p:nvPr/>
        </p:nvPicPr>
        <p:blipFill>
          <a:blip r:embed="rId2"/>
          <a:stretch/>
        </p:blipFill>
        <p:spPr>
          <a:xfrm>
            <a:off x="5003640" y="342900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-603720"/>
            <a:ext cx="8791560" cy="59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zh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wēng       kě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蚂蚱    蝴蝶   蜻蜓    翁翁    啃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īng     b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ng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    pi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á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o    w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ō        dū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樱桃    蚌壳   水瓢    倭瓜    嘟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luo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下雨罗     光芒四射   蚯蚓    蝙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说说本文的主要内容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1" name="Picture 4" descr="k07-005"/>
          <p:cNvPicPr/>
          <p:nvPr/>
        </p:nvPicPr>
        <p:blipFill>
          <a:blip r:embed="rId2"/>
          <a:stretch/>
        </p:blipFill>
        <p:spPr>
          <a:xfrm>
            <a:off x="0" y="3116160"/>
            <a:ext cx="9144000" cy="301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作者回忆了童年时代在祖父的园子里快乐玩耍的哪些情景？</a:t>
            </a:r>
            <a:br>
              <a:rPr sz="4000"/>
            </a:b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" name="Picture 4" descr="k07-009a"/>
          <p:cNvPicPr/>
          <p:nvPr/>
        </p:nvPicPr>
        <p:blipFill>
          <a:blip r:embed="rId2"/>
          <a:stretch/>
        </p:blipFill>
        <p:spPr>
          <a:xfrm>
            <a:off x="3851280" y="1844640"/>
            <a:ext cx="493236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843560" y="1876320"/>
            <a:ext cx="548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用自己喜欢的方式再读课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找出自己喜欢的段落先自己练读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再读给同伴听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想一想，你为什么喜欢自己读的段落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有什么感受和体会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468360" y="388800"/>
            <a:ext cx="30240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阅读提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体会“我”在园子里的心情是怎样的？你是从哪里体会到的？用笔勾出相关句子，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2" name="Picture 4" descr="k07-008a"/>
          <p:cNvPicPr/>
          <p:nvPr/>
        </p:nvPicPr>
        <p:blipFill>
          <a:blip r:embed="rId2"/>
          <a:stretch/>
        </p:blipFill>
        <p:spPr>
          <a:xfrm>
            <a:off x="4859280" y="3213000"/>
            <a:ext cx="4176720" cy="33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我”在祖父的园子里是自由自在、快乐无忧的，“我”的童年生活是多彩有趣的，令人向往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作者为什么能将她的童年生活写得那样有趣，真实，吸引读者？</a:t>
            </a:r>
            <a:br>
              <a:rPr sz="4000"/>
            </a:b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0:03:01Z</dcterms:created>
  <dc:creator/>
  <dc:description/>
  <cp:keywords>幻灯片之家 http:/www.eeppt.com</cp:keywords>
  <dc:language>en-US</dc:language>
  <cp:lastModifiedBy/>
  <dcterms:modified xsi:type="dcterms:W3CDTF">2015-07-17T15:14:27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