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11.wmf" ContentType="image/x-wmf"/>
  <Override PartName="/ppt/media/image7.png" ContentType="image/png"/>
  <Override PartName="/ppt/media/image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84C-DB60-4046-A475-65597899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D1A-7029-491A-8AE8-EC9B24D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91B-A2ED-4174-A665-B016508C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D6F-5386-451C-9DB0-DDF8D50F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178-0C31-4A93-BE48-6717C0AD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50C-9FEC-4AA1-BE81-68439FD1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25B-17C1-462A-84B0-23A65FFF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C22-B95A-4BAE-AEEA-04371A8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9F2-6E6A-4C86-83CA-A2846183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5D7-2E43-4121-8FC6-3A0DDB8B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15C-2552-45E4-9DBF-C6CDA21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12B-197D-42D0-B82C-6969317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D858-A378-4456-BA82-D5BCF4FC80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audio" Target="file:///usr/lib/libreoffice/share/gallery/sounds/applause.wav" TargetMode="External"/><Relationship Id="rId5" Type="http://schemas.microsoft.com/office/2007/relationships/media" Target="file:///usr/lib/libreoffice/share/gallery/sounds/applause.wav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1332000" y="12682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5791320" y="4191120"/>
            <a:ext cx="2403360" cy="23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My Documents\小鸟.bmp"/>
          <p:cNvPicPr/>
          <p:nvPr/>
        </p:nvPicPr>
        <p:blipFill>
          <a:blip r:embed="rId2"/>
          <a:stretch/>
        </p:blipFill>
        <p:spPr>
          <a:xfrm>
            <a:off x="457200" y="457200"/>
            <a:ext cx="3247920" cy="2376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93600" y="245556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幼圆"/>
              </a:rPr>
              <a:t>天有多大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4230720" y="898560"/>
            <a:ext cx="3959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35560" y="2276640"/>
            <a:ext cx="28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坐井观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6477120" y="4343400"/>
            <a:ext cx="2403360" cy="2324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33520" y="12952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    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朋友，我天天坐在井里，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幼圆"/>
              </a:rPr>
              <a:t>抬头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就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幼圆"/>
              </a:rPr>
              <a:t>看见天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，我不会</a:t>
            </a:r>
            <a:r>
              <a:rPr b="1" lang="zh-CN" sz="5400" spc="-1" strike="noStrike">
                <a:solidFill>
                  <a:srgbClr val="3366cc"/>
                </a:solidFill>
                <a:latin typeface="Times New Roman"/>
                <a:ea typeface="幼圆"/>
              </a:rPr>
              <a:t>弄错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的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27"/>
          <p:cNvSpPr/>
          <p:nvPr/>
        </p:nvSpPr>
        <p:spPr>
          <a:xfrm>
            <a:off x="1752480" y="1981080"/>
            <a:ext cx="1143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他一笑   ，大牙就露出来了 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28" descr="C:\Program Files\Common Files\Microsoft Shared\Clipart\cagcat50\PE01832_.wmf"/>
          <p:cNvPicPr/>
          <p:nvPr/>
        </p:nvPicPr>
        <p:blipFill>
          <a:blip r:embed="rId1"/>
          <a:stretch/>
        </p:blipFill>
        <p:spPr>
          <a:xfrm>
            <a:off x="3657600" y="1752480"/>
            <a:ext cx="5086440" cy="4648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3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一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就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E:\My Documents\13.JPG"/>
          <p:cNvPicPr/>
          <p:nvPr/>
        </p:nvPicPr>
        <p:blipFill>
          <a:blip r:embed="rId1"/>
          <a:stretch/>
        </p:blipFill>
        <p:spPr>
          <a:xfrm>
            <a:off x="-14400" y="252360"/>
            <a:ext cx="9172800" cy="6353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643200" y="1332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一……就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100400" y="2925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My Documents\小鸟ddd.bmp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008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905120" y="26668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朋友，你是</a:t>
            </a:r>
            <a:r>
              <a:rPr b="1" lang="zh-CN" sz="5400" spc="-1" strike="noStrike">
                <a:solidFill>
                  <a:srgbClr val="3366cc"/>
                </a:solidFill>
                <a:latin typeface="Times New Roman"/>
                <a:ea typeface="幼圆"/>
              </a:rPr>
              <a:t>弄错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了。不信，你跳出井口来看一看吧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Object 4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24001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Object 5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264816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Object 6" descr=""/>
          <p:cNvPicPr/>
          <p:nvPr/>
        </p:nvPicPr>
        <p:blipFill>
          <a:blip r:embed="rId4"/>
          <a:stretch/>
        </p:blipFill>
        <p:spPr>
          <a:xfrm>
            <a:off x="6781680" y="2362320"/>
            <a:ext cx="1314720" cy="485640"/>
          </a:xfrm>
          <a:prstGeom prst="rect">
            <a:avLst/>
          </a:prstGeom>
          <a:ln w="0">
            <a:noFill/>
          </a:ln>
        </p:spPr>
      </p:pic>
      <p:pic>
        <p:nvPicPr>
          <p:cNvPr id="95" name="Object 7" descr=""/>
          <p:cNvPicPr/>
          <p:nvPr/>
        </p:nvPicPr>
        <p:blipFill>
          <a:blip r:embed="rId5"/>
          <a:stretch/>
        </p:blipFill>
        <p:spPr>
          <a:xfrm>
            <a:off x="990720" y="3276720"/>
            <a:ext cx="7467480" cy="85860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" descr=""/>
          <p:cNvPicPr/>
          <p:nvPr/>
        </p:nvPicPr>
        <p:blipFill>
          <a:blip r:embed="rId6"/>
          <a:stretch/>
        </p:blipFill>
        <p:spPr>
          <a:xfrm>
            <a:off x="3429000" y="4648320"/>
            <a:ext cx="1981080" cy="1744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1088280" y="144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不过井口那么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62120" y="1676520"/>
            <a:ext cx="8153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坐井观天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是指有些人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见识少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看事情简单、片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E:\My Documents\5.JPG"/>
          <p:cNvPicPr/>
          <p:nvPr/>
        </p:nvPicPr>
        <p:blipFill>
          <a:blip r:embed="rId1"/>
          <a:stretch/>
        </p:blipFill>
        <p:spPr>
          <a:xfrm>
            <a:off x="-4680" y="-204840"/>
            <a:ext cx="9401040" cy="726768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3"/>
          <p:cNvSpPr/>
          <p:nvPr/>
        </p:nvSpPr>
        <p:spPr>
          <a:xfrm>
            <a:off x="4267080" y="6311880"/>
            <a:ext cx="2362320" cy="546120"/>
          </a:xfrm>
          <a:custGeom>
            <a:avLst/>
            <a:gdLst/>
            <a:ahLst/>
            <a:rect l="l" t="t" r="r" b="b"/>
            <a:pathLst>
              <a:path w="1488" h="344">
                <a:moveTo>
                  <a:pt x="0" y="344"/>
                </a:moveTo>
                <a:cubicBezTo>
                  <a:pt x="8" y="252"/>
                  <a:pt x="16" y="160"/>
                  <a:pt x="144" y="104"/>
                </a:cubicBezTo>
                <a:cubicBezTo>
                  <a:pt x="272" y="48"/>
                  <a:pt x="576" y="0"/>
                  <a:pt x="768" y="8"/>
                </a:cubicBezTo>
                <a:cubicBezTo>
                  <a:pt x="960" y="16"/>
                  <a:pt x="1176" y="96"/>
                  <a:pt x="1296" y="152"/>
                </a:cubicBezTo>
                <a:cubicBezTo>
                  <a:pt x="1416" y="208"/>
                  <a:pt x="1456" y="312"/>
                  <a:pt x="1488" y="344"/>
                </a:cubicBezTo>
              </a:path>
            </a:pathLst>
          </a:cu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Program Files\Common Files\Microsoft Shared\Clipart\cagcat50\AN02542_.wmf"/>
          <p:cNvPicPr/>
          <p:nvPr/>
        </p:nvPicPr>
        <p:blipFill>
          <a:blip r:embed="rId2"/>
          <a:stretch/>
        </p:blipFill>
        <p:spPr>
          <a:xfrm>
            <a:off x="3809880" y="5029200"/>
            <a:ext cx="20574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AAE-4CD9-4DCB-A100-EE5B31707B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E:\My Documents\6.JPG"/>
          <p:cNvPicPr/>
          <p:nvPr/>
        </p:nvPicPr>
        <p:blipFill>
          <a:blip r:embed="rId1"/>
          <a:stretch/>
        </p:blipFill>
        <p:spPr>
          <a:xfrm>
            <a:off x="-108000" y="-387360"/>
            <a:ext cx="9248760" cy="6888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Program Files\Common Files\Microsoft Shared\Clipart\cagcat50\AN02542_.wmf"/>
          <p:cNvPicPr/>
          <p:nvPr/>
        </p:nvPicPr>
        <p:blipFill>
          <a:blip r:embed="rId2"/>
          <a:stretch/>
        </p:blipFill>
        <p:spPr>
          <a:xfrm>
            <a:off x="4343400" y="1905120"/>
            <a:ext cx="2403360" cy="22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890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E:\My Documents\17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:\My Documents\3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28600" y="68400"/>
            <a:ext cx="326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不过井口那么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E:\My Documents\4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724280" y="480060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33"/>
                </a:solidFill>
                <a:latin typeface="Times New Roman"/>
                <a:ea typeface="隶书"/>
              </a:rPr>
              <a:t>无边无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0" descr="E:\My Documents\5.JPG"/>
          <p:cNvPicPr/>
          <p:nvPr/>
        </p:nvPicPr>
        <p:blipFill>
          <a:blip r:embed="rId1"/>
          <a:stretch/>
        </p:blipFill>
        <p:spPr>
          <a:xfrm>
            <a:off x="-128520" y="-204840"/>
            <a:ext cx="9401040" cy="7267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38080" y="457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青蛙坐在井里，它看到了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34340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733920" y="74674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4114800" y="6585120"/>
            <a:ext cx="2362320" cy="545760"/>
          </a:xfrm>
          <a:custGeom>
            <a:avLst/>
            <a:gdLst/>
            <a:ahLst/>
            <a:rect l="l" t="t" r="r" b="b"/>
            <a:pathLst>
              <a:path w="1488" h="344">
                <a:moveTo>
                  <a:pt x="0" y="344"/>
                </a:moveTo>
                <a:cubicBezTo>
                  <a:pt x="8" y="252"/>
                  <a:pt x="16" y="160"/>
                  <a:pt x="144" y="104"/>
                </a:cubicBezTo>
                <a:cubicBezTo>
                  <a:pt x="272" y="48"/>
                  <a:pt x="576" y="0"/>
                  <a:pt x="768" y="8"/>
                </a:cubicBezTo>
                <a:cubicBezTo>
                  <a:pt x="960" y="16"/>
                  <a:pt x="1176" y="96"/>
                  <a:pt x="1296" y="152"/>
                </a:cubicBezTo>
                <a:cubicBezTo>
                  <a:pt x="1416" y="208"/>
                  <a:pt x="1456" y="312"/>
                  <a:pt x="1488" y="344"/>
                </a:cubicBezTo>
              </a:path>
            </a:pathLst>
          </a:cu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C:\Program Files\Common Files\Microsoft Shared\Clipart\cagcat50\AN02542_.wmf"/>
          <p:cNvPicPr/>
          <p:nvPr/>
        </p:nvPicPr>
        <p:blipFill>
          <a:blip r:embed="rId2"/>
          <a:stretch/>
        </p:blipFill>
        <p:spPr>
          <a:xfrm>
            <a:off x="3962520" y="5410080"/>
            <a:ext cx="2098440" cy="2028960"/>
          </a:xfrm>
          <a:prstGeom prst="rect">
            <a:avLst/>
          </a:prstGeom>
          <a:ln w="0">
            <a:noFill/>
          </a:ln>
        </p:spPr>
      </p:pic>
      <p:sp>
        <p:nvSpPr>
          <p:cNvPr id="58" name="Freeform 19"/>
          <p:cNvSpPr/>
          <p:nvPr/>
        </p:nvSpPr>
        <p:spPr>
          <a:xfrm>
            <a:off x="2362320" y="1981080"/>
            <a:ext cx="1371600" cy="76212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480"/>
                </a:moveTo>
                <a:cubicBezTo>
                  <a:pt x="12" y="428"/>
                  <a:pt x="24" y="376"/>
                  <a:pt x="48" y="336"/>
                </a:cubicBezTo>
                <a:cubicBezTo>
                  <a:pt x="72" y="296"/>
                  <a:pt x="104" y="272"/>
                  <a:pt x="144" y="240"/>
                </a:cubicBezTo>
                <a:cubicBezTo>
                  <a:pt x="184" y="208"/>
                  <a:pt x="224" y="176"/>
                  <a:pt x="288" y="144"/>
                </a:cubicBezTo>
                <a:cubicBezTo>
                  <a:pt x="352" y="112"/>
                  <a:pt x="432" y="72"/>
                  <a:pt x="528" y="48"/>
                </a:cubicBezTo>
                <a:cubicBezTo>
                  <a:pt x="624" y="24"/>
                  <a:pt x="800" y="8"/>
                  <a:pt x="8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22"/>
          <p:cNvSpPr/>
          <p:nvPr/>
        </p:nvSpPr>
        <p:spPr>
          <a:xfrm>
            <a:off x="2362320" y="2895480"/>
            <a:ext cx="1676160" cy="533520"/>
          </a:xfrm>
          <a:custGeom>
            <a:avLst/>
            <a:gdLst/>
            <a:ahLst/>
            <a:rect l="l" t="t" r="r" b="b"/>
            <a:pathLst>
              <a:path w="1056" h="336">
                <a:moveTo>
                  <a:pt x="0" y="0"/>
                </a:moveTo>
                <a:cubicBezTo>
                  <a:pt x="64" y="52"/>
                  <a:pt x="128" y="104"/>
                  <a:pt x="192" y="144"/>
                </a:cubicBezTo>
                <a:cubicBezTo>
                  <a:pt x="256" y="184"/>
                  <a:pt x="304" y="216"/>
                  <a:pt x="384" y="240"/>
                </a:cubicBezTo>
                <a:cubicBezTo>
                  <a:pt x="464" y="264"/>
                  <a:pt x="560" y="272"/>
                  <a:pt x="672" y="288"/>
                </a:cubicBezTo>
                <a:cubicBezTo>
                  <a:pt x="784" y="304"/>
                  <a:pt x="992" y="328"/>
                  <a:pt x="1056" y="3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ject 23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5238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E:\My Documents\6.JPG"/>
          <p:cNvPicPr/>
          <p:nvPr/>
        </p:nvPicPr>
        <p:blipFill>
          <a:blip r:embed="rId1"/>
          <a:stretch/>
        </p:blipFill>
        <p:spPr>
          <a:xfrm>
            <a:off x="-52560" y="-14400"/>
            <a:ext cx="9249120" cy="688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My Documents\小鸟1.bmp"/>
          <p:cNvPicPr/>
          <p:nvPr/>
        </p:nvPicPr>
        <p:blipFill>
          <a:blip r:embed="rId2"/>
          <a:stretch/>
        </p:blipFill>
        <p:spPr>
          <a:xfrm>
            <a:off x="3352680" y="1305000"/>
            <a:ext cx="243864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1295280" y="990720"/>
            <a:ext cx="19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井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989280" y="304920"/>
            <a:ext cx="220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ng  y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6689880" y="990720"/>
            <a:ext cx="168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井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5372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6898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6898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5867280" y="4419720"/>
            <a:ext cx="2632320" cy="2235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008520" y="43020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8000"/>
                </a:solidFill>
                <a:latin typeface="Times New Roman"/>
              </a:rPr>
              <a:t>你从哪儿来呀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My Documents\小鸟ddd.bmp"/>
          <p:cNvPicPr/>
          <p:nvPr/>
        </p:nvPicPr>
        <p:blipFill>
          <a:blip r:embed="rId1"/>
          <a:stretch/>
        </p:blipFill>
        <p:spPr>
          <a:xfrm>
            <a:off x="0" y="533520"/>
            <a:ext cx="2790720" cy="2233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981080" y="2743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       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我从天上来，飞了一百多里，口渴了，下来找点水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6095880" y="4286160"/>
            <a:ext cx="2556000" cy="2571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838080" y="13921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朋友，别说</a:t>
            </a: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幼圆"/>
              </a:rPr>
              <a:t>大话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了，天不过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幼圆"/>
              </a:rPr>
              <a:t>井口那么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，还用飞那么远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My Documents\小鸟ddd.bmp"/>
          <p:cNvPicPr/>
          <p:nvPr/>
        </p:nvPicPr>
        <p:blipFill>
          <a:blip r:embed="rId1"/>
          <a:stretch/>
        </p:blipFill>
        <p:spPr>
          <a:xfrm>
            <a:off x="304920" y="228600"/>
            <a:ext cx="2333520" cy="1905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33520" y="350532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   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你弄错了，天</a:t>
            </a:r>
            <a:r>
              <a:rPr b="1" lang="zh-CN" sz="6000" spc="-1" strike="noStrike" u="sng">
                <a:solidFill>
                  <a:srgbClr val="cc0000"/>
                </a:solidFill>
                <a:uFillTx/>
                <a:latin typeface="Times New Roman"/>
                <a:ea typeface="幼圆"/>
              </a:rPr>
              <a:t>无边无际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幼圆"/>
              </a:rPr>
              <a:t>，大得很哪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5:46:52Z</dcterms:created>
  <dc:creator/>
  <dc:description/>
  <cp:keywords>幻灯片之家 http:/www.eeppt.com</cp:keywords>
  <dc:language>en-US</dc:language>
  <cp:lastModifiedBy/>
  <dcterms:modified xsi:type="dcterms:W3CDTF">2015-07-18T13:48:1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