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0D1-1420-4C1B-BB9A-918BF12E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0CD-1B07-4855-9A96-10B00B1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844-C991-48E5-9E34-DA102B27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AED-CD76-47B5-B374-2BB03E86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F72-5F42-4478-A559-FF7B67A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94A-DC32-4D22-B9A3-36AAF97F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85C-1669-4D34-AE1A-7C025D53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096-A16F-4E0D-B765-602F2A6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692-1668-4F2A-BD3E-85603DE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462-22EE-4194-85E2-FCF91B8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CD7-3AA9-440B-8DBF-56CE206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685-B350-42E0-B90F-0C77CE5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360" cy="1601640"/>
            <a:chOff x="203040" y="276120"/>
            <a:chExt cx="1260360" cy="160164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1640"/>
              <a:chOff x="203040" y="276120"/>
              <a:chExt cx="1170000" cy="1601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480" y="431640"/>
                <a:ext cx="9511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360"/>
                <a:chOff x="203040" y="1076400"/>
                <a:chExt cx="1170000" cy="80136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36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5720" cy="80136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000" y="334800"/>
              <a:ext cx="833400" cy="762120"/>
              <a:chOff x="63000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00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24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040" y="45216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709D-7682-4794-B369-33724C0B9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2"/>
          <a:srcRect l="0" t="4621" r="0" b="0"/>
          <a:stretch/>
        </p:blipFill>
        <p:spPr>
          <a:xfrm>
            <a:off x="2700360" y="2781360"/>
            <a:ext cx="3645000" cy="260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4800" y="1270080"/>
            <a:ext cx="28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004e"/>
                </a:solidFill>
                <a:latin typeface="Times New Roman"/>
              </a:rPr>
              <a:t>《装满昆虫的衣袋</a:t>
            </a:r>
            <a:r>
              <a:rPr b="1" lang="en-US" sz="3600" spc="-1" strike="noStrike">
                <a:solidFill>
                  <a:srgbClr val="2a004e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2a004e"/>
                </a:solidFill>
                <a:latin typeface="Times New Roman"/>
              </a:rPr>
              <a:t>》</a:t>
            </a:r>
            <a:r>
              <a:rPr b="1" lang="en-US" sz="3600" spc="-1" strike="noStrike">
                <a:solidFill>
                  <a:srgbClr val="2a004e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2a004e"/>
                </a:solidFill>
                <a:latin typeface="Times New Roman"/>
              </a:rPr>
              <a:t>课件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E:\周文涤\昆虫2.jpg"/>
          <p:cNvPicPr/>
          <p:nvPr/>
        </p:nvPicPr>
        <p:blipFill>
          <a:blip r:embed="rId2"/>
          <a:stretch/>
        </p:blipFill>
        <p:spPr>
          <a:xfrm>
            <a:off x="684360" y="0"/>
            <a:ext cx="3528720" cy="495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周文涤\昆虫.jpg"/>
          <p:cNvPicPr/>
          <p:nvPr/>
        </p:nvPicPr>
        <p:blipFill>
          <a:blip r:embed="rId3"/>
          <a:stretch/>
        </p:blipFill>
        <p:spPr>
          <a:xfrm>
            <a:off x="4389480" y="0"/>
            <a:ext cx="315432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838080" y="49356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7f"/>
                </a:solidFill>
                <a:latin typeface="宋体"/>
              </a:rPr>
              <a:t>昆虫记</a:t>
            </a:r>
            <a:r>
              <a:rPr b="1" lang="en-US" sz="2800" spc="-1" strike="noStrike">
                <a:solidFill>
                  <a:srgbClr val="00007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7f"/>
                </a:solidFill>
                <a:latin typeface="宋体"/>
              </a:rPr>
              <a:t>是法布尔的传世佳作，亦是一部不朽的世界名著。它熔作者毕生的研究成果和人生感悟于一炉，将昆虫世界化做供人类获得知识、趣味、美感和思想的美文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7200" y="140508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在池塘的深处，水甲虫在活泼地跳跃着，它的前翅的尖端带着一个气泡，这个 气泡是帮助它呼吸用的。它的胸下有一片胸翼，在阳光下闪闪发光，像佩带在一个 威武的大将军胸前的一块闪着银光的胸甲。在水面上，我们可以看到一堆闪着亮光 的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蚌蛛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在打着转，欢快地扭动着，不对，那不是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蚌蛛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，其实那是豉</a:t>
            </a:r>
            <a:r>
              <a:rPr b="1" lang="en-US" sz="3200" spc="-1" strike="noStrike">
                <a:solidFill>
                  <a:srgbClr val="00007f"/>
                </a:solidFill>
                <a:latin typeface="宋体"/>
              </a:rPr>
              <a:t>(chǐ)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虫们在 开舞会呢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                  </a:t>
            </a:r>
            <a:r>
              <a:rPr b="1" lang="en-US" sz="3200" spc="-1" strike="noStrike">
                <a:solidFill>
                  <a:srgbClr val="00007f"/>
                </a:solidFill>
                <a:latin typeface="宋体"/>
              </a:rPr>
              <a:t>--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节选自</a:t>
            </a:r>
            <a:r>
              <a:rPr b="1" lang="en-US" sz="3200" spc="-1" strike="noStrike">
                <a:solidFill>
                  <a:srgbClr val="00007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7f"/>
                </a:solidFill>
                <a:latin typeface="宋体"/>
              </a:rPr>
              <a:t>昆虫记</a:t>
            </a:r>
            <a:r>
              <a:rPr b="1" lang="en-US" sz="3200" spc="-1" strike="noStrike">
                <a:solidFill>
                  <a:srgbClr val="00007f"/>
                </a:solidFill>
                <a:latin typeface="宋体"/>
              </a:rPr>
              <a:t>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447920" y="24685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法布尔高高鼓起的衣袋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81080" y="402264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Times New Roman"/>
              </a:rPr>
              <a:t>（                                          ）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75680" y="3198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还塞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438360" y="3198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许许多多的昆虫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573560" y="3198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塞满了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522800" y="3960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满了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7720" y="6297480"/>
            <a:ext cx="675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2a004e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2a004e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2a004e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2a004e"/>
                </a:solidFill>
                <a:latin typeface="楷体"/>
                <a:ea typeface="楷体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114800" y="2819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触角细长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52080" y="38862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歌声动听的纺织娘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53440" y="140184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一只全身翠绿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229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cc00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5DF-A8AE-47DD-9F49-D916C6C522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9"/>
          <p:cNvSpPr/>
          <p:nvPr/>
        </p:nvSpPr>
        <p:spPr>
          <a:xfrm>
            <a:off x="1619280" y="692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5"/>
              </a:rPr>
              <a:t>www.1ppt.com/kejian/yingyu/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7"/>
              </a:rPr>
              <a:t>/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4"/>
              </a:rPr>
              <a:t>www.1ppt.com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6"/>
              </a:rPr>
              <a:t>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7"/>
              </a:rPr>
              <a:t>www.1ppt.com/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8"/>
              </a:rPr>
              <a:t>kejian</a:t>
            </a:r>
            <a:r>
              <a:rPr b="1" lang="en-US" sz="100" spc="-1" strike="noStrike" u="sng">
                <a:solidFill>
                  <a:srgbClr val="ffff00"/>
                </a:solidFill>
                <a:uFillTx/>
                <a:latin typeface="Calibri"/>
                <a:hlinkClick r:id="rId19"/>
              </a:rPr>
              <a:t>/yuwen/167/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952880" y="23623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04920" y="4724280"/>
            <a:ext cx="8572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f"/>
                </a:solidFill>
                <a:latin typeface="宋体"/>
              </a:rPr>
              <a:t>纺织娘分布于我国华东、华南地区。隶属于昆虫纲。身体为褐色或绿色。头顶、前胸背板两侧及前翅的折叠处为黄褐色。头短而圆。复眼位于长的丝状触角两侧。翅发达，前翅略短于后翅。雄性翅上有两片透明的发声器。常栖息于较阴凉的灌木丛、林荫下的草丛中。行动迟缓。鸣声为</a:t>
            </a:r>
            <a:r>
              <a:rPr b="1" lang="zh-CN" sz="2800" spc="-1" strike="noStrike">
                <a:solidFill>
                  <a:srgbClr val="00007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7f"/>
                </a:solidFill>
                <a:latin typeface="宋体"/>
              </a:rPr>
              <a:t>轧织、轧织</a:t>
            </a:r>
            <a:r>
              <a:rPr b="1" lang="en-US" sz="2800" spc="-1" strike="noStrike">
                <a:solidFill>
                  <a:srgbClr val="00007f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00007f"/>
                </a:solidFill>
                <a:latin typeface="宋体"/>
              </a:rPr>
              <a:t>，好象织布的声音，因此得名。以桑树芽等植物为食。产卵于植物的嫩梢上，有一定的危害性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8" descr="http://www.bjbug.com/special/friends/vicky/images/or0002.jpg"/>
          <p:cNvPicPr/>
          <p:nvPr/>
        </p:nvPicPr>
        <p:blipFill>
          <a:blip r:embed="rId20"/>
          <a:stretch/>
        </p:blipFill>
        <p:spPr>
          <a:xfrm>
            <a:off x="4419720" y="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bjbug.com/insect/orthoptera/images/or00019.jpg"/>
          <p:cNvPicPr/>
          <p:nvPr/>
        </p:nvPicPr>
        <p:blipFill>
          <a:blip r:embed="rId21"/>
          <a:stretch/>
        </p:blipFill>
        <p:spPr>
          <a:xfrm>
            <a:off x="228600" y="65160"/>
            <a:ext cx="3875040" cy="29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114800" y="2819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触角细长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52080" y="38862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歌声动听的纺织娘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53440" y="175248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一只全身翠绿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990720" y="25146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妈妈，我在这儿呢！瞧，我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450160" y="33526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到了那只会唱歌的虫子！”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609480" y="39625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比樱桃还要小，颜色比蓝天还要蓝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457880" y="2438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一只闪烁着金属光泽的小甲虫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2438280"/>
            <a:ext cx="937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法布尔高兴极了，他把这个小宝贝放进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牛壳里，包上树叶，装进自己的衣袋，打算回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068200" y="3962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家后再好好欣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5800" y="297180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达尔文在</a:t>
            </a:r>
            <a:r>
              <a:rPr b="1" lang="en-US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物种起源</a:t>
            </a:r>
            <a:r>
              <a:rPr b="1" lang="en-US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7f"/>
                </a:solidFill>
                <a:latin typeface="Times New Roman"/>
                <a:ea typeface="仿宋_GB2312"/>
              </a:rPr>
              <a:t>中称赞法布尔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0" y="4419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7f"/>
                </a:solidFill>
                <a:latin typeface="Times New Roman"/>
              </a:rPr>
              <a:t>无与伦比的观察者”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09:05:48Z</dcterms:created>
  <dc:creator/>
  <dc:description/>
  <cp:keywords>幻灯片之家 http:/www.eeppt.com</cp:keywords>
  <dc:language>en-US</dc:language>
  <cp:lastModifiedBy/>
  <dcterms:modified xsi:type="dcterms:W3CDTF">2015-07-18T13:57:42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