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FA0-F8E6-4916-9C9B-51819735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35E-2025-4641-BB34-A5430F9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5A5-BFC6-4822-98A1-3C4F6356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B46-B8C6-4188-892D-72449C99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144-008A-4550-AEF3-3E21CC7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0EC-50EC-4593-A27D-9D18CD73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348-598F-45EF-BD96-3208D31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626-4FE1-4E7B-8376-2ADA5B4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104-5396-4D92-9F60-99C382E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19F-EA0F-4B6D-A1ED-B61B256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028-C711-4257-8D66-7A5DFEE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EC8-3FCE-4311-B7E4-5E90060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02C3-9160-4845-9CCB-9B5B993F7D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:\设计素材\封面（完成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60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190960" y="765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我介绍的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设计素材\正文1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设计素材\正文2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设计素材\正文3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:\设计素材\正文4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26C-5E94-4B9E-A89B-710CB85904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:\设计素材\正文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7:41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ee03000000000001024140</vt:lpwstr>
  </property>
</Properties>
</file>