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50BA-9B70-4139-ACEE-372A9D8B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DCE-7E6B-4EB4-BBB0-6B3E159B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E752-02CB-4C50-B58A-F1021B9C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4DED-4A7A-42D2-B7A2-D3AF97D3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A47-0FF7-4AC1-8F8B-2A44E612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80C4-C2F1-4BBF-B7C1-6F893B12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9112-0C5A-4FFA-AC76-E748696A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5AB-81F9-48AA-BB68-E835AD8D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7A34-B4E2-46F7-88AD-0E433279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F6F7-0FF7-444E-96AA-BF724490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06F3-D197-41FE-A1BE-871E24B8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D5AA-2D23-4CBC-AA67-10B38198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EBB4-95DF-4EC6-8DBB-6EEAB2DB3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260,6,&#24187;&#28783;&#29255; 6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1871640" y="242100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17"/>
          <a:stretch/>
        </p:blipFill>
        <p:spPr>
          <a:xfrm>
            <a:off x="1619280" y="1989000"/>
            <a:ext cx="5616720" cy="3789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61200" y="1052640"/>
            <a:ext cx="19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珍珠鸟》说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珍珠鸟"/>
          <p:cNvPicPr/>
          <p:nvPr/>
        </p:nvPicPr>
        <p:blipFill>
          <a:blip r:embed="rId2"/>
          <a:srcRect l="0" t="0" r="0" b="16829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《珍珠鸟》插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360720" y="609480"/>
            <a:ext cx="1010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3300"/>
                </a:solidFill>
                <a:uFillTx/>
                <a:latin typeface="Times New Roman"/>
                <a:ea typeface="隶书"/>
                <a:hlinkClick r:id="rId3"/>
              </a:rPr>
              <a:t>冯骥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685800" y="2449440"/>
            <a:ext cx="784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珍珠鸟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照料与呵护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发生了哪些变化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写这篇文章想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诉我们什么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说你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信赖，往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创造出美好的境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句话的理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438280" y="838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阅读提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《珍珠鸟》课文朗读.MP3" descr=""/>
          <p:cNvPicPr/>
          <p:nvPr/>
        </p:nvPicPr>
        <p:blipFill>
          <a:blip r:embed="rId2"/>
          <a:stretch/>
        </p:blipFill>
        <p:spPr>
          <a:xfrm>
            <a:off x="5715000" y="9907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800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362320" y="4572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读读下列词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33520" y="1981080"/>
            <a:ext cx="8001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巢穴   藤蔓   覆盖   幽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笛儿   瞅瞅   猜到   雏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掀开   添食   柜顶   画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嚓嚓   享受   涂蜡   嗒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63E-8FF3-4EFC-80F7-F2D09331D1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9"/>
          <p:cNvSpPr txBox="1"/>
          <p:nvPr/>
        </p:nvSpPr>
        <p:spPr>
          <a:xfrm>
            <a:off x="762120" y="3284640"/>
            <a:ext cx="2314440" cy="12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</a:rPr>
              <a:t>信赖</a:t>
            </a:r>
            <a:endParaRPr b="0" lang="en-US" sz="6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58" name="Picture 4" descr="金山珍珠"/>
          <p:cNvPicPr/>
          <p:nvPr/>
        </p:nvPicPr>
        <p:blipFill>
          <a:blip r:embed="rId4"/>
          <a:stretch/>
        </p:blipFill>
        <p:spPr>
          <a:xfrm>
            <a:off x="2805120" y="0"/>
            <a:ext cx="6338880" cy="4492800"/>
          </a:xfrm>
          <a:prstGeom prst="rect">
            <a:avLst/>
          </a:prstGeom>
          <a:ln w="0">
            <a:noFill/>
          </a:ln>
        </p:spPr>
      </p:pic>
      <p:sp>
        <p:nvSpPr>
          <p:cNvPr id="59" name="WordArt 6"/>
          <p:cNvSpPr txBox="1"/>
          <p:nvPr/>
        </p:nvSpPr>
        <p:spPr>
          <a:xfrm>
            <a:off x="685800" y="1531800"/>
            <a:ext cx="231444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信赖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0" name="WordArt 7"/>
          <p:cNvSpPr txBox="1"/>
          <p:nvPr/>
        </p:nvSpPr>
        <p:spPr>
          <a:xfrm>
            <a:off x="838080" y="4884840"/>
            <a:ext cx="8001000" cy="12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往往创造出美好的境界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1" name="WordArt 8"/>
          <p:cNvSpPr txBox="1"/>
          <p:nvPr/>
        </p:nvSpPr>
        <p:spPr>
          <a:xfrm>
            <a:off x="685800" y="2446200"/>
            <a:ext cx="231444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信赖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45100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蓝模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冯骥才"/>
          <p:cNvPicPr/>
          <p:nvPr/>
        </p:nvPicPr>
        <p:blipFill>
          <a:blip r:embed="rId3"/>
          <a:stretch/>
        </p:blipFill>
        <p:spPr>
          <a:xfrm>
            <a:off x="0" y="0"/>
            <a:ext cx="493884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5334120" y="1447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当代作家。以写知识分子生活和天津近代历史故事见长。注意选取新颖的视角，用多变的艺术手法，细致深入的描写，开掘生活的底蕴，咀嚼人生的况味。部分作品已被译成英、法、德、日、俄等文字在国外出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5880" y="3049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冯骥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8720" y="63817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09:20:54Z</dcterms:created>
  <dc:creator/>
  <dc:description/>
  <cp:keywords>幻灯片之家 http:/www.eeppt.com</cp:keywords>
  <dc:language>en-US</dc:language>
  <cp:lastModifiedBy/>
  <dcterms:modified xsi:type="dcterms:W3CDTF">2015-07-17T14:52:54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