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B6F-60D6-452E-A229-C3142212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DEA-82E4-43E2-AD23-1F4AF38D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969-D7CE-4F65-8D3F-D4B28850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171-4794-4797-865A-99478C44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EFE-288C-40B4-9754-E1AF5546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220-E836-48DE-A700-0C75B20D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E81-F796-4AEA-9822-21D1CDB0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3B3-005F-40BB-8D53-41D26827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72B-5A61-46D3-8908-7ED3A078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FB4-D50A-4E0F-859C-EA68E1B8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42D-7711-4CA8-8DB7-DCF69811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73D-C1AC-4349-B9D6-BEB36D54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0811-F402-4E56-90BD-BFB0BC16A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hyperlink" Target="http://www.eeppt.com/moban/kejian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09680" y="2514600"/>
            <a:ext cx="30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37200" y="2514600"/>
            <a:ext cx="27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乘法口诀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47"/>
          <p:cNvSpPr/>
          <p:nvPr/>
        </p:nvSpPr>
        <p:spPr>
          <a:xfrm>
            <a:off x="857160" y="17352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46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5" descr="台湾卡通矢量图 - 植物篇 - Q版卡通树木26 - 卡通树木向量图26"/>
          <p:cNvPicPr/>
          <p:nvPr/>
        </p:nvPicPr>
        <p:blipFill>
          <a:blip r:embed="rId1"/>
          <a:stretch/>
        </p:blipFill>
        <p:spPr>
          <a:xfrm>
            <a:off x="395280" y="907920"/>
            <a:ext cx="1301760" cy="151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台湾卡通矢量图 - 植物篇 - Q版卡通树木26 - 卡通树木向量图26"/>
          <p:cNvPicPr/>
          <p:nvPr/>
        </p:nvPicPr>
        <p:blipFill>
          <a:blip r:embed="rId2"/>
          <a:stretch/>
        </p:blipFill>
        <p:spPr>
          <a:xfrm>
            <a:off x="1835280" y="907920"/>
            <a:ext cx="1301760" cy="151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台湾卡通矢量图 - 植物篇 - Q版卡通树木26 - 卡通树木向量图26"/>
          <p:cNvPicPr/>
          <p:nvPr/>
        </p:nvPicPr>
        <p:blipFill>
          <a:blip r:embed="rId3"/>
          <a:stretch/>
        </p:blipFill>
        <p:spPr>
          <a:xfrm>
            <a:off x="3276720" y="907920"/>
            <a:ext cx="1301760" cy="151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台湾卡通矢量图 - 植物篇 - Q版卡通树木26 - 卡通树木向量图26"/>
          <p:cNvPicPr/>
          <p:nvPr/>
        </p:nvPicPr>
        <p:blipFill>
          <a:blip r:embed="rId4"/>
          <a:stretch/>
        </p:blipFill>
        <p:spPr>
          <a:xfrm>
            <a:off x="4716360" y="907920"/>
            <a:ext cx="1301760" cy="151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台湾卡通矢量图 - 植物篇 - Q版卡通树木26 - 卡通树木向量图26"/>
          <p:cNvPicPr/>
          <p:nvPr/>
        </p:nvPicPr>
        <p:blipFill>
          <a:blip r:embed="rId5"/>
          <a:stretch/>
        </p:blipFill>
        <p:spPr>
          <a:xfrm>
            <a:off x="7591320" y="979560"/>
            <a:ext cx="130176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台湾卡通矢量图 - 植物篇 - Q版卡通树木26 - 卡通树木向量图26"/>
          <p:cNvPicPr/>
          <p:nvPr/>
        </p:nvPicPr>
        <p:blipFill>
          <a:blip r:embed="rId6"/>
          <a:stretch/>
        </p:blipFill>
        <p:spPr>
          <a:xfrm>
            <a:off x="6084720" y="981000"/>
            <a:ext cx="1301760" cy="15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68360" y="2708280"/>
          <a:ext cx="8280360" cy="1081080"/>
        </p:xfrm>
        <a:graphic>
          <a:graphicData uri="http://schemas.openxmlformats.org/drawingml/2006/table">
            <a:tbl>
              <a:tblPr/>
              <a:tblGrid>
                <a:gridCol w="1717560"/>
                <a:gridCol w="1092240"/>
                <a:gridCol w="1094040"/>
                <a:gridCol w="1093680"/>
                <a:gridCol w="1095480"/>
                <a:gridCol w="1091880"/>
                <a:gridCol w="109548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树（棵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苹果（个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37"/>
          <p:cNvSpPr/>
          <p:nvPr/>
        </p:nvSpPr>
        <p:spPr>
          <a:xfrm>
            <a:off x="2268360" y="321300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3348000" y="3213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4500720" y="3213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0"/>
          <p:cNvSpPr/>
          <p:nvPr/>
        </p:nvSpPr>
        <p:spPr>
          <a:xfrm>
            <a:off x="5508720" y="32194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1"/>
          <p:cNvSpPr/>
          <p:nvPr/>
        </p:nvSpPr>
        <p:spPr>
          <a:xfrm>
            <a:off x="6732720" y="3213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2"/>
          <p:cNvSpPr/>
          <p:nvPr/>
        </p:nvSpPr>
        <p:spPr>
          <a:xfrm>
            <a:off x="7740720" y="32194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3" descr="台湾卡通矢量图 - 人物篇 - 儿童小孩57 - 儿童向量图57"/>
          <p:cNvPicPr/>
          <p:nvPr/>
        </p:nvPicPr>
        <p:blipFill>
          <a:blip r:embed="rId7"/>
          <a:stretch/>
        </p:blipFill>
        <p:spPr>
          <a:xfrm>
            <a:off x="1187280" y="3860640"/>
            <a:ext cx="102564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4"/>
          <p:cNvSpPr/>
          <p:nvPr/>
        </p:nvSpPr>
        <p:spPr>
          <a:xfrm>
            <a:off x="2916360" y="4437000"/>
            <a:ext cx="5256000" cy="1297080"/>
          </a:xfrm>
          <a:prstGeom prst="cloudCallout">
            <a:avLst>
              <a:gd name="adj1" fmla="val -63226"/>
              <a:gd name="adj2" fmla="val -34087"/>
            </a:avLst>
          </a:prstGeom>
          <a:solidFill>
            <a:srgbClr val="cccc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同学们试着编一编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的乘法口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3244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65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5"/>
          <p:cNvSpPr/>
          <p:nvPr/>
        </p:nvSpPr>
        <p:spPr>
          <a:xfrm>
            <a:off x="250920" y="692280"/>
            <a:ext cx="8642160" cy="583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059280" y="1989000"/>
            <a:ext cx="2665080" cy="403236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203640" y="1989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一六得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203640" y="2655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二六十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203640" y="3284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三六十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987640" y="3933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四六二十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03640" y="459900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五六三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5508720" y="2349360"/>
            <a:ext cx="107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 flipH="1">
            <a:off x="2266560" y="2349360"/>
            <a:ext cx="100980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659640" y="20667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5508720" y="2998800"/>
            <a:ext cx="107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6659640" y="2716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5508720" y="3639960"/>
            <a:ext cx="107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6659640" y="3357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5651640" y="4292640"/>
            <a:ext cx="93636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659640" y="40114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5435640" y="494172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6659640" y="465948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50920" y="20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 flipH="1">
            <a:off x="2265480" y="2997360"/>
            <a:ext cx="1009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179280" y="270828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 flipH="1">
            <a:off x="2266560" y="3646440"/>
            <a:ext cx="100980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181080" y="3357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 flipH="1">
            <a:off x="2265120" y="4292640"/>
            <a:ext cx="866520" cy="14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179280" y="400536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0"/>
          <p:cNvSpPr/>
          <p:nvPr/>
        </p:nvSpPr>
        <p:spPr>
          <a:xfrm flipH="1">
            <a:off x="2266560" y="4941720"/>
            <a:ext cx="1009800" cy="64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181080" y="46594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987640" y="52484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351a"/>
                </a:solidFill>
                <a:latin typeface="Arial"/>
                <a:ea typeface="华文新魏"/>
              </a:rPr>
              <a:t>六六三十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3"/>
          <p:cNvSpPr/>
          <p:nvPr/>
        </p:nvSpPr>
        <p:spPr>
          <a:xfrm flipH="1">
            <a:off x="2265120" y="5661000"/>
            <a:ext cx="793800" cy="79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179280" y="538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1692360" y="549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ff"/>
                </a:solidFill>
                <a:latin typeface="华文新魏"/>
                <a:ea typeface="华文新魏"/>
              </a:rPr>
              <a:t>6</a:t>
            </a:r>
            <a:r>
              <a:rPr b="1" lang="zh-CN" sz="7200" spc="-1" strike="noStrike">
                <a:solidFill>
                  <a:srgbClr val="cc00ff"/>
                </a:solidFill>
                <a:latin typeface="华文新魏"/>
                <a:ea typeface="华文新魏"/>
              </a:rPr>
              <a:t>的乘法口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8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38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8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38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8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38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00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6"/>
          <p:cNvGrpSpPr/>
          <p:nvPr/>
        </p:nvGrpSpPr>
        <p:grpSpPr>
          <a:xfrm>
            <a:off x="900000" y="3835440"/>
            <a:ext cx="3456000" cy="2305080"/>
            <a:chOff x="900000" y="3835440"/>
            <a:chExt cx="3456000" cy="2305080"/>
          </a:xfrm>
        </p:grpSpPr>
        <p:sp>
          <p:nvSpPr>
            <p:cNvPr id="103" name="AutoShape 7"/>
            <p:cNvSpPr/>
            <p:nvPr/>
          </p:nvSpPr>
          <p:spPr>
            <a:xfrm>
              <a:off x="900000" y="3835440"/>
              <a:ext cx="3382920" cy="2305080"/>
            </a:xfrm>
            <a:prstGeom prst="bevel">
              <a:avLst>
                <a:gd name="adj" fmla="val 2833"/>
              </a:avLst>
            </a:prstGeom>
            <a:solidFill>
              <a:srgbClr val="ffff99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8" descr="L2355s"/>
            <p:cNvPicPr/>
            <p:nvPr/>
          </p:nvPicPr>
          <p:blipFill>
            <a:blip r:embed="rId2"/>
            <a:stretch/>
          </p:blipFill>
          <p:spPr>
            <a:xfrm>
              <a:off x="1044360" y="4111560"/>
              <a:ext cx="15051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2555640" y="3861000"/>
              <a:ext cx="180036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辆小汽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轮子的个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0"/>
          <p:cNvGrpSpPr/>
          <p:nvPr/>
        </p:nvGrpSpPr>
        <p:grpSpPr>
          <a:xfrm>
            <a:off x="4932360" y="981000"/>
            <a:ext cx="3382920" cy="2351160"/>
            <a:chOff x="4932360" y="981000"/>
            <a:chExt cx="3382920" cy="2351160"/>
          </a:xfrm>
        </p:grpSpPr>
        <p:sp>
          <p:nvSpPr>
            <p:cNvPr id="107" name="AutoShape 11"/>
            <p:cNvSpPr/>
            <p:nvPr/>
          </p:nvSpPr>
          <p:spPr>
            <a:xfrm>
              <a:off x="4932360" y="1027080"/>
              <a:ext cx="3382920" cy="2305080"/>
            </a:xfrm>
            <a:prstGeom prst="bevel">
              <a:avLst>
                <a:gd name="adj" fmla="val 2833"/>
              </a:avLst>
            </a:prstGeom>
            <a:solidFill>
              <a:srgbClr val="ffff99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2" descr="台湾矢量卡通图库 - 趣味动物篇 - 卡通鸟图片3 - 卡通鸟向量图3"/>
            <p:cNvPicPr/>
            <p:nvPr/>
          </p:nvPicPr>
          <p:blipFill>
            <a:blip r:embed="rId3"/>
            <a:stretch/>
          </p:blipFill>
          <p:spPr>
            <a:xfrm>
              <a:off x="5148360" y="1388880"/>
              <a:ext cx="81900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3"/>
            <p:cNvSpPr/>
            <p:nvPr/>
          </p:nvSpPr>
          <p:spPr>
            <a:xfrm>
              <a:off x="6373800" y="981000"/>
              <a:ext cx="180036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只鹦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腿的条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4933800" y="3835440"/>
            <a:ext cx="3382920" cy="2305080"/>
            <a:chOff x="4933800" y="3835440"/>
            <a:chExt cx="3382920" cy="2305080"/>
          </a:xfrm>
        </p:grpSpPr>
        <p:sp>
          <p:nvSpPr>
            <p:cNvPr id="111" name="AutoShape 15"/>
            <p:cNvSpPr/>
            <p:nvPr/>
          </p:nvSpPr>
          <p:spPr>
            <a:xfrm>
              <a:off x="4933800" y="3835440"/>
              <a:ext cx="3382920" cy="2305080"/>
            </a:xfrm>
            <a:prstGeom prst="bevel">
              <a:avLst>
                <a:gd name="adj" fmla="val 2833"/>
              </a:avLst>
            </a:prstGeom>
            <a:solidFill>
              <a:srgbClr val="ffff99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6" descr="台湾卡通矢量图 - 植物篇 - Q版卡通花卉12 - 卡通花卉向量图12"/>
            <p:cNvPicPr/>
            <p:nvPr/>
          </p:nvPicPr>
          <p:blipFill>
            <a:blip r:embed="rId4"/>
            <a:stretch/>
          </p:blipFill>
          <p:spPr>
            <a:xfrm>
              <a:off x="6951600" y="4052880"/>
              <a:ext cx="11430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7"/>
            <p:cNvSpPr/>
            <p:nvPr/>
          </p:nvSpPr>
          <p:spPr>
            <a:xfrm>
              <a:off x="5148000" y="3835440"/>
              <a:ext cx="172908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朵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花瓣的片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973080" y="981000"/>
            <a:ext cx="3382920" cy="2351160"/>
            <a:chOff x="973080" y="981000"/>
            <a:chExt cx="3382920" cy="2351160"/>
          </a:xfrm>
        </p:grpSpPr>
        <p:sp>
          <p:nvSpPr>
            <p:cNvPr id="115" name="AutoShape 19"/>
            <p:cNvSpPr/>
            <p:nvPr/>
          </p:nvSpPr>
          <p:spPr>
            <a:xfrm>
              <a:off x="973080" y="1027080"/>
              <a:ext cx="3382920" cy="2305080"/>
            </a:xfrm>
            <a:prstGeom prst="bevel">
              <a:avLst>
                <a:gd name="adj" fmla="val 2833"/>
              </a:avLst>
            </a:prstGeom>
            <a:solidFill>
              <a:srgbClr val="ffff99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20" descr="insect034s"/>
            <p:cNvPicPr/>
            <p:nvPr/>
          </p:nvPicPr>
          <p:blipFill>
            <a:blip r:embed="rId5"/>
            <a:stretch/>
          </p:blipFill>
          <p:spPr>
            <a:xfrm>
              <a:off x="2700360" y="1763640"/>
              <a:ext cx="1504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1"/>
            <p:cNvSpPr/>
            <p:nvPr/>
          </p:nvSpPr>
          <p:spPr>
            <a:xfrm>
              <a:off x="1044360" y="981000"/>
              <a:ext cx="180036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只蚱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腿的条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19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7705800" cy="5838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7812000" y="692280"/>
            <a:ext cx="115272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Arial"/>
              </a:rPr>
              <a:t>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979640" y="907920"/>
            <a:ext cx="6864480" cy="5540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26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6"/>
          <p:cNvSpPr/>
          <p:nvPr/>
        </p:nvSpPr>
        <p:spPr>
          <a:xfrm>
            <a:off x="2700360" y="132552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627280" y="247824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556000" y="3645000"/>
            <a:ext cx="367164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556000" y="4925880"/>
            <a:ext cx="6048360" cy="94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台湾卡通矢量图 - 人物篇 - 讲师教授12 - 教师向量图12"/>
          <p:cNvPicPr/>
          <p:nvPr/>
        </p:nvPicPr>
        <p:blipFill>
          <a:blip r:embed="rId2"/>
          <a:stretch/>
        </p:blipFill>
        <p:spPr>
          <a:xfrm>
            <a:off x="244440" y="3573360"/>
            <a:ext cx="2239920" cy="2924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684360" y="1125360"/>
            <a:ext cx="107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99"/>
                </a:solidFill>
                <a:latin typeface="Arial"/>
              </a:rPr>
              <a:t>计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7A5-9102-4720-BE3F-6C726BD739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 rot="21352200">
            <a:off x="2057400" y="896400"/>
            <a:ext cx="7093080" cy="5772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39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6" descr="台湾卡通矢量图 - 人物篇 - 讲师教授12 - 教师向量图12"/>
          <p:cNvPicPr/>
          <p:nvPr/>
        </p:nvPicPr>
        <p:blipFill>
          <a:blip r:embed="rId2"/>
          <a:stretch/>
        </p:blipFill>
        <p:spPr>
          <a:xfrm>
            <a:off x="244440" y="3573360"/>
            <a:ext cx="2239920" cy="2924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84360" y="1125360"/>
            <a:ext cx="107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99"/>
                </a:solidFill>
                <a:latin typeface="Arial"/>
              </a:rPr>
              <a:t>计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2050920" y="826560"/>
            <a:ext cx="5256360" cy="1245960"/>
            <a:chOff x="2050920" y="826560"/>
            <a:chExt cx="5256360" cy="1245960"/>
          </a:xfrm>
        </p:grpSpPr>
        <p:sp>
          <p:nvSpPr>
            <p:cNvPr id="144" name="Text Box 9"/>
            <p:cNvSpPr/>
            <p:nvPr/>
          </p:nvSpPr>
          <p:spPr>
            <a:xfrm>
              <a:off x="2050920" y="1125360"/>
              <a:ext cx="52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×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＋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0"/>
            <p:cNvGrpSpPr/>
            <p:nvPr/>
          </p:nvGrpSpPr>
          <p:grpSpPr>
            <a:xfrm>
              <a:off x="4845960" y="826560"/>
              <a:ext cx="1245960" cy="1245960"/>
              <a:chOff x="4845960" y="826560"/>
              <a:chExt cx="1245960" cy="1245960"/>
            </a:xfrm>
          </p:grpSpPr>
          <p:sp>
            <p:nvSpPr>
              <p:cNvPr id="146" name="AutoShape 11"/>
              <p:cNvSpPr/>
              <p:nvPr/>
            </p:nvSpPr>
            <p:spPr>
              <a:xfrm rot="20092200">
                <a:off x="5000400" y="981000"/>
                <a:ext cx="936720" cy="936720"/>
              </a:xfrm>
              <a:custGeom>
                <a:avLst/>
                <a:gdLst>
                  <a:gd name="textAreaLeft" fmla="*/ 214920 w 936720"/>
                  <a:gd name="textAreaRight" fmla="*/ 721800 w 93672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2"/>
              <p:cNvSpPr/>
              <p:nvPr/>
            </p:nvSpPr>
            <p:spPr>
              <a:xfrm rot="20092200">
                <a:off x="5139720" y="1119960"/>
                <a:ext cx="65952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3"/>
          <p:cNvGrpSpPr/>
          <p:nvPr/>
        </p:nvGrpSpPr>
        <p:grpSpPr>
          <a:xfrm>
            <a:off x="3492360" y="1761840"/>
            <a:ext cx="5256360" cy="1245600"/>
            <a:chOff x="3492360" y="1761840"/>
            <a:chExt cx="5256360" cy="1245600"/>
          </a:xfrm>
        </p:grpSpPr>
        <p:sp>
          <p:nvSpPr>
            <p:cNvPr id="149" name="Text Box 14"/>
            <p:cNvSpPr/>
            <p:nvPr/>
          </p:nvSpPr>
          <p:spPr>
            <a:xfrm>
              <a:off x="3492360" y="2060280"/>
              <a:ext cx="52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×3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－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5"/>
            <p:cNvGrpSpPr/>
            <p:nvPr/>
          </p:nvGrpSpPr>
          <p:grpSpPr>
            <a:xfrm>
              <a:off x="6287400" y="1761840"/>
              <a:ext cx="1245600" cy="1245600"/>
              <a:chOff x="6287400" y="1761840"/>
              <a:chExt cx="1245600" cy="1245600"/>
            </a:xfrm>
          </p:grpSpPr>
          <p:sp>
            <p:nvSpPr>
              <p:cNvPr id="151" name="AutoShape 16"/>
              <p:cNvSpPr/>
              <p:nvPr/>
            </p:nvSpPr>
            <p:spPr>
              <a:xfrm rot="20092200">
                <a:off x="6441840" y="1916280"/>
                <a:ext cx="936720" cy="936360"/>
              </a:xfrm>
              <a:custGeom>
                <a:avLst/>
                <a:gdLst>
                  <a:gd name="textAreaLeft" fmla="*/ 214920 w 936720"/>
                  <a:gd name="textAreaRight" fmla="*/ 721800 w 936720"/>
                  <a:gd name="textAreaTop" fmla="*/ 214920 h 936360"/>
                  <a:gd name="textAreaBottom" fmla="*/ 72144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7"/>
              <p:cNvSpPr/>
              <p:nvPr/>
            </p:nvSpPr>
            <p:spPr>
              <a:xfrm rot="20092200">
                <a:off x="6581160" y="2054880"/>
                <a:ext cx="659520" cy="6591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18"/>
          <p:cNvGrpSpPr/>
          <p:nvPr/>
        </p:nvGrpSpPr>
        <p:grpSpPr>
          <a:xfrm>
            <a:off x="1979640" y="2698200"/>
            <a:ext cx="5256360" cy="1245960"/>
            <a:chOff x="1979640" y="2698200"/>
            <a:chExt cx="5256360" cy="1245960"/>
          </a:xfrm>
        </p:grpSpPr>
        <p:sp>
          <p:nvSpPr>
            <p:cNvPr id="154" name="Text Box 19"/>
            <p:cNvSpPr/>
            <p:nvPr/>
          </p:nvSpPr>
          <p:spPr>
            <a:xfrm>
              <a:off x="1979640" y="2997000"/>
              <a:ext cx="52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×4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＋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20"/>
            <p:cNvGrpSpPr/>
            <p:nvPr/>
          </p:nvGrpSpPr>
          <p:grpSpPr>
            <a:xfrm>
              <a:off x="4774680" y="2698200"/>
              <a:ext cx="1245960" cy="1245960"/>
              <a:chOff x="4774680" y="2698200"/>
              <a:chExt cx="1245960" cy="1245960"/>
            </a:xfrm>
          </p:grpSpPr>
          <p:sp>
            <p:nvSpPr>
              <p:cNvPr id="156" name="AutoShape 21"/>
              <p:cNvSpPr/>
              <p:nvPr/>
            </p:nvSpPr>
            <p:spPr>
              <a:xfrm rot="20092200">
                <a:off x="4929120" y="2852640"/>
                <a:ext cx="936720" cy="936720"/>
              </a:xfrm>
              <a:custGeom>
                <a:avLst/>
                <a:gdLst>
                  <a:gd name="textAreaLeft" fmla="*/ 214920 w 936720"/>
                  <a:gd name="textAreaRight" fmla="*/ 721800 w 93672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22"/>
              <p:cNvSpPr/>
              <p:nvPr/>
            </p:nvSpPr>
            <p:spPr>
              <a:xfrm rot="20092200">
                <a:off x="5068440" y="2991600"/>
                <a:ext cx="65952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23"/>
          <p:cNvGrpSpPr/>
          <p:nvPr/>
        </p:nvGrpSpPr>
        <p:grpSpPr>
          <a:xfrm>
            <a:off x="3564000" y="3634560"/>
            <a:ext cx="5256000" cy="1245960"/>
            <a:chOff x="3564000" y="3634560"/>
            <a:chExt cx="5256000" cy="1245960"/>
          </a:xfrm>
        </p:grpSpPr>
        <p:sp>
          <p:nvSpPr>
            <p:cNvPr id="159" name="Text Box 24"/>
            <p:cNvSpPr/>
            <p:nvPr/>
          </p:nvSpPr>
          <p:spPr>
            <a:xfrm>
              <a:off x="3564000" y="3933720"/>
              <a:ext cx="52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×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－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25"/>
            <p:cNvGrpSpPr/>
            <p:nvPr/>
          </p:nvGrpSpPr>
          <p:grpSpPr>
            <a:xfrm>
              <a:off x="6358680" y="3634560"/>
              <a:ext cx="1245600" cy="1245960"/>
              <a:chOff x="6358680" y="3634560"/>
              <a:chExt cx="1245600" cy="1245960"/>
            </a:xfrm>
          </p:grpSpPr>
          <p:sp>
            <p:nvSpPr>
              <p:cNvPr id="161" name="AutoShape 26"/>
              <p:cNvSpPr/>
              <p:nvPr/>
            </p:nvSpPr>
            <p:spPr>
              <a:xfrm rot="20092200">
                <a:off x="6513120" y="3789000"/>
                <a:ext cx="936360" cy="936720"/>
              </a:xfrm>
              <a:custGeom>
                <a:avLst/>
                <a:gdLst>
                  <a:gd name="textAreaLeft" fmla="*/ 214920 w 936360"/>
                  <a:gd name="textAreaRight" fmla="*/ 721440 w 93636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7"/>
              <p:cNvSpPr/>
              <p:nvPr/>
            </p:nvSpPr>
            <p:spPr>
              <a:xfrm rot="20092200">
                <a:off x="6652080" y="3928320"/>
                <a:ext cx="65916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28"/>
          <p:cNvGrpSpPr/>
          <p:nvPr/>
        </p:nvGrpSpPr>
        <p:grpSpPr>
          <a:xfrm>
            <a:off x="1979640" y="4569840"/>
            <a:ext cx="5256360" cy="1245960"/>
            <a:chOff x="1979640" y="4569840"/>
            <a:chExt cx="5256360" cy="1245960"/>
          </a:xfrm>
        </p:grpSpPr>
        <p:sp>
          <p:nvSpPr>
            <p:cNvPr id="164" name="Text Box 29"/>
            <p:cNvSpPr/>
            <p:nvPr/>
          </p:nvSpPr>
          <p:spPr>
            <a:xfrm>
              <a:off x="1979640" y="4868640"/>
              <a:ext cx="525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×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＋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30"/>
            <p:cNvGrpSpPr/>
            <p:nvPr/>
          </p:nvGrpSpPr>
          <p:grpSpPr>
            <a:xfrm>
              <a:off x="4774680" y="4569840"/>
              <a:ext cx="1245960" cy="1245960"/>
              <a:chOff x="4774680" y="4569840"/>
              <a:chExt cx="1245960" cy="1245960"/>
            </a:xfrm>
          </p:grpSpPr>
          <p:sp>
            <p:nvSpPr>
              <p:cNvPr id="166" name="AutoShape 31"/>
              <p:cNvSpPr/>
              <p:nvPr/>
            </p:nvSpPr>
            <p:spPr>
              <a:xfrm rot="20092200">
                <a:off x="4929120" y="4724280"/>
                <a:ext cx="936720" cy="936720"/>
              </a:xfrm>
              <a:custGeom>
                <a:avLst/>
                <a:gdLst>
                  <a:gd name="textAreaLeft" fmla="*/ 214920 w 936720"/>
                  <a:gd name="textAreaRight" fmla="*/ 721800 w 93672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2"/>
              <p:cNvSpPr/>
              <p:nvPr/>
            </p:nvSpPr>
            <p:spPr>
              <a:xfrm rot="20092200">
                <a:off x="5068440" y="4863240"/>
                <a:ext cx="65952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33"/>
          <p:cNvGrpSpPr/>
          <p:nvPr/>
        </p:nvGrpSpPr>
        <p:grpSpPr>
          <a:xfrm>
            <a:off x="3564000" y="5506200"/>
            <a:ext cx="5256000" cy="1245960"/>
            <a:chOff x="3564000" y="5506200"/>
            <a:chExt cx="5256000" cy="1245960"/>
          </a:xfrm>
        </p:grpSpPr>
        <p:sp>
          <p:nvSpPr>
            <p:cNvPr id="169" name="Text Box 34"/>
            <p:cNvSpPr/>
            <p:nvPr/>
          </p:nvSpPr>
          <p:spPr>
            <a:xfrm>
              <a:off x="3564000" y="5805360"/>
              <a:ext cx="52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×6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－　　　＝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35"/>
            <p:cNvGrpSpPr/>
            <p:nvPr/>
          </p:nvGrpSpPr>
          <p:grpSpPr>
            <a:xfrm>
              <a:off x="6358680" y="5506200"/>
              <a:ext cx="1245600" cy="1245960"/>
              <a:chOff x="6358680" y="5506200"/>
              <a:chExt cx="1245600" cy="1245960"/>
            </a:xfrm>
          </p:grpSpPr>
          <p:sp>
            <p:nvSpPr>
              <p:cNvPr id="171" name="AutoShape 36"/>
              <p:cNvSpPr/>
              <p:nvPr/>
            </p:nvSpPr>
            <p:spPr>
              <a:xfrm rot="20092200">
                <a:off x="6513120" y="5660640"/>
                <a:ext cx="936360" cy="936720"/>
              </a:xfrm>
              <a:custGeom>
                <a:avLst/>
                <a:gdLst>
                  <a:gd name="textAreaLeft" fmla="*/ 214920 w 936360"/>
                  <a:gd name="textAreaRight" fmla="*/ 721440 w 936360"/>
                  <a:gd name="textAreaTop" fmla="*/ 214920 h 936720"/>
                  <a:gd name="textAreaBottom" fmla="*/ 721800 h 9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40" y="13895"/>
                    </a:lnTo>
                    <a:lnTo>
                      <a:pt x="3163" y="18437"/>
                    </a:lnTo>
                    <a:lnTo>
                      <a:pt x="7572" y="18405"/>
                    </a:lnTo>
                    <a:lnTo>
                      <a:pt x="10800" y="21600"/>
                    </a:lnTo>
                    <a:lnTo>
                      <a:pt x="13895" y="18460"/>
                    </a:lnTo>
                    <a:lnTo>
                      <a:pt x="18437" y="18437"/>
                    </a:lnTo>
                    <a:lnTo>
                      <a:pt x="18405" y="14028"/>
                    </a:lnTo>
                    <a:lnTo>
                      <a:pt x="21600" y="10800"/>
                    </a:lnTo>
                    <a:lnTo>
                      <a:pt x="18460" y="7705"/>
                    </a:lnTo>
                    <a:lnTo>
                      <a:pt x="18437" y="3163"/>
                    </a:lnTo>
                    <a:lnTo>
                      <a:pt x="14028" y="3195"/>
                    </a:lnTo>
                    <a:lnTo>
                      <a:pt x="10800" y="0"/>
                    </a:lnTo>
                    <a:lnTo>
                      <a:pt x="7705" y="3140"/>
                    </a:lnTo>
                    <a:lnTo>
                      <a:pt x="3163" y="3163"/>
                    </a:lnTo>
                    <a:lnTo>
                      <a:pt x="3195" y="757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37"/>
              <p:cNvSpPr/>
              <p:nvPr/>
            </p:nvSpPr>
            <p:spPr>
              <a:xfrm rot="20092200">
                <a:off x="6652080" y="5799960"/>
                <a:ext cx="659160" cy="6595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Text Box 38"/>
          <p:cNvSpPr/>
          <p:nvPr/>
        </p:nvSpPr>
        <p:spPr>
          <a:xfrm>
            <a:off x="4932360" y="112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6443640" y="2060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4932360" y="3003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1"/>
          <p:cNvSpPr/>
          <p:nvPr/>
        </p:nvSpPr>
        <p:spPr>
          <a:xfrm>
            <a:off x="6443640" y="3933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4859280" y="486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6443640" y="58118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180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5" descr="frog011s"/>
          <p:cNvPicPr/>
          <p:nvPr/>
        </p:nvPicPr>
        <p:blipFill>
          <a:blip r:embed="rId1"/>
          <a:stretch/>
        </p:blipFill>
        <p:spPr>
          <a:xfrm>
            <a:off x="5759280" y="2852640"/>
            <a:ext cx="3144960" cy="3600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5291280" y="1484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华文新魏"/>
              </a:rPr>
              <a:t>数学游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539640" y="907920"/>
            <a:ext cx="4824360" cy="5473800"/>
          </a:xfrm>
          <a:custGeom>
            <a:avLst/>
            <a:gdLst>
              <a:gd name="textAreaLeft" fmla="*/ 235440 w 4824360"/>
              <a:gd name="textAreaRight" fmla="*/ 4588920 w 4824360"/>
              <a:gd name="textAreaTop" fmla="*/ 235440 h 5473800"/>
              <a:gd name="textAreaBottom" fmla="*/ 5238360 h 5473800"/>
            </a:gdLst>
            <a:ahLst/>
            <a:rect l="textAreaLeft" t="textAreaTop" r="textAreaRight" b="textAreaBottom"/>
            <a:pathLst>
              <a:path w="21600" h="24508">
                <a:moveTo>
                  <a:pt x="3600" y="0"/>
                </a:moveTo>
                <a:arcTo wR="3600" hR="3600" stAng="16200000" swAng="-5400000"/>
                <a:lnTo>
                  <a:pt x="0" y="20908"/>
                </a:lnTo>
                <a:arcTo wR="3600" hR="3600" stAng="10800000" swAng="-5400000"/>
                <a:lnTo>
                  <a:pt x="18000" y="245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8"/>
          <p:cNvGrpSpPr/>
          <p:nvPr/>
        </p:nvGrpSpPr>
        <p:grpSpPr>
          <a:xfrm>
            <a:off x="395280" y="1916280"/>
            <a:ext cx="5473800" cy="576000"/>
            <a:chOff x="395280" y="1916280"/>
            <a:chExt cx="5473800" cy="576000"/>
          </a:xfrm>
        </p:grpSpPr>
        <p:sp>
          <p:nvSpPr>
            <p:cNvPr id="186" name="Text Box 9"/>
            <p:cNvSpPr/>
            <p:nvPr/>
          </p:nvSpPr>
          <p:spPr>
            <a:xfrm>
              <a:off x="395280" y="1962000"/>
              <a:ext cx="54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10" descr="frog011s"/>
            <p:cNvPicPr/>
            <p:nvPr/>
          </p:nvPicPr>
          <p:blipFill>
            <a:blip r:embed="rId2"/>
            <a:stretch/>
          </p:blipFill>
          <p:spPr>
            <a:xfrm>
              <a:off x="1330200" y="1916280"/>
              <a:ext cx="50328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11"/>
          <p:cNvGrpSpPr/>
          <p:nvPr/>
        </p:nvGrpSpPr>
        <p:grpSpPr>
          <a:xfrm>
            <a:off x="324000" y="2637000"/>
            <a:ext cx="5473440" cy="576000"/>
            <a:chOff x="324000" y="2637000"/>
            <a:chExt cx="5473440" cy="576000"/>
          </a:xfrm>
        </p:grpSpPr>
        <p:sp>
          <p:nvSpPr>
            <p:cNvPr id="189" name="Text Box 12"/>
            <p:cNvSpPr/>
            <p:nvPr/>
          </p:nvSpPr>
          <p:spPr>
            <a:xfrm>
              <a:off x="324000" y="2682720"/>
              <a:ext cx="54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13" descr="frog011s"/>
            <p:cNvPicPr/>
            <p:nvPr/>
          </p:nvPicPr>
          <p:blipFill>
            <a:blip r:embed="rId3"/>
            <a:stretch/>
          </p:blipFill>
          <p:spPr>
            <a:xfrm>
              <a:off x="1258560" y="2637000"/>
              <a:ext cx="50292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14"/>
          <p:cNvGrpSpPr/>
          <p:nvPr/>
        </p:nvGrpSpPr>
        <p:grpSpPr>
          <a:xfrm>
            <a:off x="322200" y="3284640"/>
            <a:ext cx="5473800" cy="576000"/>
            <a:chOff x="322200" y="3284640"/>
            <a:chExt cx="5473800" cy="576000"/>
          </a:xfrm>
        </p:grpSpPr>
        <p:sp>
          <p:nvSpPr>
            <p:cNvPr id="192" name="Text Box 15"/>
            <p:cNvSpPr/>
            <p:nvPr/>
          </p:nvSpPr>
          <p:spPr>
            <a:xfrm>
              <a:off x="322200" y="3330360"/>
              <a:ext cx="54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16" descr="frog011s"/>
            <p:cNvPicPr/>
            <p:nvPr/>
          </p:nvPicPr>
          <p:blipFill>
            <a:blip r:embed="rId4"/>
            <a:stretch/>
          </p:blipFill>
          <p:spPr>
            <a:xfrm>
              <a:off x="1257120" y="3284640"/>
              <a:ext cx="50328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17"/>
          <p:cNvGrpSpPr/>
          <p:nvPr/>
        </p:nvGrpSpPr>
        <p:grpSpPr>
          <a:xfrm>
            <a:off x="324000" y="4005360"/>
            <a:ext cx="5473440" cy="503280"/>
            <a:chOff x="324000" y="4005360"/>
            <a:chExt cx="5473440" cy="503280"/>
          </a:xfrm>
        </p:grpSpPr>
        <p:sp>
          <p:nvSpPr>
            <p:cNvPr id="195" name="Text Box 18"/>
            <p:cNvSpPr/>
            <p:nvPr/>
          </p:nvSpPr>
          <p:spPr>
            <a:xfrm>
              <a:off x="324000" y="4045320"/>
              <a:ext cx="54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9" descr="frog011s"/>
            <p:cNvPicPr/>
            <p:nvPr/>
          </p:nvPicPr>
          <p:blipFill>
            <a:blip r:embed="rId5"/>
            <a:stretch/>
          </p:blipFill>
          <p:spPr>
            <a:xfrm>
              <a:off x="1258560" y="4005360"/>
              <a:ext cx="50292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20"/>
          <p:cNvGrpSpPr/>
          <p:nvPr/>
        </p:nvGrpSpPr>
        <p:grpSpPr>
          <a:xfrm>
            <a:off x="322200" y="4724280"/>
            <a:ext cx="5473800" cy="576360"/>
            <a:chOff x="322200" y="4724280"/>
            <a:chExt cx="5473800" cy="576360"/>
          </a:xfrm>
        </p:grpSpPr>
        <p:sp>
          <p:nvSpPr>
            <p:cNvPr id="198" name="Text Box 21"/>
            <p:cNvSpPr/>
            <p:nvPr/>
          </p:nvSpPr>
          <p:spPr>
            <a:xfrm>
              <a:off x="322200" y="4770360"/>
              <a:ext cx="54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2" descr="frog011s"/>
            <p:cNvPicPr/>
            <p:nvPr/>
          </p:nvPicPr>
          <p:blipFill>
            <a:blip r:embed="rId6"/>
            <a:stretch/>
          </p:blipFill>
          <p:spPr>
            <a:xfrm>
              <a:off x="1257120" y="4724280"/>
              <a:ext cx="50328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23"/>
          <p:cNvSpPr/>
          <p:nvPr/>
        </p:nvSpPr>
        <p:spPr>
          <a:xfrm>
            <a:off x="1116000" y="11937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看谁说得又对又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4"/>
          <p:cNvGrpSpPr/>
          <p:nvPr/>
        </p:nvGrpSpPr>
        <p:grpSpPr>
          <a:xfrm>
            <a:off x="304920" y="5410080"/>
            <a:ext cx="5473440" cy="576360"/>
            <a:chOff x="304920" y="5410080"/>
            <a:chExt cx="5473440" cy="576360"/>
          </a:xfrm>
        </p:grpSpPr>
        <p:sp>
          <p:nvSpPr>
            <p:cNvPr id="202" name="Text Box 25"/>
            <p:cNvSpPr/>
            <p:nvPr/>
          </p:nvSpPr>
          <p:spPr>
            <a:xfrm>
              <a:off x="304920" y="5456160"/>
              <a:ext cx="54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　　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张嘴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眼睛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‥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条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26" descr="frog011s"/>
            <p:cNvPicPr/>
            <p:nvPr/>
          </p:nvPicPr>
          <p:blipFill>
            <a:blip r:embed="rId7"/>
            <a:stretch/>
          </p:blipFill>
          <p:spPr>
            <a:xfrm>
              <a:off x="1239480" y="5410080"/>
              <a:ext cx="50292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1106640" y="63468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09:00:44Z</dcterms:created>
  <dc:creator/>
  <dc:description/>
  <cp:keywords>幻灯片之家 http:/www.eeppt.com</cp:keywords>
  <dc:language>en-US</dc:language>
  <cp:lastModifiedBy/>
  <dcterms:modified xsi:type="dcterms:W3CDTF">2015-07-04T03:50:00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