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gif" ContentType="image/gif"/>
  <Override PartName="/ppt/media/image16.jpeg" ContentType="image/jpeg"/>
  <Override PartName="/ppt/media/image8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20.gif" ContentType="image/gif"/>
  <Override PartName="/ppt/media/image7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7.gif" ContentType="image/gif"/>
  <Override PartName="/ppt/media/image15.gif" ContentType="image/gif"/>
  <Override PartName="/ppt/media/image18.png" ContentType="image/png"/>
  <Override PartName="/ppt/media/image14.gif" ContentType="image/gi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BCB-58E1-4419-A800-FF26D2F9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3155-B53E-489B-81F2-0BC105E5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998-EC1D-4B2C-A70C-ABDDC9BD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0CC-3F41-451F-BDE1-3D2F0765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586-B797-4E7B-B12C-F465DE23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705-B9E1-45B8-9D6E-1FDC02C5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10C-7027-4C3A-B645-DF7E6A37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579-3B56-46C3-A788-AC6CFA69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C30-B7F7-4423-B316-A3105CC8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75C-DADC-4E25-A9F4-F6D24BC0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515-AEC7-4953-B159-1E220D8A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DC1-AEF0-4C48-848C-92F601B7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1AE3-A5E7-4122-9521-20AFD325A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语文\图片\爱因斯坦4.gif"/>
          <p:cNvPicPr/>
          <p:nvPr/>
        </p:nvPicPr>
        <p:blipFill>
          <a:blip r:embed="rId1"/>
          <a:stretch/>
        </p:blipFill>
        <p:spPr>
          <a:xfrm>
            <a:off x="982800" y="2911320"/>
            <a:ext cx="1982520" cy="2868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995640" y="341784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成功</a:t>
            </a:r>
            <a:r>
              <a:rPr b="1" lang="en-US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艰苦的劳动</a:t>
            </a:r>
            <a:r>
              <a:rPr b="1" lang="en-US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正确的途径和方法</a:t>
            </a:r>
            <a:r>
              <a:rPr b="1" lang="en-US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不说空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1" descr="D:\图案\16.gif"/>
          <p:cNvPicPr/>
          <p:nvPr/>
        </p:nvPicPr>
        <p:blipFill>
          <a:blip r:embed="rId2"/>
          <a:stretch/>
        </p:blipFill>
        <p:spPr>
          <a:xfrm>
            <a:off x="7413480" y="549360"/>
            <a:ext cx="1443240" cy="2361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4760" y="76500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爱因斯坦和小女孩》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52280" y="144792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爱因斯坦的生活十分俭朴，穿戴也很普通。他未成名时，经常穿着一件旧大衣，步行在纽约繁华的大街上。一次，有位朋友碰见他，看他穿的大衣破旧极了，就劝他添件新的。他笑着说：“没关系，反正在纽约谁也不认识我。”数年后，他已成了赫赫有名的物理学家，工作、待客仍穿那件旧大衣。凑巧，他又和那位朋友相遇。朋友再三劝他换件新大衣，否则实在不相称了。爱因斯坦双手一摊，又笑了：“没关系，反正这里的每个人都认识我了！”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E:\周玉\素材\图案\131.gif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E:\周玉\素材\图案\141.gif"/>
          <p:cNvPicPr/>
          <p:nvPr/>
        </p:nvPicPr>
        <p:blipFill>
          <a:blip r:embed="rId2"/>
          <a:stretch/>
        </p:blipFill>
        <p:spPr>
          <a:xfrm>
            <a:off x="8077320" y="2286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E:\周玉\素材\图案\119.gif"/>
          <p:cNvPicPr/>
          <p:nvPr/>
        </p:nvPicPr>
        <p:blipFill>
          <a:blip r:embed="rId3"/>
          <a:stretch/>
        </p:blipFill>
        <p:spPr>
          <a:xfrm>
            <a:off x="2700360" y="5013360"/>
            <a:ext cx="3505320" cy="104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4720" y="333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33520" y="114300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要求 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速地通读课文，自由选择给你留下深刻印象的一次交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细地读一读。思考：这次相遇，小姑娘对爱因斯坦有怎样的印象？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。你从中又体会到爱因斯坦是一个怎样的人？同桌可以互相讨论。并练习有感情地朗读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D:\图案\4B398541019.gif"/>
          <p:cNvPicPr/>
          <p:nvPr/>
        </p:nvPicPr>
        <p:blipFill>
          <a:blip r:embed="rId1"/>
          <a:stretch/>
        </p:blipFill>
        <p:spPr>
          <a:xfrm>
            <a:off x="228600" y="49150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D:\图案\58199483_189819114454.gif"/>
          <p:cNvPicPr/>
          <p:nvPr/>
        </p:nvPicPr>
        <p:blipFill>
          <a:blip r:embed="rId2"/>
          <a:stretch/>
        </p:blipFill>
        <p:spPr>
          <a:xfrm>
            <a:off x="1828800" y="380880"/>
            <a:ext cx="5703840" cy="650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:\图案\366.gif"/>
          <p:cNvPicPr/>
          <p:nvPr/>
        </p:nvPicPr>
        <p:blipFill>
          <a:blip r:embed="rId3"/>
          <a:stretch/>
        </p:blipFill>
        <p:spPr>
          <a:xfrm>
            <a:off x="7086600" y="502920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24382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个连衣服也穿不整齐的人，怎么能是“最伟大的人”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D:\幻灯材料\边框\186.gif"/>
          <p:cNvPicPr/>
          <p:nvPr/>
        </p:nvPicPr>
        <p:blipFill>
          <a:blip r:embed="rId1"/>
          <a:stretch/>
        </p:blipFill>
        <p:spPr>
          <a:xfrm>
            <a:off x="228600" y="380880"/>
            <a:ext cx="398952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D:\幻灯材料\边框\184.gif"/>
          <p:cNvPicPr/>
          <p:nvPr/>
        </p:nvPicPr>
        <p:blipFill>
          <a:blip r:embed="rId2"/>
          <a:stretch/>
        </p:blipFill>
        <p:spPr>
          <a:xfrm>
            <a:off x="5257800" y="5715000"/>
            <a:ext cx="3714840" cy="731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28600" y="228600"/>
            <a:ext cx="84582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爱因斯坦投入地研究科学的例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                    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桥头等一位学生时，爱因斯坦掏出纸进行计算，雨水淋湿了他的衣服也没有觉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轻时的爱因斯坦推着儿子的小车在街头边走边思考问题，差点被马车撞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躺在病床上，朋友问他最需要什么？他双眼闪亮，低声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现在只希望有几个小时时间把一些稿子整理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直到逝世前他仍在忘我地工作、工作、再工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D:\幻灯材料\图案\__scale__1_377456853.gif"/>
          <p:cNvPicPr/>
          <p:nvPr/>
        </p:nvPicPr>
        <p:blipFill>
          <a:blip r:embed="rId1"/>
          <a:stretch/>
        </p:blipFill>
        <p:spPr>
          <a:xfrm>
            <a:off x="7086600" y="51055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14400" y="23623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说也是嘛，瞧你，穿衣服还不会呢，怎么谈得上伟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D:\幻灯材料\图案\7.gif"/>
          <p:cNvPicPr/>
          <p:nvPr/>
        </p:nvPicPr>
        <p:blipFill>
          <a:blip r:embed="rId1"/>
          <a:stretch/>
        </p:blipFill>
        <p:spPr>
          <a:xfrm>
            <a:off x="609480" y="533520"/>
            <a:ext cx="571680" cy="84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D:\幻灯材料\图案\15.gif"/>
          <p:cNvPicPr/>
          <p:nvPr/>
        </p:nvPicPr>
        <p:blipFill>
          <a:blip r:embed="rId2"/>
          <a:stretch/>
        </p:blipFill>
        <p:spPr>
          <a:xfrm>
            <a:off x="457200" y="4267080"/>
            <a:ext cx="170352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:\幻灯材料\图案\8.gif"/>
          <p:cNvPicPr/>
          <p:nvPr/>
        </p:nvPicPr>
        <p:blipFill>
          <a:blip r:embed="rId3"/>
          <a:stretch/>
        </p:blipFill>
        <p:spPr>
          <a:xfrm>
            <a:off x="7848720" y="533520"/>
            <a:ext cx="54900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50920" y="44280"/>
            <a:ext cx="86868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仅仅是一把糖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上午，爱因斯坦刚要走出办公室，助手过来告诉他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人想请你周末去做一次演讲，报酬是一万美金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没有丝毫犹豫，便一口回绝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周末有安排，没时间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道你不能少为苏菲补一次课吗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助手知道他每个周末都去给读初中的小女孩苏菲辅导数学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，我还想着她的糖果呢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笑眯眯地说道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的糖果就那么甜吗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助手想不明白。这一天，助手看到爱因斯坦从苏菲那里回来，助手忍不住好奇地问他为什么那样高兴。爱因斯坦告诉助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，苏菲的老师夸奖了她的进步，说她找了一个优秀的家庭教师。小姑娘也特别高兴，奖励了我一把糖果，这让我感到特别的愉快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，在这位大科学家眼里，小女孩灿烂的笑容和一把普通的糖果，就是甜润生命的最好的甘泉。多少年过去了，许多惊天动地的大事已经被人们渐渐淡忘了，但那一把糖果，那份一尘不染的真爱纯情，却穿过沧桑岁月，向我们传来依然甜润心灵的缕缕芬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D:\图案\pic_1098203948.gif"/>
          <p:cNvPicPr/>
          <p:nvPr/>
        </p:nvPicPr>
        <p:blipFill>
          <a:blip r:embed="rId1"/>
          <a:stretch/>
        </p:blipFill>
        <p:spPr>
          <a:xfrm>
            <a:off x="1476360" y="6021360"/>
            <a:ext cx="6389640" cy="53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D:\图案\200461014284788.gif"/>
          <p:cNvPicPr/>
          <p:nvPr/>
        </p:nvPicPr>
        <p:blipFill>
          <a:blip r:embed="rId2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D:\图案\200461014294410.gif"/>
          <p:cNvPicPr/>
          <p:nvPr/>
        </p:nvPicPr>
        <p:blipFill>
          <a:blip r:embed="rId3"/>
          <a:stretch/>
        </p:blipFill>
        <p:spPr>
          <a:xfrm>
            <a:off x="8207280" y="0"/>
            <a:ext cx="9367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8000" y="0"/>
            <a:ext cx="8991720" cy="21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爱因斯坦的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爱因斯坦遇事爱思考、研究，常常从一点小事中受到启发。有一次，他要把墙上的一幅旧画换下来，就搬来一架梯子，一步一步爬上去。突然，他又想起了一个问题，沉思起来。忘记了自己在做什么。这么一分神，使他猛地从梯子上摔了下来。摔到地上以后，他顾不得疼痛，马上想到：人为什么会笔直地摔下来呢？看来物体总是沿着阻力最小的线路运动的。爱因斯坦想到这里马上站起来，一瘸一拐地走到桌边提笔把自己的这个想法记下来，这对他正在研究的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对论，有很大的启发。</a:t>
            </a: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E:\周玉\素材\边框\056.gif"/>
          <p:cNvPicPr/>
          <p:nvPr/>
        </p:nvPicPr>
        <p:blipFill>
          <a:blip r:embed="rId1"/>
          <a:stretch/>
        </p:blipFill>
        <p:spPr>
          <a:xfrm>
            <a:off x="1908000" y="6093000"/>
            <a:ext cx="5715000" cy="59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3ED-5E2C-4152-A541-FD3DFCBC04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80880" y="10666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爱因斯坦是个非常珍惜时间的人。有一次，天下着毛毛雨，爱因斯坦头戴宽边帽，在桥上来回踱步，时而停下来思考，时而提笔在卡片上写着什么。凑巧，他的一位朋友坐着马车过来，探出头问：“你在这儿干什么呢？”“噢，我是应约在等一个学生。”朋友下了车又问：“瞧，衣服都湿了，一定等了好长时间，不可惜您的时间？”这时，爱因斯坦举起手中的卡片一晃说：“不，不！我非常有益地度过了这段时间，在这段时间里，我得到一个出色的想法呢！”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E:\周玉\素材\边框\010.gif"/>
          <p:cNvPicPr/>
          <p:nvPr/>
        </p:nvPicPr>
        <p:blipFill>
          <a:blip r:embed="rId1"/>
          <a:stretch/>
        </p:blipFill>
        <p:spPr>
          <a:xfrm>
            <a:off x="2209680" y="5181480"/>
            <a:ext cx="49532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1:45:57Z</dcterms:created>
  <dc:creator/>
  <dc:description/>
  <cp:keywords>幻灯片之家 http:/www.eeppt.com</cp:keywords>
  <dc:language>en-US</dc:language>
  <cp:lastModifiedBy/>
  <dcterms:modified xsi:type="dcterms:W3CDTF">2015-07-19T03:46:14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