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9D945-A9AD-4971-9BB6-26D4DDB8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8F687-9A47-4397-8778-07907041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37327-65EF-416B-9D52-2B4EDDE2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32AEE-04F8-4224-B71F-BC129C98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DFE7-CF35-4CBD-82EA-0F69A2F4B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C907-8352-452A-826C-8E1B2336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AEE6-FB1C-4C0D-9207-2961A5F0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8F9D-2A92-440F-B9A0-9301987B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82DA-C707-496E-B6D2-C8FCBE50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E711-19AA-43B2-9204-E6E43B94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4D3C-606B-4774-A6DF-C6B7C7B1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57D8A-1C4F-4CE8-8A0E-F0AE5715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08C1-4A43-44EA-AC9E-521FB9FF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7629-D832-43F8-8E30-C6AB085B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A726-3629-4AA0-8332-E4D9B9AC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87E4-5A32-4F40-8BBB-96AC403C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E4B3-8A7E-4A23-8548-FD8BC77A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AB92D-92BD-4F3E-808F-32147F1F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BC047-D505-4601-9D21-7F1EFA37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2251B-98A1-402D-83D0-F64A0C4E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D680F-89AD-48C3-94F2-572283FF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B64EF-D7C6-49C2-B092-4ED01BB4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40C71-3D2B-465E-9EBE-40AA7228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8B721-4667-4D2F-B528-DB774372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695F-764E-4895-9392-0F5C7E9E36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E17C-D55F-4A25-8453-295D0306C8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60/" TargetMode="External"/><Relationship Id="rId8" Type="http://schemas.openxmlformats.org/officeDocument/2006/relationships/hyperlink" Target="http://www.1ppt.com/kejian/yuwen/161/" TargetMode="External"/><Relationship Id="rId9" Type="http://schemas.openxmlformats.org/officeDocument/2006/relationships/hyperlink" Target="http://www.1ppt.com/kejian/yuwen/162/" TargetMode="External"/><Relationship Id="rId10" Type="http://schemas.openxmlformats.org/officeDocument/2006/relationships/hyperlink" Target="http://www.1ppt.com/kejian/yuwen/163/" TargetMode="External"/><Relationship Id="rId11" Type="http://schemas.openxmlformats.org/officeDocument/2006/relationships/hyperlink" Target="http://www.1ppt.com/kejian/yuwen/164/" TargetMode="External"/><Relationship Id="rId12" Type="http://schemas.openxmlformats.org/officeDocument/2006/relationships/hyperlink" Target="http://www.1ppt.com/kejian/yuwen/165/" TargetMode="External"/><Relationship Id="rId13" Type="http://schemas.openxmlformats.org/officeDocument/2006/relationships/hyperlink" Target="http://www.1ppt.com/shiti/" TargetMode="External"/><Relationship Id="rId14" Type="http://schemas.openxmlformats.org/officeDocument/2006/relationships/hyperlink" Target="http://www.1ppt.com/kejian/yuwen/166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kejian/yuwen/167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image" Target="../media/image2.jpe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980640"/>
            <a:ext cx="770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02960" y="1052640"/>
            <a:ext cx="14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《北大荒的秋天》公开课课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8"/>
          <p:cNvSpPr/>
          <p:nvPr/>
        </p:nvSpPr>
        <p:spPr>
          <a:xfrm>
            <a:off x="6948360" y="378936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5"/>
              </a:rPr>
              <a:t>www.1ppt.com/kejian/yuwen/138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6"/>
              </a:rPr>
              <a:t>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7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8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9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10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11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12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13"/>
              </a:rPr>
              <a:t>www.1ppt.com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14"/>
              </a:rPr>
              <a:t>/kejian/yuwen/166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15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16"/>
              </a:rPr>
              <a:t>www.1ppt.com/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17"/>
              </a:rPr>
              <a:t>kejian</a:t>
            </a:r>
            <a:r>
              <a:rPr b="0" lang="en-US" sz="100" spc="-1" strike="noStrike" u="sng">
                <a:solidFill>
                  <a:srgbClr val="666699"/>
                </a:solidFill>
                <a:uFillTx/>
                <a:latin typeface="Calibri"/>
                <a:hlinkClick r:id="rId18"/>
              </a:rPr>
              <a:t>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1" descr=""/>
          <p:cNvPicPr/>
          <p:nvPr/>
        </p:nvPicPr>
        <p:blipFill>
          <a:blip r:embed="rId19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12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360" y="764640"/>
            <a:ext cx="554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昔日的北大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如今的北大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4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31640" y="549000"/>
            <a:ext cx="828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荒    灰     抖　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纹　　豆     燃    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铃　　岭　　 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4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456840"/>
            <a:ext cx="8964720" cy="61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银灰　抖动　波纹    大豆　　燃烧　摇铃　山岭　茫茫       照映    顿时   脸庞    赞美   挺拔    北大荒    一碧如洗       热闹非凡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5BEC7-A6BD-41D3-91FD-02F87FE366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5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979640" y="2349360"/>
            <a:ext cx="10058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转  锦  缎  镜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顿  哗  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4581360"/>
            <a:ext cx="6111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6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天空一碧如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小河清澈见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原野热闹非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遍地都是黄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图片1"/>
          <p:cNvPicPr/>
          <p:nvPr/>
        </p:nvPicPr>
        <p:blipFill>
          <a:blip r:embed="rId2"/>
          <a:stretch/>
        </p:blipFill>
        <p:spPr>
          <a:xfrm>
            <a:off x="6948360" y="5289480"/>
            <a:ext cx="719280" cy="668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图片1"/>
          <p:cNvPicPr/>
          <p:nvPr/>
        </p:nvPicPr>
        <p:blipFill>
          <a:blip r:embed="rId3"/>
          <a:stretch/>
        </p:blipFill>
        <p:spPr>
          <a:xfrm>
            <a:off x="8028000" y="524520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666699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4:41:15Z</dcterms:created>
  <dc:creator/>
  <dc:description/>
  <cp:keywords>幻灯片之家 http:/www.eeppt.com</cp:keywords>
  <dc:language>en-US</dc:language>
  <cp:lastModifiedBy/>
  <dcterms:modified xsi:type="dcterms:W3CDTF">2015-07-11T02:43:33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