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C8AF-46AF-4F38-A0DD-46A36ED8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8570-95AF-4B49-A318-CCAF5616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AD65-74AE-47FF-A4CC-44F2320F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5816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4508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5816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4508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AA68-54D5-41FD-AE48-6F36C52E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A2D8C-FB25-4C15-87FF-74E6ECF55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DA12-51D2-4B98-95FA-BA1533F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2EA5-81CE-4338-8FBE-F4BF6DBB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DC348-DBD4-496B-A028-4060D6C4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9A38-19A9-42AD-B2AA-55BB5FAB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6FD8A-5ADE-4478-8060-0E79774B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36BB5-E639-467F-AA7E-82B95A16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58FB-01CC-4243-8CC9-46968ED4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156B3-3D09-4F24-9619-74D18DCB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3A15-9FF3-4F86-9E5C-997C1891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F5E8-753C-4AC5-BCE2-0E35837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57ED-90EE-45D7-AA36-CE890D02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816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508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24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816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508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7F743-E55A-4B06-B889-3B5D2E38E4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324-71C6-46DB-8802-B025DA50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03E0-4B79-455A-B5A5-1F3B6924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F577-D74B-4D40-8AFE-A598682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C4DC-6358-4DAD-AF18-9C62A596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1C44-F7D2-4B3D-9D5F-8161BEA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5802-CE9F-481A-AF1C-EBA9AE1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B684-7832-4399-9BA7-57EE5875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823C-BF75-47B0-A9E5-60FBE3119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5c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244f94"/>
              </a:gs>
              <a:gs pos="100000">
                <a:srgbClr val="1024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4042-9D74-485E-AC82-70D261FE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f9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f9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f94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244f94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244f94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04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表格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271" name="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accaf1"/>
              </a:gs>
            </a:gsLst>
            <a:lin ang="1080000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319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066680" y="304812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30481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324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335" name="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340" name="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353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6720" y="2433600"/>
              <a:ext cx="2182680" cy="3600720"/>
              <a:chOff x="396720" y="2433600"/>
              <a:chExt cx="2182680" cy="36007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871200" y="3349800"/>
                <a:ext cx="1708200" cy="2684520"/>
                <a:chOff x="871200" y="3349800"/>
                <a:chExt cx="1708200" cy="268452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871200" y="3529080"/>
                  <a:ext cx="1580760" cy="2505240"/>
                  <a:chOff x="871200" y="3529080"/>
                  <a:chExt cx="1580760" cy="2505240"/>
                </a:xfrm>
              </p:grpSpPr>
              <p:sp>
                <p:nvSpPr>
                  <p:cNvPr id="358" name="未知"/>
                  <p:cNvSpPr/>
                  <p:nvPr/>
                </p:nvSpPr>
                <p:spPr>
                  <a:xfrm rot="3876600">
                    <a:off x="40752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未知"/>
                  <p:cNvSpPr/>
                  <p:nvPr/>
                </p:nvSpPr>
                <p:spPr>
                  <a:xfrm rot="3876600">
                    <a:off x="1914480" y="547236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1366560" y="3349800"/>
                  <a:ext cx="1212840" cy="1922400"/>
                  <a:chOff x="1366560" y="3349800"/>
                  <a:chExt cx="1212840" cy="1922400"/>
                </a:xfrm>
              </p:grpSpPr>
              <p:sp>
                <p:nvSpPr>
                  <p:cNvPr id="361" name="未知"/>
                  <p:cNvSpPr/>
                  <p:nvPr/>
                </p:nvSpPr>
                <p:spPr>
                  <a:xfrm flipV="1" rot="3876600">
                    <a:off x="101052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未知"/>
                  <p:cNvSpPr/>
                  <p:nvPr/>
                </p:nvSpPr>
                <p:spPr>
                  <a:xfrm flipV="1" rot="3876600">
                    <a:off x="214956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396720" y="2433600"/>
                <a:ext cx="1444320" cy="1441800"/>
                <a:chOff x="396720" y="2433600"/>
                <a:chExt cx="1444320" cy="1441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9672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672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2120" y="252720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2120" y="253044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4400" y="2590920"/>
                  <a:ext cx="11289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571680" y="2608200"/>
                  <a:ext cx="1094040" cy="1093680"/>
                  <a:chOff x="571680" y="2608200"/>
                  <a:chExt cx="1094040" cy="10936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57168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8572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9688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5628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4" name=""/>
              <p:cNvSpPr/>
              <p:nvPr/>
            </p:nvSpPr>
            <p:spPr>
              <a:xfrm rot="3925800">
                <a:off x="90036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925800">
                <a:off x="140040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379600" y="2433600"/>
              <a:ext cx="2182680" cy="3600720"/>
              <a:chOff x="2379600" y="2433600"/>
              <a:chExt cx="2182680" cy="360072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854080" y="3349800"/>
                <a:ext cx="1708200" cy="2684520"/>
                <a:chOff x="2854080" y="3349800"/>
                <a:chExt cx="1708200" cy="268452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854080" y="3529080"/>
                  <a:ext cx="1580760" cy="2505240"/>
                  <a:chOff x="2854080" y="3529080"/>
                  <a:chExt cx="1580760" cy="2505240"/>
                </a:xfrm>
              </p:grpSpPr>
              <p:sp>
                <p:nvSpPr>
                  <p:cNvPr id="379" name="未知"/>
                  <p:cNvSpPr/>
                  <p:nvPr/>
                </p:nvSpPr>
                <p:spPr>
                  <a:xfrm rot="3876600">
                    <a:off x="239040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未知"/>
                  <p:cNvSpPr/>
                  <p:nvPr/>
                </p:nvSpPr>
                <p:spPr>
                  <a:xfrm rot="3876600">
                    <a:off x="3897360" y="547236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3349440" y="3349800"/>
                  <a:ext cx="1212840" cy="1922400"/>
                  <a:chOff x="3349440" y="3349800"/>
                  <a:chExt cx="1212840" cy="1922400"/>
                </a:xfrm>
              </p:grpSpPr>
              <p:sp>
                <p:nvSpPr>
                  <p:cNvPr id="382" name="未知"/>
                  <p:cNvSpPr/>
                  <p:nvPr/>
                </p:nvSpPr>
                <p:spPr>
                  <a:xfrm flipV="1" rot="3876600">
                    <a:off x="299340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未知"/>
                  <p:cNvSpPr/>
                  <p:nvPr/>
                </p:nvSpPr>
                <p:spPr>
                  <a:xfrm flipV="1" rot="3876600">
                    <a:off x="413244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"/>
              <p:cNvGrpSpPr/>
              <p:nvPr/>
            </p:nvGrpSpPr>
            <p:grpSpPr>
              <a:xfrm>
                <a:off x="2379600" y="2433600"/>
                <a:ext cx="1444320" cy="1441800"/>
                <a:chOff x="2379600" y="2433600"/>
                <a:chExt cx="1444320" cy="1441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37960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7960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75000" y="252720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75000" y="253044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537280" y="2590920"/>
                  <a:ext cx="11289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2554560" y="2608200"/>
                  <a:ext cx="1094040" cy="1093680"/>
                  <a:chOff x="2554560" y="2608200"/>
                  <a:chExt cx="1094040" cy="10936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255456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56860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7976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63916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 rot="3925800">
                <a:off x="287748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925800">
                <a:off x="337716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427640" y="2433600"/>
              <a:ext cx="2182680" cy="3600720"/>
              <a:chOff x="4427640" y="2433600"/>
              <a:chExt cx="2182680" cy="36007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4902480" y="3349800"/>
                <a:ext cx="1707840" cy="2684520"/>
                <a:chOff x="4902480" y="3349800"/>
                <a:chExt cx="1707840" cy="268452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4902480" y="3529080"/>
                  <a:ext cx="1580760" cy="2505240"/>
                  <a:chOff x="4902480" y="3529080"/>
                  <a:chExt cx="1580760" cy="250524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rot="3876600">
                    <a:off x="443880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rot="3876600">
                    <a:off x="5945760" y="547200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397480" y="3349800"/>
                  <a:ext cx="1212840" cy="1922400"/>
                  <a:chOff x="5397480" y="3349800"/>
                  <a:chExt cx="1212840" cy="1922400"/>
                </a:xfrm>
              </p:grpSpPr>
              <p:sp>
                <p:nvSpPr>
                  <p:cNvPr id="403" name="未知"/>
                  <p:cNvSpPr/>
                  <p:nvPr/>
                </p:nvSpPr>
                <p:spPr>
                  <a:xfrm flipV="1" rot="3876600">
                    <a:off x="504144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未知"/>
                  <p:cNvSpPr/>
                  <p:nvPr/>
                </p:nvSpPr>
                <p:spPr>
                  <a:xfrm flipV="1" rot="3876600">
                    <a:off x="618048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4427640" y="2433600"/>
                <a:ext cx="1443960" cy="1441800"/>
                <a:chOff x="4427640" y="2433600"/>
                <a:chExt cx="1443960" cy="14418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4427640" y="2433600"/>
                  <a:ext cx="144396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27640" y="2433600"/>
                  <a:ext cx="144396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23040" y="2527200"/>
                  <a:ext cx="125280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23040" y="2530440"/>
                  <a:ext cx="125280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85320" y="2590920"/>
                  <a:ext cx="112860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4602600" y="2608200"/>
                  <a:ext cx="1094040" cy="1093680"/>
                  <a:chOff x="4602600" y="2608200"/>
                  <a:chExt cx="1094040" cy="10936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260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1664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62780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68720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493416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543420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442200" y="2274840"/>
              <a:ext cx="2400480" cy="3832560"/>
              <a:chOff x="6442200" y="2274840"/>
              <a:chExt cx="2400480" cy="38325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7134480" y="3423240"/>
                <a:ext cx="1708200" cy="2684160"/>
                <a:chOff x="7134480" y="3423240"/>
                <a:chExt cx="1708200" cy="268416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7134480" y="3602520"/>
                  <a:ext cx="1580040" cy="2504880"/>
                  <a:chOff x="7134480" y="3602520"/>
                  <a:chExt cx="1580040" cy="250488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6670800" y="4575240"/>
                    <a:ext cx="250740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8177760" y="554544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630200" y="3423240"/>
                  <a:ext cx="1212480" cy="1922040"/>
                  <a:chOff x="7630200" y="3423240"/>
                  <a:chExt cx="1212480" cy="192204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7274160" y="4169520"/>
                    <a:ext cx="192420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8412840" y="4922280"/>
                    <a:ext cx="3024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>
                <a:off x="6442200" y="2274840"/>
                <a:ext cx="1735200" cy="172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42200" y="2274840"/>
                <a:ext cx="1735200" cy="17298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8120" y="2387520"/>
                <a:ext cx="1505880" cy="15022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59560" y="2390760"/>
                <a:ext cx="1505880" cy="15022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33000" y="2463840"/>
                <a:ext cx="1356120" cy="135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6653520" y="2484360"/>
                <a:ext cx="1315080" cy="1311480"/>
                <a:chOff x="6653520" y="2484360"/>
                <a:chExt cx="1315080" cy="13114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653520" y="2484360"/>
                  <a:ext cx="13150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670080" y="2491560"/>
                  <a:ext cx="1283400" cy="127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683760" y="2504160"/>
                  <a:ext cx="1220400" cy="119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55400" y="2537640"/>
                  <a:ext cx="108504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 rot="3925800">
                <a:off x="7149600" y="4540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925800">
                <a:off x="7649280" y="42447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42" name=""/>
            <p:cNvCxnSpPr>
              <a:stCxn id="438" idx="3"/>
              <a:endCxn id="439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9" idx="3"/>
              <a:endCxn id="440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0" idx="3"/>
              <a:endCxn id="441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45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448" name="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449" name=""/>
              <p:cNvSpPr/>
              <p:nvPr/>
            </p:nvSpPr>
            <p:spPr>
              <a:xfrm>
                <a:off x="4341600" y="3156480"/>
                <a:ext cx="2363760" cy="248184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6124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88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240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1712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6976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1481400" y="1788120"/>
            <a:ext cx="5938200" cy="4001040"/>
            <a:chOff x="1481400" y="1788120"/>
            <a:chExt cx="5938200" cy="4001040"/>
          </a:xfrm>
        </p:grpSpPr>
        <p:sp>
          <p:nvSpPr>
            <p:cNvPr id="461" name="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01600">
              <a:off x="1725480" y="2529360"/>
              <a:ext cx="4951800" cy="239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20602200">
              <a:off x="1713960" y="2513880"/>
              <a:ext cx="4995720" cy="236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0601600">
              <a:off x="1726920" y="2529360"/>
              <a:ext cx="4931640" cy="232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rot="20602200">
              <a:off x="1711080" y="2504880"/>
              <a:ext cx="4950000" cy="231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0539200">
              <a:off x="1742400" y="2555640"/>
              <a:ext cx="5434920" cy="243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01600">
              <a:off x="3160080" y="3312720"/>
              <a:ext cx="2245680" cy="893160"/>
            </a:xfrm>
            <a:prstGeom prst="ellipse">
              <a:avLst/>
            </a:prstGeom>
            <a:gradFill rotWithShape="0">
              <a:gsLst>
                <a:gs pos="0">
                  <a:srgbClr val="244f94"/>
                </a:gs>
                <a:gs pos="100000">
                  <a:srgbClr val="10244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6" name="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0" name="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 flipH="1" flipV="1" rot="5400000">
            <a:off x="3271320" y="314856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 rot="16490400">
            <a:off x="3271680" y="3171240"/>
            <a:ext cx="2279880" cy="22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965040" y="4038480"/>
            <a:ext cx="1623600" cy="1481040"/>
            <a:chOff x="3965040" y="4038480"/>
            <a:chExt cx="1623600" cy="1481040"/>
          </a:xfrm>
        </p:grpSpPr>
        <p:grpSp>
          <p:nvGrpSpPr>
            <p:cNvPr id="496" name=""/>
            <p:cNvGrpSpPr/>
            <p:nvPr/>
          </p:nvGrpSpPr>
          <p:grpSpPr>
            <a:xfrm>
              <a:off x="4338360" y="4038480"/>
              <a:ext cx="1250280" cy="1466640"/>
              <a:chOff x="4338360" y="4038480"/>
              <a:chExt cx="1250280" cy="1466640"/>
            </a:xfrm>
          </p:grpSpPr>
          <p:sp>
            <p:nvSpPr>
              <p:cNvPr id="497" name="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 rot="2344200">
                <a:off x="4940280" y="422316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 rot="2640000">
                <a:off x="4861800" y="430956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 rot="3172200">
                <a:off x="4764240" y="4410360"/>
                <a:ext cx="29772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965040" y="4442040"/>
              <a:ext cx="1568880" cy="1077480"/>
              <a:chOff x="3965040" y="4442040"/>
              <a:chExt cx="1568880" cy="1077480"/>
            </a:xfrm>
          </p:grpSpPr>
          <p:sp>
            <p:nvSpPr>
              <p:cNvPr id="502" name=""/>
              <p:cNvSpPr/>
              <p:nvPr/>
            </p:nvSpPr>
            <p:spPr>
              <a:xfrm flipH="1" flipV="1" rot="2881800">
                <a:off x="4831560" y="4350960"/>
                <a:ext cx="298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 rot="3697200">
                <a:off x="4675680" y="44809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 rot="3993000">
                <a:off x="456984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 rot="4525200">
                <a:off x="4441680" y="45856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138744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45" idx="4"/>
            <a:endCxn id="552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54" name=""/>
          <p:cNvCxnSpPr>
            <a:stCxn id="548" idx="4"/>
            <a:endCxn id="552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55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1" name="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62" name=""/>
          <p:cNvCxnSpPr>
            <a:stCxn id="548" idx="0"/>
            <a:endCxn id="563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63" name="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2439000" y="2915280"/>
            <a:ext cx="4400280" cy="206244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33920" y="2895480"/>
            <a:ext cx="189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未知"/>
          <p:cNvSpPr/>
          <p:nvPr/>
        </p:nvSpPr>
        <p:spPr>
          <a:xfrm>
            <a:off x="5208480" y="2743200"/>
            <a:ext cx="2136960" cy="2971800"/>
          </a:xfrm>
          <a:custGeom>
            <a:avLst/>
            <a:gdLst/>
            <a:ahLst/>
            <a:rect l="l" t="t" r="r" b="b"/>
            <a:pathLst>
              <a:path w="1302" h="1872">
                <a:moveTo>
                  <a:pt x="8" y="537"/>
                </a:moveTo>
                <a:lnTo>
                  <a:pt x="0" y="1872"/>
                </a:lnTo>
                <a:lnTo>
                  <a:pt x="1302" y="1872"/>
                </a:lnTo>
                <a:lnTo>
                  <a:pt x="1302" y="0"/>
                </a:lnTo>
                <a:lnTo>
                  <a:pt x="8" y="537"/>
                </a:lnTo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3133800" y="3124080"/>
            <a:ext cx="2084400" cy="2590920"/>
          </a:xfrm>
          <a:custGeom>
            <a:avLst/>
            <a:gdLst/>
            <a:ahLst/>
            <a:rect l="l" t="t" r="r" b="b"/>
            <a:pathLst>
              <a:path w="1313" h="1632">
                <a:moveTo>
                  <a:pt x="0" y="433"/>
                </a:moveTo>
                <a:lnTo>
                  <a:pt x="0" y="1632"/>
                </a:lnTo>
                <a:lnTo>
                  <a:pt x="1313" y="1632"/>
                </a:lnTo>
                <a:lnTo>
                  <a:pt x="1313" y="0"/>
                </a:lnTo>
                <a:lnTo>
                  <a:pt x="0" y="433"/>
                </a:lnTo>
                <a:close/>
              </a:path>
            </a:pathLst>
          </a:cu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未知"/>
          <p:cNvSpPr/>
          <p:nvPr/>
        </p:nvSpPr>
        <p:spPr>
          <a:xfrm>
            <a:off x="923760" y="3352680"/>
            <a:ext cx="2219400" cy="259092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576"/>
                </a:moveTo>
                <a:lnTo>
                  <a:pt x="0" y="1632"/>
                </a:lnTo>
                <a:lnTo>
                  <a:pt x="1440" y="1632"/>
                </a:lnTo>
                <a:lnTo>
                  <a:pt x="1440" y="0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5108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1964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46880" y="3160800"/>
            <a:ext cx="0" cy="280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22880" y="5638680"/>
            <a:ext cx="21430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33720" y="17524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638680"/>
            <a:ext cx="211140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14400" y="5638680"/>
            <a:ext cx="22096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f4d62"/>
              </a:gs>
              <a:gs pos="50000">
                <a:srgbClr val="44a9d6"/>
              </a:gs>
              <a:gs pos="100000">
                <a:srgbClr val="1f4d6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76720" y="1981080"/>
            <a:ext cx="4733280" cy="3276720"/>
            <a:chOff x="3276720" y="1981080"/>
            <a:chExt cx="4733280" cy="3276720"/>
          </a:xfrm>
        </p:grpSpPr>
        <p:grpSp>
          <p:nvGrpSpPr>
            <p:cNvPr id="97" name=""/>
            <p:cNvGrpSpPr/>
            <p:nvPr/>
          </p:nvGrpSpPr>
          <p:grpSpPr>
            <a:xfrm>
              <a:off x="3276720" y="1981080"/>
              <a:ext cx="4733280" cy="457200"/>
              <a:chOff x="3276720" y="1981080"/>
              <a:chExt cx="4733280" cy="457200"/>
            </a:xfrm>
          </p:grpSpPr>
          <p:sp>
            <p:nvSpPr>
              <p:cNvPr id="98" name=""/>
              <p:cNvSpPr/>
              <p:nvPr/>
            </p:nvSpPr>
            <p:spPr>
              <a:xfrm>
                <a:off x="3362040" y="1981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98200" y="201924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76720" y="20858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e96e29"/>
                  </a:gs>
                  <a:gs pos="100000">
                    <a:srgbClr val="9a491b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276720" y="2705040"/>
              <a:ext cx="4733280" cy="457200"/>
              <a:chOff x="3276720" y="2705040"/>
              <a:chExt cx="4733280" cy="457200"/>
            </a:xfrm>
          </p:grpSpPr>
          <p:sp>
            <p:nvSpPr>
              <p:cNvPr id="102" name=""/>
              <p:cNvSpPr/>
              <p:nvPr/>
            </p:nvSpPr>
            <p:spPr>
              <a:xfrm>
                <a:off x="3362040" y="270504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98200" y="27525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76720" y="28004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dcdc48"/>
                  </a:gs>
                  <a:gs pos="100000">
                    <a:srgbClr val="92922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276720" y="3400200"/>
              <a:ext cx="4733280" cy="457200"/>
              <a:chOff x="3276720" y="3400200"/>
              <a:chExt cx="4733280" cy="45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62040" y="34002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98200" y="3452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6720" y="350496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2f7adf"/>
                  </a:gs>
                  <a:gs pos="100000">
                    <a:srgbClr val="1f5194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76720" y="4105080"/>
              <a:ext cx="4733280" cy="457200"/>
              <a:chOff x="3276720" y="4105080"/>
              <a:chExt cx="47332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3362040" y="4105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98200" y="4190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421452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3b7531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276720" y="4800600"/>
              <a:ext cx="4733280" cy="457200"/>
              <a:chOff x="3276720" y="4800600"/>
              <a:chExt cx="4733280" cy="457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362040" y="48006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8200" y="481500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76720" y="490068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44a9d6"/>
                  </a:gs>
                  <a:gs pos="100000">
                    <a:srgbClr val="2d708e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286000" y="2209680"/>
            <a:ext cx="990720" cy="380880"/>
            <a:chOff x="2286000" y="2209680"/>
            <a:chExt cx="990720" cy="380880"/>
          </a:xfrm>
        </p:grpSpPr>
        <p:sp>
          <p:nvSpPr>
            <p:cNvPr id="118" name=""/>
            <p:cNvSpPr/>
            <p:nvPr/>
          </p:nvSpPr>
          <p:spPr>
            <a:xfrm flipV="1">
              <a:off x="2286000" y="220968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209680"/>
              <a:ext cx="6098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09680" y="4724280"/>
            <a:ext cx="1066680" cy="304920"/>
            <a:chOff x="2209680" y="4724280"/>
            <a:chExt cx="1066680" cy="304920"/>
          </a:xfrm>
        </p:grpSpPr>
        <p:sp>
          <p:nvSpPr>
            <p:cNvPr id="121" name=""/>
            <p:cNvSpPr/>
            <p:nvPr/>
          </p:nvSpPr>
          <p:spPr>
            <a:xfrm>
              <a:off x="2209680" y="472428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50292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90920" y="289548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02160"/>
            <a:ext cx="60984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3434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1884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810A-0A04-4927-B96F-51DC8D8E61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905120" y="2362320"/>
            <a:ext cx="53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effectLst>
                <a:outerShdw dist="52300" dir="836435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– CD: Digital-globe (image Stat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5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1828800"/>
            <a:ext cx="5486400" cy="762120"/>
          </a:xfrm>
          <a:prstGeom prst="roundRect">
            <a:avLst>
              <a:gd name="adj" fmla="val 28750"/>
            </a:avLst>
          </a:prstGeom>
          <a:gradFill rotWithShape="0">
            <a:gsLst>
              <a:gs pos="0">
                <a:srgbClr val="e4a368"/>
              </a:gs>
              <a:gs pos="50000">
                <a:srgbClr val="dd8739"/>
              </a:gs>
              <a:gs pos="100000">
                <a:srgbClr val="e4a3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00200" y="2590560"/>
            <a:ext cx="5943240" cy="990360"/>
            <a:chOff x="1600200" y="2590560"/>
            <a:chExt cx="5943240" cy="990360"/>
          </a:xfrm>
        </p:grpSpPr>
        <p:sp>
          <p:nvSpPr>
            <p:cNvPr id="149" name=""/>
            <p:cNvSpPr/>
            <p:nvPr/>
          </p:nvSpPr>
          <p:spPr>
            <a:xfrm>
              <a:off x="2232000" y="3114360"/>
              <a:ext cx="530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600200" y="3124080"/>
              <a:ext cx="642960" cy="44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11080" y="2590560"/>
              <a:ext cx="1125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061040" y="3123720"/>
              <a:ext cx="4824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875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8bc780"/>
              </a:gs>
              <a:gs pos="100000">
                <a:srgbClr val="5ab14b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348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038480"/>
            <a:ext cx="2005200" cy="2279880"/>
          </a:xfrm>
          <a:custGeom>
            <a:avLst/>
            <a:gdLst>
              <a:gd name="textAreaLeft" fmla="*/ 27360 w 2005200"/>
              <a:gd name="textAreaRight" fmla="*/ 1977840 w 2005200"/>
              <a:gd name="textAreaTop" fmla="*/ 27360 h 2279880"/>
              <a:gd name="textAreaBottom" fmla="*/ 2252520 h 2279880"/>
            </a:gdLst>
            <a:ahLst/>
            <a:rect l="textAreaLeft" t="textAreaTop" r="textAreaRight" b="textAreaBottom"/>
            <a:pathLst>
              <a:path w="21600" h="24558">
                <a:moveTo>
                  <a:pt x="1013" y="0"/>
                </a:moveTo>
                <a:arcTo wR="1013" hR="1013" stAng="16200000" swAng="-5400000"/>
                <a:lnTo>
                  <a:pt x="0" y="23545"/>
                </a:lnTo>
                <a:arcTo wR="1013" hR="1013" stAng="10800000" swAng="-5400000"/>
                <a:lnTo>
                  <a:pt x="20587" y="2455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50000">
                <a:srgbClr val="6da1e7"/>
              </a:gs>
              <a:gs pos="100000">
                <a:srgbClr val="2f7adf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12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2320" y="4305240"/>
            <a:ext cx="18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95720" y="4267080"/>
            <a:ext cx="186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5080" y="3560760"/>
            <a:ext cx="212904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638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44a9d6"/>
              </a:gs>
              <a:gs pos="50000">
                <a:srgbClr val="7bc2e1"/>
              </a:gs>
              <a:gs pos="100000">
                <a:srgbClr val="44a9d6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4400" y="4302000"/>
            <a:ext cx="181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7520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 rot="5400000">
            <a:off x="2942280" y="457848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dd8739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9670200">
            <a:off x="2600640" y="5331240"/>
            <a:ext cx="76356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4a9d6"/>
          </a:solidFill>
          <a:ln w="9360">
            <a:solidFill>
              <a:srgbClr val="969696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616000" y="555012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53720" y="457992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2f7adf"/>
          </a:solidFill>
          <a:ln w="9360">
            <a:solidFill>
              <a:srgbClr val="2f7ad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44f94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05680" y="138924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2f7a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2635200" y="1420560"/>
            <a:ext cx="328572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49" y="2370"/>
                </a:moveTo>
                <a:arcTo wR="10800" hR="10800" stAng="-7721150" swAng="5709536"/>
                <a:lnTo>
                  <a:pt x="10800" y="10800"/>
                </a:lnTo>
                <a:close/>
              </a:path>
              <a:path fill="none" w="21600" h="21600">
                <a:moveTo>
                  <a:pt x="4049" y="2370"/>
                </a:moveTo>
                <a:arcTo wR="10800" hR="10800" stAng="-7721150" swAng="5709536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 rot="5400000">
            <a:off x="2621160" y="1384560"/>
            <a:ext cx="328428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14720" y="1386720"/>
            <a:ext cx="1823760" cy="1509120"/>
            <a:chOff x="4014720" y="1386720"/>
            <a:chExt cx="1823760" cy="1509120"/>
          </a:xfrm>
        </p:grpSpPr>
        <p:grpSp>
          <p:nvGrpSpPr>
            <p:cNvPr id="188" name=""/>
            <p:cNvGrpSpPr/>
            <p:nvPr/>
          </p:nvGrpSpPr>
          <p:grpSpPr>
            <a:xfrm>
              <a:off x="4412880" y="1386720"/>
              <a:ext cx="1425600" cy="1509120"/>
              <a:chOff x="4412880" y="1386720"/>
              <a:chExt cx="1425600" cy="1509120"/>
            </a:xfrm>
          </p:grpSpPr>
          <p:sp>
            <p:nvSpPr>
              <p:cNvPr id="189" name=""/>
              <p:cNvSpPr/>
              <p:nvPr/>
            </p:nvSpPr>
            <p:spPr>
              <a:xfrm flipV="1" rot="8983800">
                <a:off x="5227200" y="158076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8167800">
                <a:off x="5107680" y="139356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7872600">
                <a:off x="5017320" y="13046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7340400">
                <a:off x="4905360" y="1202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014720" y="1394280"/>
              <a:ext cx="1743120" cy="1049400"/>
              <a:chOff x="4014720" y="1394280"/>
              <a:chExt cx="1743120" cy="1049400"/>
            </a:xfrm>
          </p:grpSpPr>
          <p:sp>
            <p:nvSpPr>
              <p:cNvPr id="194" name=""/>
              <p:cNvSpPr/>
              <p:nvPr/>
            </p:nvSpPr>
            <p:spPr>
              <a:xfrm flipV="1" rot="7630800">
                <a:off x="4988880" y="12578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6814800">
                <a:off x="4807440" y="11304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6519600">
                <a:off x="468864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5987400">
                <a:off x="4546440" y="1031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556360" y="3062880"/>
            <a:ext cx="1886400" cy="1779480"/>
            <a:chOff x="2556360" y="3062880"/>
            <a:chExt cx="1886400" cy="1779480"/>
          </a:xfrm>
        </p:grpSpPr>
        <p:sp>
          <p:nvSpPr>
            <p:cNvPr id="199" name="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8694800">
              <a:off x="3165120" y="324036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18399600">
              <a:off x="3286440" y="3342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7867400">
              <a:off x="3435840" y="3458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9670200">
            <a:off x="2601720" y="138564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4a9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244f94"/>
              </a:gs>
              <a:gs pos="100000">
                <a:srgbClr val="1024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05120" y="2527200"/>
            <a:ext cx="5333400" cy="2819520"/>
            <a:chOff x="1905120" y="2527200"/>
            <a:chExt cx="5333400" cy="2819520"/>
          </a:xfrm>
        </p:grpSpPr>
        <p:sp>
          <p:nvSpPr>
            <p:cNvPr id="215" name="未知"/>
            <p:cNvSpPr/>
            <p:nvPr/>
          </p:nvSpPr>
          <p:spPr>
            <a:xfrm>
              <a:off x="2709000" y="397800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84c479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3556440" y="2527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73a5e8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905120" y="2913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a3d4ea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46360" y="37306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1828800"/>
            <a:ext cx="2743200" cy="914400"/>
          </a:xfrm>
          <a:noFill/>
          <a:ln w="9360">
            <a:solidFill>
              <a:srgbClr val="b09ed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499000"/>
            <a:ext cx="3048120" cy="854280"/>
          </a:xfrm>
          <a:noFill/>
          <a:ln w="9360">
            <a:solidFill>
              <a:srgbClr val="5ab14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2222640"/>
            <a:ext cx="2344680" cy="825480"/>
          </a:xfrm>
          <a:noFill/>
          <a:ln w="9360">
            <a:solidFill>
              <a:srgbClr val="dd873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8640" y="18194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7040" y="2168640"/>
            <a:ext cx="150840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81400" y="139860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7040" y="21747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67040" y="2563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67040" y="254304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84920" y="258912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40520" y="2595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84920" y="2984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84920" y="2963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34040" y="3822840"/>
            <a:ext cx="69408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68440" y="244008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167004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 rot="3328800">
            <a:off x="2038320" y="1792440"/>
            <a:ext cx="4298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0085a7"/>
              </a:gs>
              <a:gs pos="100000">
                <a:srgbClr val="00ccff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6106200">
            <a:off x="6786000" y="3679920"/>
            <a:ext cx="785160" cy="73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6245280" y="1854360"/>
            <a:ext cx="52128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3b7431"/>
              </a:gs>
              <a:gs pos="100000">
                <a:srgbClr val="5ab14b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84920" y="1565280"/>
            <a:ext cx="70740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55710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4480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68440" y="28353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752480"/>
          <a:ext cx="6348600" cy="63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34860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468440" y="28144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7720" y="46227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34040" y="4629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9ede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97720" y="50180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97720" y="49975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147760" y="3537000"/>
            <a:ext cx="168480" cy="690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48120" y="3241800"/>
            <a:ext cx="403200" cy="3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05520" y="3317760"/>
            <a:ext cx="74268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4800600"/>
            <a:ext cx="1195200" cy="179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9fd196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fd196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dc:language>en-US</dc:language>
  <cp:lastModifiedBy>GZB</cp:lastModifiedBy>
  <dcterms:modified xsi:type="dcterms:W3CDTF">2015-07-20T07:46:58Z</dcterms:modified>
  <cp:revision>3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0e08000000000001024140</vt:lpwstr>
  </property>
</Properties>
</file>