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95A-66FB-4BE1-89F6-8CA4B50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4AE-43C2-4773-A371-3C5AAE9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1EC-0AA6-4EB6-B281-107005B2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753-9EB9-4833-AEB7-7D3A6DB2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08E-4881-4D1B-BE14-C33157D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FD6-7457-44AB-B972-143A14F4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871-15E2-4245-BD51-D9C6D50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B33-7390-4A25-B663-8E253CCE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27C-EE16-4C5E-9884-78AFEDE4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F0D-390F-4558-951A-49A1219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BA1-9AC1-4EDD-8275-E434A00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C3B-4DF9-4E26-B2C8-C1DBCEAA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9B0D-258C-4C94-B3F0-B751A1E3FE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519-37F1-4005-95A7-8A60125D31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_img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anmu_36284"/>
          <p:cNvPicPr/>
          <p:nvPr/>
        </p:nvPicPr>
        <p:blipFill>
          <a:blip r:embed="rId2"/>
          <a:stretch/>
        </p:blipFill>
        <p:spPr>
          <a:xfrm>
            <a:off x="593640" y="1692360"/>
            <a:ext cx="795672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828720" y="693720"/>
            <a:ext cx="76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扁鹊治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B74-8FA8-4974-82ED-B4030B3530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217-D0D0-429D-966C-E03D86270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B37-0549-4DD5-A0AD-BDBEB771E5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B1A-1882-4427-9A1A-C56F9590CA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5C8-E852-4461-96A6-173C83007D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五六天之后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不久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220-2D2A-48F6-AC3E-E25E5C449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一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过了十来天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十来天后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又过了十几天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五六天之后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BC8-B544-4921-9FD0-B05977F499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476360" y="227664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如果可以穿越时空，我想对蔡桓公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想对扁鹊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db780e050de9624686919de3129e9358.mp3" descr=""/>
          <p:cNvPicPr/>
          <p:nvPr/>
        </p:nvPicPr>
        <p:blipFill>
          <a:blip r:embed="rId2"/>
          <a:stretch/>
        </p:blipFill>
        <p:spPr>
          <a:xfrm>
            <a:off x="6156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A37-CE18-46C1-9783-CBCFBA4C3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57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3849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dfe72811566189bbc3e1e94"/>
          <p:cNvPicPr/>
          <p:nvPr/>
        </p:nvPicPr>
        <p:blipFill>
          <a:blip r:embed="rId2"/>
          <a:stretch/>
        </p:blipFill>
        <p:spPr>
          <a:xfrm>
            <a:off x="5580000" y="1052640"/>
            <a:ext cx="3168720" cy="4608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1116000" y="234252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扁鹊”其实不是一个人的名字，而是古代人对所有名医的一个总称，他的真名叫秦越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547640" y="1557360"/>
            <a:ext cx="65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理睬          敷烫          骨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一剂药       扎针          蔡桓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900000" y="13384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扁鹊说：“大王，据我看来，您皮肤上有点小病。要是不治，恐怕会向体内发展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4360" y="44802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蔡桓公说：“我的身体很好，什么病也没有。这些做医生的总喜欢给没有病的人治病来显示自己的高明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dfe72811566189bbc3e1e94"/>
          <p:cNvPicPr/>
          <p:nvPr/>
        </p:nvPicPr>
        <p:blipFill>
          <a:blip r:embed="rId2"/>
          <a:stretch/>
        </p:blipFill>
        <p:spPr>
          <a:xfrm>
            <a:off x="579600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u=1590002511,276332758&amp;fm=0&amp;gp=0"/>
          <p:cNvPicPr/>
          <p:nvPr/>
        </p:nvPicPr>
        <p:blipFill>
          <a:blip r:embed="rId3"/>
          <a:stretch/>
        </p:blipFill>
        <p:spPr>
          <a:xfrm>
            <a:off x="5796000" y="3500280"/>
            <a:ext cx="2448000" cy="2232360"/>
          </a:xfrm>
          <a:prstGeom prst="rect">
            <a:avLst/>
          </a:prstGeom>
          <a:ln w="0">
            <a:noFill/>
          </a:ln>
        </p:spPr>
      </p:pic>
      <p:sp>
        <p:nvSpPr>
          <p:cNvPr id="55" name="Oval 7"/>
          <p:cNvSpPr/>
          <p:nvPr/>
        </p:nvSpPr>
        <p:spPr>
          <a:xfrm flipH="1">
            <a:off x="183528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 flipH="1">
            <a:off x="219564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 flipH="1">
            <a:off x="2556000" y="242100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 flipH="1">
            <a:off x="826200" y="5013360"/>
            <a:ext cx="1018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 flipH="1">
            <a:off x="4572000" y="4724280"/>
            <a:ext cx="101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 flipH="1">
            <a:off x="4859280" y="4724280"/>
            <a:ext cx="101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_imgload"/>
          <p:cNvPicPr/>
          <p:nvPr/>
        </p:nvPicPr>
        <p:blipFill>
          <a:blip r:embed="rId1"/>
          <a:stretch/>
        </p:blipFill>
        <p:spPr>
          <a:xfrm>
            <a:off x="0" y="-531720"/>
            <a:ext cx="9468000" cy="761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dfe72811566189bbc3e1e94"/>
          <p:cNvPicPr/>
          <p:nvPr/>
        </p:nvPicPr>
        <p:blipFill>
          <a:blip r:embed="rId2"/>
          <a:stretch/>
        </p:blipFill>
        <p:spPr>
          <a:xfrm>
            <a:off x="5796000" y="549360"/>
            <a:ext cx="244944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u=1590002511,276332758&amp;fm=0&amp;gp=0"/>
          <p:cNvPicPr/>
          <p:nvPr/>
        </p:nvPicPr>
        <p:blipFill>
          <a:blip r:embed="rId3"/>
          <a:stretch/>
        </p:blipFill>
        <p:spPr>
          <a:xfrm>
            <a:off x="5796000" y="3500280"/>
            <a:ext cx="2448000" cy="223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755640" y="12628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扁鹊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病已经发展到皮肉之间了，要不治还会加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 flipH="1">
            <a:off x="4500720" y="1700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 flipH="1">
            <a:off x="4859280" y="1700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752560" y="4148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蔡桓公很不高兴，没有理睬扁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 flipH="1">
            <a:off x="1692360" y="4724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 flipH="1">
            <a:off x="1979640" y="4724280"/>
            <a:ext cx="101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944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_imgload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618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9640" y="19836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扁鹊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病已经发展到肠胃里，再不治会更加严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92436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56400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203640" y="249228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41800" y="45082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蔡桓公非常不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u=1590002511,276332758&amp;fm=0&amp;gp=0"/>
          <p:cNvPicPr/>
          <p:nvPr/>
        </p:nvPicPr>
        <p:blipFill>
          <a:blip r:embed="rId2"/>
          <a:stretch/>
        </p:blipFill>
        <p:spPr>
          <a:xfrm>
            <a:off x="558000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dfe72811566189bbc3e1e94"/>
          <p:cNvPicPr/>
          <p:nvPr/>
        </p:nvPicPr>
        <p:blipFill>
          <a:blip r:embed="rId3"/>
          <a:stretch/>
        </p:blipFill>
        <p:spPr>
          <a:xfrm>
            <a:off x="5796000" y="692280"/>
            <a:ext cx="2449440" cy="2447640"/>
          </a:xfrm>
          <a:prstGeom prst="rect">
            <a:avLst/>
          </a:prstGeom>
          <a:ln w="0">
            <a:noFill/>
          </a:ln>
        </p:spPr>
      </p:pic>
      <p:sp>
        <p:nvSpPr>
          <p:cNvPr id="79" name="Oval 10"/>
          <p:cNvSpPr/>
          <p:nvPr/>
        </p:nvSpPr>
        <p:spPr>
          <a:xfrm>
            <a:off x="2124000" y="515772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2484360" y="5157720"/>
            <a:ext cx="114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2843280" y="5157720"/>
            <a:ext cx="11412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_imgload"/>
          <p:cNvPicPr/>
          <p:nvPr/>
        </p:nvPicPr>
        <p:blipFill>
          <a:blip r:embed="rId1"/>
          <a:stretch/>
        </p:blipFill>
        <p:spPr>
          <a:xfrm>
            <a:off x="0" y="-387360"/>
            <a:ext cx="9468000" cy="7620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33200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扁鹊说：“皮肤病用热水敷烫就能够治好；发展到皮肉之间，用扎针的方法可以治好；即使发展到肠胃里，服几剂汤药也还能治好；一旦深入骨髓，只能等死，医生再也无能为力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140360" y="177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皮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3564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皮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68360" y="3429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肠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537080" y="39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_imgload"/>
          <p:cNvPicPr/>
          <p:nvPr/>
        </p:nvPicPr>
        <p:blipFill>
          <a:blip r:embed="rId1"/>
          <a:stretch/>
        </p:blipFill>
        <p:spPr>
          <a:xfrm>
            <a:off x="0" y="-316080"/>
            <a:ext cx="9468000" cy="761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900000" y="981000"/>
            <a:ext cx="7705800" cy="21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.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布置，铺开，摆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涂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. 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足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皮肤病用热水敷烫就能够治好；发展到皮肉之间，用扎针的方法可以治好；即使发展到肠胃里，服几剂汤药也还能治好；一旦深入骨髓，只能等死，医生再也无能为力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35280" y="2997000"/>
            <a:ext cx="1728720" cy="360"/>
            <a:chOff x="3635280" y="2997000"/>
            <a:chExt cx="1728720" cy="360"/>
          </a:xfrm>
        </p:grpSpPr>
        <p:sp>
          <p:nvSpPr>
            <p:cNvPr id="91" name="Line 4"/>
            <p:cNvSpPr/>
            <p:nvPr/>
          </p:nvSpPr>
          <p:spPr>
            <a:xfrm>
              <a:off x="3635280" y="2997360"/>
              <a:ext cx="172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0800000">
              <a:off x="3635280" y="299700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32720" y="3716280"/>
            <a:ext cx="720720" cy="1800"/>
            <a:chOff x="6732720" y="3716280"/>
            <a:chExt cx="720720" cy="1800"/>
          </a:xfrm>
        </p:grpSpPr>
        <p:sp>
          <p:nvSpPr>
            <p:cNvPr id="94" name="Line 5"/>
            <p:cNvSpPr/>
            <p:nvPr/>
          </p:nvSpPr>
          <p:spPr>
            <a:xfrm>
              <a:off x="6732720" y="3716280"/>
              <a:ext cx="7207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732720" y="3716280"/>
              <a:ext cx="72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050920" y="4869000"/>
            <a:ext cx="2376720" cy="1440"/>
            <a:chOff x="2050920" y="4869000"/>
            <a:chExt cx="2376720" cy="1440"/>
          </a:xfrm>
        </p:grpSpPr>
        <p:sp>
          <p:nvSpPr>
            <p:cNvPr id="97" name="Line 6"/>
            <p:cNvSpPr/>
            <p:nvPr/>
          </p:nvSpPr>
          <p:spPr>
            <a:xfrm>
              <a:off x="2050920" y="4869000"/>
              <a:ext cx="2376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050920" y="4869000"/>
              <a:ext cx="237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40360" y="5516640"/>
            <a:ext cx="1942920" cy="1440"/>
            <a:chOff x="4140360" y="5516640"/>
            <a:chExt cx="1942920" cy="1440"/>
          </a:xfrm>
        </p:grpSpPr>
        <p:sp>
          <p:nvSpPr>
            <p:cNvPr id="100" name="Line 7"/>
            <p:cNvSpPr/>
            <p:nvPr/>
          </p:nvSpPr>
          <p:spPr>
            <a:xfrm>
              <a:off x="4140360" y="5516640"/>
              <a:ext cx="1942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140360" y="5516640"/>
              <a:ext cx="194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8"/>
          <p:cNvSpPr/>
          <p:nvPr/>
        </p:nvSpPr>
        <p:spPr>
          <a:xfrm>
            <a:off x="4460040" y="234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图片1"/>
          <p:cNvPicPr/>
          <p:nvPr/>
        </p:nvPicPr>
        <p:blipFill>
          <a:blip r:embed="rId1"/>
          <a:stretch/>
        </p:blipFill>
        <p:spPr>
          <a:xfrm>
            <a:off x="468360" y="189000"/>
            <a:ext cx="8675640" cy="6669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187280" y="1341360"/>
            <a:ext cx="63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扁鹊专用诊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患者：                日期 ：                       症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蔡桓公                                                   皮肤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皮肉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肠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深入骨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浑身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病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7:05:00Z</dcterms:created>
  <dc:creator/>
  <dc:description/>
  <cp:keywords>幻灯片之家 http:/www.eeppt.com</cp:keywords>
  <dc:language>en-US</dc:language>
  <cp:lastModifiedBy/>
  <dcterms:modified xsi:type="dcterms:W3CDTF">2015-07-19T02:53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