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6.gif" ContentType="image/gif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7.gif" ContentType="image/gif"/>
  <Override PartName="/ppt/media/image5.jpeg" ContentType="image/jpe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228-ACFA-44F2-A9B4-BA385255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294-864A-467E-8736-698819F5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5D4-5512-4C33-8ED7-AAAC87E8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409-30E7-4A96-91A0-45A53B1F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662-FC8A-4706-A184-158B0571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406-C831-4ED9-8950-10CC555B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4FB-65FD-4214-832E-B7399000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1FB5-BBE5-41C0-8989-AF316E3B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CE0-3EDB-40A8-9C1E-F6B978FE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C1C-89EF-4676-BB7A-FA35E00D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0F5-0FA0-4B76-B57E-415E35E1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310-4FFF-48BC-8A8D-6CA7E93C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CA3D-E94F-4821-B0EC-B788D36F3295}" type="slidenum"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biaoge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4.png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5640" y="4437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990720" y="990720"/>
            <a:ext cx="2666880" cy="711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3866400" y="1486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比尾巴大赛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638360" y="2133720"/>
            <a:ext cx="5753160" cy="3984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564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066680" y="990720"/>
            <a:ext cx="2438640" cy="652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4067280" y="1415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编儿歌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1600200" y="1981080"/>
            <a:ext cx="5791320" cy="4157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333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2556000" y="458136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3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11"/>
              </a:rPr>
              <a:t>www.1ppt.com/excel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3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表格下载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13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14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15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3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3" name="Picture 2" descr="小学语文（散文）02-1"/>
          <p:cNvPicPr/>
          <p:nvPr/>
        </p:nvPicPr>
        <p:blipFill>
          <a:blip r:embed="rId16"/>
          <a:stretch/>
        </p:blipFill>
        <p:spPr>
          <a:xfrm>
            <a:off x="1028880" y="1027080"/>
            <a:ext cx="251460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3984840" y="144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动物王国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7"/>
          <a:stretch/>
        </p:blipFill>
        <p:spPr>
          <a:xfrm>
            <a:off x="1581120" y="2057400"/>
            <a:ext cx="582948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小学语文（散文）02-1"/>
          <p:cNvPicPr/>
          <p:nvPr/>
        </p:nvPicPr>
        <p:blipFill>
          <a:blip r:embed="rId2"/>
          <a:stretch/>
        </p:blipFill>
        <p:spPr>
          <a:xfrm>
            <a:off x="1028880" y="1008000"/>
            <a:ext cx="2514600" cy="687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886200" y="12193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猜谜语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000520" y="1600200"/>
            <a:ext cx="4447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红花头上戴，彩衣不用裁，清晨唱只歌，千门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万户开。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049480" y="2590920"/>
            <a:ext cx="4447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脚像小扇子，嘴像小铲子，下水捉鱼虾，不湿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花褂。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193920" y="36576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耳朵长，尾巴短，只吃菜，不吃饭。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721240" y="42670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脑袋聪明，手脚灵巧，喜欢爬树，最爱吃桃。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143440" y="4822920"/>
            <a:ext cx="4447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花冠头上戴，锦袍披身上，尾巴像扇子，展开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很漂亮。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566080" y="58672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老鼠，真奇怪，降落伞，随身带。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54" name="Picture 11" descr="公鸡"/>
          <p:cNvPicPr/>
          <p:nvPr/>
        </p:nvPicPr>
        <p:blipFill>
          <a:blip r:embed="rId3"/>
          <a:stretch/>
        </p:blipFill>
        <p:spPr>
          <a:xfrm>
            <a:off x="7391520" y="1828800"/>
            <a:ext cx="777600" cy="868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鸭"/>
          <p:cNvPicPr/>
          <p:nvPr/>
        </p:nvPicPr>
        <p:blipFill>
          <a:blip r:embed="rId4"/>
          <a:stretch/>
        </p:blipFill>
        <p:spPr>
          <a:xfrm>
            <a:off x="7620120" y="2743200"/>
            <a:ext cx="1371600" cy="571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兔子"/>
          <p:cNvPicPr/>
          <p:nvPr/>
        </p:nvPicPr>
        <p:blipFill>
          <a:blip r:embed="rId5"/>
          <a:stretch/>
        </p:blipFill>
        <p:spPr>
          <a:xfrm>
            <a:off x="6095880" y="2895480"/>
            <a:ext cx="1543320" cy="147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猴子"/>
          <p:cNvPicPr/>
          <p:nvPr/>
        </p:nvPicPr>
        <p:blipFill>
          <a:blip r:embed="rId6"/>
          <a:stretch/>
        </p:blipFill>
        <p:spPr>
          <a:xfrm>
            <a:off x="7696080" y="3962520"/>
            <a:ext cx="609840" cy="655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aaa0001"/>
          <p:cNvPicPr/>
          <p:nvPr/>
        </p:nvPicPr>
        <p:blipFill>
          <a:blip r:embed="rId7"/>
          <a:stretch/>
        </p:blipFill>
        <p:spPr>
          <a:xfrm>
            <a:off x="7696080" y="4648320"/>
            <a:ext cx="1295640" cy="86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松鼠"/>
          <p:cNvPicPr/>
          <p:nvPr/>
        </p:nvPicPr>
        <p:blipFill>
          <a:blip r:embed="rId8"/>
          <a:stretch/>
        </p:blipFill>
        <p:spPr>
          <a:xfrm>
            <a:off x="6553080" y="5486400"/>
            <a:ext cx="99072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990720" y="1066680"/>
            <a:ext cx="2666880" cy="54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图片1"/>
          <p:cNvPicPr/>
          <p:nvPr/>
        </p:nvPicPr>
        <p:blipFill>
          <a:blip r:embed="rId3"/>
          <a:stretch/>
        </p:blipFill>
        <p:spPr>
          <a:xfrm>
            <a:off x="1258920" y="1628640"/>
            <a:ext cx="6632640" cy="4605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990720" y="1066680"/>
            <a:ext cx="2666880" cy="54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比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979200" y="1452600"/>
            <a:ext cx="7769880" cy="367740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sh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í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ch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á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谁   的 尾   巴  长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sh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í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du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谁   的 尾   巴  短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sh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í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h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o  xi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y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ì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b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s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谁   的 尾   巴 好    像  一 把   伞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990720" y="1066680"/>
            <a:ext cx="2666880" cy="546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比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-22320" y="1574640"/>
            <a:ext cx="9171360" cy="3677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h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ó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u zi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ch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á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猴  子 的 尾   巴  长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t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ù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zi 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du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?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兔 子  的 尾   巴  短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s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ō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sh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ǔ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h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o xi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y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ì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b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s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?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松    鼠   的 尾   巴 好    像  一 把   伞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5670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990720" y="1066680"/>
            <a:ext cx="2666880" cy="546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比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977400" y="1452600"/>
            <a:ext cx="7952760" cy="367740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sh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í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ā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谁   的 尾   巴  弯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sh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í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bi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谁   的 尾   巴  扁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sh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í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h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o  xi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z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ì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h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o k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谁   的 尾   巴 好    像   最  好  看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990720" y="1066680"/>
            <a:ext cx="2666880" cy="546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比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25520" y="1596960"/>
            <a:ext cx="9064800" cy="367740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ō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j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ī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ā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公   鸡   的 尾   巴  弯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y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ā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zi 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bi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鸭 子  的 尾   巴  扁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k</a:t>
            </a:r>
            <a:r>
              <a:rPr b="1" lang="en-US" sz="2800" spc="-1" strike="noStrike">
                <a:solidFill>
                  <a:srgbClr val="003300"/>
                </a:solidFill>
                <a:latin typeface="Century Gothic"/>
              </a:rPr>
              <a:t>ǒ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q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è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h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o xi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z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ì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h</a:t>
            </a:r>
            <a:r>
              <a:rPr b="1" lang="en-US" sz="2800" spc="-1" strike="noStrike">
                <a:solidFill>
                  <a:srgbClr val="003300"/>
                </a:solidFill>
                <a:latin typeface="Century Gothic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o k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孔    雀   的 尾   巴 好    像   最  好  看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33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A3D-AC2D-4E4D-AAB9-FECE9579E8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09:14:33Z</dcterms:created>
  <dc:creator/>
  <dc:description/>
  <cp:keywords>幻灯片之家 http:/www.eeppt.com</cp:keywords>
  <dc:language>en-US</dc:language>
  <cp:lastModifiedBy/>
  <dcterms:modified xsi:type="dcterms:W3CDTF">2015-07-18T15:37:24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