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5BC-54D0-4B0E-A136-DD052ADB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411-E0BC-47BF-A48D-D46C40A2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45E-500F-44D2-872A-57737A17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011-1E68-41F9-83A9-95E86AF9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497-DE82-4B30-A7B8-06465C7A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051-20F9-451D-92EC-F05EDB92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B3E-5419-4603-ABE7-B66156F3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BA0-AAE6-4274-9E6D-502B76E9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D24-E3B4-4E61-BB95-B322D7EA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7D5-2F34-43FB-B641-25ABD782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79B-9D49-43A9-AAB4-F27AAC2F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237-CE1C-4A16-8326-13ADDC3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D15A-EC22-483C-9F2B-61B64F7BD4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草虫的村落背景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395280" y="242100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2513160" y="1773360"/>
            <a:ext cx="21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《草虫的村落》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1280" y="1413000"/>
            <a:ext cx="79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</a:rPr>
              <a:t>①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此时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我觉得它们的音乐优于人间的一切音乐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这是虫子们能演奏出来的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</a:rPr>
              <a:t>②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此时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我觉得它们的音乐优于人间的一切音乐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这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只有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虫子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才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能演奏出来的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96" name="Picture 3" descr="0 拷贝"/>
          <p:cNvPicPr/>
          <p:nvPr/>
        </p:nvPicPr>
        <p:blipFill>
          <a:blip r:embed="rId1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"/>
          <p:cNvPicPr/>
          <p:nvPr/>
        </p:nvPicPr>
        <p:blipFill>
          <a:blip r:embed="rId1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116000" y="13352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大街小巷里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花色斑斓的小圆虫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披着俏丽的彩衣。在这些粗壮的黑甲虫中间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它们好像南国的少女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逗得多少虫子驻足痴望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645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 拷贝"/>
          <p:cNvPicPr/>
          <p:nvPr/>
        </p:nvPicPr>
        <p:blipFill>
          <a:blip r:embed="rId1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971640" y="105732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　　蜥蜴面前围拢了一群黑甲虫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对这庞然大物投以好奇的目光。它们友好地交流着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好像攀谈得很投机似的。看啊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!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蜥蜴好像忘记了旅途的劳倦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它背着几个小黑甲虫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到处参观远房亲戚的住宅。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 拷贝"/>
          <p:cNvPicPr/>
          <p:nvPr/>
        </p:nvPicPr>
        <p:blipFill>
          <a:blip r:embed="rId1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9640" y="105264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现在它们归来了，每一个都用前肢推着大过身体两三倍的食物，行色匆匆地赶着路。是什么力量是它们这么勤勉地奔忙呢？ 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1"/>
          <a:stretch/>
        </p:blipFill>
        <p:spPr>
          <a:xfrm>
            <a:off x="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755640" y="126828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我看见测气候者忙于观察气象，工程师忙于建筑设计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各种不同的工作，都有专门的虫子担任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956720" y="0"/>
            <a:ext cx="118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50920" y="735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今天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我又躺在田野里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在无限的静谧中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忘了世界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也忘了自己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0920" y="23954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0920" y="48830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0" name=""/>
          <p:cNvSpPr/>
          <p:nvPr/>
        </p:nvSpPr>
        <p:spPr>
          <a:xfrm>
            <a:off x="828720" y="4581360"/>
            <a:ext cx="61117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楷体_GB2312"/>
                <a:hlinkClick r:id="rId1"/>
              </a:rPr>
              <a:t>ppt课件模板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</a:rPr>
              <a:t>http://www.eeppt.com/moban/kejian/</a:t>
            </a:r>
            <a:endParaRPr b="0" lang="en-US" sz="20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楷体_GB2312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80E-63CE-41FD-9071-C0FFAF98DE53}" type="slidenum">
              <a:t>16</a:t>
            </a:fld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4" descr="草虫的村落背景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059280" y="364500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人与自然</a:t>
            </a:r>
            <a:endParaRPr b="0" lang="en-US" sz="4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00000" y="898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珍惜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78144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生命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66108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尊重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34000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平等　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22144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</a:rPr>
              <a:t>和谐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2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2"/>
          <p:cNvSpPr/>
          <p:nvPr/>
        </p:nvSpPr>
        <p:spPr>
          <a:xfrm>
            <a:off x="385920" y="508464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45" name="Picture 13" descr="草虫的村落背景"/>
          <p:cNvPicPr/>
          <p:nvPr/>
        </p:nvPicPr>
        <p:blipFill>
          <a:blip r:embed="rId16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11280" y="692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95280" y="476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</a:rPr>
              <a:t>　　　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草虫的村落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042920" y="13302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　　我目光追随着爬行的的小虫，做了一次奇异的游历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71640" y="254952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　我发现了草丛中小虫子的快乐天地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课题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第一句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156360" y="63025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第二句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87280" y="76500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50920" y="609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　　今天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我又躺在田野里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在无限的静谧中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忘了世界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也忘了自己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50920" y="23781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51055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草虫的村落背景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50920" y="155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在小虫子的世界中，究竟蕴藏着什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演奏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劳动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分工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回应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拓展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</a:rPr>
              <a:t>升华　　　　　　　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9079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755640" y="765000"/>
            <a:ext cx="7488360" cy="1820160"/>
            <a:chOff x="755640" y="765000"/>
            <a:chExt cx="7488360" cy="1820160"/>
          </a:xfrm>
        </p:grpSpPr>
        <p:sp>
          <p:nvSpPr>
            <p:cNvPr id="69" name="Text Box 5"/>
            <p:cNvSpPr/>
            <p:nvPr/>
          </p:nvSpPr>
          <p:spPr>
            <a:xfrm>
              <a:off x="755640" y="765000"/>
              <a:ext cx="74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Arial"/>
                </a:rPr>
                <a:t>　　空间在我眼前扩大了，细密的草茎组成了茂盛的森林。</a:t>
              </a:r>
              <a:endParaRPr b="0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755640" y="1196640"/>
              <a:ext cx="72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　　　　　　一只小虫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一只生着坚硬黑甲的小虫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迷失在这座森林里。</a:t>
              </a:r>
              <a:endParaRPr b="0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826920" y="1638000"/>
              <a:ext cx="741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　　　　　　　　　　　我想它一定是游侠吧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!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你看它虽然迷了路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仍傲然地前进着。它不断地左冲右撞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终于走出一条路。我的目光跟着它的脚步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它走着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走着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一路上遇到不少同伴</a:t>
              </a:r>
              <a:r>
                <a:rPr b="1" lang="en-US" sz="2800" spc="-1" strike="noStrike">
                  <a:solidFill>
                    <a:srgbClr val="001e00"/>
                  </a:solidFill>
                  <a:latin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</a:rPr>
                <a:t>它们互相打着招呼。我真想也跟它们　　一下，可惜我不懂它们的语言。 </a:t>
              </a:r>
              <a:endParaRPr b="0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</p:grpSp>
      <p:sp>
        <p:nvSpPr>
          <p:cNvPr id="72" name="Line 12"/>
          <p:cNvSpPr/>
          <p:nvPr/>
        </p:nvSpPr>
        <p:spPr>
          <a:xfrm>
            <a:off x="4788000" y="2133720"/>
            <a:ext cx="338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971640" y="256536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971640" y="2997360"/>
            <a:ext cx="432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75" name="Picture 20" descr="1"/>
          <p:cNvPicPr/>
          <p:nvPr/>
        </p:nvPicPr>
        <p:blipFill>
          <a:blip r:embed="rId1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493236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</a:rPr>
              <a:t>寒</a:t>
            </a:r>
            <a:endParaRPr b="0" lang="en-US" sz="6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601344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</a:rPr>
              <a:t>暄</a:t>
            </a:r>
            <a:endParaRPr b="0" lang="en-US" sz="6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51672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</a:rPr>
              <a:t>寒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687708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</a:rPr>
              <a:t>暄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0 拷贝"/>
          <p:cNvPicPr/>
          <p:nvPr/>
        </p:nvPicPr>
        <p:blipFill>
          <a:blip r:embed="rId1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971640" y="1197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那只英勇的黑甲虫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走进了村子。我看见在许多同类虫子中间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一只娇小的从洞里跑出来迎接远归者。它们意味深长地对视良久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然后一齐欢跃地走回洞穴里去。 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6453360"/>
            <a:ext cx="22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草虫的村落背景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684360" y="15699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原来，在小虫子的世界中，蕴藏着多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啊！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草虫的村落背景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84360" y="15699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在我眼中，草虫的村落就是 </a:t>
            </a:r>
            <a:r>
              <a:rPr b="1" lang="en-US" sz="3600" spc="-1" strike="noStrike">
                <a:solidFill>
                  <a:srgbClr val="001e00"/>
                </a:solidFill>
                <a:latin typeface="黑体"/>
                <a:ea typeface="黑体"/>
              </a:rPr>
              <a:t>_________</a:t>
            </a:r>
            <a:r>
              <a:rPr b="1" lang="en-US" sz="3200" spc="-1" strike="noStrike">
                <a:solidFill>
                  <a:srgbClr val="001e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</a:rPr>
              <a:t>！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"/>
          <p:cNvPicPr/>
          <p:nvPr/>
        </p:nvPicPr>
        <p:blipFill>
          <a:blip r:embed="rId1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26920" y="981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　　甲虫音乐家们全神贯注地振着翅膀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优美的音韵，像灵泉一般流了出来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8720" y="1413000"/>
            <a:ext cx="784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　　　　　　　　　　　　　    此时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我觉得它们的音乐优于人间的一切音乐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这是只有虫子们才能演奏出来的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1" name="Line 16"/>
          <p:cNvSpPr/>
          <p:nvPr/>
        </p:nvSpPr>
        <p:spPr>
          <a:xfrm flipH="1">
            <a:off x="6324480" y="2438280"/>
            <a:ext cx="1526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477120" y="2438280"/>
            <a:ext cx="761760" cy="243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3" name="Line 19"/>
          <p:cNvSpPr/>
          <p:nvPr/>
        </p:nvSpPr>
        <p:spPr>
          <a:xfrm flipH="1">
            <a:off x="3429000" y="2438280"/>
            <a:ext cx="26668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6172200" y="2438280"/>
            <a:ext cx="1219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02:40Z</dcterms:created>
  <dc:creator/>
  <dc:description/>
  <cp:keywords>幻灯片之家 http:/www.eeppt.com</cp:keywords>
  <dc:language>en-US</dc:language>
  <cp:lastModifiedBy/>
  <dcterms:modified xsi:type="dcterms:W3CDTF">2015-07-20T01:19:45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