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21.jpeg" ContentType="image/jpeg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jpeg" ContentType="image/jpeg"/>
  <Override PartName="/ppt/media/image4.png" ContentType="image/png"/>
  <Override PartName="/ppt/media/image18.gif" ContentType="image/gif"/>
  <Override PartName="/ppt/media/image13.jpeg" ContentType="image/jpeg"/>
  <Override PartName="/ppt/media/image20.gif" ContentType="image/gif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2956-DD89-471C-AD4A-CBFD9A75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00BD-6F45-4D03-8AF8-5EB75005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7E54-F37B-4D7E-97E0-D4509F40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1687-F50C-44F9-8FCD-829756AA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C245-CCAD-4831-9DA1-6A0ECACE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A5C5-F8BC-4BA2-BCC7-AD2ED0AC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2E5-74D1-4DFA-8D91-62616813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A34D-89A0-4CEE-ABE4-A2044027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8D9B-060E-4654-B851-B2095FBE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5695-1CE7-447F-AE8A-EBDA7ABC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BCCB-1352-4CAD-A180-485F9B34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8D31-669A-454E-A2AC-4C2C4A3A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0403-8AA3-4A12-873D-DAF49BA38858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3.png"/><Relationship Id="rId8" Type="http://schemas.openxmlformats.org/officeDocument/2006/relationships/image" Target="../media/image8.png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31"/>
          <p:cNvSpPr/>
          <p:nvPr/>
        </p:nvSpPr>
        <p:spPr>
          <a:xfrm>
            <a:off x="4253760" y="4221000"/>
            <a:ext cx="13993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方正康体简体"/>
                <a:ea typeface="方正康体简体"/>
              </a:rPr>
              <a:t>余秋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0" y="2779560"/>
            <a:ext cx="3897360" cy="3525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2852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09400" y="1773360"/>
            <a:ext cx="238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信客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7"/>
          <p:cNvSpPr/>
          <p:nvPr/>
        </p:nvSpPr>
        <p:spPr>
          <a:xfrm>
            <a:off x="684360" y="40464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Arial"/>
              </a:rPr>
              <a:t>七嘴八舌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228600" y="1447920"/>
            <a:ext cx="8686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喜欢信客吗？为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诚信无私、任劳任怨、待人宽容、洁身自好、恪尽职守、善良厚道等。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324000" y="3213000"/>
            <a:ext cx="861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Picture 21" descr="woman_teacher_blackboard_md_wht"/>
          <p:cNvPicPr/>
          <p:nvPr/>
        </p:nvPicPr>
        <p:blipFill>
          <a:blip r:embed="rId1"/>
          <a:stretch/>
        </p:blipFill>
        <p:spPr>
          <a:xfrm>
            <a:off x="304920" y="5562720"/>
            <a:ext cx="1143000" cy="1063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2" descr="RT_002"/>
          <p:cNvPicPr/>
          <p:nvPr/>
        </p:nvPicPr>
        <p:blipFill>
          <a:blip r:embed="rId2"/>
          <a:stretch/>
        </p:blipFill>
        <p:spPr>
          <a:xfrm>
            <a:off x="7620120" y="533520"/>
            <a:ext cx="1096920" cy="9144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3"/>
          <p:cNvSpPr/>
          <p:nvPr/>
        </p:nvSpPr>
        <p:spPr>
          <a:xfrm>
            <a:off x="3691440" y="3213000"/>
            <a:ext cx="17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信客死后，为什么要和老信客葬在一 起？ 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Rectangle 24"/>
          <p:cNvSpPr/>
          <p:nvPr/>
        </p:nvSpPr>
        <p:spPr>
          <a:xfrm>
            <a:off x="395280" y="39337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因为信客理解老信客，同情他，敬重他，感激他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0" name="Picture 4" descr="图片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1042920" y="1341360"/>
            <a:ext cx="705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187280" y="314172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971640" y="620640"/>
            <a:ext cx="77058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信客为他人付出了很多，自己却落得遭人误解，饱受委屈，按现代某些价值观衡量，似乎很不划算。你认为他这样做傻不傻？假如让你选择，你会当信客吗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4" name="Picture 9" descr="B09AAE05DBE37BB77058CEF199965422"/>
          <p:cNvPicPr/>
          <p:nvPr/>
        </p:nvPicPr>
        <p:blipFill>
          <a:blip r:embed="rId3"/>
          <a:stretch/>
        </p:blipFill>
        <p:spPr>
          <a:xfrm>
            <a:off x="3851280" y="5013360"/>
            <a:ext cx="1584360" cy="1255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611280" y="170028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在我们的生活中，你有没有发现像信客一样默默奉献着而又处在社会下层的平凡人？请举一两例，并谈一谈我们应该如何对待他们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611280" y="189000"/>
            <a:ext cx="280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寻找“信客”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9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900000" y="620640"/>
            <a:ext cx="4114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试一试，发挥你的最大潜能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信客死后，有很多人来吊唁，假如你就是其中一员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你为信客撰写墓志铭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591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995919"/>
                </a:solidFill>
                <a:latin typeface="Arial"/>
              </a:rPr>
              <a:t>提示：墓志铭就是对死者生平事迹或品质的概述，语言力求简洁、通畅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762120" y="6858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5" name="Picture 4" descr="图片10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2050920" y="256536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一支蜡烛，奉献默默，一生之中，忍辱负重，光芒四射，蜡烛已尽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1332000" y="1052640"/>
            <a:ext cx="67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好人终有好报。愿你的灵魂在地下安息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我尊敬的人呐，你辛苦啦，歇一歇吧，我会日日为你祈祷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8720" y="537372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p</a:t>
            </a:r>
            <a:r>
              <a:rPr b="0" lang="en-US" sz="20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pt课件模板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ttp://www.eeppt.com/moban/kejian/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1042920" y="33336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cc0066"/>
                </a:solidFill>
                <a:latin typeface="隶书"/>
                <a:ea typeface="隶书"/>
              </a:rPr>
              <a:t>走出课文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cc0066"/>
                </a:solidFill>
                <a:latin typeface="隶书"/>
                <a:ea typeface="隶书"/>
              </a:rPr>
              <a:t> </a:t>
            </a:r>
            <a:r>
              <a:rPr b="1" lang="zh-CN" sz="4400" spc="-1" strike="noStrike">
                <a:solidFill>
                  <a:srgbClr val="cc0066"/>
                </a:solidFill>
                <a:latin typeface="隶书"/>
                <a:ea typeface="隶书"/>
              </a:rPr>
              <a:t>联系生活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隶书"/>
                <a:ea typeface="隶书"/>
              </a:rPr>
              <a:t>             </a:t>
            </a:r>
            <a:r>
              <a:rPr b="1" lang="zh-CN" sz="4400" spc="-1" strike="noStrike">
                <a:solidFill>
                  <a:srgbClr val="cc0066"/>
                </a:solidFill>
                <a:latin typeface="隶书"/>
                <a:ea typeface="隶书"/>
              </a:rPr>
              <a:t>体验反思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66560" y="1916280"/>
            <a:ext cx="867744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信客，作为一种职业已经消失了，而作为一辈子默默奉献的一类人，却没有绝迹，也不会绝迹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诚信永是做人之本，请结合现实生活和自己的经历，谈谈你对诚信的理解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1523880" y="5105520"/>
            <a:ext cx="684216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宋体"/>
              </a:rPr>
              <a:t>聆听你的心声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诚信是我们做人的基本原则，人、群体、社会是不可以不讲诚信的，诚信是我们这个世界得以支撑到今天的基石之一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为新一代的学生，我们必须努力做到事事讲诚信，时时讲诚信。让诚信伴我们行天下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979640" y="105264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余秋雨先生的散文语言很有特色，请在笔记本摘抄出你认为精彩的语句，并简要说说它的美感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WordArt 7"/>
          <p:cNvSpPr txBox="1"/>
          <p:nvPr/>
        </p:nvSpPr>
        <p:spPr>
          <a:xfrm rot="660600">
            <a:off x="324000" y="188640"/>
            <a:ext cx="1584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02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作业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02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0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66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1258920" y="256536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想联络一位朋友或亲人你会采用什么方法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539640" y="549360"/>
            <a:ext cx="280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课前调查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8" name="Picture 6" descr="BD14790_"/>
          <p:cNvPicPr/>
          <p:nvPr/>
        </p:nvPicPr>
        <p:blipFill>
          <a:blip r:embed="rId2"/>
          <a:stretch/>
        </p:blipFill>
        <p:spPr>
          <a:xfrm>
            <a:off x="6877080" y="40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BD14752_"/>
          <p:cNvPicPr/>
          <p:nvPr/>
        </p:nvPicPr>
        <p:blipFill>
          <a:blip r:embed="rId3"/>
          <a:stretch/>
        </p:blipFill>
        <p:spPr>
          <a:xfrm>
            <a:off x="4859280" y="692280"/>
            <a:ext cx="719280" cy="790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BD14794_"/>
          <p:cNvPicPr/>
          <p:nvPr/>
        </p:nvPicPr>
        <p:blipFill>
          <a:blip r:embed="rId4"/>
          <a:stretch/>
        </p:blipFill>
        <p:spPr>
          <a:xfrm>
            <a:off x="395280" y="2276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BD14795_"/>
          <p:cNvPicPr/>
          <p:nvPr/>
        </p:nvPicPr>
        <p:blipFill>
          <a:blip r:embed="rId5"/>
          <a:stretch/>
        </p:blipFill>
        <p:spPr>
          <a:xfrm>
            <a:off x="4211640" y="486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BD14791_"/>
          <p:cNvPicPr/>
          <p:nvPr/>
        </p:nvPicPr>
        <p:blipFill>
          <a:blip r:embed="rId6"/>
          <a:stretch/>
        </p:blipFill>
        <p:spPr>
          <a:xfrm>
            <a:off x="611280" y="5661000"/>
            <a:ext cx="753840" cy="754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BD14790_"/>
          <p:cNvPicPr/>
          <p:nvPr/>
        </p:nvPicPr>
        <p:blipFill>
          <a:blip r:embed="rId7"/>
          <a:stretch/>
        </p:blipFill>
        <p:spPr>
          <a:xfrm>
            <a:off x="8028000" y="57340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BD14792_"/>
          <p:cNvPicPr/>
          <p:nvPr/>
        </p:nvPicPr>
        <p:blipFill>
          <a:blip r:embed="rId8"/>
          <a:stretch/>
        </p:blipFill>
        <p:spPr>
          <a:xfrm>
            <a:off x="1116000" y="260280"/>
            <a:ext cx="431640" cy="43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图片112"/>
          <p:cNvPicPr/>
          <p:nvPr/>
        </p:nvPicPr>
        <p:blipFill>
          <a:blip r:embed="rId9"/>
          <a:stretch/>
        </p:blipFill>
        <p:spPr>
          <a:xfrm>
            <a:off x="7093080" y="260280"/>
            <a:ext cx="116352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0D16-1152-4A12-9891-2BD54BF779B0}" type="slidenum">
              <a:t>3</a:t>
            </a:fld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2290680" y="3048120"/>
            <a:ext cx="1633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042920" y="191628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知识与技能：了解信客这种职业的特点，体会信客的为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过程与方法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整体把握内容了解信客的“信”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、围绕“诚信”进行口语练习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情感、态度和价值观：树立诚信为本的做人理念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2916360" y="692280"/>
            <a:ext cx="35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教学目标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12"/>
          <p:cNvSpPr/>
          <p:nvPr/>
        </p:nvSpPr>
        <p:spPr>
          <a:xfrm>
            <a:off x="5796000" y="549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6804000" y="4869000"/>
            <a:ext cx="2016000" cy="1296720"/>
          </a:xfrm>
          <a:custGeom>
            <a:avLst/>
            <a:gdLst>
              <a:gd name="textAreaLeft" fmla="*/ 504000 w 2016000"/>
              <a:gd name="textAreaRight" fmla="*/ 1512000 w 2016000"/>
              <a:gd name="textAreaTop" fmla="*/ 0 h 1296720"/>
              <a:gd name="textAreaBottom" fmla="*/ 1134720 h 1296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余秋雨的主要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作品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4" name="Picture 13" descr="余作2"/>
          <p:cNvPicPr/>
          <p:nvPr/>
        </p:nvPicPr>
        <p:blipFill>
          <a:blip r:embed="rId2"/>
          <a:stretch/>
        </p:blipFill>
        <p:spPr>
          <a:xfrm>
            <a:off x="3419640" y="4437000"/>
            <a:ext cx="1544400" cy="208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余作3"/>
          <p:cNvPicPr/>
          <p:nvPr/>
        </p:nvPicPr>
        <p:blipFill>
          <a:blip r:embed="rId3"/>
          <a:stretch/>
        </p:blipFill>
        <p:spPr>
          <a:xfrm>
            <a:off x="250920" y="4437000"/>
            <a:ext cx="1512720" cy="2086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余作5"/>
          <p:cNvPicPr/>
          <p:nvPr/>
        </p:nvPicPr>
        <p:blipFill>
          <a:blip r:embed="rId4"/>
          <a:stretch/>
        </p:blipFill>
        <p:spPr>
          <a:xfrm>
            <a:off x="1835280" y="4437000"/>
            <a:ext cx="1511280" cy="2087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</a:rPr>
              <a:t>走近作者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68" name="Picture 7" descr="余作1"/>
          <p:cNvPicPr/>
          <p:nvPr/>
        </p:nvPicPr>
        <p:blipFill>
          <a:blip r:embed="rId5"/>
          <a:stretch/>
        </p:blipFill>
        <p:spPr>
          <a:xfrm>
            <a:off x="5076720" y="4437000"/>
            <a:ext cx="1511280" cy="2087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0" y="1600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余秋雨，生于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946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年，浙江余姚人，我国当代著名艺术理论家、文化史学者、散文家。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主要作品有《文化苦旅》、《山居笔记》、《千年一叹》、《行者无疆》等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0" name="Picture 18" descr="U3P112T22D2250F829DT20031202131228"/>
          <p:cNvPicPr/>
          <p:nvPr/>
        </p:nvPicPr>
        <p:blipFill>
          <a:blip r:embed="rId6"/>
          <a:stretch/>
        </p:blipFill>
        <p:spPr>
          <a:xfrm>
            <a:off x="5513400" y="0"/>
            <a:ext cx="363060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2776680" y="8049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你会读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11280" y="1628640"/>
            <a:ext cx="655308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嫉妒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（          ）  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è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耗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猝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然（    ）         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jì liǎng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昏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厥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（    ）           连声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nuò nuò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文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绉绉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（       ）    颠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pèi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吊</a:t>
            </a: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唁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（    ）           焦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zhuó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Arial"/>
              </a:rPr>
              <a:t>诘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问（    ）           时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máo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197080" y="164952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jíd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4140720" y="1647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1981080" y="20829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5509440" y="21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伎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1910160" y="265752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ju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6589080" y="2655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诺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2331720" y="309096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zhōu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5221800" y="3141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1836720" y="359424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yà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5725080" y="364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灼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1909800" y="41702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ji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5582160" y="4168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5" name="Picture 19" descr="gif002"/>
          <p:cNvPicPr/>
          <p:nvPr/>
        </p:nvPicPr>
        <p:blipFill>
          <a:blip r:embed="rId2"/>
          <a:stretch/>
        </p:blipFill>
        <p:spPr>
          <a:xfrm>
            <a:off x="8101080" y="189000"/>
            <a:ext cx="718920" cy="647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1012680" y="4046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认识信客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4356000" y="260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信客是一种私人职业，不受任何机构管理。这个地方外出谋生的人多了，少不了要带几封平安家信、带一点衣物食品的，方圆几十里又没有邮局，那就用得着信客了。信客要有一点文化，知道各大码头的情形，还要一副强健的筋骨，背得动重重的行李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信客为远行者们效力，自己却是最困苦的远行者。一身破衣旧衫，满脸风尘， 状如乞丐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95280" y="33336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走进课文——整体感知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187280" y="1413000"/>
            <a:ext cx="6350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信客的工作量大吗？你对这份工作的初步印象是怎样的？能用一个字来概括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这种“苦”从哪里体现出来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3564000" y="3429000"/>
            <a:ext cx="1150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7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苦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>
    <p:pull dir="r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68360" y="2060640"/>
            <a:ext cx="220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做信客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苦”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2771640" y="1700280"/>
            <a:ext cx="71640" cy="2592360"/>
          </a:xfrm>
          <a:custGeom>
            <a:avLst/>
            <a:gdLst>
              <a:gd name="textAreaLeft" fmla="*/ 45720 w 71640"/>
              <a:gd name="textAreaRight" fmla="*/ 72000 w 7164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132000" y="1557360"/>
            <a:ext cx="477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工作劳苦：终年跋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4055400" y="22766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活贫苦：收入微薄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2987640" y="2997360"/>
            <a:ext cx="83930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心灵痛苦：蒙受怀疑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欺凌、憎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15:07:00Z</dcterms:created>
  <dc:creator/>
  <dc:description/>
  <cp:keywords>幻灯片之家 http:/www.eeppt.com</cp:keywords>
  <dc:language>en-US</dc:language>
  <cp:lastModifiedBy/>
  <dcterms:modified xsi:type="dcterms:W3CDTF">2015-07-04T11:58:00Z</dcterms:modified>
  <cp:revision>10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2</vt:r8>
  </property>
</Properties>
</file>