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BB1-D981-4094-A007-6C8D94027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9D50-83F4-4C75-A374-A1C3DA34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50E-B2D2-412F-908F-68B6C1E67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F21-F67A-4315-AA97-589CFC09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0730-0CEC-4907-8FE2-8D88228C6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A1D-193C-46A3-8AFF-627800BB2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92EF-ABBC-4437-8E57-F7B6B224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46D-196A-41E8-BA24-616CAA51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56F6-8B0F-4901-B3D3-ACED558D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4F27-39A6-4376-9DB0-4E03A38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77C-D84D-4689-8804-BDDF0189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9A1-590C-4712-AB91-7A964262C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9177E-469A-4B85-A646-058B8706F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-36360" y="620640"/>
            <a:ext cx="9144000" cy="5359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2442600" y="914400"/>
            <a:ext cx="139932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11.MP3" descr=""/>
          <p:cNvPicPr/>
          <p:nvPr/>
        </p:nvPicPr>
        <p:blipFill>
          <a:blip r:embed="rId2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2709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2440" y="981000"/>
            <a:ext cx="149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《春酒》课件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6" descr=""/>
          <p:cNvPicPr/>
          <p:nvPr/>
        </p:nvPicPr>
        <p:blipFill>
          <a:blip r:embed="rId1">
            <a:lum bright="70000" contrast="-70000"/>
          </a:blip>
          <a:srcRect l="15239" t="16883" r="14285" b="12990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447920" y="60948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0" y="4267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49528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4092480" y="10666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琦  君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2589480" y="3036960"/>
            <a:ext cx="4606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华文仿宋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现当代著名女作家。原名潘希真，浙江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1949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年赴台，在司法部门工作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2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年。曾任中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文化学院，中央大学中文系教授。后定居美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她是从散文开始自己的写作生涯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她出版了散文集，小说集及儿童文学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3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余种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代表作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橘子红了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七月的哀伤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》 《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菁姐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《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琦君寄小读者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3205800" y="579132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文鼎粗圆"/>
              </a:rPr>
              <a:t>她是一个活在童年里的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6381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3A6B-672A-4FA7-BD08-32FA5327A9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28"/>
          <p:cNvSpPr/>
          <p:nvPr/>
        </p:nvSpPr>
        <p:spPr>
          <a:xfrm>
            <a:off x="2666880" y="1258920"/>
            <a:ext cx="4572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春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29"/>
          <p:cNvSpPr/>
          <p:nvPr/>
        </p:nvSpPr>
        <p:spPr>
          <a:xfrm>
            <a:off x="1042920" y="3168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诗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十月获稻，为此春酒。为此春酒，以介眉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030"/>
          <p:cNvSpPr/>
          <p:nvPr/>
        </p:nvSpPr>
        <p:spPr>
          <a:xfrm>
            <a:off x="3042360" y="373392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曹操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曾将家乡亳州产的“九坛春酒”进献给汉献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3"/>
          <p:cNvSpPr/>
          <p:nvPr/>
        </p:nvSpPr>
        <p:spPr>
          <a:xfrm>
            <a:off x="3681000" y="5731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关 于 春 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034"/>
          <p:cNvSpPr/>
          <p:nvPr/>
        </p:nvSpPr>
        <p:spPr>
          <a:xfrm>
            <a:off x="3657600" y="171612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36"/>
          <p:cNvSpPr/>
          <p:nvPr/>
        </p:nvSpPr>
        <p:spPr>
          <a:xfrm>
            <a:off x="4604040" y="20210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春节时走家串户用来待客的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37"/>
          <p:cNvSpPr/>
          <p:nvPr/>
        </p:nvSpPr>
        <p:spPr>
          <a:xfrm>
            <a:off x="2887560" y="436572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雒难县志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·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民俗</a:t>
            </a:r>
            <a:r>
              <a:rPr b="1" lang="en-US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ＣＳ"/>
                <a:ea typeface="楷体ＣＳ"/>
              </a:rPr>
              <a:t>立春之日，人饮春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39"/>
          <p:cNvSpPr/>
          <p:nvPr/>
        </p:nvSpPr>
        <p:spPr>
          <a:xfrm>
            <a:off x="3178080" y="48909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山西民歌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春人饮春酒，春官鞭春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40"/>
          <p:cNvSpPr/>
          <p:nvPr/>
        </p:nvSpPr>
        <p:spPr>
          <a:xfrm>
            <a:off x="99072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喝春酒是从古至今一直流传的为了使春节更加欢庆的一种民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41"/>
          <p:cNvSpPr/>
          <p:nvPr/>
        </p:nvSpPr>
        <p:spPr>
          <a:xfrm>
            <a:off x="4177440" y="1487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正月所酿的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043"/>
          <p:cNvSpPr/>
          <p:nvPr/>
        </p:nvSpPr>
        <p:spPr>
          <a:xfrm>
            <a:off x="503064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八宝酒是其中的一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666880" y="1258920"/>
            <a:ext cx="45720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春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042920" y="316872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诗经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十月获稻，为此春酒。为此春酒，以介眉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042360" y="3733920"/>
            <a:ext cx="33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曹操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曾将家乡亳州产的“九坛春酒”进献给汉献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3681000" y="57312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关 于 春 酒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7"/>
          <p:cNvSpPr/>
          <p:nvPr/>
        </p:nvSpPr>
        <p:spPr>
          <a:xfrm>
            <a:off x="3657600" y="171612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604040" y="202104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春节时走家串户用来待客的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887560" y="4365720"/>
            <a:ext cx="254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《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雒难县志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·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民俗</a:t>
            </a:r>
            <a:r>
              <a:rPr b="1" lang="en-US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》</a:t>
            </a:r>
            <a:r>
              <a:rPr b="1" lang="zh-CN" sz="2800" spc="-1" strike="noStrike">
                <a:solidFill>
                  <a:srgbClr val="990000"/>
                </a:solidFill>
                <a:latin typeface="楷体ＣＳ"/>
                <a:ea typeface="楷体ＣＳ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楷体ＣＳ"/>
                <a:ea typeface="楷体ＣＳ"/>
              </a:rPr>
              <a:t>立春之日，人饮春酒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3178080" y="489096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山西民歌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春人饮春酒，春官鞭春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990720" y="579132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  <a:ea typeface="楷体ＣＳ"/>
              </a:rPr>
              <a:t>喝春酒是从古至今一直流传的为了使春节更加欢庆的一种民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4177440" y="14875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正月所酿的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5030640" y="2590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八宝酒是其中的一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28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2239560" y="2666880"/>
            <a:ext cx="4569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请同学们找到课文中你最喜欢的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朗读出来并且说出你喜欢它的原因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33"/>
          <p:cNvSpPr/>
          <p:nvPr/>
        </p:nvSpPr>
        <p:spPr>
          <a:xfrm>
            <a:off x="1455120" y="8478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99"/>
                </a:solidFill>
                <a:latin typeface="Times New Roman"/>
                <a:ea typeface="隶书"/>
              </a:rPr>
              <a:t>品读文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28"/>
          <p:cNvSpPr/>
          <p:nvPr/>
        </p:nvSpPr>
        <p:spPr>
          <a:xfrm>
            <a:off x="2362320" y="12952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030"/>
          <p:cNvSpPr/>
          <p:nvPr/>
        </p:nvSpPr>
        <p:spPr>
          <a:xfrm>
            <a:off x="2514600" y="2514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031"/>
          <p:cNvSpPr/>
          <p:nvPr/>
        </p:nvSpPr>
        <p:spPr>
          <a:xfrm>
            <a:off x="2514600" y="30481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032"/>
          <p:cNvSpPr/>
          <p:nvPr/>
        </p:nvSpPr>
        <p:spPr>
          <a:xfrm>
            <a:off x="533520" y="440208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033"/>
          <p:cNvSpPr/>
          <p:nvPr/>
        </p:nvSpPr>
        <p:spPr>
          <a:xfrm>
            <a:off x="533520" y="4876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034"/>
          <p:cNvSpPr/>
          <p:nvPr/>
        </p:nvSpPr>
        <p:spPr>
          <a:xfrm>
            <a:off x="2133720" y="355752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036"/>
          <p:cNvSpPr/>
          <p:nvPr/>
        </p:nvSpPr>
        <p:spPr>
          <a:xfrm>
            <a:off x="1981080" y="1295280"/>
            <a:ext cx="9144000" cy="36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来到台湾，此心如无根的浮萍，没有了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落，对家乡的苦念，也就与日俱增了。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里想，梦里思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楷体ＣＳ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“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昨夜梦魂又飞归故里，躺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双亲的墓园中，拥吻着绿茵覆盖的芬芳泥土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望着悠悠出岫的白云，多年抑郁的情怀得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暂感舒松，可是短梦醒来，泪水又湿透枕边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美丽的家园啊！它依旧是海天一角，水阔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遥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”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。（琦君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乡思</a:t>
            </a:r>
            <a:r>
              <a:rPr b="1" lang="en-US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_x000b__x000c_"/>
                <a:ea typeface="楷体ＣＳ"/>
              </a:rPr>
              <a:t>）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宋体ＣＳ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0"/>
          <p:cNvSpPr/>
          <p:nvPr/>
        </p:nvSpPr>
        <p:spPr>
          <a:xfrm>
            <a:off x="1476360" y="412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5"/>
          <p:cNvSpPr/>
          <p:nvPr/>
        </p:nvSpPr>
        <p:spPr>
          <a:xfrm>
            <a:off x="1143000" y="1066680"/>
            <a:ext cx="67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举杯邀明月，对饮成三人。（李白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明月几时有，把酒问青天。（苏轼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遥知兄弟登高处，遍插茱萸少一人。（王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1"/>
          <p:cNvSpPr/>
          <p:nvPr/>
        </p:nvSpPr>
        <p:spPr>
          <a:xfrm>
            <a:off x="1143000" y="3917880"/>
            <a:ext cx="9144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母亲，倘若你梦 中看见一只很小的白船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不要 惊讶它无端入梦。这是你挚爱的女儿含着泪叠的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万水千山，求它载着她的爱和悲哀归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                                                              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（冰心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纸船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0" y="373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6"/>
          <p:cNvSpPr/>
          <p:nvPr/>
        </p:nvSpPr>
        <p:spPr>
          <a:xfrm>
            <a:off x="1143000" y="3200400"/>
            <a:ext cx="85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借背影表现了对父亲无限的爱和怀念。（朱自清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背影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》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文鼎大颜楷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渔舟唱晚.mp3" descr=""/>
          <p:cNvPicPr/>
          <p:nvPr/>
        </p:nvPicPr>
        <p:blipFill>
          <a:blip r:embed="rId2"/>
          <a:stretch/>
        </p:blipFill>
        <p:spPr>
          <a:xfrm>
            <a:off x="7621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1127160" y="1752480"/>
            <a:ext cx="801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你还知道哪些民俗活动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你经历过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ＣＳ"/>
              </a:rPr>
              <a:t>你有哪些感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14400" y="609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讨论活动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2:21:32Z</dcterms:created>
  <dc:creator/>
  <dc:description/>
  <cp:keywords>幻灯片之家 http:/www.eeppt.com</cp:keywords>
  <dc:language>en-US</dc:language>
  <cp:lastModifiedBy/>
  <dcterms:modified xsi:type="dcterms:W3CDTF">2015-07-04T07:14:13Z</dcterms:modified>
  <cp:revision>5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