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3117-4775-40BB-A482-65D36700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7683-4BAE-4619-B705-220C97C5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635-CC39-4045-868A-A288B0C1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0016-373E-43BB-9049-5912D453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A698-1702-4293-A38A-9E4C7BAA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91D7-DC02-4AE5-981F-E86C5975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0E0-7C1E-47F2-8893-7B64A941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FBA9-83C4-41BD-B0C2-050B50ED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7019-02D1-4913-BE59-DB34A397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1BD1-84AD-4843-9A6B-D539615C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C591-E31C-4AE6-8681-2F8807B1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06D-6568-4380-8DAF-B861814E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B446-5109-4865-9F18-BD2968D8C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dytjl.nease.net/msf/1.htm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.baidu.com/ir?u=http://www.dzu.edu.cn/bumen/xcb/xxzd/&#27611;&#27901;&#19996;&#20027;&#20041;&#32593;-&#27611;&#20027;&#24109;&#29983;&#24179;-.files/1083.jpg&amp;f=http://www.dzu.edu.cn/bumen/xcb/xxzd/mzd.htm&amp;c=baidu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pring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6267240" y="189000"/>
            <a:ext cx="15210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吃水不忘挖井人</a:t>
            </a:r>
            <a:r>
              <a:rPr b="1" lang="zh-CN" sz="44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课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430200" y="836640"/>
            <a:ext cx="81532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难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忘 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挖  井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   主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席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领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导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革  命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 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战  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解 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放   立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刻 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   想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2133720" y="1495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5181480" y="1495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5562720" y="2943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2895480" y="2943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228600" y="2895480"/>
            <a:ext cx="609480" cy="1976400"/>
          </a:xfrm>
          <a:custGeom>
            <a:avLst/>
            <a:gdLst>
              <a:gd name="textAreaLeft" fmla="*/ 81360 w 609480"/>
              <a:gd name="textAreaRight" fmla="*/ 528120 w 609480"/>
              <a:gd name="textAreaTop" fmla="*/ 345600 h 1976400"/>
              <a:gd name="textAreaBottom" fmla="*/ 1432800 h 197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8077320" y="1523880"/>
            <a:ext cx="733320" cy="1981440"/>
          </a:xfrm>
          <a:custGeom>
            <a:avLst/>
            <a:gdLst>
              <a:gd name="textAreaLeft" fmla="*/ 98280 w 733320"/>
              <a:gd name="textAreaRight" fmla="*/ 635040 w 733320"/>
              <a:gd name="textAreaTop" fmla="*/ 346680 h 1981440"/>
              <a:gd name="textAreaBottom" fmla="*/ 14367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2590920" y="44672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5410080" y="44672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8410680" y="4419720"/>
            <a:ext cx="504720" cy="2057400"/>
          </a:xfrm>
          <a:custGeom>
            <a:avLst/>
            <a:gdLst>
              <a:gd name="textAreaLeft" fmla="*/ 67320 w 504720"/>
              <a:gd name="textAreaRight" fmla="*/ 437400 w 50472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2209680" y="5791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5410080" y="5867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6810480" y="1066680"/>
            <a:ext cx="714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念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1009800" y="1066680"/>
            <a:ext cx="714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忘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6962760" y="5389560"/>
            <a:ext cx="714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刻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6962760" y="2422440"/>
            <a:ext cx="714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革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4295880" y="2438280"/>
            <a:ext cx="714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导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1238400" y="2498760"/>
            <a:ext cx="714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席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1171440" y="4022640"/>
            <a:ext cx="714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命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4067280" y="4022640"/>
            <a:ext cx="714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战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3762360" y="1066680"/>
            <a:ext cx="714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挖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2"/>
          <p:cNvSpPr/>
          <p:nvPr/>
        </p:nvSpPr>
        <p:spPr>
          <a:xfrm>
            <a:off x="6886440" y="4022640"/>
            <a:ext cx="714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士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3"/>
          <p:cNvSpPr/>
          <p:nvPr/>
        </p:nvSpPr>
        <p:spPr>
          <a:xfrm>
            <a:off x="3990960" y="5389560"/>
            <a:ext cx="714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Times New Roman"/>
              </a:rPr>
              <a:t>解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4"/>
          <p:cNvSpPr/>
          <p:nvPr/>
        </p:nvSpPr>
        <p:spPr>
          <a:xfrm>
            <a:off x="380880" y="5334120"/>
            <a:ext cx="1295640" cy="129528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8280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台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口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水   领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导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导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游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革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生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救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命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主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席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凉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席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想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念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挂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念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念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书   时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立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395280" y="1052640"/>
            <a:ext cx="820908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瑞金城外有个小村子叫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洲坝。毛主席在江西领导革命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候，就在那儿住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200552492550734"/>
          <p:cNvPicPr/>
          <p:nvPr/>
        </p:nvPicPr>
        <p:blipFill>
          <a:blip r:embed="rId1"/>
          <a:stretch/>
        </p:blipFill>
        <p:spPr>
          <a:xfrm>
            <a:off x="3962520" y="3276720"/>
            <a:ext cx="4647960" cy="3090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l5"/>
          <p:cNvPicPr/>
          <p:nvPr/>
        </p:nvPicPr>
        <p:blipFill>
          <a:blip r:embed="rId2"/>
          <a:stretch/>
        </p:blipFill>
        <p:spPr>
          <a:xfrm>
            <a:off x="304920" y="380880"/>
            <a:ext cx="4800600" cy="3124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5867280" y="115740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瑞金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838080" y="443376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沙洲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95280" y="1052640"/>
            <a:ext cx="820908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瑞金城外有个小村子叫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洲坝。毛主席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在江西领导革命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时候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就在那儿住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932360" y="5229360"/>
            <a:ext cx="214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Times New Roman"/>
                <a:ea typeface="黑体"/>
              </a:rPr>
              <a:t>时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5364000" y="5229360"/>
            <a:ext cx="22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Times New Roman"/>
                <a:ea typeface="黑体"/>
              </a:rPr>
              <a:t>地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95280" y="1052640"/>
            <a:ext cx="820908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瑞金城外有个小村子叫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洲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毛主席在江西领导革命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候，就在那儿住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95280" y="1052640"/>
            <a:ext cx="820908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瑞金城外有个小村子叫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洲坝。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毛主席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江西领导革命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候，就在那儿住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5364000" y="5229360"/>
            <a:ext cx="23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Times New Roman"/>
                <a:ea typeface="黑体"/>
              </a:rPr>
              <a:t>人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468360" y="404640"/>
            <a:ext cx="7632720" cy="68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谁是挖井人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为什么要挖井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谁不忘挖井人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395280" y="1125360"/>
            <a:ext cx="6553080" cy="2287440"/>
            <a:chOff x="395280" y="1125360"/>
            <a:chExt cx="6553080" cy="2287440"/>
          </a:xfrm>
        </p:grpSpPr>
        <p:sp>
          <p:nvSpPr>
            <p:cNvPr id="103" name="Text Box 3"/>
            <p:cNvSpPr/>
            <p:nvPr/>
          </p:nvSpPr>
          <p:spPr>
            <a:xfrm>
              <a:off x="395280" y="1125360"/>
              <a:ext cx="6553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村子里没有井，吃水要到很远的地方去挑。</a:t>
              </a:r>
              <a:br>
                <a:rPr sz="4800"/>
              </a:br>
              <a:br>
                <a:rPr sz="4800"/>
              </a:b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毛主席就带领</a:t>
              </a:r>
              <a:r>
                <a:rPr b="1" lang="zh-CN" sz="4800" spc="-1" strike="noStrike">
                  <a:solidFill>
                    <a:srgbClr val="009999"/>
                  </a:solidFill>
                  <a:latin typeface="Times New Roman"/>
                </a:rPr>
                <a:t>战士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和乡亲们挖了一口井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4"/>
            <p:cNvSpPr/>
            <p:nvPr/>
          </p:nvSpPr>
          <p:spPr>
            <a:xfrm>
              <a:off x="3635280" y="2707920"/>
              <a:ext cx="28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zh</a:t>
              </a:r>
              <a:r>
                <a:rPr b="1" lang="en-US" sz="4000" spc="-1" strike="noStrike">
                  <a:solidFill>
                    <a:srgbClr val="009999"/>
                  </a:solidFill>
                  <a:latin typeface="宋体"/>
                </a:rPr>
                <a:t>à</a:t>
              </a: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n  shì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1128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谁是挖井人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谁不忘挖井人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为什么要挖井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95280" y="1341360"/>
            <a:ext cx="7677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村子里没有井，吃水要到</a:t>
            </a:r>
            <a:r>
              <a:rPr b="1" lang="zh-CN" sz="4800" spc="-1" strike="noStrike">
                <a:solidFill>
                  <a:srgbClr val="009999"/>
                </a:solidFill>
                <a:latin typeface="Times New Roman"/>
              </a:rPr>
              <a:t>很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的地方去挑。毛主席就带领战士和乡亲们挖了一口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482400" y="1428840"/>
            <a:ext cx="762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      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95280" y="1341360"/>
            <a:ext cx="774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村子里没有井，吃水要到很远的地方去挑。毛主席就</a:t>
            </a:r>
            <a:r>
              <a:rPr b="1" lang="zh-CN" sz="4800" spc="-1" strike="noStrike">
                <a:solidFill>
                  <a:srgbClr val="009999"/>
                </a:solidFill>
                <a:latin typeface="Times New Roman"/>
              </a:rPr>
              <a:t>带领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战士和乡亲们</a:t>
            </a:r>
            <a:r>
              <a:rPr b="1" lang="zh-CN" sz="4800" spc="-1" strike="noStrike">
                <a:solidFill>
                  <a:srgbClr val="009999"/>
                </a:solidFill>
                <a:latin typeface="Times New Roman"/>
              </a:rPr>
              <a:t>挖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了一口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b051894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179280" y="189000"/>
            <a:ext cx="7272360" cy="5715360"/>
            <a:chOff x="179280" y="189000"/>
            <a:chExt cx="7272360" cy="5715360"/>
          </a:xfrm>
        </p:grpSpPr>
        <p:sp>
          <p:nvSpPr>
            <p:cNvPr id="110" name="Text Box 3"/>
            <p:cNvSpPr/>
            <p:nvPr/>
          </p:nvSpPr>
          <p:spPr>
            <a:xfrm>
              <a:off x="179280" y="692280"/>
              <a:ext cx="7272360" cy="52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解放以后，乡亲们在</a:t>
              </a:r>
              <a:br>
                <a:rPr sz="4800"/>
              </a:br>
              <a:br>
                <a:rPr sz="4800"/>
              </a:b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井旁边立了一块石碑，上</a:t>
              </a:r>
              <a:br>
                <a:rPr sz="4800"/>
              </a:br>
              <a:br>
                <a:rPr sz="4800"/>
              </a:b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面刻着：“吃水不忘挖井</a:t>
              </a:r>
              <a:br>
                <a:rPr sz="4800"/>
              </a:br>
              <a:br>
                <a:rPr sz="4800"/>
              </a:b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人，时刻想念毛主席。”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4"/>
            <p:cNvSpPr/>
            <p:nvPr/>
          </p:nvSpPr>
          <p:spPr>
            <a:xfrm>
              <a:off x="1476360" y="189000"/>
              <a:ext cx="115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jiě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5"/>
            <p:cNvSpPr/>
            <p:nvPr/>
          </p:nvSpPr>
          <p:spPr>
            <a:xfrm>
              <a:off x="5148000" y="1629000"/>
              <a:ext cx="1535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bē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"/>
            <p:cNvSpPr/>
            <p:nvPr/>
          </p:nvSpPr>
          <p:spPr>
            <a:xfrm>
              <a:off x="828720" y="3043440"/>
              <a:ext cx="1228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k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3205080" y="4581720"/>
              <a:ext cx="2301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ni</a:t>
              </a:r>
              <a:r>
                <a:rPr b="1" lang="en-US" sz="4000" spc="-1" strike="noStrike">
                  <a:solidFill>
                    <a:srgbClr val="009999"/>
                  </a:solidFill>
                  <a:latin typeface="宋体"/>
                </a:rPr>
                <a:t>à</a:t>
              </a: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b051894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900000" y="0"/>
            <a:ext cx="6264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吃水不忘挖井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时刻想念毛主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79280" y="692280"/>
            <a:ext cx="7272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解放以后，乡亲们在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井旁边立了一块石碑，上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面刻着：“</a:t>
            </a:r>
            <a:r>
              <a:rPr b="1" lang="zh-CN" sz="4800" spc="-1" strike="noStrike">
                <a:solidFill>
                  <a:srgbClr val="009999"/>
                </a:solidFill>
                <a:latin typeface="Times New Roman"/>
              </a:rPr>
              <a:t>吃水不忘挖井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9999"/>
                </a:solidFill>
                <a:latin typeface="Times New Roman"/>
              </a:rPr>
              <a:t>人，时刻想念毛主席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50920" y="1484280"/>
            <a:ext cx="8208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吃水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不忘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挖井人，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刻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想念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毛主席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116000" y="9079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我很想念在北京工作的爸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00000" y="177336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小鸟十分想念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。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900000" y="28526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想念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11280" y="9079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例：沙洲坝的乡亲们时刻想念着毛主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71640" y="198900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我们时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。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116000" y="328464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刻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"/>
          <p:cNvGrpSpPr/>
          <p:nvPr/>
        </p:nvGrpSpPr>
        <p:grpSpPr>
          <a:xfrm>
            <a:off x="533520" y="2209320"/>
            <a:ext cx="3199680" cy="3076200"/>
            <a:chOff x="533520" y="2209320"/>
            <a:chExt cx="3199680" cy="3076200"/>
          </a:xfrm>
        </p:grpSpPr>
        <p:sp>
          <p:nvSpPr>
            <p:cNvPr id="127" name="Rectangle 5"/>
            <p:cNvSpPr/>
            <p:nvPr/>
          </p:nvSpPr>
          <p:spPr>
            <a:xfrm>
              <a:off x="533520" y="2220120"/>
              <a:ext cx="3199680" cy="3065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6"/>
            <p:cNvSpPr/>
            <p:nvPr/>
          </p:nvSpPr>
          <p:spPr>
            <a:xfrm>
              <a:off x="533520" y="375264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7"/>
            <p:cNvSpPr/>
            <p:nvPr/>
          </p:nvSpPr>
          <p:spPr>
            <a:xfrm flipV="1">
              <a:off x="2130120" y="2209320"/>
              <a:ext cx="3240" cy="30654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8"/>
          <p:cNvSpPr/>
          <p:nvPr/>
        </p:nvSpPr>
        <p:spPr>
          <a:xfrm>
            <a:off x="1194120" y="1916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井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9"/>
          <p:cNvGrpSpPr/>
          <p:nvPr/>
        </p:nvGrpSpPr>
        <p:grpSpPr>
          <a:xfrm>
            <a:off x="4267080" y="2209320"/>
            <a:ext cx="3199680" cy="3076200"/>
            <a:chOff x="4267080" y="2209320"/>
            <a:chExt cx="3199680" cy="3076200"/>
          </a:xfrm>
        </p:grpSpPr>
        <p:sp>
          <p:nvSpPr>
            <p:cNvPr id="132" name="Rectangle 10"/>
            <p:cNvSpPr/>
            <p:nvPr/>
          </p:nvSpPr>
          <p:spPr>
            <a:xfrm>
              <a:off x="4267080" y="2220120"/>
              <a:ext cx="3199680" cy="3065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1"/>
            <p:cNvSpPr/>
            <p:nvPr/>
          </p:nvSpPr>
          <p:spPr>
            <a:xfrm>
              <a:off x="4267080" y="375264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2"/>
            <p:cNvSpPr/>
            <p:nvPr/>
          </p:nvSpPr>
          <p:spPr>
            <a:xfrm flipV="1">
              <a:off x="5863680" y="2209320"/>
              <a:ext cx="3240" cy="30654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13"/>
          <p:cNvSpPr/>
          <p:nvPr/>
        </p:nvSpPr>
        <p:spPr>
          <a:xfrm>
            <a:off x="4500720" y="1844640"/>
            <a:ext cx="2819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乡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684360" y="5229360"/>
            <a:ext cx="3095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井口  水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井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4427640" y="5157720"/>
            <a:ext cx="3095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乡下    乡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家乡    同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371600" y="129528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谁是挖井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447920" y="38242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谁不忘挖井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547640" y="24922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毛主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547640" y="5029200"/>
            <a:ext cx="515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沙洲坝的乡亲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7524720" y="5661000"/>
            <a:ext cx="863640" cy="587520"/>
          </a:xfrm>
          <a:custGeom>
            <a:avLst/>
            <a:gdLst>
              <a:gd name="textAreaLeft" fmla="*/ 36720 w 863640"/>
              <a:gd name="textAreaRight" fmla="*/ 826920 w 863640"/>
              <a:gd name="textAreaTop" fmla="*/ 36720 h 587520"/>
              <a:gd name="textAreaBottom" fmla="*/ 550800 h 587520"/>
            </a:gdLst>
            <a:ahLst/>
            <a:rect l="textAreaLeft" t="textAreaTop" r="textAreaRight" b="textAreaBottom"/>
            <a:pathLst>
              <a:path w="31745" h="21600">
                <a:moveTo>
                  <a:pt x="0" y="0"/>
                </a:moveTo>
                <a:lnTo>
                  <a:pt x="31745" y="0"/>
                </a:lnTo>
                <a:lnTo>
                  <a:pt x="31745" y="21600"/>
                </a:lnTo>
                <a:lnTo>
                  <a:pt x="0" y="21600"/>
                </a:lnTo>
                <a:close/>
              </a:path>
              <a:path fill="lightenLess" w="31745" h="21600">
                <a:moveTo>
                  <a:pt x="0" y="0"/>
                </a:moveTo>
                <a:lnTo>
                  <a:pt x="31745" y="0"/>
                </a:lnTo>
                <a:lnTo>
                  <a:pt x="30395" y="1350"/>
                </a:lnTo>
                <a:lnTo>
                  <a:pt x="1350" y="1350"/>
                </a:lnTo>
                <a:close/>
              </a:path>
              <a:path fill="darken" w="31745" h="21600">
                <a:moveTo>
                  <a:pt x="31745" y="0"/>
                </a:moveTo>
                <a:lnTo>
                  <a:pt x="31745" y="21600"/>
                </a:lnTo>
                <a:lnTo>
                  <a:pt x="30395" y="20250"/>
                </a:lnTo>
                <a:lnTo>
                  <a:pt x="30395" y="1350"/>
                </a:lnTo>
                <a:close/>
              </a:path>
              <a:path fill="darkenLess" w="31745" h="21600">
                <a:moveTo>
                  <a:pt x="3174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0395" y="20250"/>
                </a:lnTo>
                <a:close/>
              </a:path>
              <a:path fill="lighten" w="3174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Times New Roman"/>
              </a:rPr>
              <a:t>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38"/>
          <p:cNvPicPr/>
          <p:nvPr/>
        </p:nvPicPr>
        <p:blipFill>
          <a:blip r:embed="rId1"/>
          <a:stretch/>
        </p:blipFill>
        <p:spPr>
          <a:xfrm>
            <a:off x="914400" y="228600"/>
            <a:ext cx="1127160" cy="1295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2209680" y="7621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457200" y="2209320"/>
            <a:ext cx="3199680" cy="3076200"/>
            <a:chOff x="457200" y="2209320"/>
            <a:chExt cx="3199680" cy="3076200"/>
          </a:xfrm>
        </p:grpSpPr>
        <p:sp>
          <p:nvSpPr>
            <p:cNvPr id="141" name="Rectangle 5"/>
            <p:cNvSpPr/>
            <p:nvPr/>
          </p:nvSpPr>
          <p:spPr>
            <a:xfrm>
              <a:off x="457200" y="2220120"/>
              <a:ext cx="3199680" cy="3065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6"/>
            <p:cNvSpPr/>
            <p:nvPr/>
          </p:nvSpPr>
          <p:spPr>
            <a:xfrm>
              <a:off x="457200" y="375264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V="1">
              <a:off x="2053800" y="2209320"/>
              <a:ext cx="3240" cy="30654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Rectangle 8"/>
          <p:cNvSpPr/>
          <p:nvPr/>
        </p:nvSpPr>
        <p:spPr>
          <a:xfrm>
            <a:off x="1366920" y="19652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面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4191120" y="2209320"/>
            <a:ext cx="3199680" cy="3076200"/>
            <a:chOff x="4191120" y="2209320"/>
            <a:chExt cx="3199680" cy="3076200"/>
          </a:xfrm>
        </p:grpSpPr>
        <p:sp>
          <p:nvSpPr>
            <p:cNvPr id="146" name="Rectangle 10"/>
            <p:cNvSpPr/>
            <p:nvPr/>
          </p:nvSpPr>
          <p:spPr>
            <a:xfrm>
              <a:off x="4191120" y="2220120"/>
              <a:ext cx="3199680" cy="3065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>
              <a:off x="4191120" y="375264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 flipV="1">
              <a:off x="5787720" y="2209320"/>
              <a:ext cx="3240" cy="30654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3"/>
          <p:cNvSpPr/>
          <p:nvPr/>
        </p:nvSpPr>
        <p:spPr>
          <a:xfrm>
            <a:off x="4427640" y="2060640"/>
            <a:ext cx="2819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忘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539640" y="5445000"/>
            <a:ext cx="309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面子  会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4211640" y="5445000"/>
            <a:ext cx="309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忘了  不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38"/>
          <p:cNvPicPr/>
          <p:nvPr/>
        </p:nvPicPr>
        <p:blipFill>
          <a:blip r:embed="rId1"/>
          <a:stretch/>
        </p:blipFill>
        <p:spPr>
          <a:xfrm>
            <a:off x="914400" y="228600"/>
            <a:ext cx="1127160" cy="1295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2209680" y="7621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380880" y="2209320"/>
            <a:ext cx="3199680" cy="3076200"/>
            <a:chOff x="380880" y="2209320"/>
            <a:chExt cx="3199680" cy="3076200"/>
          </a:xfrm>
        </p:grpSpPr>
        <p:sp>
          <p:nvSpPr>
            <p:cNvPr id="155" name="Rectangle 5"/>
            <p:cNvSpPr/>
            <p:nvPr/>
          </p:nvSpPr>
          <p:spPr>
            <a:xfrm>
              <a:off x="380880" y="2220120"/>
              <a:ext cx="3199680" cy="3065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6"/>
            <p:cNvSpPr/>
            <p:nvPr/>
          </p:nvSpPr>
          <p:spPr>
            <a:xfrm>
              <a:off x="380880" y="375264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7"/>
            <p:cNvSpPr/>
            <p:nvPr/>
          </p:nvSpPr>
          <p:spPr>
            <a:xfrm flipV="1">
              <a:off x="1977480" y="2209320"/>
              <a:ext cx="3240" cy="30654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194120" y="1844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9"/>
          <p:cNvGrpSpPr/>
          <p:nvPr/>
        </p:nvGrpSpPr>
        <p:grpSpPr>
          <a:xfrm>
            <a:off x="4114800" y="2209320"/>
            <a:ext cx="3199680" cy="3076200"/>
            <a:chOff x="4114800" y="2209320"/>
            <a:chExt cx="3199680" cy="3076200"/>
          </a:xfrm>
        </p:grpSpPr>
        <p:sp>
          <p:nvSpPr>
            <p:cNvPr id="160" name="Rectangle 10"/>
            <p:cNvSpPr/>
            <p:nvPr/>
          </p:nvSpPr>
          <p:spPr>
            <a:xfrm>
              <a:off x="4114800" y="2220120"/>
              <a:ext cx="3199680" cy="3065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1"/>
            <p:cNvSpPr/>
            <p:nvPr/>
          </p:nvSpPr>
          <p:spPr>
            <a:xfrm>
              <a:off x="4114800" y="3752640"/>
              <a:ext cx="3199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2"/>
            <p:cNvSpPr/>
            <p:nvPr/>
          </p:nvSpPr>
          <p:spPr>
            <a:xfrm flipV="1">
              <a:off x="5711400" y="2209320"/>
              <a:ext cx="3240" cy="306540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13"/>
          <p:cNvSpPr/>
          <p:nvPr/>
        </p:nvSpPr>
        <p:spPr>
          <a:xfrm>
            <a:off x="4427640" y="2057400"/>
            <a:ext cx="2819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念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684360" y="5229360"/>
            <a:ext cx="3095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想法   想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想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4211640" y="5241960"/>
            <a:ext cx="309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念头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06280" y="1844640"/>
            <a:ext cx="8686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宋体"/>
                <a:ea typeface="华文宋体"/>
              </a:rPr>
              <a:t>井（      ）     想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宋体"/>
                <a:ea typeface="华文宋体"/>
              </a:rPr>
              <a:t>开（      ）     念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宋体"/>
                <a:ea typeface="华文宋体"/>
              </a:rPr>
              <a:t>士（      ）     忘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宋体"/>
                <a:ea typeface="华文宋体"/>
              </a:rPr>
              <a:t>土（      ）     意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600200" y="2286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187280" y="184464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  <a:ea typeface="华文楷体"/>
              </a:rPr>
              <a:t>井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230480" y="2852640"/>
            <a:ext cx="132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  <a:ea typeface="华文楷体"/>
              </a:rPr>
              <a:t>开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651640" y="191628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想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796000" y="2852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念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187280" y="3716280"/>
            <a:ext cx="132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  <a:ea typeface="华文楷体"/>
              </a:rPr>
              <a:t>战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1187280" y="47102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  <a:ea typeface="华文楷体"/>
              </a:rPr>
              <a:t>黄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5724360" y="378936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忘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796000" y="4653000"/>
            <a:ext cx="16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心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920" y="4572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华文隶书"/>
              </a:rPr>
              <a:t>组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04920" y="4572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华文隶书"/>
              </a:rPr>
              <a:t>组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304920" y="4572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华文隶书"/>
              </a:rPr>
              <a:t>组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304920" y="4572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华文隶书"/>
              </a:rPr>
              <a:t>组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304920" y="4716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华文隶书"/>
              </a:rPr>
              <a:t>组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7"/>
          <p:cNvSpPr/>
          <p:nvPr/>
        </p:nvSpPr>
        <p:spPr>
          <a:xfrm>
            <a:off x="5867280" y="6019920"/>
            <a:ext cx="1295640" cy="457200"/>
          </a:xfrm>
          <a:custGeom>
            <a:avLst/>
            <a:gdLst>
              <a:gd name="textAreaLeft" fmla="*/ 28440 w 1295640"/>
              <a:gd name="textAreaRight" fmla="*/ 1267200 w 129564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830" y="1350"/>
                </a:lnTo>
                <a:lnTo>
                  <a:pt x="1350" y="135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830" y="20250"/>
                </a:lnTo>
                <a:lnTo>
                  <a:pt x="59830" y="135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9830" y="2025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61180" h="21600">
                <a:moveTo>
                  <a:pt x="23546" y="3756"/>
                </a:moveTo>
                <a:lnTo>
                  <a:pt x="37634" y="10800"/>
                </a:lnTo>
                <a:lnTo>
                  <a:pt x="23546" y="17844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下一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903240"/>
            <a:ext cx="9144000" cy="44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3399"/>
                </a:solidFill>
                <a:latin typeface="华文宋体"/>
                <a:ea typeface="华文宋体"/>
              </a:rPr>
              <a:t>连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宋体"/>
                <a:ea typeface="华文宋体"/>
              </a:rPr>
              <a:t>曹冲        聪明勇敢救出小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宋体"/>
                <a:ea typeface="华文宋体"/>
              </a:rPr>
              <a:t>毛主席      善于动脑筋想办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宋体"/>
                <a:ea typeface="华文宋体"/>
              </a:rPr>
              <a:t>司马光      关心爱护人民群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"/>
          <p:cNvSpPr/>
          <p:nvPr/>
        </p:nvSpPr>
        <p:spPr>
          <a:xfrm>
            <a:off x="1403280" y="2351160"/>
            <a:ext cx="1224000" cy="706320"/>
          </a:xfrm>
          <a:prstGeom prst="line">
            <a:avLst/>
          </a:prstGeom>
          <a:ln cap="sq"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"/>
          <p:cNvSpPr/>
          <p:nvPr/>
        </p:nvSpPr>
        <p:spPr>
          <a:xfrm>
            <a:off x="1763640" y="3357720"/>
            <a:ext cx="1152720" cy="709560"/>
          </a:xfrm>
          <a:prstGeom prst="line">
            <a:avLst/>
          </a:prstGeom>
          <a:ln cap="sq"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 flipV="1">
            <a:off x="1905120" y="2492280"/>
            <a:ext cx="1555560" cy="1851120"/>
          </a:xfrm>
          <a:prstGeom prst="line">
            <a:avLst/>
          </a:prstGeom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>
            <a:hlinkClick r:id="" action="ppaction://hlinkshowjump?jump=nextslide"/>
          </p:cNvPr>
          <p:cNvSpPr/>
          <p:nvPr/>
        </p:nvSpPr>
        <p:spPr>
          <a:xfrm>
            <a:off x="7308720" y="6093000"/>
            <a:ext cx="1295640" cy="431640"/>
          </a:xfrm>
          <a:custGeom>
            <a:avLst/>
            <a:gdLst>
              <a:gd name="textAreaLeft" fmla="*/ 26640 w 1295640"/>
              <a:gd name="textAreaRight" fmla="*/ 1269000 w 1295640"/>
              <a:gd name="textAreaTop" fmla="*/ 26640 h 431640"/>
              <a:gd name="textAreaBottom" fmla="*/ 405000 h 431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50" y="1350"/>
                </a:lnTo>
                <a:lnTo>
                  <a:pt x="1350" y="135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50" y="20250"/>
                </a:lnTo>
                <a:lnTo>
                  <a:pt x="63450" y="135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3450" y="2025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结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38"/>
          <p:cNvPicPr/>
          <p:nvPr/>
        </p:nvPicPr>
        <p:blipFill>
          <a:blip r:embed="rId1"/>
          <a:stretch/>
        </p:blipFill>
        <p:spPr>
          <a:xfrm>
            <a:off x="914400" y="228600"/>
            <a:ext cx="1127160" cy="1295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2209680" y="762120"/>
            <a:ext cx="30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找一找，写一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187280" y="2133720"/>
            <a:ext cx="547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1258920" y="2133720"/>
            <a:ext cx="504720" cy="43164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6"/>
          <p:cNvSpPr/>
          <p:nvPr/>
        </p:nvSpPr>
        <p:spPr>
          <a:xfrm>
            <a:off x="1979640" y="2421000"/>
            <a:ext cx="504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556000" y="213372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想  ）  （     ）   （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556000" y="328464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河   ）  （     ）   （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2556000" y="4508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    ）  （     ）   （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258920" y="3429000"/>
            <a:ext cx="576360" cy="5047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1"/>
          <p:cNvSpPr/>
          <p:nvPr/>
        </p:nvSpPr>
        <p:spPr>
          <a:xfrm>
            <a:off x="1332000" y="4508640"/>
            <a:ext cx="576000" cy="5047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2050920" y="3645000"/>
            <a:ext cx="505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3"/>
          <p:cNvSpPr/>
          <p:nvPr/>
        </p:nvSpPr>
        <p:spPr>
          <a:xfrm>
            <a:off x="2050920" y="4797360"/>
            <a:ext cx="505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38"/>
          <p:cNvPicPr/>
          <p:nvPr/>
        </p:nvPicPr>
        <p:blipFill>
          <a:blip r:embed="rId1"/>
          <a:stretch/>
        </p:blipFill>
        <p:spPr>
          <a:xfrm>
            <a:off x="914400" y="228600"/>
            <a:ext cx="1127160" cy="129528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"/>
          <p:cNvSpPr/>
          <p:nvPr/>
        </p:nvSpPr>
        <p:spPr>
          <a:xfrm>
            <a:off x="2209680" y="762120"/>
            <a:ext cx="30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找一找，写一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187280" y="2133720"/>
            <a:ext cx="547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5"/>
          <p:cNvSpPr/>
          <p:nvPr/>
        </p:nvSpPr>
        <p:spPr>
          <a:xfrm>
            <a:off x="1258920" y="2133720"/>
            <a:ext cx="504720" cy="43164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1979640" y="2421000"/>
            <a:ext cx="504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556000" y="213372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</a:rPr>
              <a:t>想）  （ 念 ）（ 意）（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556000" y="3284640"/>
            <a:ext cx="62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</a:rPr>
              <a:t>河  ）（ 海 ）（ 江 ）（法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Times New Roman"/>
              </a:rPr>
              <a:t>（沙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2556000" y="4508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Times New Roman"/>
              </a:rPr>
              <a:t>（叫 ）（ 吓 ）（听） （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1258920" y="3429000"/>
            <a:ext cx="576360" cy="5047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1332000" y="4508640"/>
            <a:ext cx="576000" cy="5047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2050920" y="3645000"/>
            <a:ext cx="505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2050920" y="4797360"/>
            <a:ext cx="505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7FA4-BC06-4A5C-B93F-2A6A8BD2EF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064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4">
            <a:hlinkClick r:id="rId3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5886000" y="522000"/>
            <a:ext cx="16434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 Black"/>
              </a:rPr>
              <a:t>毛主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457200" y="8683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黑体"/>
              </a:rPr>
              <a:t>毛泽东生平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95280" y="1557360"/>
            <a:ext cx="374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毛泽东，湖南湘潭人。生于</a:t>
            </a:r>
            <a:r>
              <a:rPr b="1" lang="en-US" sz="2800" spc="-1" strike="noStrike">
                <a:solidFill>
                  <a:srgbClr val="000000"/>
                </a:solidFill>
                <a:latin typeface="方正舒体"/>
                <a:ea typeface="华文楷体"/>
              </a:rPr>
              <a:t>189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方正舒体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方正舒体"/>
                <a:ea typeface="华文楷体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日，</a:t>
            </a:r>
            <a:r>
              <a:rPr b="1" lang="en-US" sz="2800" spc="-1" strike="noStrike">
                <a:solidFill>
                  <a:srgbClr val="000000"/>
                </a:solidFill>
                <a:latin typeface="方正舒体"/>
                <a:ea typeface="华文楷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方正舒体"/>
                <a:ea typeface="华文楷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方正舒体"/>
                <a:ea typeface="华文楷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日去世。他一生为中国人民的解放，为祖国的繁荣富强而奋斗，他是中国人民深深热爱的伟大领袖，中国人民将永远怀念他。</a:t>
            </a:r>
            <a:r>
              <a:rPr b="1" lang="zh-CN" sz="2800" spc="-1" strike="noStrike">
                <a:solidFill>
                  <a:srgbClr val="000000"/>
                </a:solidFill>
                <a:latin typeface="方正舒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14-01"/>
          <p:cNvPicPr/>
          <p:nvPr/>
        </p:nvPicPr>
        <p:blipFill>
          <a:blip r:embed="rId1"/>
          <a:stretch/>
        </p:blipFill>
        <p:spPr>
          <a:xfrm>
            <a:off x="4879800" y="1143000"/>
            <a:ext cx="3349800" cy="4572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毛主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文讲述的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3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，毛主席在江西革命时，看到乡亲们吃水困难，带领战士和乡亲们挖了一口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>
            <a:hlinkClick r:id="rId1"/>
          </p:cNvPr>
          <p:cNvSpPr/>
          <p:nvPr/>
        </p:nvSpPr>
        <p:spPr>
          <a:xfrm>
            <a:off x="7740720" y="5950080"/>
            <a:ext cx="1152360" cy="503280"/>
          </a:xfrm>
          <a:custGeom>
            <a:avLst/>
            <a:gdLst>
              <a:gd name="textAreaLeft" fmla="*/ 31320 w 1152360"/>
              <a:gd name="textAreaRight" fmla="*/ 1121040 w 1152360"/>
              <a:gd name="textAreaTop" fmla="*/ 31320 h 503280"/>
              <a:gd name="textAreaBottom" fmla="*/ 471960 h 503280"/>
            </a:gdLst>
            <a:ahLst/>
            <a:rect l="textAreaLeft" t="textAreaTop" r="textAreaRight" b="textAreaBottom"/>
            <a:pathLst>
              <a:path w="49438" h="21600">
                <a:moveTo>
                  <a:pt x="0" y="0"/>
                </a:moveTo>
                <a:lnTo>
                  <a:pt x="49438" y="0"/>
                </a:lnTo>
                <a:lnTo>
                  <a:pt x="49438" y="21600"/>
                </a:lnTo>
                <a:lnTo>
                  <a:pt x="0" y="21600"/>
                </a:lnTo>
                <a:close/>
              </a:path>
              <a:path fill="lightenLess" w="49438" h="21600">
                <a:moveTo>
                  <a:pt x="0" y="0"/>
                </a:moveTo>
                <a:lnTo>
                  <a:pt x="49438" y="0"/>
                </a:lnTo>
                <a:lnTo>
                  <a:pt x="48088" y="1350"/>
                </a:lnTo>
                <a:lnTo>
                  <a:pt x="1350" y="1350"/>
                </a:lnTo>
                <a:close/>
              </a:path>
              <a:path fill="darken" w="49438" h="21600">
                <a:moveTo>
                  <a:pt x="49438" y="0"/>
                </a:moveTo>
                <a:lnTo>
                  <a:pt x="49438" y="21600"/>
                </a:lnTo>
                <a:lnTo>
                  <a:pt x="48088" y="20250"/>
                </a:lnTo>
                <a:lnTo>
                  <a:pt x="48088" y="1350"/>
                </a:lnTo>
                <a:close/>
              </a:path>
              <a:path fill="darkenLess" w="49438" h="21600">
                <a:moveTo>
                  <a:pt x="4943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8088" y="20250"/>
                </a:lnTo>
                <a:close/>
              </a:path>
              <a:path fill="lighten" w="4943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Times New Roman"/>
              </a:rPr>
              <a:t>认读词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14200" y="549360"/>
            <a:ext cx="8929800" cy="52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wàng  wā  jǐng   xí   dǎo   g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忘   挖   井   席   导    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ì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   z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à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  s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ì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jiě  k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è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ni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à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命   战    士   解  刻   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395280" y="0"/>
            <a:ext cx="8153280" cy="74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g   w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ā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ǐ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g         x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í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难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忘 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挖  井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    主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席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     g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ì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g     zh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 sh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领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导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革  命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 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战  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ji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ě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è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i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  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解 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放   立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刻 </a:t>
            </a:r>
            <a:r>
              <a:rPr b="1" lang="zh-CN" sz="4800" spc="-1" strike="noStrike">
                <a:solidFill>
                  <a:srgbClr val="009999"/>
                </a:solidFill>
                <a:latin typeface="Tahoma"/>
              </a:rPr>
              <a:t>   想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02:38:38Z</dcterms:created>
  <dc:creator/>
  <dc:description/>
  <cp:keywords>幻灯片之家 http:/www.eeppt.com</cp:keywords>
  <dc:language>en-US</dc:language>
  <cp:lastModifiedBy/>
  <dcterms:modified xsi:type="dcterms:W3CDTF">2015-07-20T07:45:01Z</dcterms:modified>
  <cp:revision>1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