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298-19E8-41E6-B382-9D76200F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6AB-5DCD-444B-A837-12EE4412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A4B-86C1-4795-91F0-7C1CBFF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3F8-813D-4279-AEBB-98875762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C62E-08D5-419A-9360-BDA528FB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DBEE-004A-48D0-A19A-A690B65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E294-F9BD-4FD0-A293-D8085D9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A7FF-9BE6-471A-8A9C-F18C79E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E4D-4B17-46B1-9AAE-D250477F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01F4-9A5F-4E7A-9168-81913BF3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1C4F-5944-4329-96B4-3C103A9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FA8-CC26-4F07-BEFD-7264063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3EFE-6D6D-4A7E-BAEF-0EB2E73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3FA-B1EC-484E-9000-211141F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3697-8480-40E1-BA0D-541E73E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70E9-A39C-4AE1-93AB-DA59FE4C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3E3-089C-4668-9CB6-90067B4B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2B4-6395-4AA8-9C38-2832002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C27-9BFA-409A-951B-B42168C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AB3-99AA-4C3B-BBED-99A537C0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D18-91B4-4A1A-9EEA-2A1F7BF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85C-3917-4829-8F8B-C3ADB1C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C70-5821-4657-8034-AE79C3D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D95-EC80-4124-BEC0-EB30342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5"/>
          <p:cNvGrpSpPr/>
          <p:nvPr/>
        </p:nvGrpSpPr>
        <p:grpSpPr>
          <a:xfrm>
            <a:off x="-4680" y="-1440"/>
            <a:ext cx="9151920" cy="6859440"/>
            <a:chOff x="-4680" y="-1440"/>
            <a:chExt cx="9151920" cy="6859440"/>
          </a:xfrm>
        </p:grpSpPr>
        <p:grpSp>
          <p:nvGrpSpPr>
            <p:cNvPr id="1" name="Group 52"/>
            <p:cNvGrpSpPr/>
            <p:nvPr/>
          </p:nvGrpSpPr>
          <p:grpSpPr>
            <a:xfrm>
              <a:off x="2479680" y="1393920"/>
              <a:ext cx="6667560" cy="3511440"/>
              <a:chOff x="2479680" y="1393920"/>
              <a:chExt cx="6667560" cy="3511440"/>
            </a:xfrm>
          </p:grpSpPr>
          <p:sp>
            <p:nvSpPr>
              <p:cNvPr id="2" name="Freeform 7"/>
              <p:cNvSpPr/>
              <p:nvPr/>
            </p:nvSpPr>
            <p:spPr>
              <a:xfrm>
                <a:off x="2490840" y="168444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Group 49"/>
              <p:cNvGrpSpPr/>
              <p:nvPr/>
            </p:nvGrpSpPr>
            <p:grpSpPr>
              <a:xfrm>
                <a:off x="2479680" y="1393920"/>
                <a:ext cx="6667560" cy="3333600"/>
                <a:chOff x="2479680" y="1393920"/>
                <a:chExt cx="6667560" cy="3333600"/>
              </a:xfrm>
            </p:grpSpPr>
            <p:sp>
              <p:nvSpPr>
                <p:cNvPr id="4" name="Freeform 8"/>
                <p:cNvSpPr/>
                <p:nvPr/>
              </p:nvSpPr>
              <p:spPr>
                <a:xfrm>
                  <a:off x="2479680" y="1393920"/>
                  <a:ext cx="6667560" cy="3333600"/>
                </a:xfrm>
                <a:custGeom>
                  <a:avLst/>
                  <a:gdLst/>
                  <a:ahLst/>
                  <a:rect l="l" t="t" r="r" b="b"/>
                  <a:pathLst>
                    <a:path w="4200" h="2100">
                      <a:moveTo>
                        <a:pt x="0" y="1429"/>
                      </a:moveTo>
                      <a:cubicBezTo>
                        <a:pt x="0" y="1429"/>
                        <a:pt x="2708" y="2100"/>
                        <a:pt x="4200" y="1419"/>
                      </a:cubicBezTo>
                      <a:lnTo>
                        <a:pt x="4198" y="0"/>
                      </a:lnTo>
                      <a:cubicBezTo>
                        <a:pt x="2708" y="1655"/>
                        <a:pt x="0" y="1429"/>
                        <a:pt x="0" y="142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aa63"/>
                    </a:gs>
                    <a:gs pos="100000">
                      <a:srgbClr val="ff7f1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9"/>
                <p:cNvSpPr/>
                <p:nvPr/>
              </p:nvSpPr>
              <p:spPr>
                <a:xfrm>
                  <a:off x="2479680" y="2098800"/>
                  <a:ext cx="6664320" cy="2628720"/>
                </a:xfrm>
                <a:custGeom>
                  <a:avLst/>
                  <a:gdLst/>
                  <a:ahLst/>
                  <a:rect l="l" t="t" r="r" b="b"/>
                  <a:pathLst>
                    <a:path w="4198" h="1656">
                      <a:moveTo>
                        <a:pt x="0" y="986"/>
                      </a:moveTo>
                      <a:cubicBezTo>
                        <a:pt x="0" y="986"/>
                        <a:pt x="2704" y="1656"/>
                        <a:pt x="4194" y="975"/>
                      </a:cubicBezTo>
                      <a:lnTo>
                        <a:pt x="4198" y="0"/>
                      </a:lnTo>
                      <a:cubicBezTo>
                        <a:pt x="2388" y="1348"/>
                        <a:pt x="0" y="986"/>
                        <a:pt x="0" y="9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7f15"/>
                    </a:gs>
                    <a:gs pos="100000">
                      <a:srgbClr val="ffba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Group 51"/>
            <p:cNvGrpSpPr/>
            <p:nvPr/>
          </p:nvGrpSpPr>
          <p:grpSpPr>
            <a:xfrm>
              <a:off x="2481480" y="0"/>
              <a:ext cx="3224160" cy="3657600"/>
              <a:chOff x="2481480" y="0"/>
              <a:chExt cx="3224160" cy="365760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2484720" y="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Group 45"/>
              <p:cNvGrpSpPr/>
              <p:nvPr/>
            </p:nvGrpSpPr>
            <p:grpSpPr>
              <a:xfrm>
                <a:off x="2481480" y="0"/>
                <a:ext cx="2914560" cy="3656160"/>
                <a:chOff x="2481480" y="0"/>
                <a:chExt cx="2914560" cy="3656160"/>
              </a:xfrm>
            </p:grpSpPr>
            <p:sp>
              <p:nvSpPr>
                <p:cNvPr id="9" name="Freeform 11"/>
                <p:cNvSpPr/>
                <p:nvPr/>
              </p:nvSpPr>
              <p:spPr>
                <a:xfrm>
                  <a:off x="2481480" y="0"/>
                  <a:ext cx="291456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999" y="0"/>
                      </a:lnTo>
                      <a:cubicBezTo>
                        <a:pt x="1167" y="1380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ebbd7"/>
                    </a:gs>
                    <a:gs pos="100000">
                      <a:srgbClr val="469e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2481480" y="0"/>
                  <a:ext cx="291456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1351" y="0"/>
                      </a:lnTo>
                      <a:cubicBezTo>
                        <a:pt x="1423" y="1387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69ec6"/>
                    </a:gs>
                    <a:gs pos="100000">
                      <a:srgbClr val="84be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" name="Group 53"/>
            <p:cNvGrpSpPr/>
            <p:nvPr/>
          </p:nvGrpSpPr>
          <p:grpSpPr>
            <a:xfrm>
              <a:off x="1903320" y="3664080"/>
              <a:ext cx="2593800" cy="3193920"/>
              <a:chOff x="1903320" y="3664080"/>
              <a:chExt cx="2593800" cy="3193920"/>
            </a:xfrm>
          </p:grpSpPr>
          <p:sp>
            <p:nvSpPr>
              <p:cNvPr id="12" name="Freeform 14"/>
              <p:cNvSpPr/>
              <p:nvPr/>
            </p:nvSpPr>
            <p:spPr>
              <a:xfrm>
                <a:off x="1903320" y="3681720"/>
                <a:ext cx="2457360" cy="3176280"/>
              </a:xfrm>
              <a:custGeom>
                <a:avLst/>
                <a:gdLst/>
                <a:ahLst/>
                <a:rect l="l" t="t" r="r" b="b"/>
                <a:pathLst>
                  <a:path w="1548" h="2001">
                    <a:moveTo>
                      <a:pt x="358" y="0"/>
                    </a:moveTo>
                    <a:cubicBezTo>
                      <a:pt x="358" y="0"/>
                      <a:pt x="167" y="1681"/>
                      <a:pt x="1548" y="2001"/>
                    </a:cubicBezTo>
                    <a:lnTo>
                      <a:pt x="181" y="1995"/>
                    </a:lnTo>
                    <a:cubicBezTo>
                      <a:pt x="0" y="1059"/>
                      <a:pt x="358" y="0"/>
                      <a:pt x="358" y="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47"/>
              <p:cNvGrpSpPr/>
              <p:nvPr/>
            </p:nvGrpSpPr>
            <p:grpSpPr>
              <a:xfrm>
                <a:off x="2058840" y="3664080"/>
                <a:ext cx="2438280" cy="3193920"/>
                <a:chOff x="2058840" y="3664080"/>
                <a:chExt cx="2438280" cy="3193920"/>
              </a:xfrm>
            </p:grpSpPr>
            <p:sp>
              <p:nvSpPr>
                <p:cNvPr id="14" name="Freeform 15"/>
                <p:cNvSpPr/>
                <p:nvPr/>
              </p:nvSpPr>
              <p:spPr>
                <a:xfrm>
                  <a:off x="2058840" y="3664080"/>
                  <a:ext cx="2438280" cy="3193920"/>
                </a:xfrm>
                <a:custGeom>
                  <a:avLst/>
                  <a:gdLst/>
                  <a:ahLst/>
                  <a:rect l="l" t="t" r="r" b="b"/>
                  <a:pathLst>
                    <a:path w="1780" h="2012">
                      <a:moveTo>
                        <a:pt x="304" y="0"/>
                      </a:moveTo>
                      <a:cubicBezTo>
                        <a:pt x="304" y="0"/>
                        <a:pt x="180" y="1692"/>
                        <a:pt x="1780" y="2012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d8a1"/>
                    </a:gs>
                    <a:gs pos="100000">
                      <a:srgbClr val="61bf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>
                  <a:off x="2058840" y="3664080"/>
                  <a:ext cx="1389240" cy="3187800"/>
                </a:xfrm>
                <a:custGeom>
                  <a:avLst/>
                  <a:gdLst/>
                  <a:ahLst/>
                  <a:rect l="l" t="t" r="r" b="b"/>
                  <a:pathLst>
                    <a:path w="1014" h="2008">
                      <a:moveTo>
                        <a:pt x="304" y="0"/>
                      </a:moveTo>
                      <a:cubicBezTo>
                        <a:pt x="304" y="0"/>
                        <a:pt x="2" y="1305"/>
                        <a:pt x="1014" y="1998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1bf63"/>
                    </a:gs>
                    <a:gs pos="100000">
                      <a:srgbClr val="8cd08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" name="Group 54"/>
            <p:cNvGrpSpPr/>
            <p:nvPr/>
          </p:nvGrpSpPr>
          <p:grpSpPr>
            <a:xfrm>
              <a:off x="-1440" y="3048120"/>
              <a:ext cx="2473200" cy="2427120"/>
              <a:chOff x="-1440" y="3048120"/>
              <a:chExt cx="2473200" cy="2427120"/>
            </a:xfrm>
          </p:grpSpPr>
          <p:sp>
            <p:nvSpPr>
              <p:cNvPr id="17" name="Freeform 18"/>
              <p:cNvSpPr/>
              <p:nvPr/>
            </p:nvSpPr>
            <p:spPr>
              <a:xfrm>
                <a:off x="3240" y="30481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48"/>
              <p:cNvGrpSpPr/>
              <p:nvPr/>
            </p:nvGrpSpPr>
            <p:grpSpPr>
              <a:xfrm>
                <a:off x="-1440" y="3137040"/>
                <a:ext cx="2471760" cy="2338200"/>
                <a:chOff x="-1440" y="3137040"/>
                <a:chExt cx="2471760" cy="2338200"/>
              </a:xfrm>
            </p:grpSpPr>
            <p:sp>
              <p:nvSpPr>
                <p:cNvPr id="19" name="Freeform 19"/>
                <p:cNvSpPr/>
                <p:nvPr/>
              </p:nvSpPr>
              <p:spPr>
                <a:xfrm>
                  <a:off x="3240" y="3137040"/>
                  <a:ext cx="2467080" cy="2338200"/>
                </a:xfrm>
                <a:custGeom>
                  <a:avLst/>
                  <a:gdLst/>
                  <a:ahLst/>
                  <a:rect l="l" t="t" r="r" b="b"/>
                  <a:pathLst>
                    <a:path w="1560" h="1676">
                      <a:moveTo>
                        <a:pt x="0" y="1676"/>
                      </a:moveTo>
                      <a:cubicBezTo>
                        <a:pt x="436" y="320"/>
                        <a:pt x="1560" y="370"/>
                        <a:pt x="1560" y="370"/>
                      </a:cubicBezTo>
                      <a:cubicBezTo>
                        <a:pt x="1560" y="370"/>
                        <a:pt x="772" y="0"/>
                        <a:pt x="0" y="451"/>
                      </a:cubicBezTo>
                      <a:lnTo>
                        <a:pt x="0" y="16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579b"/>
                    </a:gs>
                    <a:gs pos="100000">
                      <a:srgbClr val="6a8a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0"/>
                <p:cNvSpPr/>
                <p:nvPr/>
              </p:nvSpPr>
              <p:spPr>
                <a:xfrm>
                  <a:off x="-1440" y="3137040"/>
                  <a:ext cx="2471760" cy="1810800"/>
                </a:xfrm>
                <a:custGeom>
                  <a:avLst/>
                  <a:gdLst/>
                  <a:ahLst/>
                  <a:rect l="l" t="t" r="r" b="b"/>
                  <a:pathLst>
                    <a:path w="1563" h="1298">
                      <a:moveTo>
                        <a:pt x="0" y="1298"/>
                      </a:moveTo>
                      <a:cubicBezTo>
                        <a:pt x="425" y="303"/>
                        <a:pt x="1563" y="370"/>
                        <a:pt x="1563" y="370"/>
                      </a:cubicBezTo>
                      <a:cubicBezTo>
                        <a:pt x="1563" y="370"/>
                        <a:pt x="775" y="0"/>
                        <a:pt x="3" y="451"/>
                      </a:cubicBezTo>
                      <a:lnTo>
                        <a:pt x="0" y="12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8ab9"/>
                    </a:gs>
                    <a:gs pos="100000">
                      <a:srgbClr val="29579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50"/>
            <p:cNvGrpSpPr/>
            <p:nvPr/>
          </p:nvGrpSpPr>
          <p:grpSpPr>
            <a:xfrm>
              <a:off x="-4680" y="0"/>
              <a:ext cx="2849400" cy="3662280"/>
              <a:chOff x="-4680" y="0"/>
              <a:chExt cx="2849400" cy="3662280"/>
            </a:xfrm>
          </p:grpSpPr>
          <p:sp>
            <p:nvSpPr>
              <p:cNvPr id="22" name="Freeform 21"/>
              <p:cNvSpPr/>
              <p:nvPr/>
            </p:nvSpPr>
            <p:spPr>
              <a:xfrm>
                <a:off x="-4680" y="0"/>
                <a:ext cx="284940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Group 44"/>
              <p:cNvGrpSpPr/>
              <p:nvPr/>
            </p:nvGrpSpPr>
            <p:grpSpPr>
              <a:xfrm>
                <a:off x="0" y="0"/>
                <a:ext cx="2814480" cy="3662280"/>
                <a:chOff x="0" y="0"/>
                <a:chExt cx="2814480" cy="3662280"/>
              </a:xfrm>
            </p:grpSpPr>
            <p:sp>
              <p:nvSpPr>
                <p:cNvPr id="24" name="Freeform 22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630"/>
                      </a:moveTo>
                      <a:cubicBezTo>
                        <a:pt x="1527" y="738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6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b33"/>
                    </a:gs>
                    <a:gs pos="100000">
                      <a:srgbClr val="ffcd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3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362"/>
                      </a:moveTo>
                      <a:cubicBezTo>
                        <a:pt x="1527" y="470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dc97"/>
                    </a:gs>
                    <a:gs pos="100000">
                      <a:srgbClr val="ffbb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" name="Freeform 24"/>
            <p:cNvSpPr/>
            <p:nvPr/>
          </p:nvSpPr>
          <p:spPr>
            <a:xfrm>
              <a:off x="2575080" y="-144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5"/>
            <p:cNvSpPr/>
            <p:nvPr/>
          </p:nvSpPr>
          <p:spPr>
            <a:xfrm>
              <a:off x="2070360" y="0"/>
              <a:ext cx="157788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26"/>
            <p:cNvSpPr/>
            <p:nvPr/>
          </p:nvSpPr>
          <p:spPr>
            <a:xfrm>
              <a:off x="0" y="1467000"/>
              <a:ext cx="2451240" cy="213372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27"/>
            <p:cNvSpPr/>
            <p:nvPr/>
          </p:nvSpPr>
          <p:spPr>
            <a:xfrm>
              <a:off x="0" y="3568680"/>
              <a:ext cx="2444760" cy="3289320"/>
            </a:xfrm>
            <a:custGeom>
              <a:avLst/>
              <a:gdLst/>
              <a:ahLst/>
              <a:rect l="l" t="t" r="r" b="b"/>
              <a:pathLst>
                <a:path w="1540" h="2072">
                  <a:moveTo>
                    <a:pt x="0" y="1862"/>
                  </a:moveTo>
                  <a:cubicBezTo>
                    <a:pt x="504" y="0"/>
                    <a:pt x="1540" y="68"/>
                    <a:pt x="1540" y="68"/>
                  </a:cubicBezTo>
                  <a:cubicBezTo>
                    <a:pt x="1540" y="68"/>
                    <a:pt x="1094" y="838"/>
                    <a:pt x="1138" y="2072"/>
                  </a:cubicBezTo>
                  <a:lnTo>
                    <a:pt x="0" y="2070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Group 33"/>
          <p:cNvGrpSpPr/>
          <p:nvPr/>
        </p:nvGrpSpPr>
        <p:grpSpPr>
          <a:xfrm>
            <a:off x="-360" y="0"/>
            <a:ext cx="9144000" cy="6859080"/>
            <a:chOff x="-360" y="0"/>
            <a:chExt cx="9144000" cy="6859080"/>
          </a:xfrm>
        </p:grpSpPr>
        <p:grpSp>
          <p:nvGrpSpPr>
            <p:cNvPr id="31" name="Group 34"/>
            <p:cNvGrpSpPr/>
            <p:nvPr/>
          </p:nvGrpSpPr>
          <p:grpSpPr>
            <a:xfrm>
              <a:off x="-360" y="0"/>
              <a:ext cx="9144000" cy="6859080"/>
              <a:chOff x="-360" y="0"/>
              <a:chExt cx="9144000" cy="6859080"/>
            </a:xfrm>
          </p:grpSpPr>
          <p:sp>
            <p:nvSpPr>
              <p:cNvPr id="32" name="Rectangle 35"/>
              <p:cNvSpPr/>
              <p:nvPr/>
            </p:nvSpPr>
            <p:spPr>
              <a:xfrm>
                <a:off x="896472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6"/>
              <p:cNvSpPr/>
              <p:nvPr/>
            </p:nvSpPr>
            <p:spPr>
              <a:xfrm>
                <a:off x="288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7"/>
              <p:cNvSpPr/>
              <p:nvPr/>
            </p:nvSpPr>
            <p:spPr>
              <a:xfrm rot="5400000">
                <a:off x="4480200" y="-4480560"/>
                <a:ext cx="179280" cy="914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Rectangle 38"/>
              <p:cNvSpPr/>
              <p:nvPr/>
            </p:nvSpPr>
            <p:spPr>
              <a:xfrm rot="5400000">
                <a:off x="4480200" y="2195640"/>
                <a:ext cx="179280" cy="914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" name="Rectangle 39"/>
            <p:cNvSpPr/>
            <p:nvPr/>
          </p:nvSpPr>
          <p:spPr>
            <a:xfrm>
              <a:off x="179280" y="176040"/>
              <a:ext cx="8785440" cy="64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" name="Picture 40" descr="3"/>
          <p:cNvPicPr/>
          <p:nvPr/>
        </p:nvPicPr>
        <p:blipFill>
          <a:blip r:embed="rId2"/>
          <a:stretch/>
        </p:blipFill>
        <p:spPr>
          <a:xfrm>
            <a:off x="1800360" y="292896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316560"/>
            <a:ext cx="990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5210280" y="6316560"/>
            <a:ext cx="1800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149960" y="6316560"/>
            <a:ext cx="1648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5BA-ACA8-4878-9148-F8254331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2"/>
          <p:cNvGrpSpPr/>
          <p:nvPr/>
        </p:nvGrpSpPr>
        <p:grpSpPr>
          <a:xfrm>
            <a:off x="-5040" y="0"/>
            <a:ext cx="9151920" cy="6858000"/>
            <a:chOff x="-5040" y="0"/>
            <a:chExt cx="9151920" cy="6858000"/>
          </a:xfrm>
        </p:grpSpPr>
        <p:grpSp>
          <p:nvGrpSpPr>
            <p:cNvPr id="82" name="Group 17"/>
            <p:cNvGrpSpPr/>
            <p:nvPr/>
          </p:nvGrpSpPr>
          <p:grpSpPr>
            <a:xfrm>
              <a:off x="6672240" y="1380960"/>
              <a:ext cx="2473200" cy="2427120"/>
              <a:chOff x="6672240" y="1380960"/>
              <a:chExt cx="2473200" cy="2427120"/>
            </a:xfrm>
          </p:grpSpPr>
          <p:sp>
            <p:nvSpPr>
              <p:cNvPr id="83" name="Freeform 18"/>
              <p:cNvSpPr/>
              <p:nvPr/>
            </p:nvSpPr>
            <p:spPr>
              <a:xfrm rot="10800000">
                <a:off x="667224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 rot="10800000">
                <a:off x="6675480" y="1380960"/>
                <a:ext cx="246708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 rot="10800000">
                <a:off x="6673320" y="1907640"/>
                <a:ext cx="247212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6"/>
            <p:cNvGrpSpPr/>
            <p:nvPr/>
          </p:nvGrpSpPr>
          <p:grpSpPr>
            <a:xfrm>
              <a:off x="-5040" y="1951200"/>
              <a:ext cx="6667920" cy="3512520"/>
              <a:chOff x="-5040" y="1951200"/>
              <a:chExt cx="6667920" cy="3512520"/>
            </a:xfrm>
          </p:grpSpPr>
          <p:sp>
            <p:nvSpPr>
              <p:cNvPr id="87" name="Freeform 11"/>
              <p:cNvSpPr/>
              <p:nvPr/>
            </p:nvSpPr>
            <p:spPr>
              <a:xfrm rot="10800000">
                <a:off x="-3240" y="1950840"/>
                <a:ext cx="6653520" cy="322056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 rot="10800000">
                <a:off x="-5040" y="212976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aa63"/>
                  </a:gs>
                  <a:gs pos="100000">
                    <a:srgbClr val="ff7f1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 rot="10800000">
                <a:off x="-1440" y="212976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ba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7"/>
            <p:cNvGrpSpPr/>
            <p:nvPr/>
          </p:nvGrpSpPr>
          <p:grpSpPr>
            <a:xfrm>
              <a:off x="6324840" y="0"/>
              <a:ext cx="1885320" cy="3193920"/>
              <a:chOff x="6324840" y="0"/>
              <a:chExt cx="1885320" cy="3193920"/>
            </a:xfrm>
          </p:grpSpPr>
          <p:sp>
            <p:nvSpPr>
              <p:cNvPr id="91" name="Freeform 8"/>
              <p:cNvSpPr/>
              <p:nvPr/>
            </p:nvSpPr>
            <p:spPr>
              <a:xfrm>
                <a:off x="6696000" y="0"/>
                <a:ext cx="151416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>
                <a:off x="6324840" y="0"/>
                <a:ext cx="169812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>
                <a:off x="6669000" y="0"/>
                <a:ext cx="135540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95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8"/>
            <p:cNvGrpSpPr/>
            <p:nvPr/>
          </p:nvGrpSpPr>
          <p:grpSpPr>
            <a:xfrm>
              <a:off x="6297480" y="3193560"/>
              <a:ext cx="2849400" cy="3664080"/>
              <a:chOff x="6297480" y="3193560"/>
              <a:chExt cx="2849400" cy="3664080"/>
            </a:xfrm>
          </p:grpSpPr>
          <p:sp>
            <p:nvSpPr>
              <p:cNvPr id="99" name="Freeform 21"/>
              <p:cNvSpPr/>
              <p:nvPr/>
            </p:nvSpPr>
            <p:spPr>
              <a:xfrm rot="10800000">
                <a:off x="6297480" y="3206160"/>
                <a:ext cx="2849400" cy="365148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 rot="10800000">
                <a:off x="6328080" y="3193560"/>
                <a:ext cx="2814480" cy="366228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cd6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 rot="10800000">
                <a:off x="6328080" y="3193560"/>
                <a:ext cx="2814480" cy="366228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c97"/>
                  </a:gs>
                  <a:gs pos="100000">
                    <a:srgbClr val="ffbb3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Freeform 24"/>
            <p:cNvSpPr/>
            <p:nvPr/>
          </p:nvSpPr>
          <p:spPr>
            <a:xfrm rot="10800000">
              <a:off x="0" y="3045960"/>
              <a:ext cx="656928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 rot="10800000">
              <a:off x="5495760" y="3263760"/>
              <a:ext cx="157788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 rot="10800000">
              <a:off x="6693120" y="3257640"/>
              <a:ext cx="245088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109" name="Oval 34"/>
            <p:cNvSpPr/>
            <p:nvPr/>
          </p:nvSpPr>
          <p:spPr>
            <a:xfrm>
              <a:off x="544680" y="366840"/>
              <a:ext cx="42012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262-CA10-4D5E-A3D9-67CAEE6B6A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6324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800" y="1295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538C-285A-47E2-AAF9-A64ABECFE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0" y="5132520"/>
            <a:ext cx="41911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Gulim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06:29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