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506-D1A5-4F5A-8ECC-FEF67027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B08-6292-4E71-A96F-AFDA0E90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8F9-6B73-4E20-B08D-768E7F80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993-4534-4556-8F9C-B224366B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14C-88F9-4CD9-A55B-95127C8E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844-7E63-43AA-8EEF-75D8F9F3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F30-ABFE-46CC-A0DB-15D17FAE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A430-4D94-460D-80DD-76B832A4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8C0-6408-4E3D-8286-028C865F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A37-6293-4BAF-9E33-1C2E5FE2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21F-E8A1-4443-ACE5-32C8CF47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572-1E41-4A07-8156-F8EB6208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7750-5911-4B3A-B3B7-E4E631BA9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biaoge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3.pn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"/>
          <p:cNvGrpSpPr/>
          <p:nvPr/>
        </p:nvGrpSpPr>
        <p:grpSpPr>
          <a:xfrm>
            <a:off x="5076720" y="44280"/>
            <a:ext cx="1366200" cy="1412640"/>
            <a:chOff x="5076720" y="44280"/>
            <a:chExt cx="1366200" cy="1412640"/>
          </a:xfrm>
        </p:grpSpPr>
        <p:sp>
          <p:nvSpPr>
            <p:cNvPr id="42" name="Rectangle 4"/>
            <p:cNvSpPr/>
            <p:nvPr/>
          </p:nvSpPr>
          <p:spPr>
            <a:xfrm>
              <a:off x="5076720" y="390960"/>
              <a:ext cx="105732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 Box 5"/>
            <p:cNvSpPr/>
            <p:nvPr/>
          </p:nvSpPr>
          <p:spPr>
            <a:xfrm>
              <a:off x="5175360" y="44280"/>
              <a:ext cx="126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17_150829_(1)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513000" cy="51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1844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49960" y="69228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菜园里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2225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0" y="0"/>
            <a:ext cx="4140360" cy="2205000"/>
          </a:xfrm>
          <a:prstGeom prst="wedgeEllipseCallout">
            <a:avLst>
              <a:gd name="adj1" fmla="val 43481"/>
              <a:gd name="adj2" fmla="val 5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你能不能飞到菜园里，看看冬瓜和茄子有什么不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5076720" y="0"/>
            <a:ext cx="3888000" cy="2016000"/>
          </a:xfrm>
          <a:prstGeom prst="wedgeEllipseCallout">
            <a:avLst>
              <a:gd name="adj1" fmla="val -33666"/>
              <a:gd name="adj2" fmla="val 685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妈妈，妈妈，冬瓜是大的，茄子是小的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0" y="189000"/>
            <a:ext cx="4572000" cy="2205000"/>
          </a:xfrm>
          <a:prstGeom prst="wedgeEllipseCallout">
            <a:avLst>
              <a:gd name="adj1" fmla="val 34652"/>
              <a:gd name="adj2" fmla="val 5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错。可是，你能不能再去看看，还有什么不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5003640" y="260280"/>
            <a:ext cx="3888000" cy="1916280"/>
          </a:xfrm>
          <a:prstGeom prst="wedgeEllipseCallout">
            <a:avLst>
              <a:gd name="adj1" fmla="val -33666"/>
              <a:gd name="adj2" fmla="val 74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妈妈，妈妈，冬瓜是青的，茄子是紫的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0" y="0"/>
            <a:ext cx="4427640" cy="2205000"/>
          </a:xfrm>
          <a:prstGeom prst="wedgeEllipseCallout">
            <a:avLst>
              <a:gd name="adj1" fmla="val 37416"/>
              <a:gd name="adj2" fmla="val 60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很好。可是，你能不能再去认真地看看，它们还有什么不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4643280" y="0"/>
            <a:ext cx="4500720" cy="2376360"/>
          </a:xfrm>
          <a:prstGeom prst="wedgeEllipseCallout">
            <a:avLst>
              <a:gd name="adj1" fmla="val -27884"/>
              <a:gd name="adj2" fmla="val 61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妈妈，妈妈，我发现冬瓜的皮上有细毛，茄子的柄上有小刺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611280" y="260280"/>
            <a:ext cx="7489800" cy="1378080"/>
            <a:chOff x="611280" y="260280"/>
            <a:chExt cx="7489800" cy="1378080"/>
          </a:xfrm>
        </p:grpSpPr>
        <p:pic>
          <p:nvPicPr>
            <p:cNvPr id="103" name="Picture 3" descr="donng"/>
            <p:cNvPicPr/>
            <p:nvPr/>
          </p:nvPicPr>
          <p:blipFill>
            <a:blip r:embed="rId1"/>
            <a:stretch/>
          </p:blipFill>
          <p:spPr>
            <a:xfrm>
              <a:off x="611280" y="260280"/>
              <a:ext cx="241128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" descr="donng"/>
            <p:cNvPicPr/>
            <p:nvPr/>
          </p:nvPicPr>
          <p:blipFill>
            <a:blip r:embed="rId2"/>
            <a:stretch/>
          </p:blipFill>
          <p:spPr>
            <a:xfrm>
              <a:off x="6228000" y="404640"/>
              <a:ext cx="187308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5"/>
          <p:cNvGrpSpPr/>
          <p:nvPr/>
        </p:nvGrpSpPr>
        <p:grpSpPr>
          <a:xfrm>
            <a:off x="179280" y="1484280"/>
            <a:ext cx="8748720" cy="3975840"/>
            <a:chOff x="179280" y="1484280"/>
            <a:chExt cx="8748720" cy="3975840"/>
          </a:xfrm>
        </p:grpSpPr>
        <p:grpSp>
          <p:nvGrpSpPr>
            <p:cNvPr id="106" name="Group 6"/>
            <p:cNvGrpSpPr/>
            <p:nvPr/>
          </p:nvGrpSpPr>
          <p:grpSpPr>
            <a:xfrm>
              <a:off x="179280" y="1484280"/>
              <a:ext cx="8748720" cy="1091520"/>
              <a:chOff x="179280" y="1484280"/>
              <a:chExt cx="8748720" cy="1091520"/>
            </a:xfrm>
          </p:grpSpPr>
          <p:sp>
            <p:nvSpPr>
              <p:cNvPr id="107" name="Text Box 7"/>
              <p:cNvSpPr/>
              <p:nvPr/>
            </p:nvSpPr>
            <p:spPr>
              <a:xfrm>
                <a:off x="179280" y="1484280"/>
                <a:ext cx="388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楷体_GB2312"/>
                  </a:rPr>
                  <a:t>你能不能飞到菜园里，看看冬瓜和茄子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8"/>
              <p:cNvSpPr/>
              <p:nvPr/>
            </p:nvSpPr>
            <p:spPr>
              <a:xfrm>
                <a:off x="5076720" y="162864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妈妈，妈妈，冬瓜是大的，茄子是小的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9"/>
            <p:cNvGrpSpPr/>
            <p:nvPr/>
          </p:nvGrpSpPr>
          <p:grpSpPr>
            <a:xfrm>
              <a:off x="179280" y="2997000"/>
              <a:ext cx="8748720" cy="1091520"/>
              <a:chOff x="179280" y="2997000"/>
              <a:chExt cx="8748720" cy="1091520"/>
            </a:xfrm>
          </p:grpSpPr>
          <p:sp>
            <p:nvSpPr>
              <p:cNvPr id="110" name="Text Box 10"/>
              <p:cNvSpPr/>
              <p:nvPr/>
            </p:nvSpPr>
            <p:spPr>
              <a:xfrm>
                <a:off x="179280" y="2997000"/>
                <a:ext cx="388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不错。可是，你能不能再去看看，还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1"/>
              <p:cNvSpPr/>
              <p:nvPr/>
            </p:nvSpPr>
            <p:spPr>
              <a:xfrm>
                <a:off x="5076720" y="314136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妈妈，妈妈，冬瓜是青的，茄子是紫的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2"/>
            <p:cNvGrpSpPr/>
            <p:nvPr/>
          </p:nvGrpSpPr>
          <p:grpSpPr>
            <a:xfrm>
              <a:off x="179280" y="4508640"/>
              <a:ext cx="8748720" cy="951480"/>
              <a:chOff x="179280" y="4508640"/>
              <a:chExt cx="8748720" cy="951480"/>
            </a:xfrm>
          </p:grpSpPr>
          <p:sp>
            <p:nvSpPr>
              <p:cNvPr id="113" name="Text Box 13"/>
              <p:cNvSpPr/>
              <p:nvPr/>
            </p:nvSpPr>
            <p:spPr>
              <a:xfrm>
                <a:off x="179280" y="4512960"/>
                <a:ext cx="3887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很好。可是，你能不能再去认真地看看，它们还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14"/>
              <p:cNvSpPr/>
              <p:nvPr/>
            </p:nvSpPr>
            <p:spPr>
              <a:xfrm>
                <a:off x="5076720" y="450864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妈妈，妈妈，我发现冬瓜的皮上有细毛，茄子的柄上有小刺呢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24000" y="120348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瓜是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的，皮上有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是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的，柄上有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987640" y="112536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940360" y="112536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987640" y="181296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细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987640" y="314172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869080" y="311004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987640" y="386064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小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457200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8720" y="5302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28C-0BBE-475C-AFF4-56CF5C1408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611280" y="260280"/>
            <a:ext cx="7489800" cy="1378080"/>
            <a:chOff x="611280" y="260280"/>
            <a:chExt cx="7489800" cy="1378080"/>
          </a:xfrm>
        </p:grpSpPr>
        <p:pic>
          <p:nvPicPr>
            <p:cNvPr id="129" name="Picture 3" descr="donng"/>
            <p:cNvPicPr/>
            <p:nvPr/>
          </p:nvPicPr>
          <p:blipFill>
            <a:blip r:embed="rId1"/>
            <a:stretch/>
          </p:blipFill>
          <p:spPr>
            <a:xfrm>
              <a:off x="611280" y="260280"/>
              <a:ext cx="241128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" descr="donng"/>
            <p:cNvPicPr/>
            <p:nvPr/>
          </p:nvPicPr>
          <p:blipFill>
            <a:blip r:embed="rId2"/>
            <a:stretch/>
          </p:blipFill>
          <p:spPr>
            <a:xfrm>
              <a:off x="6228000" y="404640"/>
              <a:ext cx="187308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5"/>
          <p:cNvGrpSpPr/>
          <p:nvPr/>
        </p:nvGrpSpPr>
        <p:grpSpPr>
          <a:xfrm>
            <a:off x="216000" y="1768320"/>
            <a:ext cx="8748720" cy="3975840"/>
            <a:chOff x="216000" y="1768320"/>
            <a:chExt cx="8748720" cy="3975840"/>
          </a:xfrm>
        </p:grpSpPr>
        <p:grpSp>
          <p:nvGrpSpPr>
            <p:cNvPr id="132" name="Group 6"/>
            <p:cNvGrpSpPr/>
            <p:nvPr/>
          </p:nvGrpSpPr>
          <p:grpSpPr>
            <a:xfrm>
              <a:off x="216000" y="1768320"/>
              <a:ext cx="8748720" cy="1091520"/>
              <a:chOff x="216000" y="1768320"/>
              <a:chExt cx="8748720" cy="1091520"/>
            </a:xfrm>
          </p:grpSpPr>
          <p:sp>
            <p:nvSpPr>
              <p:cNvPr id="133" name="Text Box 7"/>
              <p:cNvSpPr/>
              <p:nvPr/>
            </p:nvSpPr>
            <p:spPr>
              <a:xfrm>
                <a:off x="216000" y="1768320"/>
                <a:ext cx="388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楷体_GB2312"/>
                  </a:rPr>
                  <a:t>你能不能飞到菜园里，看看冬瓜和茄子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8"/>
              <p:cNvSpPr/>
              <p:nvPr/>
            </p:nvSpPr>
            <p:spPr>
              <a:xfrm>
                <a:off x="5113440" y="191268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妈妈，妈妈，冬瓜是大的，茄子是小的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9"/>
            <p:cNvGrpSpPr/>
            <p:nvPr/>
          </p:nvGrpSpPr>
          <p:grpSpPr>
            <a:xfrm>
              <a:off x="216000" y="3281040"/>
              <a:ext cx="8748720" cy="1091520"/>
              <a:chOff x="216000" y="3281040"/>
              <a:chExt cx="8748720" cy="1091520"/>
            </a:xfrm>
          </p:grpSpPr>
          <p:sp>
            <p:nvSpPr>
              <p:cNvPr id="136" name="Text Box 10"/>
              <p:cNvSpPr/>
              <p:nvPr/>
            </p:nvSpPr>
            <p:spPr>
              <a:xfrm>
                <a:off x="216000" y="3281040"/>
                <a:ext cx="388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不错。可是，你能不能再去看看，还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11"/>
              <p:cNvSpPr/>
              <p:nvPr/>
            </p:nvSpPr>
            <p:spPr>
              <a:xfrm>
                <a:off x="5113440" y="342540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妈妈，妈妈，冬瓜是青的，茄子是紫的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12"/>
            <p:cNvGrpSpPr/>
            <p:nvPr/>
          </p:nvGrpSpPr>
          <p:grpSpPr>
            <a:xfrm>
              <a:off x="216000" y="4792680"/>
              <a:ext cx="8748720" cy="951480"/>
              <a:chOff x="216000" y="4792680"/>
              <a:chExt cx="8748720" cy="951480"/>
            </a:xfrm>
          </p:grpSpPr>
          <p:sp>
            <p:nvSpPr>
              <p:cNvPr id="139" name="Text Box 13"/>
              <p:cNvSpPr/>
              <p:nvPr/>
            </p:nvSpPr>
            <p:spPr>
              <a:xfrm>
                <a:off x="216000" y="4797000"/>
                <a:ext cx="3887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楷体_GB2312"/>
                  </a:rPr>
                  <a:t>很好。可是，你能不能再去认真地看看，它们还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14"/>
              <p:cNvSpPr/>
              <p:nvPr/>
            </p:nvSpPr>
            <p:spPr>
              <a:xfrm>
                <a:off x="5113440" y="479268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妈妈，妈妈，我发现冬瓜的皮上有细毛，茄子的柄上有小刺呢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2411280" y="620640"/>
            <a:ext cx="4753080" cy="4176360"/>
            <a:chOff x="2411280" y="620640"/>
            <a:chExt cx="4753080" cy="4176360"/>
          </a:xfrm>
        </p:grpSpPr>
        <p:sp>
          <p:nvSpPr>
            <p:cNvPr id="142" name="Text Box 3"/>
            <p:cNvSpPr/>
            <p:nvPr/>
          </p:nvSpPr>
          <p:spPr>
            <a:xfrm>
              <a:off x="2914560" y="620640"/>
              <a:ext cx="42498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笑</a:t>
              </a:r>
              <a:endParaRPr b="0" lang="en-US" sz="2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4"/>
            <p:cNvGrpSpPr/>
            <p:nvPr/>
          </p:nvGrpSpPr>
          <p:grpSpPr>
            <a:xfrm>
              <a:off x="2411280" y="765000"/>
              <a:ext cx="4032000" cy="4032000"/>
              <a:chOff x="2411280" y="765000"/>
              <a:chExt cx="4032000" cy="4032000"/>
            </a:xfrm>
          </p:grpSpPr>
          <p:sp>
            <p:nvSpPr>
              <p:cNvPr id="144" name="Line 5"/>
              <p:cNvSpPr/>
              <p:nvPr/>
            </p:nvSpPr>
            <p:spPr>
              <a:xfrm>
                <a:off x="2411280" y="2779920"/>
                <a:ext cx="40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"/>
              <p:cNvSpPr/>
              <p:nvPr/>
            </p:nvSpPr>
            <p:spPr>
              <a:xfrm flipV="1">
                <a:off x="4426200" y="765000"/>
                <a:ext cx="0" cy="40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7"/>
              <p:cNvSpPr/>
              <p:nvPr/>
            </p:nvSpPr>
            <p:spPr>
              <a:xfrm>
                <a:off x="2411280" y="765000"/>
                <a:ext cx="4032000" cy="403200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7" name="Picture 8" descr="1"/>
          <p:cNvPicPr/>
          <p:nvPr/>
        </p:nvPicPr>
        <p:blipFill>
          <a:blip r:embed="rId1"/>
          <a:stretch/>
        </p:blipFill>
        <p:spPr>
          <a:xfrm>
            <a:off x="2987640" y="1916280"/>
            <a:ext cx="3097080" cy="2916000"/>
          </a:xfrm>
          <a:prstGeom prst="rect">
            <a:avLst/>
          </a:prstGeom>
          <a:ln w="0">
            <a:noFill/>
          </a:ln>
        </p:spPr>
      </p:pic>
      <p:sp>
        <p:nvSpPr>
          <p:cNvPr id="148" name="Line 9"/>
          <p:cNvSpPr/>
          <p:nvPr/>
        </p:nvSpPr>
        <p:spPr>
          <a:xfrm>
            <a:off x="2916360" y="4149720"/>
            <a:ext cx="324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900000" y="5154480"/>
            <a:ext cx="7704000" cy="1228320"/>
            <a:chOff x="900000" y="5154480"/>
            <a:chExt cx="7704000" cy="1228320"/>
          </a:xfrm>
        </p:grpSpPr>
        <p:sp>
          <p:nvSpPr>
            <p:cNvPr id="150" name="Text Box 11"/>
            <p:cNvSpPr/>
            <p:nvPr/>
          </p:nvSpPr>
          <p:spPr>
            <a:xfrm>
              <a:off x="900000" y="5557680"/>
              <a:ext cx="770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撇捺在字底，撇高捺稍低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1116000" y="515772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i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ě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à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6445080" y="522576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h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ā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 d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3564000" y="5154480"/>
              <a:ext cx="93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ǐ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116000" y="6453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2"/>
          <p:cNvSpPr/>
          <p:nvPr/>
        </p:nvSpPr>
        <p:spPr>
          <a:xfrm>
            <a:off x="2556000" y="5332320"/>
            <a:ext cx="1584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表格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2004_5_22_16_40_293"/>
          <p:cNvPicPr/>
          <p:nvPr/>
        </p:nvPicPr>
        <p:blipFill>
          <a:blip r:embed="rId15"/>
          <a:stretch/>
        </p:blipFill>
        <p:spPr>
          <a:xfrm>
            <a:off x="3564000" y="536400"/>
            <a:ext cx="3311640" cy="2892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1142"/>
          <p:cNvPicPr/>
          <p:nvPr/>
        </p:nvPicPr>
        <p:blipFill>
          <a:blip r:embed="rId16"/>
          <a:stretch/>
        </p:blipFill>
        <p:spPr>
          <a:xfrm>
            <a:off x="5219640" y="4221000"/>
            <a:ext cx="3743280" cy="214632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"/>
          <p:cNvGrpSpPr/>
          <p:nvPr/>
        </p:nvGrpSpPr>
        <p:grpSpPr>
          <a:xfrm>
            <a:off x="688680" y="1052640"/>
            <a:ext cx="1121760" cy="1225080"/>
            <a:chOff x="688680" y="1052640"/>
            <a:chExt cx="1121760" cy="1225080"/>
          </a:xfrm>
        </p:grpSpPr>
        <p:sp>
          <p:nvSpPr>
            <p:cNvPr id="51" name="Text Box 2"/>
            <p:cNvSpPr/>
            <p:nvPr/>
          </p:nvSpPr>
          <p:spPr>
            <a:xfrm>
              <a:off x="688680" y="1452600"/>
              <a:ext cx="971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冬瓜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1035360" y="105264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1"/>
          <p:cNvGrpSpPr/>
          <p:nvPr/>
        </p:nvGrpSpPr>
        <p:grpSpPr>
          <a:xfrm>
            <a:off x="252360" y="4581360"/>
            <a:ext cx="1655640" cy="1256760"/>
            <a:chOff x="252360" y="4581360"/>
            <a:chExt cx="1655640" cy="1256760"/>
          </a:xfrm>
        </p:grpSpPr>
        <p:sp>
          <p:nvSpPr>
            <p:cNvPr id="54" name="Text Box 3"/>
            <p:cNvSpPr/>
            <p:nvPr/>
          </p:nvSpPr>
          <p:spPr>
            <a:xfrm>
              <a:off x="252360" y="5013000"/>
              <a:ext cx="165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茄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457560" y="458136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qi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9" descr="1152525130_large"/>
          <p:cNvPicPr/>
          <p:nvPr/>
        </p:nvPicPr>
        <p:blipFill>
          <a:blip r:embed="rId17"/>
          <a:stretch/>
        </p:blipFill>
        <p:spPr>
          <a:xfrm>
            <a:off x="2268360" y="4221000"/>
            <a:ext cx="273708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79280" y="17733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菜园里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瓜长在地上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长在枝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526480" y="4076640"/>
            <a:ext cx="42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菜园里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瓜躺在地上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挂在枝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984760" y="36306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6269760" y="3575160"/>
            <a:ext cx="8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162240" y="407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6431040" y="407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6"/>
          <p:cNvGrpSpPr/>
          <p:nvPr/>
        </p:nvGrpSpPr>
        <p:grpSpPr>
          <a:xfrm>
            <a:off x="611280" y="2492280"/>
            <a:ext cx="8221680" cy="3139920"/>
            <a:chOff x="611280" y="2492280"/>
            <a:chExt cx="8221680" cy="3139920"/>
          </a:xfrm>
        </p:grpSpPr>
        <p:pic>
          <p:nvPicPr>
            <p:cNvPr id="64" name="Picture 3" descr="2004_5_22_16_40_293"/>
            <p:cNvPicPr/>
            <p:nvPr/>
          </p:nvPicPr>
          <p:blipFill>
            <a:blip r:embed="rId1"/>
            <a:stretch/>
          </p:blipFill>
          <p:spPr>
            <a:xfrm>
              <a:off x="611280" y="2492280"/>
              <a:ext cx="2933640" cy="31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4" descr="1142"/>
            <p:cNvPicPr/>
            <p:nvPr/>
          </p:nvPicPr>
          <p:blipFill>
            <a:blip r:embed="rId2"/>
            <a:stretch/>
          </p:blipFill>
          <p:spPr>
            <a:xfrm>
              <a:off x="4813560" y="2636640"/>
              <a:ext cx="4019400" cy="282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Rectangle 15"/>
          <p:cNvSpPr/>
          <p:nvPr/>
        </p:nvSpPr>
        <p:spPr>
          <a:xfrm>
            <a:off x="2564640" y="836640"/>
            <a:ext cx="42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菜园里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瓜躺在地上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挂在枝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932360" y="285264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认 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814040" y="2749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693800" y="2349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317920" y="233352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èn zhē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68360" y="3213000"/>
            <a:ext cx="820728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能不能　去　　地看看，它们还有什么不一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4387320" y="3321000"/>
            <a:ext cx="662760" cy="1159920"/>
            <a:chOff x="4387320" y="3321000"/>
            <a:chExt cx="662760" cy="1159920"/>
          </a:xfrm>
        </p:grpSpPr>
        <p:sp>
          <p:nvSpPr>
            <p:cNvPr id="73" name="Text Box 4"/>
            <p:cNvSpPr/>
            <p:nvPr/>
          </p:nvSpPr>
          <p:spPr>
            <a:xfrm>
              <a:off x="4425480" y="36558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4387320" y="3321000"/>
              <a:ext cx="6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"/>
          <p:cNvGrpSpPr/>
          <p:nvPr/>
        </p:nvGrpSpPr>
        <p:grpSpPr>
          <a:xfrm>
            <a:off x="5508720" y="3321000"/>
            <a:ext cx="1800000" cy="1134720"/>
            <a:chOff x="5508720" y="3321000"/>
            <a:chExt cx="1800000" cy="1134720"/>
          </a:xfrm>
        </p:grpSpPr>
        <p:sp>
          <p:nvSpPr>
            <p:cNvPr id="76" name="Text Box 7"/>
            <p:cNvSpPr/>
            <p:nvPr/>
          </p:nvSpPr>
          <p:spPr>
            <a:xfrm>
              <a:off x="5508720" y="3630600"/>
              <a:ext cx="1800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认真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8"/>
            <p:cNvSpPr/>
            <p:nvPr/>
          </p:nvSpPr>
          <p:spPr>
            <a:xfrm>
              <a:off x="5520960" y="3321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10"/>
          <p:cNvSpPr/>
          <p:nvPr/>
        </p:nvSpPr>
        <p:spPr>
          <a:xfrm>
            <a:off x="2679840" y="10065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2749320" y="1452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5705280" y="1452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9640" y="109368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屋 檐       不 错       紫 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-258120" y="2637000"/>
            <a:ext cx="969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柄            小 刺       细 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39640" y="54936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ū   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573800" y="54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6567480" y="5335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167480" y="218916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ǐ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4789080" y="218916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6633720" y="218916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39640" y="109368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屋 檐       不 错       紫 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900000" y="4146480"/>
            <a:ext cx="763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冬 瓜       茄 子        认 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-258120" y="2637000"/>
            <a:ext cx="969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柄            小 刺       细 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29040" y="551664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再            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3"/>
          <p:cNvSpPr/>
          <p:nvPr/>
        </p:nvSpPr>
        <p:spPr>
          <a:xfrm>
            <a:off x="-1044720" y="1357200"/>
            <a:ext cx="954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发现冬瓜的皮上有细毛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的柄上有小刺呢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0:20:43Z</dcterms:created>
  <dc:creator/>
  <dc:description/>
  <cp:keywords>幻灯片之家 http:/www.eeppt.com</cp:keywords>
  <dc:language>en-US</dc:language>
  <cp:lastModifiedBy/>
  <dcterms:modified xsi:type="dcterms:W3CDTF">2015-07-18T15:37:00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