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F6F-852F-475F-8E97-B82DEF12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7B0-31B3-4C99-B421-23B3E61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EB9-3AC9-454F-B646-12AABBF6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D13-8979-4672-9793-3CA9CD1B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DFA-A4A6-4A5C-8163-7D5F11A9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9BA-E7F7-4D91-9E68-FE0EFDA8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DD7-FAA9-4D4A-9670-59FCD24C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E71-620E-4634-9071-C92B25FD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680-5998-46BC-9739-7C071568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CE8-2DE4-4381-B79E-6DB7ACE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B7D-9B73-499E-BAC8-39A314E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7E8-3D14-4CC9-8090-6558FB5A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1BD1-2914-4812-A149-99420C29C1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066E-ACD7-4008-8256-7CF2B25AD5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560" y="1328760"/>
            <a:ext cx="756144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餐饮牛奶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-1440" y="4392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2"/>
          <a:stretch/>
        </p:blipFill>
        <p:spPr>
          <a:xfrm>
            <a:off x="9360" y="553392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5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在此录入文字标题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" name="圆角矩形 19"/>
          <p:cNvSpPr/>
          <p:nvPr/>
        </p:nvSpPr>
        <p:spPr>
          <a:xfrm>
            <a:off x="539640" y="1546200"/>
            <a:ext cx="7777440" cy="3745080"/>
          </a:xfrm>
          <a:prstGeom prst="roundRect">
            <a:avLst>
              <a:gd name="adj" fmla="val 737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0"/>
          <p:cNvSpPr/>
          <p:nvPr/>
        </p:nvSpPr>
        <p:spPr>
          <a:xfrm>
            <a:off x="522360" y="1546200"/>
            <a:ext cx="781668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21"/>
          <p:cNvSpPr/>
          <p:nvPr/>
        </p:nvSpPr>
        <p:spPr>
          <a:xfrm rot="10800000">
            <a:off x="522000" y="4787640"/>
            <a:ext cx="781668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10"/>
          <p:cNvSpPr/>
          <p:nvPr/>
        </p:nvSpPr>
        <p:spPr>
          <a:xfrm>
            <a:off x="6227640" y="1030320"/>
            <a:ext cx="1065240" cy="53496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979784" h="991836">
                <a:moveTo>
                  <a:pt x="1979783" y="991796"/>
                </a:moveTo>
                <a:cubicBezTo>
                  <a:pt x="1979784" y="991803"/>
                  <a:pt x="1979784" y="991809"/>
                  <a:pt x="1979784" y="991816"/>
                </a:cubicBezTo>
                <a:lnTo>
                  <a:pt x="1979783" y="991836"/>
                </a:lnTo>
                <a:lnTo>
                  <a:pt x="1979783" y="991796"/>
                </a:lnTo>
                <a:close/>
                <a:moveTo>
                  <a:pt x="987968" y="0"/>
                </a:moveTo>
                <a:cubicBezTo>
                  <a:pt x="1510069" y="0"/>
                  <a:pt x="1937947" y="403416"/>
                  <a:pt x="1975936" y="915615"/>
                </a:cubicBezTo>
                <a:lnTo>
                  <a:pt x="1770114" y="915615"/>
                </a:lnTo>
                <a:cubicBezTo>
                  <a:pt x="1731983" y="517268"/>
                  <a:pt x="1396346" y="205822"/>
                  <a:pt x="987968" y="205822"/>
                </a:cubicBezTo>
                <a:cubicBezTo>
                  <a:pt x="579590" y="205822"/>
                  <a:pt x="243953" y="517268"/>
                  <a:pt x="205822" y="915615"/>
                </a:cubicBezTo>
                <a:lnTo>
                  <a:pt x="0" y="915615"/>
                </a:lnTo>
                <a:cubicBezTo>
                  <a:pt x="37989" y="403416"/>
                  <a:pt x="465867" y="0"/>
                  <a:pt x="9879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10"/>
          <p:cNvSpPr/>
          <p:nvPr/>
        </p:nvSpPr>
        <p:spPr>
          <a:xfrm flipV="1">
            <a:off x="1017720" y="5272200"/>
            <a:ext cx="961920" cy="480960"/>
          </a:xfrm>
          <a:custGeom>
            <a:avLst/>
            <a:gdLst>
              <a:gd name="textAreaLeft" fmla="*/ 0 w 961920"/>
              <a:gd name="textAreaRight" fmla="*/ 962280 w 961920"/>
              <a:gd name="textAreaTop" fmla="*/ 360 h 480960"/>
              <a:gd name="textAreaBottom" fmla="*/ 481680 h 480960"/>
            </a:gdLst>
            <a:ahLst/>
            <a:rect l="textAreaLeft" t="textAreaTop" r="textAreaRight" b="textAreaBottom"/>
            <a:pathLst>
              <a:path w="1979784" h="991836">
                <a:moveTo>
                  <a:pt x="1979783" y="991796"/>
                </a:moveTo>
                <a:cubicBezTo>
                  <a:pt x="1979784" y="991803"/>
                  <a:pt x="1979784" y="991809"/>
                  <a:pt x="1979784" y="991816"/>
                </a:cubicBezTo>
                <a:lnTo>
                  <a:pt x="1979783" y="991836"/>
                </a:lnTo>
                <a:lnTo>
                  <a:pt x="1979783" y="991796"/>
                </a:lnTo>
                <a:close/>
                <a:moveTo>
                  <a:pt x="987968" y="0"/>
                </a:moveTo>
                <a:cubicBezTo>
                  <a:pt x="1510069" y="0"/>
                  <a:pt x="1937947" y="403416"/>
                  <a:pt x="1975936" y="915615"/>
                </a:cubicBezTo>
                <a:lnTo>
                  <a:pt x="1770114" y="915615"/>
                </a:lnTo>
                <a:cubicBezTo>
                  <a:pt x="1731983" y="517268"/>
                  <a:pt x="1396346" y="205822"/>
                  <a:pt x="987968" y="205822"/>
                </a:cubicBezTo>
                <a:cubicBezTo>
                  <a:pt x="579590" y="205822"/>
                  <a:pt x="243953" y="517268"/>
                  <a:pt x="205822" y="915615"/>
                </a:cubicBezTo>
                <a:lnTo>
                  <a:pt x="0" y="915615"/>
                </a:lnTo>
                <a:cubicBezTo>
                  <a:pt x="37989" y="403416"/>
                  <a:pt x="465867" y="0"/>
                  <a:pt x="9879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5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da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6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7200" y="117000"/>
            <a:ext cx="30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市场环境分析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9" name="同心圆 8"/>
          <p:cNvSpPr/>
          <p:nvPr/>
        </p:nvSpPr>
        <p:spPr>
          <a:xfrm>
            <a:off x="4324320" y="4973760"/>
            <a:ext cx="720720" cy="720720"/>
          </a:xfrm>
          <a:custGeom>
            <a:avLst/>
            <a:gdLst>
              <a:gd name="textAreaLeft" fmla="*/ 105480 w 720720"/>
              <a:gd name="textAreaRight" fmla="*/ 615240 w 720720"/>
              <a:gd name="textAreaTop" fmla="*/ 105480 h 720720"/>
              <a:gd name="textAreaBottom" fmla="*/ 615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22"/>
          <p:cNvGrpSpPr/>
          <p:nvPr/>
        </p:nvGrpSpPr>
        <p:grpSpPr>
          <a:xfrm>
            <a:off x="709200" y="1415880"/>
            <a:ext cx="3258000" cy="3843360"/>
            <a:chOff x="709200" y="1415880"/>
            <a:chExt cx="3258000" cy="3843360"/>
          </a:xfrm>
        </p:grpSpPr>
        <p:sp>
          <p:nvSpPr>
            <p:cNvPr id="61" name="圆角矩形 23"/>
            <p:cNvSpPr/>
            <p:nvPr/>
          </p:nvSpPr>
          <p:spPr>
            <a:xfrm>
              <a:off x="725040" y="1415880"/>
              <a:ext cx="3240720" cy="3843360"/>
            </a:xfrm>
            <a:custGeom>
              <a:avLst/>
              <a:gdLst>
                <a:gd name="textAreaLeft" fmla="*/ 69840 w 3240720"/>
                <a:gd name="textAreaRight" fmla="*/ 3170880 w 3240720"/>
                <a:gd name="textAreaTop" fmla="*/ 69840 h 3843360"/>
                <a:gd name="textAreaBottom" fmla="*/ 3773520 h 3843360"/>
              </a:gdLst>
              <a:ahLst/>
              <a:rect l="textAreaLeft" t="textAreaTop" r="textAreaRight" b="textAreaBottom"/>
              <a:pathLst>
                <a:path w="21600" h="25616">
                  <a:moveTo>
                    <a:pt x="1593" y="0"/>
                  </a:moveTo>
                  <a:arcTo wR="1593" hR="1593" stAng="16200000" swAng="-5400000"/>
                  <a:lnTo>
                    <a:pt x="0" y="24023"/>
                  </a:lnTo>
                  <a:arcTo wR="1593" hR="1593" stAng="10800000" swAng="-5400000"/>
                  <a:lnTo>
                    <a:pt x="20007" y="25616"/>
                  </a:lnTo>
                  <a:arcTo wR="1593" hR="1593" stAng="5400000" swAng="-5400000"/>
                  <a:lnTo>
                    <a:pt x="21600" y="1593"/>
                  </a:lnTo>
                  <a:arcTo wR="1593" hR="1593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24"/>
            <p:cNvSpPr/>
            <p:nvPr/>
          </p:nvSpPr>
          <p:spPr>
            <a:xfrm>
              <a:off x="709560" y="1415880"/>
              <a:ext cx="32576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 25"/>
            <p:cNvSpPr/>
            <p:nvPr/>
          </p:nvSpPr>
          <p:spPr>
            <a:xfrm rot="10800000">
              <a:off x="709200" y="4741560"/>
              <a:ext cx="32576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7"/>
          <p:cNvGrpSpPr/>
          <p:nvPr/>
        </p:nvGrpSpPr>
        <p:grpSpPr>
          <a:xfrm>
            <a:off x="4811400" y="1425600"/>
            <a:ext cx="3692880" cy="3970440"/>
            <a:chOff x="4811400" y="1425600"/>
            <a:chExt cx="3692880" cy="3970440"/>
          </a:xfrm>
        </p:grpSpPr>
        <p:sp>
          <p:nvSpPr>
            <p:cNvPr id="65" name="圆角矩形 28"/>
            <p:cNvSpPr/>
            <p:nvPr/>
          </p:nvSpPr>
          <p:spPr>
            <a:xfrm>
              <a:off x="4829400" y="1425600"/>
              <a:ext cx="3673440" cy="3970440"/>
            </a:xfrm>
            <a:custGeom>
              <a:avLst/>
              <a:gdLst>
                <a:gd name="textAreaLeft" fmla="*/ 79200 w 3673440"/>
                <a:gd name="textAreaRight" fmla="*/ 3594240 w 3673440"/>
                <a:gd name="textAreaTop" fmla="*/ 79200 h 3970440"/>
                <a:gd name="textAreaBottom" fmla="*/ 3891240 h 3970440"/>
              </a:gdLst>
              <a:ahLst/>
              <a:rect l="textAreaLeft" t="textAreaTop" r="textAreaRight" b="textAreaBottom"/>
              <a:pathLst>
                <a:path w="21600" h="23346">
                  <a:moveTo>
                    <a:pt x="1593" y="0"/>
                  </a:moveTo>
                  <a:arcTo wR="1593" hR="1593" stAng="16200000" swAng="-5400000"/>
                  <a:lnTo>
                    <a:pt x="0" y="21753"/>
                  </a:lnTo>
                  <a:arcTo wR="1593" hR="1593" stAng="10800000" swAng="-5400000"/>
                  <a:lnTo>
                    <a:pt x="20007" y="23346"/>
                  </a:lnTo>
                  <a:arcTo wR="1593" hR="1593" stAng="5400000" swAng="-5400000"/>
                  <a:lnTo>
                    <a:pt x="21600" y="1593"/>
                  </a:lnTo>
                  <a:arcTo wR="1593" hR="1593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29"/>
            <p:cNvSpPr/>
            <p:nvPr/>
          </p:nvSpPr>
          <p:spPr>
            <a:xfrm>
              <a:off x="4811760" y="1425600"/>
              <a:ext cx="3692520" cy="53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30"/>
            <p:cNvSpPr/>
            <p:nvPr/>
          </p:nvSpPr>
          <p:spPr>
            <a:xfrm rot="10800000">
              <a:off x="4811400" y="4861800"/>
              <a:ext cx="3692520" cy="53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同心圆 10"/>
          <p:cNvSpPr/>
          <p:nvPr/>
        </p:nvSpPr>
        <p:spPr>
          <a:xfrm>
            <a:off x="6719760" y="1052640"/>
            <a:ext cx="876600" cy="439560"/>
          </a:xfrm>
          <a:custGeom>
            <a:avLst/>
            <a:gdLst>
              <a:gd name="textAreaLeft" fmla="*/ 0 w 876600"/>
              <a:gd name="textAreaRight" fmla="*/ 876960 w 8766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1979784" h="991836">
                <a:moveTo>
                  <a:pt x="1979783" y="991796"/>
                </a:moveTo>
                <a:cubicBezTo>
                  <a:pt x="1979784" y="991803"/>
                  <a:pt x="1979784" y="991809"/>
                  <a:pt x="1979784" y="991816"/>
                </a:cubicBezTo>
                <a:lnTo>
                  <a:pt x="1979783" y="991836"/>
                </a:lnTo>
                <a:lnTo>
                  <a:pt x="1979783" y="991796"/>
                </a:lnTo>
                <a:close/>
                <a:moveTo>
                  <a:pt x="987968" y="0"/>
                </a:moveTo>
                <a:cubicBezTo>
                  <a:pt x="1510069" y="0"/>
                  <a:pt x="1937947" y="403416"/>
                  <a:pt x="1975936" y="915615"/>
                </a:cubicBezTo>
                <a:lnTo>
                  <a:pt x="1770114" y="915615"/>
                </a:lnTo>
                <a:cubicBezTo>
                  <a:pt x="1731983" y="517268"/>
                  <a:pt x="1396346" y="205822"/>
                  <a:pt x="987968" y="205822"/>
                </a:cubicBezTo>
                <a:cubicBezTo>
                  <a:pt x="579590" y="205822"/>
                  <a:pt x="243953" y="517268"/>
                  <a:pt x="205822" y="915615"/>
                </a:cubicBezTo>
                <a:lnTo>
                  <a:pt x="0" y="915615"/>
                </a:lnTo>
                <a:cubicBezTo>
                  <a:pt x="37989" y="403416"/>
                  <a:pt x="465867" y="0"/>
                  <a:pt x="987968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同心圆 10"/>
          <p:cNvSpPr/>
          <p:nvPr/>
        </p:nvSpPr>
        <p:spPr>
          <a:xfrm flipV="1">
            <a:off x="949320" y="5259240"/>
            <a:ext cx="657360" cy="330480"/>
          </a:xfrm>
          <a:custGeom>
            <a:avLst/>
            <a:gdLst>
              <a:gd name="textAreaLeft" fmla="*/ 0 w 657360"/>
              <a:gd name="textAreaRight" fmla="*/ 657720 w 657360"/>
              <a:gd name="textAreaTop" fmla="*/ 360 h 330480"/>
              <a:gd name="textAreaBottom" fmla="*/ 331200 h 330480"/>
            </a:gdLst>
            <a:ahLst/>
            <a:rect l="textAreaLeft" t="textAreaTop" r="textAreaRight" b="textAreaBottom"/>
            <a:pathLst>
              <a:path w="1979784" h="991836">
                <a:moveTo>
                  <a:pt x="1979783" y="991796"/>
                </a:moveTo>
                <a:cubicBezTo>
                  <a:pt x="1979784" y="991803"/>
                  <a:pt x="1979784" y="991809"/>
                  <a:pt x="1979784" y="991816"/>
                </a:cubicBezTo>
                <a:lnTo>
                  <a:pt x="1979783" y="991836"/>
                </a:lnTo>
                <a:lnTo>
                  <a:pt x="1979783" y="991796"/>
                </a:lnTo>
                <a:close/>
                <a:moveTo>
                  <a:pt x="987968" y="0"/>
                </a:moveTo>
                <a:cubicBezTo>
                  <a:pt x="1510069" y="0"/>
                  <a:pt x="1937947" y="403416"/>
                  <a:pt x="1975936" y="915615"/>
                </a:cubicBezTo>
                <a:lnTo>
                  <a:pt x="1770114" y="915615"/>
                </a:lnTo>
                <a:cubicBezTo>
                  <a:pt x="1731983" y="517268"/>
                  <a:pt x="1396346" y="205822"/>
                  <a:pt x="987968" y="205822"/>
                </a:cubicBezTo>
                <a:cubicBezTo>
                  <a:pt x="579590" y="205822"/>
                  <a:pt x="243953" y="517268"/>
                  <a:pt x="205822" y="915615"/>
                </a:cubicBezTo>
                <a:lnTo>
                  <a:pt x="0" y="915615"/>
                </a:lnTo>
                <a:cubicBezTo>
                  <a:pt x="37989" y="403416"/>
                  <a:pt x="465867" y="0"/>
                  <a:pt x="9879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da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30B9-10FE-4E53-944D-ABBE66594D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6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8840" y="48960"/>
            <a:ext cx="30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市场环境分析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74" name="图片 3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75" name="同心圆 6"/>
          <p:cNvSpPr/>
          <p:nvPr/>
        </p:nvSpPr>
        <p:spPr>
          <a:xfrm>
            <a:off x="3965400" y="2986200"/>
            <a:ext cx="1440000" cy="143964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210600 h 1439640"/>
              <a:gd name="textAreaBottom" fmla="*/ 12290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51" y="10800"/>
                </a:moveTo>
                <a:cubicBezTo>
                  <a:pt x="1751" y="15798"/>
                  <a:pt x="5802" y="19849"/>
                  <a:pt x="10800" y="19849"/>
                </a:cubicBezTo>
                <a:cubicBezTo>
                  <a:pt x="15798" y="19849"/>
                  <a:pt x="19849" y="15798"/>
                  <a:pt x="19849" y="10800"/>
                </a:cubicBezTo>
                <a:cubicBezTo>
                  <a:pt x="19849" y="5802"/>
                  <a:pt x="15798" y="1751"/>
                  <a:pt x="10800" y="1751"/>
                </a:cubicBezTo>
                <a:cubicBezTo>
                  <a:pt x="5802" y="1751"/>
                  <a:pt x="1751" y="5802"/>
                  <a:pt x="175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同心圆 7"/>
          <p:cNvSpPr/>
          <p:nvPr/>
        </p:nvSpPr>
        <p:spPr>
          <a:xfrm>
            <a:off x="4145040" y="1901880"/>
            <a:ext cx="1079280" cy="107928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同心圆 8"/>
          <p:cNvSpPr/>
          <p:nvPr/>
        </p:nvSpPr>
        <p:spPr>
          <a:xfrm>
            <a:off x="4324320" y="5514840"/>
            <a:ext cx="720720" cy="720720"/>
          </a:xfrm>
          <a:custGeom>
            <a:avLst/>
            <a:gdLst>
              <a:gd name="textAreaLeft" fmla="*/ 105480 w 720720"/>
              <a:gd name="textAreaRight" fmla="*/ 615240 w 720720"/>
              <a:gd name="textAreaTop" fmla="*/ 105480 h 720720"/>
              <a:gd name="textAreaBottom" fmla="*/ 615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同心圆 9"/>
          <p:cNvSpPr/>
          <p:nvPr/>
        </p:nvSpPr>
        <p:spPr>
          <a:xfrm>
            <a:off x="4145040" y="4430880"/>
            <a:ext cx="1079280" cy="108108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81080"/>
              <a:gd name="textAreaBottom" fmla="*/ 923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同心圆 11"/>
          <p:cNvSpPr/>
          <p:nvPr/>
        </p:nvSpPr>
        <p:spPr>
          <a:xfrm>
            <a:off x="4324320" y="1176480"/>
            <a:ext cx="720720" cy="720720"/>
          </a:xfrm>
          <a:custGeom>
            <a:avLst/>
            <a:gdLst>
              <a:gd name="textAreaLeft" fmla="*/ 105480 w 720720"/>
              <a:gd name="textAreaRight" fmla="*/ 615240 w 720720"/>
              <a:gd name="textAreaTop" fmla="*/ 105480 h 720720"/>
              <a:gd name="textAreaBottom" fmla="*/ 615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2"/>
          <p:cNvSpPr/>
          <p:nvPr/>
        </p:nvSpPr>
        <p:spPr>
          <a:xfrm>
            <a:off x="2968560" y="2381400"/>
            <a:ext cx="112068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3"/>
          <p:cNvSpPr/>
          <p:nvPr/>
        </p:nvSpPr>
        <p:spPr>
          <a:xfrm>
            <a:off x="5045040" y="1536840"/>
            <a:ext cx="112068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4"/>
          <p:cNvSpPr/>
          <p:nvPr/>
        </p:nvSpPr>
        <p:spPr>
          <a:xfrm>
            <a:off x="5605560" y="3632040"/>
            <a:ext cx="112068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5"/>
          <p:cNvSpPr/>
          <p:nvPr/>
        </p:nvSpPr>
        <p:spPr>
          <a:xfrm>
            <a:off x="5224320" y="4971960"/>
            <a:ext cx="112104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6"/>
          <p:cNvSpPr/>
          <p:nvPr/>
        </p:nvSpPr>
        <p:spPr>
          <a:xfrm>
            <a:off x="3035160" y="4971960"/>
            <a:ext cx="112104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1319400" y="192240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6419160" y="112068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6969240" y="321624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6781320" y="458460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1428840" y="443088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da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D474-B787-4BE4-B712-3853C2FAAA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6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7200" y="117000"/>
            <a:ext cx="30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在此录入文字标题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94" name="图片 6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95" name="直接连接符 7"/>
          <p:cNvSpPr/>
          <p:nvPr/>
        </p:nvSpPr>
        <p:spPr>
          <a:xfrm>
            <a:off x="1835280" y="3429000"/>
            <a:ext cx="49687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8"/>
          <p:cNvSpPr/>
          <p:nvPr/>
        </p:nvSpPr>
        <p:spPr>
          <a:xfrm>
            <a:off x="4356000" y="1413000"/>
            <a:ext cx="0" cy="453708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9"/>
          <p:cNvSpPr/>
          <p:nvPr/>
        </p:nvSpPr>
        <p:spPr>
          <a:xfrm>
            <a:off x="5172120" y="1508040"/>
            <a:ext cx="1023840" cy="1024200"/>
          </a:xfrm>
          <a:custGeom>
            <a:avLst/>
            <a:gdLst>
              <a:gd name="textAreaLeft" fmla="*/ 149760 w 1023840"/>
              <a:gd name="textAreaRight" fmla="*/ 874080 w 1023840"/>
              <a:gd name="textAreaTop" fmla="*/ 149760 h 1024200"/>
              <a:gd name="textAreaBottom" fmla="*/ 874440 h 102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51" y="10800"/>
                </a:moveTo>
                <a:cubicBezTo>
                  <a:pt x="1751" y="15798"/>
                  <a:pt x="5802" y="19849"/>
                  <a:pt x="10800" y="19849"/>
                </a:cubicBezTo>
                <a:cubicBezTo>
                  <a:pt x="15798" y="19849"/>
                  <a:pt x="19849" y="15798"/>
                  <a:pt x="19849" y="10800"/>
                </a:cubicBezTo>
                <a:cubicBezTo>
                  <a:pt x="19849" y="5802"/>
                  <a:pt x="15798" y="1751"/>
                  <a:pt x="10800" y="1751"/>
                </a:cubicBezTo>
                <a:cubicBezTo>
                  <a:pt x="5802" y="1751"/>
                  <a:pt x="1751" y="5802"/>
                  <a:pt x="175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10"/>
          <p:cNvSpPr/>
          <p:nvPr/>
        </p:nvSpPr>
        <p:spPr>
          <a:xfrm>
            <a:off x="4629240" y="2532240"/>
            <a:ext cx="596880" cy="596880"/>
          </a:xfrm>
          <a:custGeom>
            <a:avLst/>
            <a:gdLst>
              <a:gd name="textAreaLeft" fmla="*/ 87120 w 596880"/>
              <a:gd name="textAreaRight" fmla="*/ 509760 w 596880"/>
              <a:gd name="textAreaTop" fmla="*/ 87120 h 596880"/>
              <a:gd name="textAreaBottom" fmla="*/ 509760 h 59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同心圆 11"/>
          <p:cNvSpPr/>
          <p:nvPr/>
        </p:nvSpPr>
        <p:spPr>
          <a:xfrm>
            <a:off x="2443320" y="2290680"/>
            <a:ext cx="1081080" cy="107964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12"/>
          <p:cNvSpPr/>
          <p:nvPr/>
        </p:nvSpPr>
        <p:spPr>
          <a:xfrm>
            <a:off x="3403440" y="4005360"/>
            <a:ext cx="809640" cy="807840"/>
          </a:xfrm>
          <a:custGeom>
            <a:avLst/>
            <a:gdLst>
              <a:gd name="textAreaLeft" fmla="*/ 118440 w 809640"/>
              <a:gd name="textAreaRight" fmla="*/ 691200 w 809640"/>
              <a:gd name="textAreaTop" fmla="*/ 118080 h 807840"/>
              <a:gd name="textAreaBottom" fmla="*/ 689760 h 80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13"/>
          <p:cNvSpPr/>
          <p:nvPr/>
        </p:nvSpPr>
        <p:spPr>
          <a:xfrm>
            <a:off x="4821120" y="3681360"/>
            <a:ext cx="808200" cy="808200"/>
          </a:xfrm>
          <a:custGeom>
            <a:avLst/>
            <a:gdLst>
              <a:gd name="textAreaLeft" fmla="*/ 118080 w 808200"/>
              <a:gd name="textAreaRight" fmla="*/ 690120 w 808200"/>
              <a:gd name="textAreaTop" fmla="*/ 118080 h 808200"/>
              <a:gd name="textAreaBottom" fmla="*/ 690120 h 80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14"/>
          <p:cNvSpPr/>
          <p:nvPr/>
        </p:nvSpPr>
        <p:spPr>
          <a:xfrm>
            <a:off x="5143680" y="4813200"/>
            <a:ext cx="809280" cy="808200"/>
          </a:xfrm>
          <a:custGeom>
            <a:avLst/>
            <a:gdLst>
              <a:gd name="textAreaLeft" fmla="*/ 118440 w 809280"/>
              <a:gd name="textAreaRight" fmla="*/ 690840 w 809280"/>
              <a:gd name="textAreaTop" fmla="*/ 118080 h 808200"/>
              <a:gd name="textAreaBottom" fmla="*/ 690120 h 80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5"/>
          <p:cNvSpPr/>
          <p:nvPr/>
        </p:nvSpPr>
        <p:spPr>
          <a:xfrm>
            <a:off x="6262560" y="1998720"/>
            <a:ext cx="72072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6"/>
          <p:cNvSpPr/>
          <p:nvPr/>
        </p:nvSpPr>
        <p:spPr>
          <a:xfrm>
            <a:off x="2541600" y="4408560"/>
            <a:ext cx="720720" cy="144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869760" y="416412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7279920" y="163512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da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109" name="椭圆 15"/>
          <p:cNvSpPr/>
          <p:nvPr/>
        </p:nvSpPr>
        <p:spPr>
          <a:xfrm>
            <a:off x="-20520" y="5084640"/>
            <a:ext cx="9164520" cy="1773360"/>
          </a:xfrm>
          <a:custGeom>
            <a:avLst/>
            <a:gdLst>
              <a:gd name="textAreaLeft" fmla="*/ 0 w 9164520"/>
              <a:gd name="textAreaRight" fmla="*/ 9164880 w 9164520"/>
              <a:gd name="textAreaTop" fmla="*/ 0 h 1773360"/>
              <a:gd name="textAreaBottom" fmla="*/ 1773720 h 1773360"/>
            </a:gdLst>
            <a:ahLst/>
            <a:rect l="textAreaLeft" t="textAreaTop" r="textAreaRight" b="textAreaBottom"/>
            <a:pathLst>
              <a:path w="9491028" h="1152128">
                <a:moveTo>
                  <a:pt x="4745514" y="0"/>
                </a:moveTo>
                <a:cubicBezTo>
                  <a:pt x="7113597" y="0"/>
                  <a:pt x="9083189" y="496562"/>
                  <a:pt x="9491028" y="1152128"/>
                </a:cubicBezTo>
                <a:lnTo>
                  <a:pt x="0" y="1152128"/>
                </a:lnTo>
                <a:cubicBezTo>
                  <a:pt x="407839" y="496562"/>
                  <a:pt x="2377432" y="0"/>
                  <a:pt x="4745514" y="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同心圆 20"/>
          <p:cNvSpPr/>
          <p:nvPr/>
        </p:nvSpPr>
        <p:spPr>
          <a:xfrm>
            <a:off x="576360" y="4789440"/>
            <a:ext cx="971280" cy="973080"/>
          </a:xfrm>
          <a:custGeom>
            <a:avLst/>
            <a:gdLst>
              <a:gd name="textAreaLeft" fmla="*/ 142200 w 971280"/>
              <a:gd name="textAreaRight" fmla="*/ 829080 w 971280"/>
              <a:gd name="textAreaTop" fmla="*/ 142200 h 973080"/>
              <a:gd name="textAreaBottom" fmla="*/ 830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同心圆 21"/>
          <p:cNvSpPr/>
          <p:nvPr/>
        </p:nvSpPr>
        <p:spPr>
          <a:xfrm>
            <a:off x="2195640" y="4105440"/>
            <a:ext cx="1152360" cy="1152360"/>
          </a:xfrm>
          <a:custGeom>
            <a:avLst/>
            <a:gdLst>
              <a:gd name="textAreaLeft" fmla="*/ 168480 w 1152360"/>
              <a:gd name="textAreaRight" fmla="*/ 983880 w 115236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同心圆 22"/>
          <p:cNvSpPr/>
          <p:nvPr/>
        </p:nvSpPr>
        <p:spPr>
          <a:xfrm>
            <a:off x="3924360" y="3789360"/>
            <a:ext cx="1295280" cy="129528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同心圆 23"/>
          <p:cNvSpPr/>
          <p:nvPr/>
        </p:nvSpPr>
        <p:spPr>
          <a:xfrm>
            <a:off x="5724360" y="4076640"/>
            <a:ext cx="1151280" cy="1152720"/>
          </a:xfrm>
          <a:custGeom>
            <a:avLst/>
            <a:gdLst>
              <a:gd name="textAreaLeft" fmla="*/ 168480 w 1151280"/>
              <a:gd name="textAreaRight" fmla="*/ 982800 w 11512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心圆 24"/>
          <p:cNvSpPr/>
          <p:nvPr/>
        </p:nvSpPr>
        <p:spPr>
          <a:xfrm>
            <a:off x="7632720" y="4789440"/>
            <a:ext cx="971640" cy="973080"/>
          </a:xfrm>
          <a:custGeom>
            <a:avLst/>
            <a:gdLst>
              <a:gd name="textAreaLeft" fmla="*/ 142200 w 971640"/>
              <a:gd name="textAreaRight" fmla="*/ 829440 w 971640"/>
              <a:gd name="textAreaTop" fmla="*/ 142200 h 973080"/>
              <a:gd name="textAreaBottom" fmla="*/ 830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5"/>
          <p:cNvSpPr/>
          <p:nvPr/>
        </p:nvSpPr>
        <p:spPr>
          <a:xfrm>
            <a:off x="2771640" y="3130560"/>
            <a:ext cx="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6"/>
          <p:cNvSpPr/>
          <p:nvPr/>
        </p:nvSpPr>
        <p:spPr>
          <a:xfrm>
            <a:off x="1003320" y="3706920"/>
            <a:ext cx="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7"/>
          <p:cNvSpPr/>
          <p:nvPr/>
        </p:nvSpPr>
        <p:spPr>
          <a:xfrm>
            <a:off x="4560840" y="2809800"/>
            <a:ext cx="180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8"/>
          <p:cNvSpPr/>
          <p:nvPr/>
        </p:nvSpPr>
        <p:spPr>
          <a:xfrm>
            <a:off x="6321600" y="3130560"/>
            <a:ext cx="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9"/>
          <p:cNvSpPr/>
          <p:nvPr/>
        </p:nvSpPr>
        <p:spPr>
          <a:xfrm>
            <a:off x="8169120" y="3789360"/>
            <a:ext cx="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0"/>
          <p:cNvSpPr/>
          <p:nvPr/>
        </p:nvSpPr>
        <p:spPr>
          <a:xfrm>
            <a:off x="7513200" y="288612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1"/>
          <p:cNvSpPr/>
          <p:nvPr/>
        </p:nvSpPr>
        <p:spPr>
          <a:xfrm>
            <a:off x="5641560" y="23097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2"/>
          <p:cNvSpPr/>
          <p:nvPr/>
        </p:nvSpPr>
        <p:spPr>
          <a:xfrm>
            <a:off x="3885480" y="17589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3"/>
          <p:cNvSpPr/>
          <p:nvPr/>
        </p:nvSpPr>
        <p:spPr>
          <a:xfrm>
            <a:off x="2152080" y="23097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4"/>
          <p:cNvSpPr/>
          <p:nvPr/>
        </p:nvSpPr>
        <p:spPr>
          <a:xfrm>
            <a:off x="397080" y="288612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88840" y="259920"/>
            <a:ext cx="30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在此录入文字标题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26" name="图片 6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0T11:42:26Z</dcterms:modified>
  <cp:revision>1</cp:revision>
  <dc:subject/>
  <dc:title>餐饮牛奶PPT模板下载</dc:title>
</cp:coreProperties>
</file>