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9C5-270F-41B3-B301-812EA6DF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9F9D-F088-485E-8382-4A0DF67F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703-BAE6-4862-B5C2-3F51F907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2FA-762A-4284-9FF9-637217B5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57F3-0198-4935-92FB-ABEE5A9D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7CAE-F7C5-4832-B10C-5574790C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F2B4-2B95-4D3C-908E-7C77962B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303C-51E0-4064-AE26-465E662E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1083-B399-46EC-B5B8-FFB722FD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7D59-10D1-4220-BD2A-C7A423A4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8EAA-6CA8-45FF-A0C0-0767F564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060-B348-496F-A60B-DFA5C52B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2B6F-D819-45EE-888E-31021F8C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5EC9-0BD9-487A-A3F2-96FB18CB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77B8-70E5-4B89-BA9D-C33052C3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8F16-A5D8-4AF7-BE10-8930121C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D6EF-77D5-4A10-BC8F-0C8D9B94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BC7-48EE-4BE6-B15E-7026F833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3C2-97DE-4A71-A500-19DF8D72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80E-0062-4192-8CD3-29340AB8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01A-C318-4A32-837B-4BAA2FD1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468-DB6D-470E-B6C1-C7CC2ADB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CA4-BD49-427F-9779-57C926E4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35D-884E-48B2-A94A-4442C407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D75D-9E92-4178-9878-3B0FA895343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F2B8-0F82-41AE-88E3-B70F8D6660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B477-3C67-406A-9890-B0601F0102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图片 3" descr=""/>
          <p:cNvPicPr/>
          <p:nvPr/>
        </p:nvPicPr>
        <p:blipFill>
          <a:blip r:embed="rId2"/>
          <a:stretch/>
        </p:blipFill>
        <p:spPr>
          <a:xfrm>
            <a:off x="-11160" y="-6480"/>
            <a:ext cx="102823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2"/>
          <p:cNvSpPr/>
          <p:nvPr/>
        </p:nvSpPr>
        <p:spPr>
          <a:xfrm>
            <a:off x="3499920" y="9270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多彩蜡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0:22:00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32:59Z</dcterms:modified>
  <cp:revision>4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