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6D77-A9FC-468A-A18C-ACCC859CF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3731-BB22-4481-B17E-D3B3199E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2369-71D8-4CF8-A5B7-C18EF69D3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42A9-4150-49B0-A4DF-4CF8EF9CA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8D11-2A29-484D-BEB3-D4BF12848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E398-0589-44FD-ABBA-DE48FC97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7D78-34D8-4CBB-A3D2-2FC4C0E5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D07C2-3197-4ED6-8B91-F70CD435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BA49-A3E5-4595-9AE8-88D0A756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27C1-B72C-4502-AF91-63E26F60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623B-AEEE-4EF8-BF7A-01CEFB19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EF25-9A3E-4D29-BDAA-15786876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81BB-53A3-4148-9D00-931B9447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16BB-BEA8-4A68-AFBA-9C7C671E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73FA-466C-4703-A569-1F15A228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CE26-879D-4D42-BC53-A90174273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BAD9-949E-4FC8-B047-E4DE52CF7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394A-DAC9-4780-8D3C-2A72F097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D3C6-5E8B-4DCB-8341-DB74BC43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D8A7-EA92-46DF-86F1-B2BB566C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0D93-8D1D-4416-9737-81361FE0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E632-B2CE-48F5-91D3-92913B6A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7A97-A72A-412E-8F5E-C40F64C1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1F85-1521-4017-8AE7-54340883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324A-8722-4C14-8799-BD3BC5C39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F2E5-0699-42B9-AF30-9CD0C0D86AF5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aihuayuan.com/peony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hgscn.com/jqkk/Print.asp?ArticleID=154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mage.baidu.com/i?ct=503316480&amp;z=380802752&amp;tn=baiduimagedetail&amp;word=&#26494;&#19979;&#24184;&#20043;&#21161;&amp;in=3" TargetMode="External"/><Relationship Id="rId3" Type="http://schemas.openxmlformats.org/officeDocument/2006/relationships/image" Target="../media/image4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882017851&amp;tn=baiduimagedetail&amp;word=&#32511;&#21494;&amp;in=10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image.baidu.com/i?ct=503316480&amp;z=310588453&amp;tn=baiduimagedetail&amp;word=&#23567;&#33457;&#23567;&#40479;&amp;in=5" TargetMode="External"/><Relationship Id="rId5" Type="http://schemas.openxmlformats.org/officeDocument/2006/relationships/image" Target="../media/image6.jpeg"/><Relationship Id="rId6" Type="http://schemas.openxmlformats.org/officeDocument/2006/relationships/hyperlink" Target="http://image.baidu.com/i?ct=503316480&amp;z=527480403&amp;tn=baiduimagedetail&amp;word=&#23567;&#40479;&amp;in=11" TargetMode="External"/><Relationship Id="rId7" Type="http://schemas.openxmlformats.org/officeDocument/2006/relationships/image" Target="../media/image7.jpeg"/><Relationship Id="rId8" Type="http://schemas.openxmlformats.org/officeDocument/2006/relationships/hyperlink" Target="http://image.baidu.com/i?ct=503316480&amp;z=620300650&amp;tn=baiduimagedetail&amp;word=&#27744;&#22616;&amp;in=4" TargetMode="External"/><Relationship Id="rId9" Type="http://schemas.openxmlformats.org/officeDocument/2006/relationships/image" Target="../media/image8.jpe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tlearner.net/desk/desk_1389.htm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www.dabaoku.com/sucai/ziran/baiyunxilie/web/013am.htm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air.chinadiary.com/website1/126341/content/200601/pic80238.shtml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ucai.dabaoku.com/ziran/baiyunxilie/web/026az.htm" TargetMode="External"/><Relationship Id="rId2" Type="http://schemas.openxmlformats.org/officeDocument/2006/relationships/image" Target="../media/image1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f2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9528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18960" y="90972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大自然的启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件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9" descr="Xuridongshe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7640" y="6226200"/>
            <a:ext cx="33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C0AD-D34D-4213-86F3-A6D52EDFDC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200410081605237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28720" y="4581360"/>
            <a:ext cx="6111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课件模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68360" y="620640"/>
            <a:ext cx="799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黄果树大瀑布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684360" y="242100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从高处跌落，往往气短神伤；水从高处跌落，偏偏神采飞扬。看看我们的黄果树吧，看看我们的大瀑布吧。飞流直下，悬崖万丈；没有犹豫，不可阻挡。跌落的水在这里变成了强中之强。人有所短，水有所长，水也可以成为人的榜样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06640" y="6334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7"/>
          <p:cNvSpPr/>
          <p:nvPr/>
        </p:nvSpPr>
        <p:spPr>
          <a:xfrm>
            <a:off x="3851280" y="404640"/>
            <a:ext cx="489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松下幸之助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894-198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，日本著名的松下电器集团的创始人，他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元投资起家，被誉为日本“经营之神”，在企业界他以独有的用人管理方式著称，提倡人们从广阔的自然界吸取有益的启示，从而提升人生的意义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4" descr="u=1492106873,2411076293&amp;gp=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907920"/>
            <a:ext cx="3240000" cy="4969080"/>
          </a:xfrm>
          <a:prstGeom prst="rect">
            <a:avLst/>
          </a:prstGeom>
          <a:ln w="0">
            <a:noFill/>
          </a:ln>
        </p:spPr>
      </p:pic>
    </p:spTree>
  </p:cSld>
  <p:transition>
    <p:comb dir="vert"/>
    <p:sndAc>
      <p:stSnd>
        <p:snd r:embed="rId4" name="chimes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33"/>
          <p:cNvSpPr/>
          <p:nvPr/>
        </p:nvSpPr>
        <p:spPr>
          <a:xfrm>
            <a:off x="8476200" y="0"/>
            <a:ext cx="6678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感情地朗读课文，思考：文章在我们面前展现了哪几幅画面？请用一句话概括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043"/>
          <p:cNvGrpSpPr/>
          <p:nvPr/>
        </p:nvGrpSpPr>
        <p:grpSpPr>
          <a:xfrm>
            <a:off x="3962520" y="0"/>
            <a:ext cx="3657600" cy="3278880"/>
            <a:chOff x="3962520" y="0"/>
            <a:chExt cx="3657600" cy="3278880"/>
          </a:xfrm>
        </p:grpSpPr>
        <p:pic>
          <p:nvPicPr>
            <p:cNvPr id="91" name="Picture 1041" descr="u=3405774504,494804538&amp;gp=1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3962520" y="0"/>
              <a:ext cx="3657600" cy="29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042"/>
            <p:cNvSpPr/>
            <p:nvPr/>
          </p:nvSpPr>
          <p:spPr>
            <a:xfrm>
              <a:off x="4648320" y="251460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7a77"/>
                  </a:solidFill>
                  <a:latin typeface="Arial"/>
                </a:rPr>
                <a:t>嫩芽图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1054"/>
          <p:cNvGrpSpPr/>
          <p:nvPr/>
        </p:nvGrpSpPr>
        <p:grpSpPr>
          <a:xfrm>
            <a:off x="0" y="0"/>
            <a:ext cx="3962520" cy="6858000"/>
            <a:chOff x="0" y="0"/>
            <a:chExt cx="3962520" cy="6858000"/>
          </a:xfrm>
        </p:grpSpPr>
        <p:pic>
          <p:nvPicPr>
            <p:cNvPr id="94" name="Picture 1045" descr="u=3201619913,1398917856&amp;gp=3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3962520" cy="2971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" name="Group 1049"/>
            <p:cNvGrpSpPr/>
            <p:nvPr/>
          </p:nvGrpSpPr>
          <p:grpSpPr>
            <a:xfrm>
              <a:off x="0" y="2971800"/>
              <a:ext cx="3962520" cy="3886200"/>
              <a:chOff x="0" y="2971800"/>
              <a:chExt cx="3962520" cy="3886200"/>
            </a:xfrm>
          </p:grpSpPr>
          <p:pic>
            <p:nvPicPr>
              <p:cNvPr id="96" name="Picture 1047" descr="u=2894968793,2841118638&amp;gp=3">
                <a:hlinkClick r:id="rId6"/>
              </p:cNvPr>
              <p:cNvPicPr/>
              <p:nvPr/>
            </p:nvPicPr>
            <p:blipFill>
              <a:blip r:embed="rId7"/>
              <a:stretch/>
            </p:blipFill>
            <p:spPr>
              <a:xfrm>
                <a:off x="0" y="3657600"/>
                <a:ext cx="3962520" cy="320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Text Box 1048"/>
              <p:cNvSpPr/>
              <p:nvPr/>
            </p:nvSpPr>
            <p:spPr>
              <a:xfrm>
                <a:off x="0" y="2971800"/>
                <a:ext cx="39625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7a77"/>
                    </a:solidFill>
                    <a:latin typeface="Arial"/>
                  </a:rPr>
                  <a:t>小花小鸟图</a:t>
                </a:r>
                <a:endParaRPr b="1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053"/>
          <p:cNvGrpSpPr/>
          <p:nvPr/>
        </p:nvGrpSpPr>
        <p:grpSpPr>
          <a:xfrm>
            <a:off x="3962520" y="3581280"/>
            <a:ext cx="4038480" cy="3276720"/>
            <a:chOff x="3962520" y="3581280"/>
            <a:chExt cx="4038480" cy="3276720"/>
          </a:xfrm>
        </p:grpSpPr>
        <p:pic>
          <p:nvPicPr>
            <p:cNvPr id="99" name="Picture 1051" descr="u=2901991005,1183903080&amp;gp=0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3962520" y="3581280"/>
              <a:ext cx="4038480" cy="32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52"/>
            <p:cNvSpPr/>
            <p:nvPr/>
          </p:nvSpPr>
          <p:spPr>
            <a:xfrm>
              <a:off x="4724640" y="3809880"/>
              <a:ext cx="2286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7a77"/>
                  </a:solidFill>
                  <a:latin typeface="Arial"/>
                </a:rPr>
                <a:t>池塘图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  <p:sndAc>
      <p:stSnd>
        <p:snd r:embed="rId10" name="chimes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7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29" descr="01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31" descr="013am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032"/>
          <p:cNvSpPr/>
          <p:nvPr/>
        </p:nvSpPr>
        <p:spPr>
          <a:xfrm>
            <a:off x="468360" y="5013360"/>
            <a:ext cx="237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白云图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静湖"/>
          <p:cNvPicPr/>
          <p:nvPr/>
        </p:nvPicPr>
        <p:blipFill>
          <a:blip r:embed="rId2"/>
          <a:stretch/>
        </p:blipFill>
        <p:spPr>
          <a:xfrm>
            <a:off x="457200" y="380880"/>
            <a:ext cx="7308720" cy="6120000"/>
          </a:xfrm>
          <a:prstGeom prst="rect">
            <a:avLst/>
          </a:prstGeom>
          <a:ln w="0">
            <a:noFill/>
          </a:ln>
        </p:spPr>
      </p:pic>
      <p:sp>
        <p:nvSpPr>
          <p:cNvPr id="108" name="WordArt 5"/>
          <p:cNvSpPr txBox="1"/>
          <p:nvPr/>
        </p:nvSpPr>
        <p:spPr>
          <a:xfrm rot="5400000">
            <a:off x="5544720" y="2960640"/>
            <a:ext cx="5688000" cy="100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隶书"/>
              </a:rPr>
              <a:t>局部细节探究</a:t>
            </a:r>
            <a:endParaRPr b="1" lang="en-US" sz="44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684360" y="3141720"/>
            <a:ext cx="69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19c8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e519c8"/>
                </a:solidFill>
                <a:latin typeface="Arial"/>
              </a:rPr>
              <a:t>、作者是如何描绘小花小鸟景物在风雨中的变化的？这些景物的变化又给作者以怎样的感受？作者由此得到了什么的人生启示</a:t>
            </a:r>
            <a:r>
              <a:rPr b="1" lang="en-US" sz="3600" spc="-1" strike="noStrike">
                <a:solidFill>
                  <a:srgbClr val="e519c8"/>
                </a:solidFill>
                <a:latin typeface="Arial"/>
              </a:rPr>
              <a:t>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685800" y="53352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19c8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e519c8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e519c8"/>
                </a:solidFill>
                <a:latin typeface="Arial"/>
              </a:rPr>
              <a:t>、在嫩芽图中作者是怎样向我们描写了嫩芽的？作者由此得到了什么样的人生启示</a:t>
            </a:r>
            <a:r>
              <a:rPr b="1" lang="en-US" sz="3600" spc="-1" strike="noStrike">
                <a:solidFill>
                  <a:srgbClr val="e519c8"/>
                </a:solidFill>
                <a:latin typeface="Arial"/>
              </a:rPr>
              <a:t>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6200" y="644040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5" name="chimes.wav"/>
      </p:stSnd>
    </p:sndAc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20060122152656126341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6"/>
          <p:cNvSpPr/>
          <p:nvPr/>
        </p:nvSpPr>
        <p:spPr>
          <a:xfrm>
            <a:off x="0" y="5425920"/>
            <a:ext cx="9144000" cy="764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找出“水池图”中的描写和议论句，并说说作者得到的启发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9" descr="026az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1"/>
          <p:cNvSpPr/>
          <p:nvPr/>
        </p:nvSpPr>
        <p:spPr>
          <a:xfrm>
            <a:off x="250920" y="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找出写云变化的句子和人心、命运变化的句子，说说作者得到的启示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3" name="chimes.wav"/>
      </p:stSnd>
    </p:sndAc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7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70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380880" y="2666880"/>
            <a:ext cx="842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课文最后两段揭示了什么道理？告诉我们什么启示呢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304920" y="432756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从表达方式上看，嫩芽图、小花小鸟图、水池图、白云图，作者的写作思路都是相同的，即先</a:t>
            </a:r>
            <a:r>
              <a:rPr b="1" lang="en-US" sz="4000" spc="-1" strike="noStrike" u="sng">
                <a:solidFill>
                  <a:srgbClr val="0000ff"/>
                </a:solidFill>
                <a:uFillTx/>
                <a:latin typeface="Arial"/>
                <a:ea typeface="华文新魏"/>
              </a:rPr>
              <a:t>……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后</a:t>
            </a:r>
            <a:r>
              <a:rPr b="1" lang="en-US" sz="4000" spc="-1" strike="noStrike" u="sng">
                <a:solidFill>
                  <a:srgbClr val="0000ff"/>
                </a:solidFill>
                <a:uFillTx/>
                <a:latin typeface="Arial"/>
                <a:ea typeface="华文新魏"/>
              </a:rPr>
              <a:t>……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</a:rPr>
              <a:t>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457200" y="22860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21"/>
          <p:cNvSpPr/>
          <p:nvPr/>
        </p:nvSpPr>
        <p:spPr>
          <a:xfrm>
            <a:off x="609480" y="304920"/>
            <a:ext cx="7772400" cy="167616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1763640" y="609480"/>
            <a:ext cx="52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感悟思路、主旨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  <p:sndAc>
      <p:stSnd>
        <p:snd r:embed="rId2" name="chimes.wav"/>
      </p:stSnd>
    </p:sndAc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f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2"/>
          <p:cNvSpPr/>
          <p:nvPr/>
        </p:nvSpPr>
        <p:spPr>
          <a:xfrm>
            <a:off x="304920" y="380880"/>
            <a:ext cx="25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体验拓展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609480" y="1600200"/>
            <a:ext cx="8001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cc0099"/>
                </a:solidFill>
                <a:latin typeface="Arial"/>
              </a:rPr>
              <a:t>大自然是我们的老师，只要你真心地关注大自然，用心体验大自然，它定会给你无穷无尽的启示与激励！以“</a:t>
            </a:r>
            <a:r>
              <a:rPr b="1" lang="en-US" sz="4400" spc="-1" strike="noStrike">
                <a:solidFill>
                  <a:srgbClr val="cc0099"/>
                </a:solidFill>
                <a:latin typeface="Arial"/>
              </a:rPr>
              <a:t>……”</a:t>
            </a:r>
            <a:r>
              <a:rPr b="1" lang="zh-CN" sz="4400" spc="-1" strike="noStrike">
                <a:solidFill>
                  <a:srgbClr val="cc0099"/>
                </a:solidFill>
                <a:latin typeface="Arial"/>
              </a:rPr>
              <a:t>的启示为题说一段话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539640" y="537372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欣赏有关自然现象给人们带来的哲理思考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6T04:50:17Z</dcterms:created>
  <dc:creator/>
  <dc:description/>
  <cp:keywords>幻灯片之家 http:/www.eeppt.com</cp:keywords>
  <dc:language>en-US</dc:language>
  <cp:lastModifiedBy/>
  <dcterms:modified xsi:type="dcterms:W3CDTF">2015-07-18T15:22:55Z</dcterms:modified>
  <cp:revision>4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