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7947B-54A9-47F0-BA79-9067BB330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7F3C2-81A0-4928-AB69-E4366E1B9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C7EB9-A0BD-4528-9B27-2C548F68B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2EB24-64ED-4B7D-88E1-438E3AE6E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0610E-FD99-46D7-82EE-5D1DD0CDC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2AE33-C99D-4945-BF55-D04B02889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3B3C5-CD8F-471C-BCD4-9A8943BEE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6F23C-D494-4201-8142-1784A9F95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788D9-62CD-4690-BA61-E9875C2D1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9B585-D2F6-4656-85AB-05AA6F5D1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29446-8F37-4968-8D07-EC8A1C2F2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2D9C4-2A7E-4F95-B2DC-2E88365A4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2E2B0-E904-49E6-AEA8-00CA82B94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BA1A4-531A-424D-84DF-0A7BB43E7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5D8B6-979F-48DD-9D2F-DAC6EBBA6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B07F3-964F-42C3-BAD0-1002195AD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5240D-42F9-4C50-906B-AEDDF73E9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EA4C2-BEBF-4A4C-A8AC-2B499CC2C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AF3C9-E15C-4CB9-9ED2-8C548028C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F9DB6-5C59-484B-B54F-85DBE4AA3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192FA-19E0-40C0-8828-541532F91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51720-083F-418A-A7A9-76A7E6F9B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D80DC-5F07-47AA-90D7-703D7C07E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B4435-8CB8-4E79-A1B9-0A5BDDC83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4344C-5209-4CF7-9209-D6110D7866A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21672-0CE1-4649-863B-CF28CF6F66BD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矩形 14"/>
          <p:cNvGrpSpPr/>
          <p:nvPr/>
        </p:nvGrpSpPr>
        <p:grpSpPr>
          <a:xfrm>
            <a:off x="139680" y="646200"/>
            <a:ext cx="8839080" cy="6035760"/>
            <a:chOff x="139680" y="646200"/>
            <a:chExt cx="8839080" cy="6035760"/>
          </a:xfrm>
        </p:grpSpPr>
        <p:pic>
          <p:nvPicPr>
            <p:cNvPr id="83" name="矩形 14" descr=""/>
            <p:cNvPicPr/>
            <p:nvPr/>
          </p:nvPicPr>
          <p:blipFill>
            <a:blip r:embed="rId1"/>
            <a:stretch/>
          </p:blipFill>
          <p:spPr>
            <a:xfrm>
              <a:off x="139680" y="646200"/>
              <a:ext cx="8839080" cy="603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"/>
            <p:cNvSpPr/>
            <p:nvPr/>
          </p:nvSpPr>
          <p:spPr>
            <a:xfrm>
              <a:off x="155520" y="662040"/>
              <a:ext cx="8809200" cy="600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364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5" name="Picture 2" descr="C:\Documents and Settings\Administrator.WWW-D1797C5692D\桌面\2商务礼仪\素材\3D设计 第三辑\3D设计-3-7.jpg"/>
          <p:cNvPicPr/>
          <p:nvPr/>
        </p:nvPicPr>
        <p:blipFill>
          <a:blip r:embed="rId2"/>
          <a:stretch/>
        </p:blipFill>
        <p:spPr>
          <a:xfrm>
            <a:off x="1806480" y="1484280"/>
            <a:ext cx="6226200" cy="508320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3"/>
          <p:cNvSpPr/>
          <p:nvPr/>
        </p:nvSpPr>
        <p:spPr>
          <a:xfrm>
            <a:off x="539640" y="2309760"/>
            <a:ext cx="3578400" cy="24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f7f7f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7f7f7f"/>
                </a:solidFill>
                <a:latin typeface="微软雅黑"/>
                <a:ea typeface="微软雅黑"/>
              </a:rPr>
              <a:t>  </a:t>
            </a:r>
            <a:r>
              <a:rPr b="0" lang="zh-CN" sz="2400" spc="-1" strike="noStrike">
                <a:solidFill>
                  <a:srgbClr val="7f7f7f"/>
                </a:solidFill>
                <a:latin typeface="微软雅黑"/>
                <a:ea typeface="微软雅黑"/>
              </a:rPr>
              <a:t>文字内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f7f7f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7f7f7f"/>
                </a:solidFill>
                <a:latin typeface="微软雅黑"/>
                <a:ea typeface="微软雅黑"/>
              </a:rPr>
              <a:t>  </a:t>
            </a:r>
            <a:r>
              <a:rPr b="0" lang="zh-CN" sz="2400" spc="-1" strike="noStrike">
                <a:solidFill>
                  <a:srgbClr val="7f7f7f"/>
                </a:solidFill>
                <a:latin typeface="微软雅黑"/>
                <a:ea typeface="微软雅黑"/>
              </a:rPr>
              <a:t>文字内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f7f7f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7f7f7f"/>
                </a:solidFill>
                <a:latin typeface="微软雅黑"/>
                <a:ea typeface="微软雅黑"/>
              </a:rPr>
              <a:t>  </a:t>
            </a:r>
            <a:r>
              <a:rPr b="0" lang="zh-CN" sz="2400" spc="-1" strike="noStrike">
                <a:solidFill>
                  <a:srgbClr val="7f7f7f"/>
                </a:solidFill>
                <a:latin typeface="微软雅黑"/>
                <a:ea typeface="微软雅黑"/>
              </a:rPr>
              <a:t>文字内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6360" y="6453360"/>
            <a:ext cx="5080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955520" y="909720"/>
            <a:ext cx="5372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符号疑问号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图片素材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40622-0507-4FC8-A30F-C5115211439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1T05:37:22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1T03:04:28Z</dcterms:modified>
  <cp:revision>80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  <property fmtid="{D5CDD505-2E9C-101B-9397-08002B2CF9AE}" pid="3" name="NXTAG2">
    <vt:lpwstr>000800ae01000000000001024140</vt:lpwstr>
  </property>
  <property fmtid="{D5CDD505-2E9C-101B-9397-08002B2CF9AE}" pid="4" name="Presentation">
    <vt:lpwstr>锐普图表</vt:lpwstr>
  </property>
  <property fmtid="{D5CDD505-2E9C-101B-9397-08002B2CF9AE}" pid="5" name="SlideDescription">
    <vt:lpwstr/>
  </property>
</Properties>
</file>