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580-41FB-4B75-A8B5-EE1DCA3F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17A-8C7A-4BDF-9DD6-EF5111D6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3B91-62DE-4EB3-A7DD-0BF9401E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F0A-2552-4F84-B7F3-CFAE4B4A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805-523D-4566-B316-7ADF347C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9E52-2354-4D22-BCB3-E307F369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0F7-E2C8-4B0F-B9BC-93A92B1A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A14-35CD-4B5B-BC2B-AEF32C92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747-7A58-4905-992E-DDA9C5C4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DC8-36E1-4479-AB9C-1A25D6E3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659-2515-48DD-B71E-1088D229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CAB-FB10-464C-B735-8C37EAD4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A958-8621-4A63-A9B5-0E6EE0F9A4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936520" y="692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方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约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476360" y="60213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3:35:31Z</dcterms:created>
  <dc:creator/>
  <dc:description>幻灯片之家：www.eeppt.com;</dc:description>
  <cp:keywords>幻灯片之家：www.eeppt.com</cp:keywords>
  <dc:language>en-US</dc:language>
  <cp:lastModifiedBy/>
  <dcterms:modified xsi:type="dcterms:W3CDTF">2015-07-20T12:47:21Z</dcterms:modified>
  <cp:revision>2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