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6235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508-9CC4-43AB-A8F9-7DBA0949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280" y="437112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D80-27B9-45FE-92D9-B3374C69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98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963-06A4-477E-B058-B36F44B0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344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624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028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344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624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412-5F43-45C6-BF6B-5761A793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9EDC-CEC9-4CB5-A1B9-E85831AF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0280" y="1765080"/>
            <a:ext cx="95616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40B-F162-4595-BDF1-4AD1E80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956160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F55-D7AB-4CE8-9E8A-A926DB3C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F594-3321-4E9E-9C5E-C7C5B1BA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C89-E4BF-4DDE-A080-5FAB8F0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0280" y="303120"/>
            <a:ext cx="9561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4241-FB48-48A5-B76A-325A8D6E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2661-C1A8-4E16-ADF6-A8496B0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0280" y="1765080"/>
            <a:ext cx="95616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F72-9510-425D-998C-80615B3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98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D77-38AC-4071-9003-1978703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045B-7540-419E-B523-7323FAD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0280" y="437112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D89F-2C7C-4E1B-AD6F-D55058C6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98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5E1A-3E48-4C2B-A475-FDCED254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344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6240" y="176508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028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344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96240" y="4371120"/>
            <a:ext cx="307872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B139-AD94-4D09-B829-756E6ACC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956160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90E-3387-48A7-8AEA-3BE3ABA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84C-9CE4-4670-96CE-1C9C6F8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E28-511B-4A0F-BB85-5DC4104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0280" y="303120"/>
            <a:ext cx="9561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3CE-E2D4-4A37-BDEB-9962AC46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F5D-3A70-4098-ADED-CE64705D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9880" y="437112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4B2-2826-43E0-98AE-6F781DA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02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9880" y="1765080"/>
            <a:ext cx="46659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0280" y="4371120"/>
            <a:ext cx="9561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3C3-8B2B-4A9C-8C5C-046DC0C3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88800" indent="-38880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256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852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1764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720" y="6885000"/>
            <a:ext cx="24782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9160" y="6885000"/>
            <a:ext cx="33638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1840" y="6885000"/>
            <a:ext cx="247788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D12E-2CFA-4F29-9A1F-0CAC539A6B19}" type="slidenum"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0280" y="303120"/>
            <a:ext cx="9561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0280" y="1765080"/>
            <a:ext cx="956160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0280" y="7008840"/>
            <a:ext cx="24796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29160" y="7008840"/>
            <a:ext cx="33638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12200" y="7008840"/>
            <a:ext cx="24796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B1E1-7391-49FE-83F7-FE920F3A2C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pine"/>
          <p:cNvSpPr/>
          <p:nvPr/>
        </p:nvSpPr>
        <p:spPr>
          <a:xfrm>
            <a:off x="5254560" y="324000"/>
            <a:ext cx="0" cy="6697440"/>
          </a:xfrm>
          <a:prstGeom prst="line">
            <a:avLst/>
          </a:prstGeom>
          <a:ln cap="rnd" w="127080">
            <a:solidFill>
              <a:srgbClr val="664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14520" y="155520"/>
            <a:ext cx="9593280" cy="7166160"/>
            <a:chOff x="614520" y="155520"/>
            <a:chExt cx="9593280" cy="7166160"/>
          </a:xfrm>
        </p:grpSpPr>
        <p:pic>
          <p:nvPicPr>
            <p:cNvPr id="84" name="pright1" descr=""/>
            <p:cNvPicPr/>
            <p:nvPr/>
          </p:nvPicPr>
          <p:blipFill>
            <a:blip r:embed="rId2"/>
            <a:stretch/>
          </p:blipFill>
          <p:spPr>
            <a:xfrm>
              <a:off x="614520" y="155520"/>
              <a:ext cx="9593280" cy="71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6"/>
            <p:cNvSpPr/>
            <p:nvPr/>
          </p:nvSpPr>
          <p:spPr>
            <a:xfrm>
              <a:off x="5704920" y="952200"/>
              <a:ext cx="41076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运行情况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对该项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在项目的运行情况进行简单介绍并配项目执行“金点子”后的整体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效益效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执行后的所产生的直接经济效益和社会效益，包括对质量的提高、工期的缩短、节能降耗的指标等进行介绍，可用数字说明的要用数字说明，最好有使用前和使用后的对比，要尽量做到简明、直观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0000" y="181080"/>
            <a:ext cx="4903560" cy="7164360"/>
            <a:chOff x="270000" y="181080"/>
            <a:chExt cx="4903560" cy="7164360"/>
          </a:xfrm>
        </p:grpSpPr>
        <p:pic>
          <p:nvPicPr>
            <p:cNvPr id="87" name="pleft1" descr=""/>
            <p:cNvPicPr/>
            <p:nvPr/>
          </p:nvPicPr>
          <p:blipFill>
            <a:blip r:embed="rId3"/>
            <a:stretch/>
          </p:blipFill>
          <p:spPr>
            <a:xfrm>
              <a:off x="270000" y="181080"/>
              <a:ext cx="4903560" cy="71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24"/>
            <p:cNvSpPr/>
            <p:nvPr/>
          </p:nvSpPr>
          <p:spPr>
            <a:xfrm>
              <a:off x="765720" y="881280"/>
              <a:ext cx="410796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二、材料要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文字材料应注意以下几点：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产生背景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提出此项“金点子”的前提进行扼要介绍，力争一两句话将“金点子”产生的背景交待清楚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点子原理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尽量做到深入浅出，达到不仅技术人员能看懂，外行人也能明白七八分的目的，可适当辅之以图解和现场细部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0360" y="168120"/>
            <a:ext cx="9593280" cy="7164720"/>
            <a:chOff x="630360" y="168120"/>
            <a:chExt cx="9593280" cy="7164720"/>
          </a:xfrm>
        </p:grpSpPr>
        <p:pic>
          <p:nvPicPr>
            <p:cNvPr id="90" name="pright1" descr=""/>
            <p:cNvPicPr/>
            <p:nvPr/>
          </p:nvPicPr>
          <p:blipFill>
            <a:blip r:embed="rId4"/>
            <a:stretch/>
          </p:blipFill>
          <p:spPr>
            <a:xfrm>
              <a:off x="630360" y="168120"/>
              <a:ext cx="9593280" cy="71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6"/>
            <p:cNvSpPr/>
            <p:nvPr/>
          </p:nvSpPr>
          <p:spPr>
            <a:xfrm>
              <a:off x="5736240" y="1429200"/>
              <a:ext cx="4010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一、定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，应立足本职岗位，建议内容着眼于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小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，是能够解决实际问题并带来社会和经济效果的建议。应具有先进性、可操作性和易推广性，侧重于项目的技术创新、工艺优化和工艺改进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000" y="144360"/>
            <a:ext cx="4903200" cy="7164000"/>
            <a:chOff x="270000" y="144360"/>
            <a:chExt cx="4903200" cy="7164000"/>
          </a:xfrm>
        </p:grpSpPr>
        <p:pic>
          <p:nvPicPr>
            <p:cNvPr id="93" name="pleft1" descr=""/>
            <p:cNvPicPr/>
            <p:nvPr/>
          </p:nvPicPr>
          <p:blipFill>
            <a:blip r:embed="rId5"/>
            <a:stretch/>
          </p:blipFill>
          <p:spPr>
            <a:xfrm>
              <a:off x="270000" y="144360"/>
              <a:ext cx="490320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817200" y="986040"/>
              <a:ext cx="4009680" cy="15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書體坊顏體㊣"/>
                  <a:ea typeface="长城粗行楷体"/>
                </a:rPr>
                <a:t>前   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99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今年按照局拓展空间、服务大局、集成创新、助推发展的工作思路，公司合理化建议征集活动继续进行。活动的主要目的是为进一步促进“双推”（推进项目精细管理，推进生产降本增效）劳动竞赛活动的深入开展，激发职工聪明才智和创新能力，提高项目管理和赢利水平，提高企业竞争力，为职工提供展示才华的舞台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85720" y="204840"/>
            <a:ext cx="9592920" cy="7164000"/>
            <a:chOff x="585720" y="204840"/>
            <a:chExt cx="9592920" cy="7164000"/>
          </a:xfrm>
        </p:grpSpPr>
        <p:pic>
          <p:nvPicPr>
            <p:cNvPr id="96" name="pright1" descr=""/>
            <p:cNvPicPr/>
            <p:nvPr/>
          </p:nvPicPr>
          <p:blipFill>
            <a:blip r:embed="rId6"/>
            <a:stretch/>
          </p:blipFill>
          <p:spPr>
            <a:xfrm>
              <a:off x="585720" y="204840"/>
              <a:ext cx="959292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ight3"/>
            <p:cNvSpPr/>
            <p:nvPr/>
          </p:nvSpPr>
          <p:spPr>
            <a:xfrm>
              <a:off x="5326920" y="2202480"/>
              <a:ext cx="4488480" cy="19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86480" y="2919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翻书效果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360" y="7201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7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7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4680" y="209160"/>
            <a:ext cx="95342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920" y="1400040"/>
            <a:ext cx="1037124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464680" y="368280"/>
            <a:ext cx="161424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07A8-EA84-4144-BD0F-AB66A257B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5:5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0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