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C4E-8E2F-4E72-80C5-6FB6755A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32D-141B-4E07-A309-64B5F1F1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6F1-A120-4905-9305-67374854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D4F-9894-4246-9D78-8A48B6C4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F7D-7A3D-4DB3-99C0-60A56E2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141-4D8E-4D9B-BF41-930F4415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742-D211-4556-89E1-F088E0EE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BC2-C900-4FB0-A1B6-818B726F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44A-333D-4913-ACC7-5E4534A6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98D-853D-4992-8372-7D1831D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E98-FCE5-4667-9EAB-796BA358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9BA-AB47-4AC7-BA80-89CF22A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F:\图片\29副本.png"/>
          <p:cNvPicPr/>
          <p:nvPr/>
        </p:nvPicPr>
        <p:blipFill>
          <a:blip r:embed="rId2"/>
          <a:stretch/>
        </p:blipFill>
        <p:spPr>
          <a:xfrm>
            <a:off x="0" y="0"/>
            <a:ext cx="437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7"/>
          <p:cNvGrpSpPr/>
          <p:nvPr/>
        </p:nvGrpSpPr>
        <p:grpSpPr>
          <a:xfrm>
            <a:off x="101520" y="281160"/>
            <a:ext cx="8940960" cy="6467400"/>
            <a:chOff x="101520" y="281160"/>
            <a:chExt cx="8940960" cy="6467400"/>
          </a:xfrm>
        </p:grpSpPr>
        <p:pic>
          <p:nvPicPr>
            <p:cNvPr id="2" name="矩形​​ 8" descr=""/>
            <p:cNvPicPr/>
            <p:nvPr/>
          </p:nvPicPr>
          <p:blipFill>
            <a:blip r:embed="rId3"/>
            <a:stretch/>
          </p:blipFill>
          <p:spPr>
            <a:xfrm>
              <a:off x="101520" y="281160"/>
              <a:ext cx="8940960" cy="646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" name="矩形​​ 9"/>
            <p:cNvGrpSpPr/>
            <p:nvPr/>
          </p:nvGrpSpPr>
          <p:grpSpPr>
            <a:xfrm>
              <a:off x="143280" y="316800"/>
              <a:ext cx="8832960" cy="6360120"/>
              <a:chOff x="143280" y="316800"/>
              <a:chExt cx="8832960" cy="6360120"/>
            </a:xfrm>
          </p:grpSpPr>
          <p:pic>
            <p:nvPicPr>
              <p:cNvPr id="4" name="矩形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43280" y="316800"/>
                <a:ext cx="8832960" cy="636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Text Box 7"/>
              <p:cNvSpPr/>
              <p:nvPr/>
            </p:nvSpPr>
            <p:spPr>
              <a:xfrm>
                <a:off x="163800" y="335520"/>
                <a:ext cx="8796240" cy="632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" name="图片 6" descr="F:\7788\gifs_card2.png"/>
          <p:cNvPicPr/>
          <p:nvPr/>
        </p:nvPicPr>
        <p:blipFill>
          <a:blip r:embed="rId5"/>
          <a:stretch/>
        </p:blipFill>
        <p:spPr>
          <a:xfrm>
            <a:off x="7812000" y="12600"/>
            <a:ext cx="1524240" cy="1328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33D3-6702-411D-811F-5293E97CAB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9" name="矩形​​ 5"/>
          <p:cNvSpPr/>
          <p:nvPr/>
        </p:nvSpPr>
        <p:spPr>
          <a:xfrm>
            <a:off x="0" y="5911920"/>
            <a:ext cx="9144000" cy="75708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​​ 6"/>
          <p:cNvSpPr/>
          <p:nvPr/>
        </p:nvSpPr>
        <p:spPr>
          <a:xfrm>
            <a:off x="4354200" y="597852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中倩简体"/>
                <a:ea typeface="方正中倩简体"/>
              </a:rPr>
              <a:t>三尺讲台，染苍苍白发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中倩简体"/>
                <a:ea typeface="方正中倩简体"/>
              </a:rPr>
              <a:t>桃李满园，露美美笑厣。赞美您，敬爱的老师，祝福您，敬爱的老师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6" descr="F:\7788\gifs_card2.png"/>
          <p:cNvPicPr/>
          <p:nvPr/>
        </p:nvPicPr>
        <p:blipFill>
          <a:blip r:embed="rId2"/>
          <a:stretch/>
        </p:blipFill>
        <p:spPr>
          <a:xfrm>
            <a:off x="7907400" y="5629320"/>
            <a:ext cx="1523880" cy="1328760"/>
          </a:xfrm>
          <a:prstGeom prst="rect">
            <a:avLst/>
          </a:prstGeom>
          <a:ln w="0">
            <a:noFill/>
          </a:ln>
        </p:spPr>
      </p:pic>
      <p:sp>
        <p:nvSpPr>
          <p:cNvPr id="52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4211640" y="1125360"/>
            <a:ext cx="4321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九月，如期而至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世界因此灿烂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歌唱九月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因为这是您永恒的节日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牢记九月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因为这是我们真诚的表白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九月，是只情满四溢的杯子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用双手高高地举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一片真诚的祝福声中， 请您干杯。 九月的乐章已经奏响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请接受我们九月的献礼吧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所有拼搏在教育战线的老师们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1:39:13Z</dcterms:created>
  <dc:creator/>
  <dc:description>幻灯片之家：www.eeppt.com;</dc:description>
  <cp:keywords>幻灯片之家：www.eeppt.com</cp:keywords>
  <dc:language>en-US</dc:language>
  <cp:lastModifiedBy/>
  <dcterms:modified xsi:type="dcterms:W3CDTF">2015-07-20T12:56:08Z</dcterms:modified>
  <cp:revision>23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