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993C-4C5F-43FD-AF2E-4283D008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D1E0-A4A9-470B-86A9-40A82BC0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25C-447A-4774-90A3-D21C3854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5134-AA62-4EDB-B0A8-960614B5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D895-63C3-4DFA-8278-FB0663C5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D559-80A4-44B5-91D1-B7D0E0BF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116D-3205-4202-A68C-936D755A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0212-D23E-414D-B226-C4639AA2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56C2-A8C5-46B4-9883-1E9CD509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BA65-E966-4C10-A351-F2F9A69B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0737-8519-441B-9563-6E3AA199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57A-8366-4495-B2C6-0E09C6A5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1F23-414A-41D9-9E43-435A5918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2337-889E-40DC-BEE6-DD453810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7961-675B-463B-BD2D-246C3AD1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7D22-9E2F-4783-9D7A-F0C7581A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013F-A038-42DF-BD30-75C870FD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87D-5633-4455-9B99-83124B69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6B68-8F4C-4B4A-A6BD-7EB4C45E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CF0D-249D-4A76-8AD8-5EB1209D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C4F7-4C15-4B0E-A3BE-C6F09FDD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5B48-DFDE-4058-A5D2-F3368C2C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D3E-8A65-40C5-8C2A-A84074A9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E4F8-CBFE-4760-ABBD-679D0847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 Narrow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BEFE-DBDE-4F6C-939C-C058A90924CC}" type="slidenum">
              <a:rPr b="0" lang="zh-CN" sz="9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5782-7A2B-4B7A-82A1-AE8C72856F7E}" type="slidenum">
              <a:rPr b="0" lang="zh-CN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3"/>
          <p:cNvSpPr/>
          <p:nvPr/>
        </p:nvSpPr>
        <p:spPr>
          <a:xfrm>
            <a:off x="0" y="5289480"/>
            <a:ext cx="9144000" cy="114300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文本框 1"/>
          <p:cNvSpPr/>
          <p:nvPr/>
        </p:nvSpPr>
        <p:spPr>
          <a:xfrm>
            <a:off x="1521000" y="2079720"/>
            <a:ext cx="61722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9bd5"/>
                </a:solidFill>
                <a:latin typeface="微软雅黑"/>
                <a:ea typeface="微软雅黑"/>
              </a:rPr>
              <a:t>感谢聆听的</a:t>
            </a:r>
            <a:r>
              <a:rPr b="0" lang="en-US" sz="4000" spc="-1" strike="noStrike">
                <a:solidFill>
                  <a:srgbClr val="5b9bd5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5b9bd5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椭圆 4"/>
          <p:cNvSpPr/>
          <p:nvPr/>
        </p:nvSpPr>
        <p:spPr>
          <a:xfrm>
            <a:off x="4603680" y="3189240"/>
            <a:ext cx="54000" cy="54000"/>
          </a:xfrm>
          <a:prstGeom prst="ellipse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直接连接符 6"/>
          <p:cNvSpPr/>
          <p:nvPr/>
        </p:nvSpPr>
        <p:spPr>
          <a:xfrm>
            <a:off x="2774880" y="3211560"/>
            <a:ext cx="1725840" cy="0"/>
          </a:xfrm>
          <a:prstGeom prst="line">
            <a:avLst/>
          </a:prstGeom>
          <a:ln w="1260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直接连接符 7"/>
          <p:cNvSpPr/>
          <p:nvPr/>
        </p:nvSpPr>
        <p:spPr>
          <a:xfrm>
            <a:off x="4761000" y="3211560"/>
            <a:ext cx="1727280" cy="0"/>
          </a:xfrm>
          <a:prstGeom prst="line">
            <a:avLst/>
          </a:prstGeom>
          <a:ln w="1260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文本框 13"/>
          <p:cNvSpPr/>
          <p:nvPr/>
        </p:nvSpPr>
        <p:spPr>
          <a:xfrm>
            <a:off x="2971800" y="3305160"/>
            <a:ext cx="3230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dc3e6"/>
                </a:solidFill>
                <a:latin typeface="Tempus Sans ITC"/>
                <a:ea typeface="微软雅黑"/>
              </a:rPr>
              <a:t>THANK YOU FOR YOUR ATTEN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 Narrow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1CA7-01FF-4FA7-9532-09C4DF9523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02:11:0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6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fileid">
    <vt:lpwstr>519678</vt:lpwstr>
  </property>
  <property fmtid="{D5CDD505-2E9C-101B-9397-08002B2CF9AE}" pid="4" name="name">
    <vt:lpwstr>A000420141125A76PPTS.ppt</vt:lpwstr>
  </property>
  <property fmtid="{D5CDD505-2E9C-101B-9397-08002B2CF9AE}" pid="5" name="关键字">
    <vt:lpwstr/>
  </property>
  <property fmtid="{D5CDD505-2E9C-101B-9397-08002B2CF9AE}" pid="6" name="标题">
    <vt:lpwstr/>
  </property>
  <property fmtid="{D5CDD505-2E9C-101B-9397-08002B2CF9AE}" pid="7" name="模板文件">
    <vt:lpwstr>A000420141125A76PPTS.pptx</vt:lpwstr>
  </property>
</Properties>
</file>