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28D-4A19-4CF4-838F-85D3876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34E-E4AC-4412-93AB-337477A0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D5C-37D4-4B8D-A1D2-A6865DEA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794-70D6-4C27-9D56-8C12DF3E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A9D-F8F1-40B7-AC4A-090B3C1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8B4-D3A3-4204-98D9-7DF6349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0A7-9E48-453D-822D-4BF7FE30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344-6AEB-480C-82B9-9381E247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489-52A3-4CB5-B3EA-3C1048AC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5F6-EA33-4B66-AA5D-3F8AB69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035-EB40-43C4-A204-4C93A14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6CB-AFFB-4B03-B569-A44E4D6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4A25-45A9-4CC5-A3D4-6902F02D92C3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说一说"/>
          <p:cNvPicPr/>
          <p:nvPr/>
        </p:nvPicPr>
        <p:blipFill>
          <a:blip r:embed="rId2"/>
          <a:stretch/>
        </p:blipFill>
        <p:spPr>
          <a:xfrm>
            <a:off x="6924600" y="4365720"/>
            <a:ext cx="2219400" cy="2492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238480" y="777960"/>
            <a:ext cx="4667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楷体_GB2312"/>
              </a:rPr>
              <a:t>新课程标准实验教科书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6600" y="249228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0a0d"/>
                </a:solidFill>
                <a:latin typeface="Arial"/>
              </a:rPr>
              <a:t>《果园机器人》课件</a:t>
            </a:r>
            <a:r>
              <a:rPr b="0" lang="en-US" sz="3600" spc="-1" strike="noStrike">
                <a:solidFill>
                  <a:srgbClr val="0a0a0d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E9A-0AA9-44DD-AA17-C6B5E3583E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676520" y="1538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正确、流利朗读课文，想一想：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90720" y="2130480"/>
            <a:ext cx="7086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☆果园机器人是什么样子的？有什么特点？你认为哪些特点最有趣？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5" name="Picture 4" descr="小学语文(记叙文）03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990720" y="3622680"/>
            <a:ext cx="7162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☆ 如果让你来设计果园机器人，你准备设计成什么样子？向大家介绍一下，或者画下来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143000" y="167328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聪明能干的机器人越来越受到大家的欢迎了，潜入深海寻找宝藏，进入身体查病治病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展开想像，说一说自己想发明什么样的机器人，会有哪些本领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cc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676520" y="11872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认识机器人吗？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47" name="Picture 4" descr="机器人1"/>
          <p:cNvPicPr/>
          <p:nvPr/>
        </p:nvPicPr>
        <p:blipFill>
          <a:blip r:embed="rId3"/>
          <a:stretch/>
        </p:blipFill>
        <p:spPr>
          <a:xfrm>
            <a:off x="1979640" y="184464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机 器 人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4720" y="602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机器人2"/>
          <p:cNvPicPr/>
          <p:nvPr/>
        </p:nvPicPr>
        <p:blipFill>
          <a:blip r:embed="rId3"/>
          <a:stretch/>
        </p:blipFill>
        <p:spPr>
          <a:xfrm>
            <a:off x="1676520" y="1600200"/>
            <a:ext cx="579096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机 器 人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机器人3"/>
          <p:cNvPicPr/>
          <p:nvPr/>
        </p:nvPicPr>
        <p:blipFill>
          <a:blip r:embed="rId3"/>
          <a:stretch/>
        </p:blipFill>
        <p:spPr>
          <a:xfrm>
            <a:off x="2362320" y="19051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809880" y="5791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机 器 人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机器人4"/>
          <p:cNvPicPr/>
          <p:nvPr/>
        </p:nvPicPr>
        <p:blipFill>
          <a:blip r:embed="rId3"/>
          <a:stretch/>
        </p:blipFill>
        <p:spPr>
          <a:xfrm>
            <a:off x="2362320" y="1600200"/>
            <a:ext cx="4497120" cy="42624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机 器 人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机器人5"/>
          <p:cNvPicPr/>
          <p:nvPr/>
        </p:nvPicPr>
        <p:blipFill>
          <a:blip r:embed="rId3"/>
          <a:stretch/>
        </p:blipFill>
        <p:spPr>
          <a:xfrm>
            <a:off x="2057400" y="1523880"/>
            <a:ext cx="5181480" cy="4300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机 器 人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机 器 人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5" name="Picture 4" descr="机器人6"/>
          <p:cNvPicPr/>
          <p:nvPr/>
        </p:nvPicPr>
        <p:blipFill>
          <a:blip r:embed="rId3"/>
          <a:stretch/>
        </p:blipFill>
        <p:spPr>
          <a:xfrm>
            <a:off x="2286000" y="1604880"/>
            <a:ext cx="44816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066680" y="16146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机器人技术作为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世纪人类最伟大的发明之一，自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年代初问世以来，经历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余年的发展已取得长足的进步。走向成熟的工业机器人，各种用途的特种机器人的实用化，昭示着机器人技术灿烂的明天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1523880" y="2352600"/>
            <a:ext cx="6096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借助拼音自读课文，我们来看一看果园机器人是什么样的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3:20:19Z</dcterms:created>
  <dc:creator/>
  <dc:description/>
  <cp:keywords>幻灯片之家 http:/www.eeppt.com</cp:keywords>
  <dc:language>en-US</dc:language>
  <cp:lastModifiedBy/>
  <dcterms:modified xsi:type="dcterms:W3CDTF">2015-07-03T11:24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