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463-7748-40EE-9819-A0E59B45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938-213C-4127-8573-7B821B50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FA5-5048-4404-8E5F-3D6D939C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B0C-4F3B-4119-A9C8-65910E44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2800-6387-458D-9386-E54C8333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6940-5BBC-40B1-857A-98C6BB1B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FFE5-43F3-48A8-8A23-B5379B09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13FE-1471-48AD-A693-000F70A6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B7D2-3590-48C6-AD1B-0B87E87B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06C0-8384-4969-AD34-436C2276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8E66-57B3-4996-8521-75799BD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F46-2436-4914-8629-60917544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59FF-BD11-4944-AD5B-2879787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8174-D269-46F6-A510-D7F01B94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4B73-BCE4-47D2-B38D-58A59F34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B259-E68A-41D4-90A7-79095C59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DEF6-805F-408A-B9E5-51CD6776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51C-0EC6-4BAD-A554-3C33EBEB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E5A-F26A-481F-8B9B-E22F95C8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67E-C24D-4341-BED4-86934C7A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934-5153-4CAD-8D4B-462C406A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720-2703-4F0D-8BBC-2A254DF9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F81-DD5D-4985-BB07-683A6ED7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07E-4DEC-4574-8CAE-A1929885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0440-048C-44E1-A6EA-16EB51BDF6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CAD0-62A5-4C4C-B1D4-B8E65C1077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FB7E-7259-469E-9F79-23DA52C113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667A-E200-4869-9868-04D26E951C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ffcc00a7e687d9de919c7d6df5cf2765" descr=""/>
          <p:cNvPicPr/>
          <p:nvPr/>
        </p:nvPicPr>
        <p:blipFill>
          <a:blip r:embed="rId1"/>
          <a:stretch/>
        </p:blipFill>
        <p:spPr>
          <a:xfrm>
            <a:off x="150840" y="484200"/>
            <a:ext cx="8872560" cy="591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70440" y="66996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关于母爱的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D645-525A-411A-8910-8BF046D54F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