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814-D7EA-4529-BCEB-4EA3FCF9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7ED-D9AC-404E-97DA-4220F901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6AF-A208-4CB3-BA32-09A0FC51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C7B-79B1-47DE-BA82-85D856F3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6E4-7D84-4102-8E46-2F1FFCAB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2F3-7B1E-4DD2-AB2F-B4918825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DED-7D6B-475C-BC99-A96CD845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0F5-7961-4F3A-B057-B7A10DBD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79BC-643E-449A-B512-1E83EF50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2FF-C377-4EF4-8DAE-B86EDF7A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9812-FD2B-419F-B4E2-9779246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C34-CA4A-4AFD-A977-C47915DB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AD2A-6D3F-440D-B160-5D2ED5EDEE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895D-DCBB-4E17-881B-99D1022DAA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" y="14400"/>
            <a:ext cx="9107280" cy="6802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56240" y="22212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关于时间的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080" y="14400"/>
            <a:ext cx="90676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DE8-442D-4D7D-8655-FDC8C53322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40" y="7920"/>
            <a:ext cx="9110520" cy="683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