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66F-F932-4504-854E-D67D6CBEE10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9F6-220F-4A70-90FD-25EC8AD42C3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光集中到灯泡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2147484240" y="0"/>
            <a:ext cx="634639680" cy="47598012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笑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灯光快速上升到上方和下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2147484240" y="0"/>
            <a:ext cx="634639680" cy="47598012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2-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3348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灯光打开，散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2147484240" y="0"/>
            <a:ext cx="634639680" cy="47598012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笑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E17-DB0C-4807-B5DB-6B9C302B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B38-D274-46B8-B14A-B93FBA8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EA0-D599-493D-A8E6-29499217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187-8FAE-44D1-9D0C-E825B345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303-903E-4995-8F35-31E16EF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0BB-1699-4D23-B48E-7944EF5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3B5-FFEC-4EB1-B859-7EFD646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C37B-5C63-4FB9-9951-25605D3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A55-BB6A-4B62-83B1-0A90F1E2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BE5-A5DB-4378-9D81-F316DE4B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346-9AA7-411B-9308-95F8931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33D-9264-4BA9-9C9D-3F75420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F27-335A-48EF-A03C-9FD0B87E38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1E2-1DB1-4519-8284-95E76C9BE7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sp>
        <p:nvSpPr>
          <p:cNvPr id="58" name="直接连接符 21"/>
          <p:cNvSpPr/>
          <p:nvPr/>
        </p:nvSpPr>
        <p:spPr>
          <a:xfrm>
            <a:off x="395280" y="2060640"/>
            <a:ext cx="698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950760" y="84132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haroni"/>
              </a:rPr>
              <a:t>光与影</a:t>
            </a:r>
            <a:r>
              <a:rPr b="0" lang="en-US" sz="4000" spc="-1" strike="noStrike">
                <a:solidFill>
                  <a:srgbClr val="ffffff"/>
                </a:solidFill>
                <a:latin typeface="Aharon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haroni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66816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02F-4039-4CF3-A897-2C200D6302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67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79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8C02-4426-426C-8FB7-31339A68B3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9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30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30"/>
          <p:cNvSpPr/>
          <p:nvPr/>
        </p:nvSpPr>
        <p:spPr>
          <a:xfrm>
            <a:off x="826920" y="1484280"/>
            <a:ext cx="75250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fffff"/>
                </a:solidFill>
                <a:latin typeface="Arial"/>
                <a:ea typeface="华文行楷"/>
              </a:rPr>
              <a:t>201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F70-4FEA-443B-8A2F-15175EEAF3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318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330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624-5C22-405E-B6AC-A552AA524B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343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355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图片 29" descr="jnrs2.jpg"/>
          <p:cNvPicPr/>
          <p:nvPr/>
        </p:nvPicPr>
        <p:blipFill>
          <a:blip r:embed="rId1">
            <a:biLevel thresh="50000"/>
            <a:lum bright="100000"/>
          </a:blip>
          <a:stretch/>
        </p:blipFill>
        <p:spPr>
          <a:xfrm>
            <a:off x="3060720" y="3149640"/>
            <a:ext cx="3067200" cy="63972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0" descr="new尘2.png"/>
          <p:cNvPicPr/>
          <p:nvPr/>
        </p:nvPicPr>
        <p:blipFill>
          <a:blip r:embed="rId2"/>
          <a:stretch/>
        </p:blipFill>
        <p:spPr>
          <a:xfrm>
            <a:off x="2922480" y="414504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1" descr="尘1-1.png"/>
          <p:cNvPicPr/>
          <p:nvPr/>
        </p:nvPicPr>
        <p:blipFill>
          <a:blip r:embed="rId3"/>
          <a:stretch/>
        </p:blipFill>
        <p:spPr>
          <a:xfrm>
            <a:off x="2757600" y="4719600"/>
            <a:ext cx="3544920" cy="11811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2" descr="new尘4-2.png"/>
          <p:cNvPicPr/>
          <p:nvPr/>
        </p:nvPicPr>
        <p:blipFill>
          <a:blip r:embed="rId4"/>
          <a:stretch/>
        </p:blipFill>
        <p:spPr>
          <a:xfrm>
            <a:off x="4114800" y="2349360"/>
            <a:ext cx="3835440" cy="36226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3" descr="new尘3.png"/>
          <p:cNvPicPr/>
          <p:nvPr/>
        </p:nvPicPr>
        <p:blipFill>
          <a:blip r:embed="rId5"/>
          <a:stretch/>
        </p:blipFill>
        <p:spPr>
          <a:xfrm>
            <a:off x="1990800" y="3394080"/>
            <a:ext cx="4489200" cy="247644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4" descr="new尘4-1.png"/>
          <p:cNvPicPr/>
          <p:nvPr/>
        </p:nvPicPr>
        <p:blipFill>
          <a:blip r:embed="rId6"/>
          <a:stretch/>
        </p:blipFill>
        <p:spPr>
          <a:xfrm>
            <a:off x="971640" y="298620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5" descr="new尘4.png"/>
          <p:cNvPicPr/>
          <p:nvPr/>
        </p:nvPicPr>
        <p:blipFill>
          <a:blip r:embed="rId7"/>
          <a:stretch/>
        </p:blipFill>
        <p:spPr>
          <a:xfrm>
            <a:off x="2600280" y="3624120"/>
            <a:ext cx="3954600" cy="22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2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0" dur="1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2" dur="1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4" dur="1500" fill="hold"/>
                                        <p:tgtEl>
                                          <p:spTgt spid="370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6" dur="1500" fill="hold"/>
                                        <p:tgtEl>
                                          <p:spTgt spid="37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8" dur="1500" fill="hold"/>
                                        <p:tgtEl>
                                          <p:spTgt spid="371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10" dur="1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56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23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56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-2.68436E-007 L 0.17518 -0.09997 E">
                                      <p:cBhvr>
                                        <p:cTn id="232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7F34-E8A7-46AC-97F6-A97F558238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0"/>
          <p:cNvSpPr/>
          <p:nvPr/>
        </p:nvSpPr>
        <p:spPr>
          <a:xfrm>
            <a:off x="826920" y="1079640"/>
            <a:ext cx="7525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ffff"/>
                </a:solidFill>
                <a:latin typeface="Arial"/>
                <a:ea typeface="华文行楷"/>
              </a:rPr>
              <a:t>GO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52"/>
          <p:cNvGrpSpPr/>
          <p:nvPr/>
        </p:nvGrpSpPr>
        <p:grpSpPr>
          <a:xfrm>
            <a:off x="-539640" y="5743440"/>
            <a:ext cx="48461400" cy="982800"/>
            <a:chOff x="-539640" y="5743440"/>
            <a:chExt cx="48461400" cy="982800"/>
          </a:xfrm>
        </p:grpSpPr>
        <p:grpSp>
          <p:nvGrpSpPr>
            <p:cNvPr id="376" name="组合 138"/>
            <p:cNvGrpSpPr/>
            <p:nvPr/>
          </p:nvGrpSpPr>
          <p:grpSpPr>
            <a:xfrm>
              <a:off x="-539640" y="5747400"/>
              <a:ext cx="39028320" cy="978840"/>
              <a:chOff x="-539640" y="5747400"/>
              <a:chExt cx="39028320" cy="978840"/>
            </a:xfrm>
          </p:grpSpPr>
          <p:grpSp>
            <p:nvGrpSpPr>
              <p:cNvPr id="377" name="组合 137"/>
              <p:cNvGrpSpPr/>
              <p:nvPr/>
            </p:nvGrpSpPr>
            <p:grpSpPr>
              <a:xfrm>
                <a:off x="-539640" y="5747400"/>
                <a:ext cx="29667240" cy="978840"/>
                <a:chOff x="-539640" y="5747400"/>
                <a:chExt cx="29667240" cy="978840"/>
              </a:xfrm>
            </p:grpSpPr>
            <p:grpSp>
              <p:nvGrpSpPr>
                <p:cNvPr id="378" name="组合 17"/>
                <p:cNvGrpSpPr/>
                <p:nvPr/>
              </p:nvGrpSpPr>
              <p:grpSpPr>
                <a:xfrm>
                  <a:off x="-539640" y="5747400"/>
                  <a:ext cx="10729080" cy="978840"/>
                  <a:chOff x="-539640" y="5747400"/>
                  <a:chExt cx="10729080" cy="978840"/>
                </a:xfrm>
              </p:grpSpPr>
              <p:sp>
                <p:nvSpPr>
                  <p:cNvPr id="379" name="直接连接符 18"/>
                  <p:cNvSpPr/>
                  <p:nvPr/>
                </p:nvSpPr>
                <p:spPr>
                  <a:xfrm>
                    <a:off x="-539640" y="574740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直接连接符 19"/>
                  <p:cNvSpPr/>
                  <p:nvPr/>
                </p:nvSpPr>
                <p:spPr>
                  <a:xfrm>
                    <a:off x="-539640" y="67262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圆角矩形 20"/>
                  <p:cNvSpPr/>
                  <p:nvPr/>
                </p:nvSpPr>
                <p:spPr>
                  <a:xfrm>
                    <a:off x="2163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圆角矩形 21"/>
                  <p:cNvSpPr/>
                  <p:nvPr/>
                </p:nvSpPr>
                <p:spPr>
                  <a:xfrm>
                    <a:off x="11883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圆角矩形 22"/>
                  <p:cNvSpPr/>
                  <p:nvPr/>
                </p:nvSpPr>
                <p:spPr>
                  <a:xfrm>
                    <a:off x="21967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圆角矩形 23"/>
                  <p:cNvSpPr/>
                  <p:nvPr/>
                </p:nvSpPr>
                <p:spPr>
                  <a:xfrm>
                    <a:off x="32047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圆角矩形 24"/>
                  <p:cNvSpPr/>
                  <p:nvPr/>
                </p:nvSpPr>
                <p:spPr>
                  <a:xfrm>
                    <a:off x="42847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圆角矩形 25"/>
                  <p:cNvSpPr/>
                  <p:nvPr/>
                </p:nvSpPr>
                <p:spPr>
                  <a:xfrm>
                    <a:off x="53650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圆角矩形 26"/>
                  <p:cNvSpPr/>
                  <p:nvPr/>
                </p:nvSpPr>
                <p:spPr>
                  <a:xfrm>
                    <a:off x="64450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圆角矩形 27"/>
                  <p:cNvSpPr/>
                  <p:nvPr/>
                </p:nvSpPr>
                <p:spPr>
                  <a:xfrm>
                    <a:off x="74530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圆角矩形 28"/>
                  <p:cNvSpPr/>
                  <p:nvPr/>
                </p:nvSpPr>
                <p:spPr>
                  <a:xfrm>
                    <a:off x="8389440" y="595692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组合 17"/>
                <p:cNvGrpSpPr/>
                <p:nvPr/>
              </p:nvGrpSpPr>
              <p:grpSpPr>
                <a:xfrm>
                  <a:off x="9037440" y="5747400"/>
                  <a:ext cx="10729080" cy="978840"/>
                  <a:chOff x="9037440" y="5747400"/>
                  <a:chExt cx="10729080" cy="978840"/>
                </a:xfrm>
              </p:grpSpPr>
              <p:sp>
                <p:nvSpPr>
                  <p:cNvPr id="391" name="直接连接符 44"/>
                  <p:cNvSpPr/>
                  <p:nvPr/>
                </p:nvSpPr>
                <p:spPr>
                  <a:xfrm>
                    <a:off x="9037440" y="574740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直接连接符 45"/>
                  <p:cNvSpPr/>
                  <p:nvPr/>
                </p:nvSpPr>
                <p:spPr>
                  <a:xfrm>
                    <a:off x="9037440" y="67262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圆角矩形 46"/>
                  <p:cNvSpPr/>
                  <p:nvPr/>
                </p:nvSpPr>
                <p:spPr>
                  <a:xfrm>
                    <a:off x="97934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圆角矩形 47"/>
                  <p:cNvSpPr/>
                  <p:nvPr/>
                </p:nvSpPr>
                <p:spPr>
                  <a:xfrm>
                    <a:off x="107654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圆角矩形 48"/>
                  <p:cNvSpPr/>
                  <p:nvPr/>
                </p:nvSpPr>
                <p:spPr>
                  <a:xfrm>
                    <a:off x="1177380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圆角矩形 49"/>
                  <p:cNvSpPr/>
                  <p:nvPr/>
                </p:nvSpPr>
                <p:spPr>
                  <a:xfrm>
                    <a:off x="1278180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圆角矩形 50"/>
                  <p:cNvSpPr/>
                  <p:nvPr/>
                </p:nvSpPr>
                <p:spPr>
                  <a:xfrm>
                    <a:off x="1386180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圆角矩形 51"/>
                  <p:cNvSpPr/>
                  <p:nvPr/>
                </p:nvSpPr>
                <p:spPr>
                  <a:xfrm>
                    <a:off x="149421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圆角矩形 52"/>
                  <p:cNvSpPr/>
                  <p:nvPr/>
                </p:nvSpPr>
                <p:spPr>
                  <a:xfrm>
                    <a:off x="160221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圆角矩形 53"/>
                  <p:cNvSpPr/>
                  <p:nvPr/>
                </p:nvSpPr>
                <p:spPr>
                  <a:xfrm>
                    <a:off x="170301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圆角矩形 54"/>
                  <p:cNvSpPr/>
                  <p:nvPr/>
                </p:nvSpPr>
                <p:spPr>
                  <a:xfrm>
                    <a:off x="17966520" y="595692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组合 17"/>
                <p:cNvGrpSpPr/>
                <p:nvPr/>
              </p:nvGrpSpPr>
              <p:grpSpPr>
                <a:xfrm>
                  <a:off x="18398520" y="5747400"/>
                  <a:ext cx="10729080" cy="978840"/>
                  <a:chOff x="18398520" y="5747400"/>
                  <a:chExt cx="10729080" cy="978840"/>
                </a:xfrm>
              </p:grpSpPr>
              <p:sp>
                <p:nvSpPr>
                  <p:cNvPr id="403" name="直接连接符 68"/>
                  <p:cNvSpPr/>
                  <p:nvPr/>
                </p:nvSpPr>
                <p:spPr>
                  <a:xfrm>
                    <a:off x="18398520" y="574740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直接连接符 69"/>
                  <p:cNvSpPr/>
                  <p:nvPr/>
                </p:nvSpPr>
                <p:spPr>
                  <a:xfrm>
                    <a:off x="18398520" y="67262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70"/>
                  <p:cNvSpPr/>
                  <p:nvPr/>
                </p:nvSpPr>
                <p:spPr>
                  <a:xfrm>
                    <a:off x="191545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圆角矩形 71"/>
                  <p:cNvSpPr/>
                  <p:nvPr/>
                </p:nvSpPr>
                <p:spPr>
                  <a:xfrm>
                    <a:off x="201265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圆角矩形 72"/>
                  <p:cNvSpPr/>
                  <p:nvPr/>
                </p:nvSpPr>
                <p:spPr>
                  <a:xfrm>
                    <a:off x="211348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圆角矩形 73"/>
                  <p:cNvSpPr/>
                  <p:nvPr/>
                </p:nvSpPr>
                <p:spPr>
                  <a:xfrm>
                    <a:off x="221428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圆角矩形 74"/>
                  <p:cNvSpPr/>
                  <p:nvPr/>
                </p:nvSpPr>
                <p:spPr>
                  <a:xfrm>
                    <a:off x="232228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圆角矩形 75"/>
                  <p:cNvSpPr/>
                  <p:nvPr/>
                </p:nvSpPr>
                <p:spPr>
                  <a:xfrm>
                    <a:off x="243032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圆角矩形 76"/>
                  <p:cNvSpPr/>
                  <p:nvPr/>
                </p:nvSpPr>
                <p:spPr>
                  <a:xfrm>
                    <a:off x="253832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圆角矩形 77"/>
                  <p:cNvSpPr/>
                  <p:nvPr/>
                </p:nvSpPr>
                <p:spPr>
                  <a:xfrm>
                    <a:off x="263912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圆角矩形 78"/>
                  <p:cNvSpPr/>
                  <p:nvPr/>
                </p:nvSpPr>
                <p:spPr>
                  <a:xfrm>
                    <a:off x="27327600" y="595692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组合 17"/>
              <p:cNvGrpSpPr/>
              <p:nvPr/>
            </p:nvGrpSpPr>
            <p:grpSpPr>
              <a:xfrm>
                <a:off x="27759600" y="5747400"/>
                <a:ext cx="10729080" cy="978840"/>
                <a:chOff x="27759600" y="5747400"/>
                <a:chExt cx="10729080" cy="978840"/>
              </a:xfrm>
            </p:grpSpPr>
            <p:sp>
              <p:nvSpPr>
                <p:cNvPr id="415" name="直接连接符 92"/>
                <p:cNvSpPr/>
                <p:nvPr/>
              </p:nvSpPr>
              <p:spPr>
                <a:xfrm>
                  <a:off x="27759600" y="574740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直接连接符 93"/>
                <p:cNvSpPr/>
                <p:nvPr/>
              </p:nvSpPr>
              <p:spPr>
                <a:xfrm>
                  <a:off x="27759600" y="672624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圆角矩形 94"/>
                <p:cNvSpPr/>
                <p:nvPr/>
              </p:nvSpPr>
              <p:spPr>
                <a:xfrm>
                  <a:off x="2851560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圆角矩形 95"/>
                <p:cNvSpPr/>
                <p:nvPr/>
              </p:nvSpPr>
              <p:spPr>
                <a:xfrm>
                  <a:off x="2948760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圆角矩形 96"/>
                <p:cNvSpPr/>
                <p:nvPr/>
              </p:nvSpPr>
              <p:spPr>
                <a:xfrm>
                  <a:off x="3049596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圆角矩形 97"/>
                <p:cNvSpPr/>
                <p:nvPr/>
              </p:nvSpPr>
              <p:spPr>
                <a:xfrm>
                  <a:off x="3150396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圆角矩形 98"/>
                <p:cNvSpPr/>
                <p:nvPr/>
              </p:nvSpPr>
              <p:spPr>
                <a:xfrm>
                  <a:off x="3258396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圆角矩形 99"/>
                <p:cNvSpPr/>
                <p:nvPr/>
              </p:nvSpPr>
              <p:spPr>
                <a:xfrm>
                  <a:off x="3366432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圆角矩形 100"/>
                <p:cNvSpPr/>
                <p:nvPr/>
              </p:nvSpPr>
              <p:spPr>
                <a:xfrm>
                  <a:off x="3474432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圆角矩形 101"/>
                <p:cNvSpPr/>
                <p:nvPr/>
              </p:nvSpPr>
              <p:spPr>
                <a:xfrm>
                  <a:off x="3575232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圆角矩形 102"/>
                <p:cNvSpPr/>
                <p:nvPr/>
              </p:nvSpPr>
              <p:spPr>
                <a:xfrm>
                  <a:off x="36688680" y="595692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组合 17"/>
            <p:cNvGrpSpPr/>
            <p:nvPr/>
          </p:nvGrpSpPr>
          <p:grpSpPr>
            <a:xfrm>
              <a:off x="37192680" y="5743440"/>
              <a:ext cx="10729080" cy="978840"/>
              <a:chOff x="37192680" y="5743440"/>
              <a:chExt cx="10729080" cy="978840"/>
            </a:xfrm>
          </p:grpSpPr>
          <p:sp>
            <p:nvSpPr>
              <p:cNvPr id="427" name="直接连接符 116"/>
              <p:cNvSpPr/>
              <p:nvPr/>
            </p:nvSpPr>
            <p:spPr>
              <a:xfrm>
                <a:off x="37192680" y="574344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117"/>
              <p:cNvSpPr/>
              <p:nvPr/>
            </p:nvSpPr>
            <p:spPr>
              <a:xfrm>
                <a:off x="37192680" y="672228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圆角矩形 118"/>
              <p:cNvSpPr/>
              <p:nvPr/>
            </p:nvSpPr>
            <p:spPr>
              <a:xfrm>
                <a:off x="3794868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圆角矩形 119"/>
              <p:cNvSpPr/>
              <p:nvPr/>
            </p:nvSpPr>
            <p:spPr>
              <a:xfrm>
                <a:off x="3892068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圆角矩形 120"/>
              <p:cNvSpPr/>
              <p:nvPr/>
            </p:nvSpPr>
            <p:spPr>
              <a:xfrm>
                <a:off x="3992904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圆角矩形 121"/>
              <p:cNvSpPr/>
              <p:nvPr/>
            </p:nvSpPr>
            <p:spPr>
              <a:xfrm>
                <a:off x="4093704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圆角矩形 122"/>
              <p:cNvSpPr/>
              <p:nvPr/>
            </p:nvSpPr>
            <p:spPr>
              <a:xfrm>
                <a:off x="4201704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圆角矩形 123"/>
              <p:cNvSpPr/>
              <p:nvPr/>
            </p:nvSpPr>
            <p:spPr>
              <a:xfrm>
                <a:off x="4309740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圆角矩形 124"/>
              <p:cNvSpPr/>
              <p:nvPr/>
            </p:nvSpPr>
            <p:spPr>
              <a:xfrm>
                <a:off x="4417740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圆角矩形 125"/>
              <p:cNvSpPr/>
              <p:nvPr/>
            </p:nvSpPr>
            <p:spPr>
              <a:xfrm>
                <a:off x="4518540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圆角矩形 126"/>
              <p:cNvSpPr/>
              <p:nvPr/>
            </p:nvSpPr>
            <p:spPr>
              <a:xfrm>
                <a:off x="46121760" y="595296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组合 17"/>
          <p:cNvGrpSpPr/>
          <p:nvPr/>
        </p:nvGrpSpPr>
        <p:grpSpPr>
          <a:xfrm>
            <a:off x="49577760" y="5748480"/>
            <a:ext cx="10728360" cy="979200"/>
            <a:chOff x="49577760" y="5748480"/>
            <a:chExt cx="10728360" cy="979200"/>
          </a:xfrm>
        </p:grpSpPr>
        <p:sp>
          <p:nvSpPr>
            <p:cNvPr id="439" name="直接连接符 141"/>
            <p:cNvSpPr/>
            <p:nvPr/>
          </p:nvSpPr>
          <p:spPr>
            <a:xfrm>
              <a:off x="4957776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142"/>
            <p:cNvSpPr/>
            <p:nvPr/>
          </p:nvSpPr>
          <p:spPr>
            <a:xfrm>
              <a:off x="49577760" y="67276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143"/>
            <p:cNvSpPr/>
            <p:nvPr/>
          </p:nvSpPr>
          <p:spPr>
            <a:xfrm>
              <a:off x="5033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144"/>
            <p:cNvSpPr/>
            <p:nvPr/>
          </p:nvSpPr>
          <p:spPr>
            <a:xfrm>
              <a:off x="51305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145"/>
            <p:cNvSpPr/>
            <p:nvPr/>
          </p:nvSpPr>
          <p:spPr>
            <a:xfrm>
              <a:off x="5231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圆角矩形 146"/>
            <p:cNvSpPr/>
            <p:nvPr/>
          </p:nvSpPr>
          <p:spPr>
            <a:xfrm>
              <a:off x="5332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147"/>
            <p:cNvSpPr/>
            <p:nvPr/>
          </p:nvSpPr>
          <p:spPr>
            <a:xfrm>
              <a:off x="5440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148"/>
            <p:cNvSpPr/>
            <p:nvPr/>
          </p:nvSpPr>
          <p:spPr>
            <a:xfrm>
              <a:off x="5548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149"/>
            <p:cNvSpPr/>
            <p:nvPr/>
          </p:nvSpPr>
          <p:spPr>
            <a:xfrm>
              <a:off x="5656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150"/>
            <p:cNvSpPr/>
            <p:nvPr/>
          </p:nvSpPr>
          <p:spPr>
            <a:xfrm>
              <a:off x="57570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151"/>
            <p:cNvSpPr/>
            <p:nvPr/>
          </p:nvSpPr>
          <p:spPr>
            <a:xfrm>
              <a:off x="58506120" y="595800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53"/>
          <p:cNvGrpSpPr/>
          <p:nvPr/>
        </p:nvGrpSpPr>
        <p:grpSpPr>
          <a:xfrm>
            <a:off x="-558720" y="127080"/>
            <a:ext cx="48459960" cy="982440"/>
            <a:chOff x="-558720" y="127080"/>
            <a:chExt cx="48459960" cy="982440"/>
          </a:xfrm>
        </p:grpSpPr>
        <p:grpSp>
          <p:nvGrpSpPr>
            <p:cNvPr id="451" name="组合 138"/>
            <p:cNvGrpSpPr/>
            <p:nvPr/>
          </p:nvGrpSpPr>
          <p:grpSpPr>
            <a:xfrm>
              <a:off x="-558720" y="131040"/>
              <a:ext cx="39027240" cy="978480"/>
              <a:chOff x="-558720" y="131040"/>
              <a:chExt cx="39027240" cy="978480"/>
            </a:xfrm>
          </p:grpSpPr>
          <p:grpSp>
            <p:nvGrpSpPr>
              <p:cNvPr id="452" name="组合 137"/>
              <p:cNvGrpSpPr/>
              <p:nvPr/>
            </p:nvGrpSpPr>
            <p:grpSpPr>
              <a:xfrm>
                <a:off x="-558720" y="131040"/>
                <a:ext cx="29666520" cy="978480"/>
                <a:chOff x="-558720" y="131040"/>
                <a:chExt cx="29666520" cy="978480"/>
              </a:xfrm>
            </p:grpSpPr>
            <p:grpSp>
              <p:nvGrpSpPr>
                <p:cNvPr id="453" name="组合 17"/>
                <p:cNvGrpSpPr/>
                <p:nvPr/>
              </p:nvGrpSpPr>
              <p:grpSpPr>
                <a:xfrm>
                  <a:off x="-558720" y="131040"/>
                  <a:ext cx="10728720" cy="978480"/>
                  <a:chOff x="-558720" y="131040"/>
                  <a:chExt cx="10728720" cy="978480"/>
                </a:xfrm>
              </p:grpSpPr>
              <p:sp>
                <p:nvSpPr>
                  <p:cNvPr id="454" name="直接连接符 205"/>
                  <p:cNvSpPr/>
                  <p:nvPr/>
                </p:nvSpPr>
                <p:spPr>
                  <a:xfrm>
                    <a:off x="-558720" y="13104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直接连接符 206"/>
                  <p:cNvSpPr/>
                  <p:nvPr/>
                </p:nvSpPr>
                <p:spPr>
                  <a:xfrm>
                    <a:off x="-558720" y="11095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圆角矩形 207"/>
                  <p:cNvSpPr/>
                  <p:nvPr/>
                </p:nvSpPr>
                <p:spPr>
                  <a:xfrm>
                    <a:off x="1972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圆角矩形 208"/>
                  <p:cNvSpPr/>
                  <p:nvPr/>
                </p:nvSpPr>
                <p:spPr>
                  <a:xfrm>
                    <a:off x="11692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圆角矩形 209"/>
                  <p:cNvSpPr/>
                  <p:nvPr/>
                </p:nvSpPr>
                <p:spPr>
                  <a:xfrm>
                    <a:off x="21772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圆角矩形 210"/>
                  <p:cNvSpPr/>
                  <p:nvPr/>
                </p:nvSpPr>
                <p:spPr>
                  <a:xfrm>
                    <a:off x="318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圆角矩形 211"/>
                  <p:cNvSpPr/>
                  <p:nvPr/>
                </p:nvSpPr>
                <p:spPr>
                  <a:xfrm>
                    <a:off x="426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圆角矩形 212"/>
                  <p:cNvSpPr/>
                  <p:nvPr/>
                </p:nvSpPr>
                <p:spPr>
                  <a:xfrm>
                    <a:off x="534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圆角矩形 213"/>
                  <p:cNvSpPr/>
                  <p:nvPr/>
                </p:nvSpPr>
                <p:spPr>
                  <a:xfrm>
                    <a:off x="642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圆角矩形 214"/>
                  <p:cNvSpPr/>
                  <p:nvPr/>
                </p:nvSpPr>
                <p:spPr>
                  <a:xfrm>
                    <a:off x="7434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圆角矩形 28"/>
                  <p:cNvSpPr/>
                  <p:nvPr/>
                </p:nvSpPr>
                <p:spPr>
                  <a:xfrm>
                    <a:off x="8370000" y="34056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组合 17"/>
                <p:cNvGrpSpPr/>
                <p:nvPr/>
              </p:nvGrpSpPr>
              <p:grpSpPr>
                <a:xfrm>
                  <a:off x="9018000" y="131040"/>
                  <a:ext cx="10728720" cy="978480"/>
                  <a:chOff x="9018000" y="131040"/>
                  <a:chExt cx="10728720" cy="978480"/>
                </a:xfrm>
              </p:grpSpPr>
              <p:sp>
                <p:nvSpPr>
                  <p:cNvPr id="466" name="直接连接符 194"/>
                  <p:cNvSpPr/>
                  <p:nvPr/>
                </p:nvSpPr>
                <p:spPr>
                  <a:xfrm>
                    <a:off x="9018000" y="13104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直接连接符 195"/>
                  <p:cNvSpPr/>
                  <p:nvPr/>
                </p:nvSpPr>
                <p:spPr>
                  <a:xfrm>
                    <a:off x="9018000" y="11095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圆角矩形 196"/>
                  <p:cNvSpPr/>
                  <p:nvPr/>
                </p:nvSpPr>
                <p:spPr>
                  <a:xfrm>
                    <a:off x="9774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圆角矩形 197"/>
                  <p:cNvSpPr/>
                  <p:nvPr/>
                </p:nvSpPr>
                <p:spPr>
                  <a:xfrm>
                    <a:off x="10746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圆角矩形 198"/>
                  <p:cNvSpPr/>
                  <p:nvPr/>
                </p:nvSpPr>
                <p:spPr>
                  <a:xfrm>
                    <a:off x="11754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圆角矩形 199"/>
                  <p:cNvSpPr/>
                  <p:nvPr/>
                </p:nvSpPr>
                <p:spPr>
                  <a:xfrm>
                    <a:off x="1276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圆角矩形 200"/>
                  <p:cNvSpPr/>
                  <p:nvPr/>
                </p:nvSpPr>
                <p:spPr>
                  <a:xfrm>
                    <a:off x="1384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圆角矩形 201"/>
                  <p:cNvSpPr/>
                  <p:nvPr/>
                </p:nvSpPr>
                <p:spPr>
                  <a:xfrm>
                    <a:off x="1492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圆角矩形 202"/>
                  <p:cNvSpPr/>
                  <p:nvPr/>
                </p:nvSpPr>
                <p:spPr>
                  <a:xfrm>
                    <a:off x="1600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圆角矩形 203"/>
                  <p:cNvSpPr/>
                  <p:nvPr/>
                </p:nvSpPr>
                <p:spPr>
                  <a:xfrm>
                    <a:off x="1701072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圆角矩形 204"/>
                  <p:cNvSpPr/>
                  <p:nvPr/>
                </p:nvSpPr>
                <p:spPr>
                  <a:xfrm>
                    <a:off x="17946720" y="34056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组合 17"/>
                <p:cNvGrpSpPr/>
                <p:nvPr/>
              </p:nvGrpSpPr>
              <p:grpSpPr>
                <a:xfrm>
                  <a:off x="18379080" y="131040"/>
                  <a:ext cx="10728720" cy="978480"/>
                  <a:chOff x="18379080" y="131040"/>
                  <a:chExt cx="10728720" cy="978480"/>
                </a:xfrm>
              </p:grpSpPr>
              <p:sp>
                <p:nvSpPr>
                  <p:cNvPr id="478" name="直接连接符 183"/>
                  <p:cNvSpPr/>
                  <p:nvPr/>
                </p:nvSpPr>
                <p:spPr>
                  <a:xfrm>
                    <a:off x="18379080" y="13104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直接连接符 184"/>
                  <p:cNvSpPr/>
                  <p:nvPr/>
                </p:nvSpPr>
                <p:spPr>
                  <a:xfrm>
                    <a:off x="18379080" y="11095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圆角矩形 185"/>
                  <p:cNvSpPr/>
                  <p:nvPr/>
                </p:nvSpPr>
                <p:spPr>
                  <a:xfrm>
                    <a:off x="191350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圆角矩形 186"/>
                  <p:cNvSpPr/>
                  <p:nvPr/>
                </p:nvSpPr>
                <p:spPr>
                  <a:xfrm>
                    <a:off x="201070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圆角矩形 187"/>
                  <p:cNvSpPr/>
                  <p:nvPr/>
                </p:nvSpPr>
                <p:spPr>
                  <a:xfrm>
                    <a:off x="211150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圆角矩形 188"/>
                  <p:cNvSpPr/>
                  <p:nvPr/>
                </p:nvSpPr>
                <p:spPr>
                  <a:xfrm>
                    <a:off x="2212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圆角矩形 189"/>
                  <p:cNvSpPr/>
                  <p:nvPr/>
                </p:nvSpPr>
                <p:spPr>
                  <a:xfrm>
                    <a:off x="2320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圆角矩形 190"/>
                  <p:cNvSpPr/>
                  <p:nvPr/>
                </p:nvSpPr>
                <p:spPr>
                  <a:xfrm>
                    <a:off x="2428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圆角矩形 191"/>
                  <p:cNvSpPr/>
                  <p:nvPr/>
                </p:nvSpPr>
                <p:spPr>
                  <a:xfrm>
                    <a:off x="2536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圆角矩形 192"/>
                  <p:cNvSpPr/>
                  <p:nvPr/>
                </p:nvSpPr>
                <p:spPr>
                  <a:xfrm>
                    <a:off x="263718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圆角矩形 193"/>
                  <p:cNvSpPr/>
                  <p:nvPr/>
                </p:nvSpPr>
                <p:spPr>
                  <a:xfrm>
                    <a:off x="27307800" y="34056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组合 17"/>
              <p:cNvGrpSpPr/>
              <p:nvPr/>
            </p:nvGrpSpPr>
            <p:grpSpPr>
              <a:xfrm>
                <a:off x="27739800" y="131040"/>
                <a:ext cx="10728720" cy="978480"/>
                <a:chOff x="27739800" y="131040"/>
                <a:chExt cx="10728720" cy="978480"/>
              </a:xfrm>
            </p:grpSpPr>
            <p:sp>
              <p:nvSpPr>
                <p:cNvPr id="490" name="直接连接符 169"/>
                <p:cNvSpPr/>
                <p:nvPr/>
              </p:nvSpPr>
              <p:spPr>
                <a:xfrm>
                  <a:off x="27739800" y="13104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直接连接符 170"/>
                <p:cNvSpPr/>
                <p:nvPr/>
              </p:nvSpPr>
              <p:spPr>
                <a:xfrm>
                  <a:off x="27739800" y="110952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圆角矩形 171"/>
                <p:cNvSpPr/>
                <p:nvPr/>
              </p:nvSpPr>
              <p:spPr>
                <a:xfrm>
                  <a:off x="2849580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圆角矩形 172"/>
                <p:cNvSpPr/>
                <p:nvPr/>
              </p:nvSpPr>
              <p:spPr>
                <a:xfrm>
                  <a:off x="2946780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圆角矩形 173"/>
                <p:cNvSpPr/>
                <p:nvPr/>
              </p:nvSpPr>
              <p:spPr>
                <a:xfrm>
                  <a:off x="3047580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圆角矩形 174"/>
                <p:cNvSpPr/>
                <p:nvPr/>
              </p:nvSpPr>
              <p:spPr>
                <a:xfrm>
                  <a:off x="3148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圆角矩形 175"/>
                <p:cNvSpPr/>
                <p:nvPr/>
              </p:nvSpPr>
              <p:spPr>
                <a:xfrm>
                  <a:off x="3256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圆角矩形 176"/>
                <p:cNvSpPr/>
                <p:nvPr/>
              </p:nvSpPr>
              <p:spPr>
                <a:xfrm>
                  <a:off x="3364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圆角矩形 177"/>
                <p:cNvSpPr/>
                <p:nvPr/>
              </p:nvSpPr>
              <p:spPr>
                <a:xfrm>
                  <a:off x="3472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圆角矩形 178"/>
                <p:cNvSpPr/>
                <p:nvPr/>
              </p:nvSpPr>
              <p:spPr>
                <a:xfrm>
                  <a:off x="3573252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圆角矩形 179"/>
                <p:cNvSpPr/>
                <p:nvPr/>
              </p:nvSpPr>
              <p:spPr>
                <a:xfrm>
                  <a:off x="36668520" y="34056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" name="组合 17"/>
            <p:cNvGrpSpPr/>
            <p:nvPr/>
          </p:nvGrpSpPr>
          <p:grpSpPr>
            <a:xfrm>
              <a:off x="37172520" y="127080"/>
              <a:ext cx="10728720" cy="978480"/>
              <a:chOff x="37172520" y="127080"/>
              <a:chExt cx="10728720" cy="978480"/>
            </a:xfrm>
          </p:grpSpPr>
          <p:sp>
            <p:nvSpPr>
              <p:cNvPr id="502" name="直接连接符 156"/>
              <p:cNvSpPr/>
              <p:nvPr/>
            </p:nvSpPr>
            <p:spPr>
              <a:xfrm>
                <a:off x="37172520" y="12708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直接连接符 157"/>
              <p:cNvSpPr/>
              <p:nvPr/>
            </p:nvSpPr>
            <p:spPr>
              <a:xfrm>
                <a:off x="37172520" y="110556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圆角矩形 158"/>
              <p:cNvSpPr/>
              <p:nvPr/>
            </p:nvSpPr>
            <p:spPr>
              <a:xfrm>
                <a:off x="3792852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圆角矩形 159"/>
              <p:cNvSpPr/>
              <p:nvPr/>
            </p:nvSpPr>
            <p:spPr>
              <a:xfrm>
                <a:off x="3890052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圆角矩形 160"/>
              <p:cNvSpPr/>
              <p:nvPr/>
            </p:nvSpPr>
            <p:spPr>
              <a:xfrm>
                <a:off x="3990852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圆角矩形 161"/>
              <p:cNvSpPr/>
              <p:nvPr/>
            </p:nvSpPr>
            <p:spPr>
              <a:xfrm>
                <a:off x="4091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圆角矩形 162"/>
              <p:cNvSpPr/>
              <p:nvPr/>
            </p:nvSpPr>
            <p:spPr>
              <a:xfrm>
                <a:off x="4199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圆角矩形 163"/>
              <p:cNvSpPr/>
              <p:nvPr/>
            </p:nvSpPr>
            <p:spPr>
              <a:xfrm>
                <a:off x="4307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圆角矩形 164"/>
              <p:cNvSpPr/>
              <p:nvPr/>
            </p:nvSpPr>
            <p:spPr>
              <a:xfrm>
                <a:off x="4415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圆角矩形 165"/>
              <p:cNvSpPr/>
              <p:nvPr/>
            </p:nvSpPr>
            <p:spPr>
              <a:xfrm>
                <a:off x="4516524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圆角矩形 166"/>
              <p:cNvSpPr/>
              <p:nvPr/>
            </p:nvSpPr>
            <p:spPr>
              <a:xfrm>
                <a:off x="46101240" y="33660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组合 17"/>
          <p:cNvGrpSpPr/>
          <p:nvPr/>
        </p:nvGrpSpPr>
        <p:grpSpPr>
          <a:xfrm>
            <a:off x="49556880" y="130320"/>
            <a:ext cx="10730160" cy="979200"/>
            <a:chOff x="49556880" y="130320"/>
            <a:chExt cx="10730160" cy="979200"/>
          </a:xfrm>
        </p:grpSpPr>
        <p:sp>
          <p:nvSpPr>
            <p:cNvPr id="514" name="直接连接符 217"/>
            <p:cNvSpPr/>
            <p:nvPr/>
          </p:nvSpPr>
          <p:spPr>
            <a:xfrm>
              <a:off x="49556880" y="1303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218"/>
            <p:cNvSpPr/>
            <p:nvPr/>
          </p:nvSpPr>
          <p:spPr>
            <a:xfrm>
              <a:off x="49556880" y="11095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圆角矩形 219"/>
            <p:cNvSpPr/>
            <p:nvPr/>
          </p:nvSpPr>
          <p:spPr>
            <a:xfrm>
              <a:off x="503128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220"/>
            <p:cNvSpPr/>
            <p:nvPr/>
          </p:nvSpPr>
          <p:spPr>
            <a:xfrm>
              <a:off x="51285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221"/>
            <p:cNvSpPr/>
            <p:nvPr/>
          </p:nvSpPr>
          <p:spPr>
            <a:xfrm>
              <a:off x="52293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222"/>
            <p:cNvSpPr/>
            <p:nvPr/>
          </p:nvSpPr>
          <p:spPr>
            <a:xfrm>
              <a:off x="5330160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圆角矩形 223"/>
            <p:cNvSpPr/>
            <p:nvPr/>
          </p:nvSpPr>
          <p:spPr>
            <a:xfrm>
              <a:off x="5438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圆角矩形 224"/>
            <p:cNvSpPr/>
            <p:nvPr/>
          </p:nvSpPr>
          <p:spPr>
            <a:xfrm>
              <a:off x="5546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225"/>
            <p:cNvSpPr/>
            <p:nvPr/>
          </p:nvSpPr>
          <p:spPr>
            <a:xfrm>
              <a:off x="5654232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226"/>
            <p:cNvSpPr/>
            <p:nvPr/>
          </p:nvSpPr>
          <p:spPr>
            <a:xfrm>
              <a:off x="575506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圆角矩形 227"/>
            <p:cNvSpPr/>
            <p:nvPr/>
          </p:nvSpPr>
          <p:spPr>
            <a:xfrm>
              <a:off x="58486680" y="33984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246" dur="9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252" dur="9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9DB-F8C1-4588-B5DB-2C493F155C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527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539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Box 29"/>
          <p:cNvSpPr/>
          <p:nvPr/>
        </p:nvSpPr>
        <p:spPr>
          <a:xfrm>
            <a:off x="133200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①</a:t>
            </a: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生活</a:t>
            </a: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lif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55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56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49"/>
          <p:cNvGrpSpPr/>
          <p:nvPr/>
        </p:nvGrpSpPr>
        <p:grpSpPr>
          <a:xfrm>
            <a:off x="4013280" y="1397160"/>
            <a:ext cx="777960" cy="777600"/>
            <a:chOff x="4013280" y="1397160"/>
            <a:chExt cx="777960" cy="777600"/>
          </a:xfrm>
        </p:grpSpPr>
        <p:sp>
          <p:nvSpPr>
            <p:cNvPr id="576" name="Oval 48"/>
            <p:cNvSpPr/>
            <p:nvPr/>
          </p:nvSpPr>
          <p:spPr>
            <a:xfrm>
              <a:off x="4013280" y="1397160"/>
              <a:ext cx="777960" cy="777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"/>
            <p:cNvSpPr/>
            <p:nvPr/>
          </p:nvSpPr>
          <p:spPr>
            <a:xfrm>
              <a:off x="4256280" y="1430280"/>
              <a:ext cx="298440" cy="3614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5" h="127">
                  <a:moveTo>
                    <a:pt x="7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5"/>
                    <a:pt x="13" y="57"/>
                    <a:pt x="29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119"/>
                    <a:pt x="45" y="119"/>
                    <a:pt x="45" y="119"/>
                  </a:cubicBezTo>
                  <a:cubicBezTo>
                    <a:pt x="45" y="123"/>
                    <a:pt x="49" y="127"/>
                    <a:pt x="53" y="127"/>
                  </a:cubicBezTo>
                  <a:cubicBezTo>
                    <a:pt x="57" y="127"/>
                    <a:pt x="60" y="123"/>
                    <a:pt x="60" y="119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93" y="57"/>
                    <a:pt x="105" y="45"/>
                    <a:pt x="105" y="29"/>
                  </a:cubicBezTo>
                  <a:cubicBezTo>
                    <a:pt x="105" y="13"/>
                    <a:pt x="93" y="0"/>
                    <a:pt x="77" y="0"/>
                  </a:cubicBezTo>
                  <a:close/>
                </a:path>
              </a:pathLst>
            </a:cu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Oval 10"/>
          <p:cNvSpPr/>
          <p:nvPr/>
        </p:nvSpPr>
        <p:spPr>
          <a:xfrm>
            <a:off x="2817720" y="2076480"/>
            <a:ext cx="3165480" cy="316224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357800" y="2124000"/>
            <a:ext cx="77760" cy="18432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3"/>
          <p:cNvSpPr/>
          <p:nvPr/>
        </p:nvSpPr>
        <p:spPr>
          <a:xfrm>
            <a:off x="3598920" y="2314440"/>
            <a:ext cx="158760" cy="196920"/>
          </a:xfrm>
          <a:custGeom>
            <a:avLst/>
            <a:gdLst>
              <a:gd name="textAreaLeft" fmla="*/ 0 w 158760"/>
              <a:gd name="textAreaRight" fmla="*/ 159120 w 158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00" h="125">
                <a:moveTo>
                  <a:pt x="100" y="100"/>
                </a:moveTo>
                <a:lnTo>
                  <a:pt x="57" y="125"/>
                </a:lnTo>
                <a:lnTo>
                  <a:pt x="0" y="25"/>
                </a:lnTo>
                <a:lnTo>
                  <a:pt x="43" y="0"/>
                </a:lnTo>
                <a:lnTo>
                  <a:pt x="100" y="10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4"/>
          <p:cNvSpPr/>
          <p:nvPr/>
        </p:nvSpPr>
        <p:spPr>
          <a:xfrm>
            <a:off x="3051000" y="286380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124" y="57"/>
                </a:moveTo>
                <a:lnTo>
                  <a:pt x="101" y="100"/>
                </a:lnTo>
                <a:lnTo>
                  <a:pt x="0" y="43"/>
                </a:lnTo>
                <a:lnTo>
                  <a:pt x="26" y="0"/>
                </a:lnTo>
                <a:lnTo>
                  <a:pt x="124" y="57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870280" y="3622680"/>
            <a:ext cx="18072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6"/>
          <p:cNvSpPr/>
          <p:nvPr/>
        </p:nvSpPr>
        <p:spPr>
          <a:xfrm>
            <a:off x="3057480" y="430200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99" y="0"/>
                </a:moveTo>
                <a:lnTo>
                  <a:pt x="124" y="43"/>
                </a:lnTo>
                <a:lnTo>
                  <a:pt x="23" y="100"/>
                </a:lnTo>
                <a:lnTo>
                  <a:pt x="0" y="57"/>
                </a:lnTo>
                <a:lnTo>
                  <a:pt x="99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3603600" y="4809960"/>
            <a:ext cx="162000" cy="193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1" h="123">
                <a:moveTo>
                  <a:pt x="58" y="0"/>
                </a:moveTo>
                <a:lnTo>
                  <a:pt x="101" y="25"/>
                </a:lnTo>
                <a:lnTo>
                  <a:pt x="43" y="123"/>
                </a:lnTo>
                <a:lnTo>
                  <a:pt x="0" y="100"/>
                </a:lnTo>
                <a:lnTo>
                  <a:pt x="58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8"/>
          <p:cNvSpPr/>
          <p:nvPr/>
        </p:nvSpPr>
        <p:spPr>
          <a:xfrm>
            <a:off x="4367160" y="5006880"/>
            <a:ext cx="76320" cy="18432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9"/>
          <p:cNvSpPr/>
          <p:nvPr/>
        </p:nvSpPr>
        <p:spPr>
          <a:xfrm>
            <a:off x="5043600" y="4807080"/>
            <a:ext cx="160200" cy="196560"/>
          </a:xfrm>
          <a:custGeom>
            <a:avLst/>
            <a:gdLst>
              <a:gd name="textAreaLeft" fmla="*/ 0 w 160200"/>
              <a:gd name="textAreaRight" fmla="*/ 160560 w 1602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01" h="124">
                <a:moveTo>
                  <a:pt x="0" y="25"/>
                </a:moveTo>
                <a:lnTo>
                  <a:pt x="43" y="0"/>
                </a:lnTo>
                <a:lnTo>
                  <a:pt x="101" y="98"/>
                </a:lnTo>
                <a:lnTo>
                  <a:pt x="58" y="124"/>
                </a:lnTo>
                <a:lnTo>
                  <a:pt x="0" y="25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20"/>
          <p:cNvSpPr/>
          <p:nvPr/>
        </p:nvSpPr>
        <p:spPr>
          <a:xfrm>
            <a:off x="5553000" y="429588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0" y="43"/>
                </a:moveTo>
                <a:lnTo>
                  <a:pt x="23" y="0"/>
                </a:lnTo>
                <a:lnTo>
                  <a:pt x="124" y="57"/>
                </a:lnTo>
                <a:lnTo>
                  <a:pt x="99" y="100"/>
                </a:lnTo>
                <a:lnTo>
                  <a:pt x="0" y="4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1"/>
          <p:cNvSpPr/>
          <p:nvPr/>
        </p:nvSpPr>
        <p:spPr>
          <a:xfrm>
            <a:off x="5749920" y="3613320"/>
            <a:ext cx="18432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22"/>
          <p:cNvSpPr/>
          <p:nvPr/>
        </p:nvSpPr>
        <p:spPr>
          <a:xfrm>
            <a:off x="5548320" y="2854440"/>
            <a:ext cx="195120" cy="158760"/>
          </a:xfrm>
          <a:custGeom>
            <a:avLst/>
            <a:gdLst>
              <a:gd name="textAreaLeft" fmla="*/ 0 w 195120"/>
              <a:gd name="textAreaRight" fmla="*/ 195480 w 1951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3" h="101">
                <a:moveTo>
                  <a:pt x="25" y="101"/>
                </a:moveTo>
                <a:lnTo>
                  <a:pt x="0" y="58"/>
                </a:lnTo>
                <a:lnTo>
                  <a:pt x="100" y="0"/>
                </a:lnTo>
                <a:lnTo>
                  <a:pt x="123" y="43"/>
                </a:lnTo>
                <a:lnTo>
                  <a:pt x="25" y="101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23"/>
          <p:cNvSpPr/>
          <p:nvPr/>
        </p:nvSpPr>
        <p:spPr>
          <a:xfrm>
            <a:off x="5038560" y="2311560"/>
            <a:ext cx="158760" cy="193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0" h="123">
                <a:moveTo>
                  <a:pt x="43" y="123"/>
                </a:moveTo>
                <a:lnTo>
                  <a:pt x="0" y="98"/>
                </a:lnTo>
                <a:lnTo>
                  <a:pt x="57" y="0"/>
                </a:lnTo>
                <a:lnTo>
                  <a:pt x="100" y="25"/>
                </a:lnTo>
                <a:lnTo>
                  <a:pt x="43" y="12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24"/>
          <p:cNvSpPr/>
          <p:nvPr/>
        </p:nvSpPr>
        <p:spPr>
          <a:xfrm>
            <a:off x="3036960" y="5035680"/>
            <a:ext cx="276120" cy="482400"/>
          </a:xfrm>
          <a:custGeom>
            <a:avLst/>
            <a:gdLst>
              <a:gd name="textAreaLeft" fmla="*/ 0 w 276120"/>
              <a:gd name="textAreaRight" fmla="*/ 276480 w 2761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97" h="169">
                <a:moveTo>
                  <a:pt x="97" y="0"/>
                </a:moveTo>
                <a:cubicBezTo>
                  <a:pt x="97" y="0"/>
                  <a:pt x="16" y="124"/>
                  <a:pt x="8" y="134"/>
                </a:cubicBezTo>
                <a:cubicBezTo>
                  <a:pt x="0" y="145"/>
                  <a:pt x="24" y="169"/>
                  <a:pt x="46" y="169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5473800" y="5048280"/>
            <a:ext cx="266760" cy="469800"/>
          </a:xfrm>
          <a:custGeom>
            <a:avLst/>
            <a:gdLst>
              <a:gd name="textAreaLeft" fmla="*/ 0 w 266760"/>
              <a:gd name="textAreaRight" fmla="*/ 267120 w 2667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3" h="165">
                <a:moveTo>
                  <a:pt x="0" y="0"/>
                </a:moveTo>
                <a:cubicBezTo>
                  <a:pt x="0" y="0"/>
                  <a:pt x="77" y="120"/>
                  <a:pt x="85" y="130"/>
                </a:cubicBezTo>
                <a:cubicBezTo>
                  <a:pt x="93" y="141"/>
                  <a:pt x="69" y="165"/>
                  <a:pt x="48" y="165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27"/>
          <p:cNvSpPr/>
          <p:nvPr/>
        </p:nvSpPr>
        <p:spPr>
          <a:xfrm>
            <a:off x="2637000" y="1679400"/>
            <a:ext cx="244440" cy="574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86" h="202">
                <a:moveTo>
                  <a:pt x="86" y="0"/>
                </a:moveTo>
                <a:cubicBezTo>
                  <a:pt x="84" y="1"/>
                  <a:pt x="82" y="2"/>
                  <a:pt x="80" y="4"/>
                </a:cubicBezTo>
                <a:cubicBezTo>
                  <a:pt x="0" y="51"/>
                  <a:pt x="31" y="170"/>
                  <a:pt x="45" y="202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28"/>
          <p:cNvSpPr/>
          <p:nvPr/>
        </p:nvSpPr>
        <p:spPr>
          <a:xfrm>
            <a:off x="2881440" y="1190520"/>
            <a:ext cx="1206360" cy="48888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4" h="171">
                <a:moveTo>
                  <a:pt x="417" y="131"/>
                </a:moveTo>
                <a:cubicBezTo>
                  <a:pt x="422" y="127"/>
                  <a:pt x="424" y="123"/>
                  <a:pt x="423" y="121"/>
                </a:cubicBezTo>
                <a:cubicBezTo>
                  <a:pt x="415" y="107"/>
                  <a:pt x="319" y="0"/>
                  <a:pt x="222" y="51"/>
                </a:cubicBezTo>
                <a:cubicBezTo>
                  <a:pt x="198" y="63"/>
                  <a:pt x="172" y="76"/>
                  <a:pt x="145" y="9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37" y="75"/>
                  <a:pt x="129" y="73"/>
                  <a:pt x="124" y="76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98" y="91"/>
                  <a:pt x="96" y="98"/>
                  <a:pt x="99" y="103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71" y="130"/>
                  <a:pt x="36" y="149"/>
                  <a:pt x="0" y="171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29"/>
          <p:cNvSpPr/>
          <p:nvPr/>
        </p:nvSpPr>
        <p:spPr>
          <a:xfrm>
            <a:off x="3538440" y="1565280"/>
            <a:ext cx="528840" cy="498600"/>
          </a:xfrm>
          <a:custGeom>
            <a:avLst/>
            <a:gdLst>
              <a:gd name="textAreaLeft" fmla="*/ 0 w 528840"/>
              <a:gd name="textAreaRight" fmla="*/ 529200 w 5288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86" h="175">
                <a:moveTo>
                  <a:pt x="42" y="170"/>
                </a:moveTo>
                <a:cubicBezTo>
                  <a:pt x="39" y="172"/>
                  <a:pt x="35" y="173"/>
                  <a:pt x="32" y="175"/>
                </a:cubicBezTo>
                <a:cubicBezTo>
                  <a:pt x="0" y="117"/>
                  <a:pt x="0" y="117"/>
                  <a:pt x="0" y="117"/>
                </a:cubicBezTo>
                <a:cubicBezTo>
                  <a:pt x="47" y="91"/>
                  <a:pt x="158" y="27"/>
                  <a:pt x="186" y="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0"/>
          <p:cNvSpPr/>
          <p:nvPr/>
        </p:nvSpPr>
        <p:spPr>
          <a:xfrm>
            <a:off x="3657600" y="1793880"/>
            <a:ext cx="1616040" cy="27288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7" h="96">
                <a:moveTo>
                  <a:pt x="559" y="33"/>
                </a:moveTo>
                <a:cubicBezTo>
                  <a:pt x="562" y="34"/>
                  <a:pt x="565" y="36"/>
                  <a:pt x="567" y="37"/>
                </a:cubicBezTo>
                <a:cubicBezTo>
                  <a:pt x="535" y="96"/>
                  <a:pt x="535" y="96"/>
                  <a:pt x="535" y="96"/>
                </a:cubicBezTo>
                <a:cubicBezTo>
                  <a:pt x="464" y="62"/>
                  <a:pt x="386" y="40"/>
                  <a:pt x="304" y="35"/>
                </a:cubicBezTo>
                <a:cubicBezTo>
                  <a:pt x="304" y="15"/>
                  <a:pt x="290" y="0"/>
                  <a:pt x="27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35" y="0"/>
                  <a:pt x="222" y="15"/>
                  <a:pt x="222" y="34"/>
                </a:cubicBezTo>
                <a:cubicBezTo>
                  <a:pt x="143" y="39"/>
                  <a:pt x="68" y="59"/>
                  <a:pt x="0" y="9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31"/>
          <p:cNvSpPr/>
          <p:nvPr/>
        </p:nvSpPr>
        <p:spPr>
          <a:xfrm>
            <a:off x="4708440" y="1508040"/>
            <a:ext cx="540000" cy="378000"/>
          </a:xfrm>
          <a:custGeom>
            <a:avLst/>
            <a:gdLst>
              <a:gd name="textAreaLeft" fmla="*/ 0 w 540000"/>
              <a:gd name="textAreaRight" fmla="*/ 540360 w 54000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190" h="133">
                <a:moveTo>
                  <a:pt x="14" y="0"/>
                </a:moveTo>
                <a:cubicBezTo>
                  <a:pt x="10" y="5"/>
                  <a:pt x="7" y="8"/>
                  <a:pt x="6" y="10"/>
                </a:cubicBezTo>
                <a:cubicBezTo>
                  <a:pt x="0" y="22"/>
                  <a:pt x="130" y="99"/>
                  <a:pt x="190" y="133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32"/>
          <p:cNvSpPr/>
          <p:nvPr/>
        </p:nvSpPr>
        <p:spPr>
          <a:xfrm>
            <a:off x="4748040" y="1212840"/>
            <a:ext cx="1217880" cy="48888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8" h="172">
                <a:moveTo>
                  <a:pt x="428" y="172"/>
                </a:moveTo>
                <a:cubicBezTo>
                  <a:pt x="426" y="170"/>
                  <a:pt x="424" y="169"/>
                  <a:pt x="422" y="168"/>
                </a:cubicBezTo>
                <a:cubicBezTo>
                  <a:pt x="383" y="145"/>
                  <a:pt x="346" y="124"/>
                  <a:pt x="312" y="105"/>
                </a:cubicBezTo>
                <a:cubicBezTo>
                  <a:pt x="317" y="96"/>
                  <a:pt x="317" y="96"/>
                  <a:pt x="317" y="96"/>
                </a:cubicBezTo>
                <a:cubicBezTo>
                  <a:pt x="320" y="91"/>
                  <a:pt x="318" y="84"/>
                  <a:pt x="312" y="80"/>
                </a:cubicBezTo>
                <a:cubicBezTo>
                  <a:pt x="292" y="69"/>
                  <a:pt x="292" y="69"/>
                  <a:pt x="292" y="69"/>
                </a:cubicBezTo>
                <a:cubicBezTo>
                  <a:pt x="286" y="66"/>
                  <a:pt x="279" y="68"/>
                  <a:pt x="276" y="74"/>
                </a:cubicBezTo>
                <a:cubicBezTo>
                  <a:pt x="271" y="84"/>
                  <a:pt x="271" y="84"/>
                  <a:pt x="271" y="84"/>
                </a:cubicBezTo>
                <a:cubicBezTo>
                  <a:pt x="243" y="69"/>
                  <a:pt x="217" y="56"/>
                  <a:pt x="194" y="44"/>
                </a:cubicBezTo>
                <a:cubicBezTo>
                  <a:pt x="109" y="0"/>
                  <a:pt x="26" y="74"/>
                  <a:pt x="0" y="104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3"/>
          <p:cNvSpPr/>
          <p:nvPr/>
        </p:nvSpPr>
        <p:spPr>
          <a:xfrm>
            <a:off x="5965920" y="1701720"/>
            <a:ext cx="222120" cy="574920"/>
          </a:xfrm>
          <a:custGeom>
            <a:avLst/>
            <a:gdLst>
              <a:gd name="textAreaLeft" fmla="*/ 0 w 222120"/>
              <a:gd name="textAreaRight" fmla="*/ 222480 w 2221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78" h="202">
                <a:moveTo>
                  <a:pt x="12" y="199"/>
                </a:moveTo>
                <a:cubicBezTo>
                  <a:pt x="20" y="201"/>
                  <a:pt x="24" y="202"/>
                  <a:pt x="26" y="200"/>
                </a:cubicBezTo>
                <a:cubicBezTo>
                  <a:pt x="36" y="184"/>
                  <a:pt x="78" y="54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34"/>
          <p:cNvSpPr/>
          <p:nvPr/>
        </p:nvSpPr>
        <p:spPr>
          <a:xfrm>
            <a:off x="5411880" y="1974960"/>
            <a:ext cx="588960" cy="291960"/>
          </a:xfrm>
          <a:custGeom>
            <a:avLst/>
            <a:gdLst>
              <a:gd name="textAreaLeft" fmla="*/ 0 w 588960"/>
              <a:gd name="textAreaRight" fmla="*/ 589320 w 588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07" h="103">
                <a:moveTo>
                  <a:pt x="0" y="0"/>
                </a:moveTo>
                <a:cubicBezTo>
                  <a:pt x="56" y="31"/>
                  <a:pt x="168" y="93"/>
                  <a:pt x="207" y="103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35"/>
          <p:cNvSpPr/>
          <p:nvPr/>
        </p:nvSpPr>
        <p:spPr>
          <a:xfrm>
            <a:off x="5297400" y="1962000"/>
            <a:ext cx="876240" cy="3095640"/>
          </a:xfrm>
          <a:custGeom>
            <a:avLst/>
            <a:gdLst>
              <a:gd name="textAreaLeft" fmla="*/ 0 w 876240"/>
              <a:gd name="textAreaRight" fmla="*/ 876600 w 8762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308" h="1088">
                <a:moveTo>
                  <a:pt x="66" y="1088"/>
                </a:moveTo>
                <a:cubicBezTo>
                  <a:pt x="213" y="974"/>
                  <a:pt x="308" y="796"/>
                  <a:pt x="308" y="596"/>
                </a:cubicBezTo>
                <a:cubicBezTo>
                  <a:pt x="308" y="367"/>
                  <a:pt x="184" y="167"/>
                  <a:pt x="0" y="59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1"/>
                  <a:pt x="37" y="3"/>
                  <a:pt x="40" y="4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36"/>
          <p:cNvSpPr/>
          <p:nvPr/>
        </p:nvSpPr>
        <p:spPr>
          <a:xfrm>
            <a:off x="2627280" y="1962000"/>
            <a:ext cx="885960" cy="3086280"/>
          </a:xfrm>
          <a:custGeom>
            <a:avLst/>
            <a:gdLst>
              <a:gd name="textAreaLeft" fmla="*/ 0 w 885960"/>
              <a:gd name="textAreaRight" fmla="*/ 886320 w 88596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311" h="1084">
                <a:moveTo>
                  <a:pt x="48" y="102"/>
                </a:moveTo>
                <a:cubicBezTo>
                  <a:pt x="49" y="104"/>
                  <a:pt x="50" y="106"/>
                  <a:pt x="51" y="108"/>
                </a:cubicBezTo>
                <a:cubicBezTo>
                  <a:pt x="60" y="121"/>
                  <a:pt x="205" y="41"/>
                  <a:pt x="271" y="4"/>
                </a:cubicBezTo>
                <a:cubicBezTo>
                  <a:pt x="274" y="3"/>
                  <a:pt x="277" y="1"/>
                  <a:pt x="280" y="0"/>
                </a:cubicBezTo>
                <a:cubicBezTo>
                  <a:pt x="311" y="57"/>
                  <a:pt x="311" y="57"/>
                  <a:pt x="311" y="57"/>
                </a:cubicBezTo>
                <a:cubicBezTo>
                  <a:pt x="125" y="165"/>
                  <a:pt x="0" y="366"/>
                  <a:pt x="0" y="596"/>
                </a:cubicBezTo>
                <a:cubicBezTo>
                  <a:pt x="0" y="794"/>
                  <a:pt x="93" y="970"/>
                  <a:pt x="237" y="1084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335480" y="3591000"/>
            <a:ext cx="130320" cy="13320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4"/>
          <p:cNvSpPr/>
          <p:nvPr/>
        </p:nvSpPr>
        <p:spPr>
          <a:xfrm>
            <a:off x="6588000" y="162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人生就像一台时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55"/>
          <p:cNvSpPr/>
          <p:nvPr/>
        </p:nvSpPr>
        <p:spPr>
          <a:xfrm>
            <a:off x="6588000" y="162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从早上</a:t>
            </a:r>
            <a:r>
              <a:rPr b="0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点的朝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56"/>
          <p:cNvSpPr/>
          <p:nvPr/>
        </p:nvSpPr>
        <p:spPr>
          <a:xfrm>
            <a:off x="6588000" y="162864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到傍晚</a:t>
            </a:r>
            <a:r>
              <a:rPr b="0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点的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57"/>
          <p:cNvSpPr/>
          <p:nvPr/>
        </p:nvSpPr>
        <p:spPr>
          <a:xfrm>
            <a:off x="6588000" y="162864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时刻永不停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4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3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4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609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621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2" name="Picture 2" descr=""/>
          <p:cNvPicPr/>
          <p:nvPr/>
        </p:nvPicPr>
        <p:blipFill>
          <a:blip r:embed="rId1">
            <a:biLevel thresh="50000"/>
          </a:blip>
          <a:srcRect l="0" t="0" r="6726" b="12941"/>
          <a:stretch/>
        </p:blipFill>
        <p:spPr>
          <a:xfrm>
            <a:off x="1743120" y="1486080"/>
            <a:ext cx="5276880" cy="33829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29"/>
          <p:cNvSpPr/>
          <p:nvPr/>
        </p:nvSpPr>
        <p:spPr>
          <a:xfrm>
            <a:off x="466560" y="155736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她就像我们共同呵护的树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30"/>
          <p:cNvSpPr/>
          <p:nvPr/>
        </p:nvSpPr>
        <p:spPr>
          <a:xfrm>
            <a:off x="466560" y="155736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正在茁壮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63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64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587"/>
          <p:cNvGrpSpPr/>
          <p:nvPr/>
        </p:nvGrpSpPr>
        <p:grpSpPr>
          <a:xfrm>
            <a:off x="3367080" y="1174680"/>
            <a:ext cx="2637000" cy="1104840"/>
            <a:chOff x="3367080" y="1174680"/>
            <a:chExt cx="2637000" cy="1104840"/>
          </a:xfrm>
        </p:grpSpPr>
        <p:grpSp>
          <p:nvGrpSpPr>
            <p:cNvPr id="660" name="Group 560"/>
            <p:cNvGrpSpPr/>
            <p:nvPr/>
          </p:nvGrpSpPr>
          <p:grpSpPr>
            <a:xfrm>
              <a:off x="3367080" y="1174680"/>
              <a:ext cx="2637000" cy="919080"/>
              <a:chOff x="3367080" y="1174680"/>
              <a:chExt cx="2637000" cy="919080"/>
            </a:xfrm>
          </p:grpSpPr>
          <p:sp>
            <p:nvSpPr>
              <p:cNvPr id="661" name="Freeform 554"/>
              <p:cNvSpPr/>
              <p:nvPr/>
            </p:nvSpPr>
            <p:spPr>
              <a:xfrm>
                <a:off x="5823000" y="1562040"/>
                <a:ext cx="181080" cy="2746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14" h="173">
                    <a:moveTo>
                      <a:pt x="0" y="0"/>
                    </a:moveTo>
                    <a:lnTo>
                      <a:pt x="0" y="150"/>
                    </a:lnTo>
                    <a:lnTo>
                      <a:pt x="114" y="173"/>
                    </a:lnTo>
                    <a:lnTo>
                      <a:pt x="11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89"/>
              <p:cNvSpPr/>
              <p:nvPr/>
            </p:nvSpPr>
            <p:spPr>
              <a:xfrm>
                <a:off x="3367080" y="1770120"/>
                <a:ext cx="87480" cy="32364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31" h="114">
                    <a:moveTo>
                      <a:pt x="31" y="0"/>
                    </a:moveTo>
                    <a:cubicBezTo>
                      <a:pt x="13" y="22"/>
                      <a:pt x="0" y="36"/>
                      <a:pt x="0" y="37"/>
                    </a:cubicBezTo>
                    <a:cubicBezTo>
                      <a:pt x="0" y="37"/>
                      <a:pt x="0" y="66"/>
                      <a:pt x="0" y="114"/>
                    </a:cubicBezTo>
                    <a:cubicBezTo>
                      <a:pt x="31" y="82"/>
                      <a:pt x="31" y="82"/>
                      <a:pt x="31" y="82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90"/>
              <p:cNvSpPr/>
              <p:nvPr/>
            </p:nvSpPr>
            <p:spPr>
              <a:xfrm>
                <a:off x="4249800" y="1235160"/>
                <a:ext cx="255600" cy="33336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90" h="117">
                    <a:moveTo>
                      <a:pt x="90" y="117"/>
                    </a:moveTo>
                    <a:cubicBezTo>
                      <a:pt x="90" y="19"/>
                      <a:pt x="90" y="19"/>
                      <a:pt x="90" y="19"/>
                    </a:cubicBezTo>
                    <a:cubicBezTo>
                      <a:pt x="57" y="12"/>
                      <a:pt x="27" y="6"/>
                      <a:pt x="0" y="0"/>
                    </a:cubicBezTo>
                    <a:cubicBezTo>
                      <a:pt x="0" y="101"/>
                      <a:pt x="0" y="101"/>
                      <a:pt x="0" y="101"/>
                    </a:cubicBezTo>
                    <a:lnTo>
                      <a:pt x="90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2"/>
              <p:cNvSpPr/>
              <p:nvPr/>
            </p:nvSpPr>
            <p:spPr>
              <a:xfrm>
                <a:off x="3679920" y="1360440"/>
                <a:ext cx="125280" cy="4096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4" h="144">
                    <a:moveTo>
                      <a:pt x="44" y="99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30" y="16"/>
                      <a:pt x="15" y="34"/>
                      <a:pt x="0" y="51"/>
                    </a:cubicBezTo>
                    <a:cubicBezTo>
                      <a:pt x="0" y="144"/>
                      <a:pt x="0" y="144"/>
                      <a:pt x="0" y="144"/>
                    </a:cubicBezTo>
                    <a:lnTo>
                      <a:pt x="44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93"/>
              <p:cNvSpPr/>
              <p:nvPr/>
            </p:nvSpPr>
            <p:spPr>
              <a:xfrm>
                <a:off x="3560760" y="1504800"/>
                <a:ext cx="119160" cy="39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2" h="137">
                    <a:moveTo>
                      <a:pt x="42" y="93"/>
                    </a:moveTo>
                    <a:cubicBezTo>
                      <a:pt x="42" y="0"/>
                      <a:pt x="42" y="0"/>
                      <a:pt x="42" y="0"/>
                    </a:cubicBezTo>
                    <a:cubicBezTo>
                      <a:pt x="28" y="17"/>
                      <a:pt x="13" y="34"/>
                      <a:pt x="0" y="50"/>
                    </a:cubicBezTo>
                    <a:cubicBezTo>
                      <a:pt x="0" y="137"/>
                      <a:pt x="0" y="137"/>
                      <a:pt x="0" y="137"/>
                    </a:cubicBez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94"/>
              <p:cNvSpPr/>
              <p:nvPr/>
            </p:nvSpPr>
            <p:spPr>
              <a:xfrm>
                <a:off x="3805200" y="1174680"/>
                <a:ext cx="444600" cy="46656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156" h="164">
                    <a:moveTo>
                      <a:pt x="55" y="107"/>
                    </a:moveTo>
                    <a:cubicBezTo>
                      <a:pt x="56" y="1"/>
                      <a:pt x="56" y="1"/>
                      <a:pt x="56" y="1"/>
                    </a:cubicBezTo>
                    <a:cubicBezTo>
                      <a:pt x="55" y="107"/>
                      <a:pt x="55" y="107"/>
                      <a:pt x="55" y="107"/>
                    </a:cubicBezTo>
                    <a:cubicBezTo>
                      <a:pt x="58" y="105"/>
                      <a:pt x="58" y="105"/>
                      <a:pt x="58" y="105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96" y="9"/>
                      <a:pt x="56" y="1"/>
                      <a:pt x="55" y="0"/>
                    </a:cubicBezTo>
                    <a:cubicBezTo>
                      <a:pt x="54" y="1"/>
                      <a:pt x="31" y="29"/>
                      <a:pt x="0" y="65"/>
                    </a:cubicBezTo>
                    <a:cubicBezTo>
                      <a:pt x="0" y="164"/>
                      <a:pt x="0" y="164"/>
                      <a:pt x="0" y="164"/>
                    </a:cubicBezTo>
                    <a:lnTo>
                      <a:pt x="5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96"/>
              <p:cNvSpPr/>
              <p:nvPr/>
            </p:nvSpPr>
            <p:spPr>
              <a:xfrm>
                <a:off x="3454560" y="1647720"/>
                <a:ext cx="106200" cy="3556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7" h="125">
                    <a:moveTo>
                      <a:pt x="37" y="87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23" y="16"/>
                      <a:pt x="11" y="30"/>
                      <a:pt x="0" y="43"/>
                    </a:cubicBezTo>
                    <a:cubicBezTo>
                      <a:pt x="0" y="125"/>
                      <a:pt x="0" y="125"/>
                      <a:pt x="0" y="125"/>
                    </a:cubicBezTo>
                    <a:lnTo>
                      <a:pt x="37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10"/>
              <p:cNvSpPr/>
              <p:nvPr/>
            </p:nvSpPr>
            <p:spPr>
              <a:xfrm>
                <a:off x="4505400" y="1289160"/>
                <a:ext cx="241200" cy="325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85" h="114">
                    <a:moveTo>
                      <a:pt x="85" y="114"/>
                    </a:moveTo>
                    <a:cubicBezTo>
                      <a:pt x="85" y="17"/>
                      <a:pt x="85" y="17"/>
                      <a:pt x="85" y="17"/>
                    </a:cubicBezTo>
                    <a:cubicBezTo>
                      <a:pt x="56" y="11"/>
                      <a:pt x="27" y="5"/>
                      <a:pt x="0" y="0"/>
                    </a:cubicBezTo>
                    <a:cubicBezTo>
                      <a:pt x="0" y="98"/>
                      <a:pt x="0" y="98"/>
                      <a:pt x="0" y="98"/>
                    </a:cubicBezTo>
                    <a:lnTo>
                      <a:pt x="85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11"/>
              <p:cNvSpPr/>
              <p:nvPr/>
            </p:nvSpPr>
            <p:spPr>
              <a:xfrm>
                <a:off x="4983120" y="1385640"/>
                <a:ext cx="222120" cy="3114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78" h="109">
                    <a:moveTo>
                      <a:pt x="78" y="109"/>
                    </a:moveTo>
                    <a:cubicBezTo>
                      <a:pt x="78" y="16"/>
                      <a:pt x="78" y="16"/>
                      <a:pt x="78" y="16"/>
                    </a:cubicBezTo>
                    <a:cubicBezTo>
                      <a:pt x="52" y="11"/>
                      <a:pt x="26" y="6"/>
                      <a:pt x="0" y="0"/>
                    </a:cubicBezTo>
                    <a:cubicBezTo>
                      <a:pt x="0" y="95"/>
                      <a:pt x="0" y="95"/>
                      <a:pt x="0" y="95"/>
                    </a:cubicBezTo>
                    <a:lnTo>
                      <a:pt x="78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12"/>
              <p:cNvSpPr/>
              <p:nvPr/>
            </p:nvSpPr>
            <p:spPr>
              <a:xfrm>
                <a:off x="5205240" y="1431720"/>
                <a:ext cx="212760" cy="3016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75" h="106">
                    <a:moveTo>
                      <a:pt x="74" y="106"/>
                    </a:moveTo>
                    <a:cubicBezTo>
                      <a:pt x="75" y="16"/>
                      <a:pt x="75" y="16"/>
                      <a:pt x="75" y="16"/>
                    </a:cubicBezTo>
                    <a:cubicBezTo>
                      <a:pt x="51" y="11"/>
                      <a:pt x="26" y="6"/>
                      <a:pt x="0" y="0"/>
                    </a:cubicBezTo>
                    <a:cubicBezTo>
                      <a:pt x="0" y="93"/>
                      <a:pt x="0" y="93"/>
                      <a:pt x="0" y="93"/>
                    </a:cubicBez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15"/>
              <p:cNvSpPr/>
              <p:nvPr/>
            </p:nvSpPr>
            <p:spPr>
              <a:xfrm>
                <a:off x="5622840" y="1519200"/>
                <a:ext cx="196920" cy="2858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69" h="100">
                    <a:moveTo>
                      <a:pt x="69" y="100"/>
                    </a:moveTo>
                    <a:cubicBezTo>
                      <a:pt x="69" y="14"/>
                      <a:pt x="69" y="14"/>
                      <a:pt x="69" y="14"/>
                    </a:cubicBezTo>
                    <a:cubicBezTo>
                      <a:pt x="50" y="10"/>
                      <a:pt x="26" y="5"/>
                      <a:pt x="0" y="0"/>
                    </a:cubicBezTo>
                    <a:cubicBezTo>
                      <a:pt x="0" y="88"/>
                      <a:pt x="0" y="88"/>
                      <a:pt x="0" y="88"/>
                    </a:cubicBezTo>
                    <a:lnTo>
                      <a:pt x="69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16"/>
              <p:cNvSpPr/>
              <p:nvPr/>
            </p:nvSpPr>
            <p:spPr>
              <a:xfrm>
                <a:off x="5416560" y="1476360"/>
                <a:ext cx="206280" cy="2937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73" h="103">
                    <a:moveTo>
                      <a:pt x="73" y="103"/>
                    </a:moveTo>
                    <a:cubicBezTo>
                      <a:pt x="73" y="15"/>
                      <a:pt x="73" y="15"/>
                      <a:pt x="73" y="15"/>
                    </a:cubicBezTo>
                    <a:cubicBezTo>
                      <a:pt x="51" y="10"/>
                      <a:pt x="26" y="5"/>
                      <a:pt x="1" y="0"/>
                    </a:cubicBezTo>
                    <a:cubicBezTo>
                      <a:pt x="0" y="90"/>
                      <a:pt x="0" y="90"/>
                      <a:pt x="0" y="90"/>
                    </a:cubicBezTo>
                    <a:lnTo>
                      <a:pt x="73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17"/>
              <p:cNvSpPr/>
              <p:nvPr/>
            </p:nvSpPr>
            <p:spPr>
              <a:xfrm>
                <a:off x="4746600" y="1338120"/>
                <a:ext cx="236520" cy="3175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83" h="112">
                    <a:moveTo>
                      <a:pt x="83" y="112"/>
                    </a:moveTo>
                    <a:cubicBezTo>
                      <a:pt x="83" y="17"/>
                      <a:pt x="83" y="17"/>
                      <a:pt x="83" y="17"/>
                    </a:cubicBezTo>
                    <a:cubicBezTo>
                      <a:pt x="55" y="12"/>
                      <a:pt x="27" y="6"/>
                      <a:pt x="0" y="0"/>
                    </a:cubicBezTo>
                    <a:cubicBezTo>
                      <a:pt x="0" y="97"/>
                      <a:pt x="0" y="97"/>
                      <a:pt x="0" y="97"/>
                    </a:cubicBezTo>
                    <a:lnTo>
                      <a:pt x="83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559"/>
            <p:cNvGrpSpPr/>
            <p:nvPr/>
          </p:nvGrpSpPr>
          <p:grpSpPr>
            <a:xfrm>
              <a:off x="3367080" y="1474560"/>
              <a:ext cx="2631960" cy="804960"/>
              <a:chOff x="3367080" y="1474560"/>
              <a:chExt cx="2631960" cy="804960"/>
            </a:xfrm>
          </p:grpSpPr>
          <p:sp>
            <p:nvSpPr>
              <p:cNvPr id="675" name="Freeform 391"/>
              <p:cNvSpPr/>
              <p:nvPr/>
            </p:nvSpPr>
            <p:spPr>
              <a:xfrm>
                <a:off x="3367080" y="2003040"/>
                <a:ext cx="87480" cy="2764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1" h="97">
                    <a:moveTo>
                      <a:pt x="31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51"/>
                      <a:pt x="0" y="73"/>
                      <a:pt x="0" y="97"/>
                    </a:cubicBezTo>
                    <a:cubicBezTo>
                      <a:pt x="30" y="71"/>
                      <a:pt x="30" y="71"/>
                      <a:pt x="30" y="71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46"/>
              <p:cNvSpPr/>
              <p:nvPr/>
            </p:nvSpPr>
            <p:spPr>
              <a:xfrm>
                <a:off x="4979880" y="1655640"/>
                <a:ext cx="225360" cy="2905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142" h="183">
                    <a:moveTo>
                      <a:pt x="140" y="183"/>
                    </a:moveTo>
                    <a:lnTo>
                      <a:pt x="142" y="26"/>
                    </a:lnTo>
                    <a:lnTo>
                      <a:pt x="2" y="0"/>
                    </a:lnTo>
                    <a:lnTo>
                      <a:pt x="0" y="162"/>
                    </a:lnTo>
                    <a:lnTo>
                      <a:pt x="140" y="1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7"/>
              <p:cNvSpPr/>
              <p:nvPr/>
            </p:nvSpPr>
            <p:spPr>
              <a:xfrm>
                <a:off x="5416560" y="1733400"/>
                <a:ext cx="206280" cy="2793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30" h="176">
                    <a:moveTo>
                      <a:pt x="129" y="176"/>
                    </a:moveTo>
                    <a:lnTo>
                      <a:pt x="130" y="23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48"/>
              <p:cNvSpPr/>
              <p:nvPr/>
            </p:nvSpPr>
            <p:spPr>
              <a:xfrm>
                <a:off x="5202360" y="1696680"/>
                <a:ext cx="214200" cy="28440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5" h="179">
                    <a:moveTo>
                      <a:pt x="135" y="179"/>
                    </a:moveTo>
                    <a:lnTo>
                      <a:pt x="135" y="23"/>
                    </a:lnTo>
                    <a:lnTo>
                      <a:pt x="2" y="0"/>
                    </a:lnTo>
                    <a:lnTo>
                      <a:pt x="0" y="157"/>
                    </a:lnTo>
                    <a:lnTo>
                      <a:pt x="135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50"/>
              <p:cNvSpPr/>
              <p:nvPr/>
            </p:nvSpPr>
            <p:spPr>
              <a:xfrm>
                <a:off x="5621400" y="1769760"/>
                <a:ext cx="198360" cy="2732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25" h="172">
                    <a:moveTo>
                      <a:pt x="123" y="172"/>
                    </a:moveTo>
                    <a:lnTo>
                      <a:pt x="125" y="22"/>
                    </a:lnTo>
                    <a:lnTo>
                      <a:pt x="1" y="0"/>
                    </a:lnTo>
                    <a:lnTo>
                      <a:pt x="0" y="153"/>
                    </a:lnTo>
                    <a:lnTo>
                      <a:pt x="123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53"/>
              <p:cNvSpPr/>
              <p:nvPr/>
            </p:nvSpPr>
            <p:spPr>
              <a:xfrm>
                <a:off x="4746600" y="1614240"/>
                <a:ext cx="236520" cy="2984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49" h="188">
                    <a:moveTo>
                      <a:pt x="147" y="188"/>
                    </a:moveTo>
                    <a:lnTo>
                      <a:pt x="149" y="26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47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55"/>
              <p:cNvSpPr/>
              <p:nvPr/>
            </p:nvSpPr>
            <p:spPr>
              <a:xfrm>
                <a:off x="4502160" y="1568160"/>
                <a:ext cx="244440" cy="3063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154" h="193">
                    <a:moveTo>
                      <a:pt x="154" y="193"/>
                    </a:moveTo>
                    <a:lnTo>
                      <a:pt x="154" y="29"/>
                    </a:lnTo>
                    <a:lnTo>
                      <a:pt x="2" y="0"/>
                    </a:lnTo>
                    <a:lnTo>
                      <a:pt x="0" y="170"/>
                    </a:lnTo>
                    <a:lnTo>
                      <a:pt x="154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56"/>
              <p:cNvSpPr/>
              <p:nvPr/>
            </p:nvSpPr>
            <p:spPr>
              <a:xfrm>
                <a:off x="3679920" y="1641240"/>
                <a:ext cx="128520" cy="3650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65040"/>
                  <a:gd name="textAreaBottom" fmla="*/ 365040 h 365040"/>
                </a:gdLst>
                <a:ahLst/>
                <a:rect l="textAreaLeft" t="textAreaTop" r="textAreaRight" b="textAreaBottom"/>
                <a:pathLst>
                  <a:path w="81" h="230">
                    <a:moveTo>
                      <a:pt x="81" y="162"/>
                    </a:moveTo>
                    <a:lnTo>
                      <a:pt x="79" y="0"/>
                    </a:lnTo>
                    <a:lnTo>
                      <a:pt x="0" y="81"/>
                    </a:lnTo>
                    <a:lnTo>
                      <a:pt x="0" y="230"/>
                    </a:lnTo>
                    <a:lnTo>
                      <a:pt x="81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57"/>
              <p:cNvSpPr/>
              <p:nvPr/>
            </p:nvSpPr>
            <p:spPr>
              <a:xfrm>
                <a:off x="3557520" y="1769760"/>
                <a:ext cx="122400" cy="3445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77" h="217">
                    <a:moveTo>
                      <a:pt x="77" y="149"/>
                    </a:moveTo>
                    <a:lnTo>
                      <a:pt x="77" y="0"/>
                    </a:lnTo>
                    <a:lnTo>
                      <a:pt x="2" y="79"/>
                    </a:lnTo>
                    <a:lnTo>
                      <a:pt x="0" y="217"/>
                    </a:lnTo>
                    <a:lnTo>
                      <a:pt x="77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58"/>
              <p:cNvSpPr/>
              <p:nvPr/>
            </p:nvSpPr>
            <p:spPr>
              <a:xfrm>
                <a:off x="3805200" y="1479240"/>
                <a:ext cx="155520" cy="419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98" h="264">
                    <a:moveTo>
                      <a:pt x="98" y="178"/>
                    </a:moveTo>
                    <a:lnTo>
                      <a:pt x="98" y="0"/>
                    </a:lnTo>
                    <a:lnTo>
                      <a:pt x="0" y="102"/>
                    </a:lnTo>
                    <a:lnTo>
                      <a:pt x="2" y="264"/>
                    </a:lnTo>
                    <a:lnTo>
                      <a:pt x="98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59"/>
              <p:cNvSpPr/>
              <p:nvPr/>
            </p:nvSpPr>
            <p:spPr>
              <a:xfrm>
                <a:off x="4249800" y="1522080"/>
                <a:ext cx="255600" cy="316080"/>
              </a:xfrm>
              <a:custGeom>
                <a:avLst/>
                <a:gdLst/>
                <a:ahLst/>
                <a:rect l="l" t="t" r="r" b="b"/>
                <a:pathLst>
                  <a:path w="161" h="199">
                    <a:moveTo>
                      <a:pt x="159" y="199"/>
                    </a:moveTo>
                    <a:lnTo>
                      <a:pt x="161" y="29"/>
                    </a:lnTo>
                    <a:lnTo>
                      <a:pt x="0" y="0"/>
                    </a:lnTo>
                    <a:lnTo>
                      <a:pt x="0" y="174"/>
                    </a:lnTo>
                    <a:lnTo>
                      <a:pt x="15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60"/>
              <p:cNvSpPr/>
              <p:nvPr/>
            </p:nvSpPr>
            <p:spPr>
              <a:xfrm>
                <a:off x="3452760" y="1895400"/>
                <a:ext cx="108000" cy="3092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8" h="195">
                    <a:moveTo>
                      <a:pt x="68" y="0"/>
                    </a:moveTo>
                    <a:lnTo>
                      <a:pt x="1" y="68"/>
                    </a:lnTo>
                    <a:lnTo>
                      <a:pt x="0" y="195"/>
                    </a:lnTo>
                    <a:lnTo>
                      <a:pt x="66" y="1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61"/>
              <p:cNvSpPr/>
              <p:nvPr/>
            </p:nvSpPr>
            <p:spPr>
              <a:xfrm>
                <a:off x="3960720" y="1474560"/>
                <a:ext cx="289080" cy="32400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82" h="204">
                    <a:moveTo>
                      <a:pt x="6" y="177"/>
                    </a:moveTo>
                    <a:lnTo>
                      <a:pt x="182" y="204"/>
                    </a:lnTo>
                    <a:lnTo>
                      <a:pt x="182" y="3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181"/>
                    </a:lnTo>
                    <a:lnTo>
                      <a:pt x="6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553"/>
              <p:cNvSpPr/>
              <p:nvPr/>
            </p:nvSpPr>
            <p:spPr>
              <a:xfrm>
                <a:off x="5819760" y="1812600"/>
                <a:ext cx="179280" cy="2556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13" h="161">
                    <a:moveTo>
                      <a:pt x="2" y="0"/>
                    </a:moveTo>
                    <a:lnTo>
                      <a:pt x="0" y="142"/>
                    </a:lnTo>
                    <a:lnTo>
                      <a:pt x="113" y="161"/>
                    </a:lnTo>
                    <a:lnTo>
                      <a:pt x="113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Group 539"/>
          <p:cNvGrpSpPr/>
          <p:nvPr/>
        </p:nvGrpSpPr>
        <p:grpSpPr>
          <a:xfrm>
            <a:off x="3360600" y="5008680"/>
            <a:ext cx="2620800" cy="958680"/>
            <a:chOff x="3360600" y="5008680"/>
            <a:chExt cx="2620800" cy="958680"/>
          </a:xfrm>
        </p:grpSpPr>
        <p:sp>
          <p:nvSpPr>
            <p:cNvPr id="690" name="Freeform 422"/>
            <p:cNvSpPr/>
            <p:nvPr/>
          </p:nvSpPr>
          <p:spPr>
            <a:xfrm>
              <a:off x="5603760" y="5321520"/>
              <a:ext cx="196920" cy="301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69" h="106">
                  <a:moveTo>
                    <a:pt x="0" y="12"/>
                  </a:moveTo>
                  <a:cubicBezTo>
                    <a:pt x="0" y="106"/>
                    <a:pt x="0" y="106"/>
                    <a:pt x="0" y="106"/>
                  </a:cubicBezTo>
                  <a:cubicBezTo>
                    <a:pt x="26" y="101"/>
                    <a:pt x="49" y="96"/>
                    <a:pt x="69" y="92"/>
                  </a:cubicBezTo>
                  <a:cubicBezTo>
                    <a:pt x="69" y="0"/>
                    <a:pt x="69" y="0"/>
                    <a:pt x="69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23"/>
            <p:cNvSpPr/>
            <p:nvPr/>
          </p:nvSpPr>
          <p:spPr>
            <a:xfrm>
              <a:off x="5800680" y="5288040"/>
              <a:ext cx="180720" cy="2952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4" h="104">
                  <a:moveTo>
                    <a:pt x="0" y="104"/>
                  </a:moveTo>
                  <a:cubicBezTo>
                    <a:pt x="39" y="96"/>
                    <a:pt x="63" y="91"/>
                    <a:pt x="64" y="91"/>
                  </a:cubicBezTo>
                  <a:cubicBezTo>
                    <a:pt x="64" y="90"/>
                    <a:pt x="64" y="56"/>
                    <a:pt x="64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24"/>
            <p:cNvSpPr/>
            <p:nvPr/>
          </p:nvSpPr>
          <p:spPr>
            <a:xfrm>
              <a:off x="5398920" y="5356440"/>
              <a:ext cx="204840" cy="3096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72" h="109">
                  <a:moveTo>
                    <a:pt x="0" y="13"/>
                  </a:moveTo>
                  <a:cubicBezTo>
                    <a:pt x="0" y="109"/>
                    <a:pt x="0" y="109"/>
                    <a:pt x="0" y="109"/>
                  </a:cubicBezTo>
                  <a:cubicBezTo>
                    <a:pt x="25" y="104"/>
                    <a:pt x="49" y="99"/>
                    <a:pt x="72" y="94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33"/>
            <p:cNvSpPr/>
            <p:nvPr/>
          </p:nvSpPr>
          <p:spPr>
            <a:xfrm>
              <a:off x="4732200" y="5392800"/>
              <a:ext cx="666720" cy="4129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34" h="145">
                  <a:moveTo>
                    <a:pt x="159" y="13"/>
                  </a:moveTo>
                  <a:cubicBezTo>
                    <a:pt x="159" y="14"/>
                    <a:pt x="159" y="14"/>
                    <a:pt x="159" y="14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2" y="29"/>
                    <a:pt x="82" y="29"/>
                    <a:pt x="82" y="29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41" y="136"/>
                    <a:pt x="83" y="127"/>
                    <a:pt x="124" y="119"/>
                  </a:cubicBezTo>
                  <a:cubicBezTo>
                    <a:pt x="126" y="20"/>
                    <a:pt x="126" y="20"/>
                    <a:pt x="126" y="20"/>
                  </a:cubicBezTo>
                  <a:cubicBezTo>
                    <a:pt x="124" y="119"/>
                    <a:pt x="124" y="119"/>
                    <a:pt x="124" y="119"/>
                  </a:cubicBezTo>
                  <a:cubicBezTo>
                    <a:pt x="162" y="111"/>
                    <a:pt x="199" y="103"/>
                    <a:pt x="234" y="96"/>
                  </a:cubicBezTo>
                  <a:cubicBezTo>
                    <a:pt x="234" y="0"/>
                    <a:pt x="234" y="0"/>
                    <a:pt x="234" y="0"/>
                  </a:cubicBezTo>
                  <a:lnTo>
                    <a:pt x="15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38"/>
            <p:cNvSpPr/>
            <p:nvPr/>
          </p:nvSpPr>
          <p:spPr>
            <a:xfrm>
              <a:off x="3360600" y="5008680"/>
              <a:ext cx="79200" cy="3268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8" h="115">
                  <a:moveTo>
                    <a:pt x="0" y="0"/>
                  </a:moveTo>
                  <a:cubicBezTo>
                    <a:pt x="0" y="50"/>
                    <a:pt x="0" y="80"/>
                    <a:pt x="0" y="81"/>
                  </a:cubicBezTo>
                  <a:cubicBezTo>
                    <a:pt x="0" y="81"/>
                    <a:pt x="11" y="95"/>
                    <a:pt x="27" y="115"/>
                  </a:cubicBezTo>
                  <a:cubicBezTo>
                    <a:pt x="28" y="30"/>
                    <a:pt x="28" y="30"/>
                    <a:pt x="28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40"/>
            <p:cNvSpPr/>
            <p:nvPr/>
          </p:nvSpPr>
          <p:spPr>
            <a:xfrm>
              <a:off x="3813120" y="5504040"/>
              <a:ext cx="135000" cy="458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47" h="161">
                  <a:moveTo>
                    <a:pt x="0" y="0"/>
                  </a:moveTo>
                  <a:cubicBezTo>
                    <a:pt x="1" y="105"/>
                    <a:pt x="1" y="105"/>
                    <a:pt x="1" y="105"/>
                  </a:cubicBezTo>
                  <a:cubicBezTo>
                    <a:pt x="24" y="133"/>
                    <a:pt x="41" y="155"/>
                    <a:pt x="46" y="161"/>
                  </a:cubicBezTo>
                  <a:cubicBezTo>
                    <a:pt x="47" y="51"/>
                    <a:pt x="47" y="51"/>
                    <a:pt x="47" y="5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41"/>
            <p:cNvSpPr/>
            <p:nvPr/>
          </p:nvSpPr>
          <p:spPr>
            <a:xfrm>
              <a:off x="3944880" y="5554800"/>
              <a:ext cx="546120" cy="4125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92" h="145">
                  <a:moveTo>
                    <a:pt x="103" y="16"/>
                  </a:moveTo>
                  <a:cubicBezTo>
                    <a:pt x="102" y="123"/>
                    <a:pt x="102" y="123"/>
                    <a:pt x="102" y="123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" y="144"/>
                    <a:pt x="2" y="145"/>
                    <a:pt x="2" y="145"/>
                  </a:cubicBezTo>
                  <a:cubicBezTo>
                    <a:pt x="3" y="144"/>
                    <a:pt x="84" y="128"/>
                    <a:pt x="191" y="105"/>
                  </a:cubicBezTo>
                  <a:cubicBezTo>
                    <a:pt x="192" y="0"/>
                    <a:pt x="192" y="0"/>
                    <a:pt x="192" y="0"/>
                  </a:cubicBezTo>
                  <a:lnTo>
                    <a:pt x="10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42"/>
            <p:cNvSpPr/>
            <p:nvPr/>
          </p:nvSpPr>
          <p:spPr>
            <a:xfrm>
              <a:off x="4487760" y="5511960"/>
              <a:ext cx="244440" cy="342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86" h="120">
                  <a:moveTo>
                    <a:pt x="1" y="15"/>
                  </a:moveTo>
                  <a:cubicBezTo>
                    <a:pt x="0" y="120"/>
                    <a:pt x="0" y="120"/>
                    <a:pt x="0" y="120"/>
                  </a:cubicBezTo>
                  <a:cubicBezTo>
                    <a:pt x="27" y="115"/>
                    <a:pt x="56" y="109"/>
                    <a:pt x="86" y="103"/>
                  </a:cubicBezTo>
                  <a:cubicBezTo>
                    <a:pt x="86" y="0"/>
                    <a:pt x="86" y="0"/>
                    <a:pt x="86" y="0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43"/>
            <p:cNvSpPr/>
            <p:nvPr/>
          </p:nvSpPr>
          <p:spPr>
            <a:xfrm>
              <a:off x="3438360" y="5094360"/>
              <a:ext cx="104760" cy="370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37" h="130">
                  <a:moveTo>
                    <a:pt x="1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1" y="98"/>
                    <a:pt x="23" y="113"/>
                    <a:pt x="37" y="130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44"/>
            <p:cNvSpPr/>
            <p:nvPr/>
          </p:nvSpPr>
          <p:spPr>
            <a:xfrm>
              <a:off x="3671640" y="5349960"/>
              <a:ext cx="144720" cy="4525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51" h="159">
                  <a:moveTo>
                    <a:pt x="1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18" y="118"/>
                    <a:pt x="36" y="140"/>
                    <a:pt x="51" y="159"/>
                  </a:cubicBezTo>
                  <a:cubicBezTo>
                    <a:pt x="50" y="54"/>
                    <a:pt x="50" y="54"/>
                    <a:pt x="50" y="5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45"/>
            <p:cNvSpPr/>
            <p:nvPr/>
          </p:nvSpPr>
          <p:spPr>
            <a:xfrm>
              <a:off x="3543120" y="5208840"/>
              <a:ext cx="130320" cy="4143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46" h="146">
                  <a:moveTo>
                    <a:pt x="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" y="108"/>
                    <a:pt x="30" y="127"/>
                    <a:pt x="45" y="146"/>
                  </a:cubicBezTo>
                  <a:cubicBezTo>
                    <a:pt x="46" y="50"/>
                    <a:pt x="46" y="50"/>
                    <a:pt x="46" y="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585"/>
          <p:cNvGrpSpPr/>
          <p:nvPr/>
        </p:nvGrpSpPr>
        <p:grpSpPr>
          <a:xfrm>
            <a:off x="3363840" y="2314440"/>
            <a:ext cx="2635200" cy="750960"/>
            <a:chOff x="3363840" y="2314440"/>
            <a:chExt cx="2635200" cy="750960"/>
          </a:xfrm>
        </p:grpSpPr>
        <p:grpSp>
          <p:nvGrpSpPr>
            <p:cNvPr id="702" name="Group 556"/>
            <p:cNvGrpSpPr/>
            <p:nvPr/>
          </p:nvGrpSpPr>
          <p:grpSpPr>
            <a:xfrm>
              <a:off x="3363840" y="2314440"/>
              <a:ext cx="2635200" cy="554040"/>
              <a:chOff x="3363840" y="2314440"/>
              <a:chExt cx="2635200" cy="554040"/>
            </a:xfrm>
          </p:grpSpPr>
          <p:sp>
            <p:nvSpPr>
              <p:cNvPr id="703" name="Freeform 550"/>
              <p:cNvSpPr/>
              <p:nvPr/>
            </p:nvSpPr>
            <p:spPr>
              <a:xfrm>
                <a:off x="5815080" y="2514600"/>
                <a:ext cx="183960" cy="2458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16" h="155">
                    <a:moveTo>
                      <a:pt x="0" y="0"/>
                    </a:moveTo>
                    <a:lnTo>
                      <a:pt x="0" y="147"/>
                    </a:lnTo>
                    <a:lnTo>
                      <a:pt x="116" y="155"/>
                    </a:lnTo>
                    <a:lnTo>
                      <a:pt x="1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88"/>
              <p:cNvSpPr/>
              <p:nvPr/>
            </p:nvSpPr>
            <p:spPr>
              <a:xfrm>
                <a:off x="3676680" y="2409840"/>
                <a:ext cx="131760" cy="3142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83" h="198">
                    <a:moveTo>
                      <a:pt x="83" y="0"/>
                    </a:moveTo>
                    <a:lnTo>
                      <a:pt x="0" y="49"/>
                    </a:lnTo>
                    <a:lnTo>
                      <a:pt x="0" y="198"/>
                    </a:lnTo>
                    <a:lnTo>
                      <a:pt x="83" y="16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12"/>
              <p:cNvSpPr/>
              <p:nvPr/>
            </p:nvSpPr>
            <p:spPr>
              <a:xfrm>
                <a:off x="5199120" y="2447640"/>
                <a:ext cx="214200" cy="2667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35" h="168">
                    <a:moveTo>
                      <a:pt x="0" y="156"/>
                    </a:moveTo>
                    <a:lnTo>
                      <a:pt x="135" y="168"/>
                    </a:lnTo>
                    <a:lnTo>
                      <a:pt x="135" y="14"/>
                    </a:lnTo>
                    <a:lnTo>
                      <a:pt x="0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26"/>
              <p:cNvSpPr/>
              <p:nvPr/>
            </p:nvSpPr>
            <p:spPr>
              <a:xfrm>
                <a:off x="3554280" y="2487600"/>
                <a:ext cx="122400" cy="2934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77" h="185">
                    <a:moveTo>
                      <a:pt x="77" y="0"/>
                    </a:moveTo>
                    <a:lnTo>
                      <a:pt x="2" y="46"/>
                    </a:lnTo>
                    <a:lnTo>
                      <a:pt x="0" y="185"/>
                    </a:lnTo>
                    <a:lnTo>
                      <a:pt x="77" y="149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1"/>
              <p:cNvSpPr/>
              <p:nvPr/>
            </p:nvSpPr>
            <p:spPr>
              <a:xfrm>
                <a:off x="4976640" y="2422440"/>
                <a:ext cx="222480" cy="2728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40" h="172">
                    <a:moveTo>
                      <a:pt x="0" y="161"/>
                    </a:moveTo>
                    <a:lnTo>
                      <a:pt x="140" y="172"/>
                    </a:lnTo>
                    <a:lnTo>
                      <a:pt x="140" y="16"/>
                    </a:lnTo>
                    <a:lnTo>
                      <a:pt x="0" y="0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5"/>
              <p:cNvSpPr/>
              <p:nvPr/>
            </p:nvSpPr>
            <p:spPr>
              <a:xfrm>
                <a:off x="4246560" y="2344680"/>
                <a:ext cx="255600" cy="2937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1" h="185">
                    <a:moveTo>
                      <a:pt x="159" y="185"/>
                    </a:moveTo>
                    <a:lnTo>
                      <a:pt x="161" y="16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159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6"/>
              <p:cNvSpPr/>
              <p:nvPr/>
            </p:nvSpPr>
            <p:spPr>
              <a:xfrm>
                <a:off x="3959280" y="2314440"/>
                <a:ext cx="287280" cy="3016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81" h="190">
                    <a:moveTo>
                      <a:pt x="3" y="175"/>
                    </a:moveTo>
                    <a:lnTo>
                      <a:pt x="181" y="190"/>
                    </a:lnTo>
                    <a:lnTo>
                      <a:pt x="181" y="19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77"/>
                    </a:lnTo>
                    <a:lnTo>
                      <a:pt x="3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7"/>
              <p:cNvSpPr/>
              <p:nvPr/>
            </p:nvSpPr>
            <p:spPr>
              <a:xfrm>
                <a:off x="3808440" y="2315880"/>
                <a:ext cx="150840" cy="3477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95" h="219">
                    <a:moveTo>
                      <a:pt x="95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95" y="17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8"/>
              <p:cNvSpPr/>
              <p:nvPr/>
            </p:nvSpPr>
            <p:spPr>
              <a:xfrm>
                <a:off x="4743360" y="2398680"/>
                <a:ext cx="233280" cy="279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7" h="176">
                    <a:moveTo>
                      <a:pt x="147" y="176"/>
                    </a:moveTo>
                    <a:lnTo>
                      <a:pt x="147" y="15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47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9"/>
              <p:cNvSpPr/>
              <p:nvPr/>
            </p:nvSpPr>
            <p:spPr>
              <a:xfrm>
                <a:off x="4498920" y="2369880"/>
                <a:ext cx="244440" cy="2876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54" h="181">
                    <a:moveTo>
                      <a:pt x="154" y="181"/>
                    </a:moveTo>
                    <a:lnTo>
                      <a:pt x="154" y="18"/>
                    </a:lnTo>
                    <a:lnTo>
                      <a:pt x="2" y="0"/>
                    </a:lnTo>
                    <a:lnTo>
                      <a:pt x="0" y="169"/>
                    </a:lnTo>
                    <a:lnTo>
                      <a:pt x="154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400"/>
              <p:cNvSpPr/>
              <p:nvPr/>
            </p:nvSpPr>
            <p:spPr>
              <a:xfrm>
                <a:off x="3363840" y="2624040"/>
                <a:ext cx="88920" cy="2444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1" h="86">
                    <a:moveTo>
                      <a:pt x="31" y="0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40"/>
                      <a:pt x="0" y="63"/>
                      <a:pt x="0" y="86"/>
                    </a:cubicBezTo>
                    <a:cubicBezTo>
                      <a:pt x="30" y="72"/>
                      <a:pt x="30" y="72"/>
                      <a:pt x="30" y="72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407"/>
              <p:cNvSpPr/>
              <p:nvPr/>
            </p:nvSpPr>
            <p:spPr>
              <a:xfrm>
                <a:off x="5618160" y="2492280"/>
                <a:ext cx="198360" cy="2538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25" h="160">
                    <a:moveTo>
                      <a:pt x="0" y="0"/>
                    </a:moveTo>
                    <a:lnTo>
                      <a:pt x="0" y="151"/>
                    </a:lnTo>
                    <a:lnTo>
                      <a:pt x="124" y="160"/>
                    </a:lnTo>
                    <a:lnTo>
                      <a:pt x="125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465"/>
              <p:cNvSpPr/>
              <p:nvPr/>
            </p:nvSpPr>
            <p:spPr>
              <a:xfrm>
                <a:off x="5413320" y="2469960"/>
                <a:ext cx="204840" cy="2620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0" y="154"/>
                    </a:moveTo>
                    <a:lnTo>
                      <a:pt x="129" y="165"/>
                    </a:lnTo>
                    <a:lnTo>
                      <a:pt x="129" y="14"/>
                    </a:lnTo>
                    <a:lnTo>
                      <a:pt x="0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495"/>
              <p:cNvSpPr/>
              <p:nvPr/>
            </p:nvSpPr>
            <p:spPr>
              <a:xfrm>
                <a:off x="3449520" y="2560680"/>
                <a:ext cx="108000" cy="2682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68" h="169">
                    <a:moveTo>
                      <a:pt x="68" y="0"/>
                    </a:moveTo>
                    <a:lnTo>
                      <a:pt x="2" y="40"/>
                    </a:lnTo>
                    <a:lnTo>
                      <a:pt x="0" y="169"/>
                    </a:lnTo>
                    <a:lnTo>
                      <a:pt x="66" y="1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549"/>
            <p:cNvGrpSpPr/>
            <p:nvPr/>
          </p:nvGrpSpPr>
          <p:grpSpPr>
            <a:xfrm>
              <a:off x="3363840" y="2592360"/>
              <a:ext cx="2631960" cy="473040"/>
              <a:chOff x="3363840" y="2592360"/>
              <a:chExt cx="2631960" cy="473040"/>
            </a:xfrm>
          </p:grpSpPr>
          <p:sp>
            <p:nvSpPr>
              <p:cNvPr id="718" name="Freeform 289"/>
              <p:cNvSpPr/>
              <p:nvPr/>
            </p:nvSpPr>
            <p:spPr>
              <a:xfrm>
                <a:off x="3676680" y="2663640"/>
                <a:ext cx="131760" cy="3016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90">
                    <a:moveTo>
                      <a:pt x="83" y="0"/>
                    </a:moveTo>
                    <a:lnTo>
                      <a:pt x="0" y="38"/>
                    </a:lnTo>
                    <a:lnTo>
                      <a:pt x="0" y="190"/>
                    </a:lnTo>
                    <a:lnTo>
                      <a:pt x="83" y="16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19"/>
              <p:cNvSpPr/>
              <p:nvPr/>
            </p:nvSpPr>
            <p:spPr>
              <a:xfrm>
                <a:off x="3554280" y="2724120"/>
                <a:ext cx="122400" cy="281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77" h="177">
                    <a:moveTo>
                      <a:pt x="77" y="0"/>
                    </a:moveTo>
                    <a:lnTo>
                      <a:pt x="0" y="36"/>
                    </a:lnTo>
                    <a:lnTo>
                      <a:pt x="0" y="177"/>
                    </a:lnTo>
                    <a:lnTo>
                      <a:pt x="77" y="15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38"/>
              <p:cNvSpPr/>
              <p:nvPr/>
            </p:nvSpPr>
            <p:spPr>
              <a:xfrm>
                <a:off x="3956040" y="2592360"/>
                <a:ext cx="290520" cy="29844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83" h="188">
                    <a:moveTo>
                      <a:pt x="183" y="188"/>
                    </a:moveTo>
                    <a:lnTo>
                      <a:pt x="183" y="15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183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52"/>
              <p:cNvSpPr/>
              <p:nvPr/>
            </p:nvSpPr>
            <p:spPr>
              <a:xfrm>
                <a:off x="4498920" y="2638440"/>
                <a:ext cx="244440" cy="2808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154" h="177">
                    <a:moveTo>
                      <a:pt x="153" y="177"/>
                    </a:moveTo>
                    <a:lnTo>
                      <a:pt x="154" y="12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53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55"/>
              <p:cNvSpPr/>
              <p:nvPr/>
            </p:nvSpPr>
            <p:spPr>
              <a:xfrm>
                <a:off x="4246560" y="2616120"/>
                <a:ext cx="252360" cy="2890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159" h="182">
                    <a:moveTo>
                      <a:pt x="159" y="182"/>
                    </a:moveTo>
                    <a:lnTo>
                      <a:pt x="159" y="14"/>
                    </a:lnTo>
                    <a:lnTo>
                      <a:pt x="0" y="0"/>
                    </a:lnTo>
                    <a:lnTo>
                      <a:pt x="0" y="173"/>
                    </a:lnTo>
                    <a:lnTo>
                      <a:pt x="159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70"/>
              <p:cNvSpPr/>
              <p:nvPr/>
            </p:nvSpPr>
            <p:spPr>
              <a:xfrm>
                <a:off x="4976640" y="2678040"/>
                <a:ext cx="222480" cy="266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40" h="168">
                    <a:moveTo>
                      <a:pt x="0" y="161"/>
                    </a:moveTo>
                    <a:lnTo>
                      <a:pt x="140" y="168"/>
                    </a:lnTo>
                    <a:lnTo>
                      <a:pt x="140" y="11"/>
                    </a:lnTo>
                    <a:lnTo>
                      <a:pt x="0" y="0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80"/>
              <p:cNvSpPr/>
              <p:nvPr/>
            </p:nvSpPr>
            <p:spPr>
              <a:xfrm>
                <a:off x="3808440" y="2595600"/>
                <a:ext cx="150840" cy="32688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326880"/>
                  <a:gd name="textAreaBottom" fmla="*/ 326880 h 326880"/>
                </a:gdLst>
                <a:ahLst/>
                <a:rect l="textAreaLeft" t="textAreaTop" r="textAreaRight" b="textAreaBottom"/>
                <a:pathLst>
                  <a:path w="95" h="206">
                    <a:moveTo>
                      <a:pt x="95" y="0"/>
                    </a:moveTo>
                    <a:lnTo>
                      <a:pt x="0" y="43"/>
                    </a:lnTo>
                    <a:lnTo>
                      <a:pt x="0" y="206"/>
                    </a:lnTo>
                    <a:lnTo>
                      <a:pt x="93" y="17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83"/>
              <p:cNvSpPr/>
              <p:nvPr/>
            </p:nvSpPr>
            <p:spPr>
              <a:xfrm>
                <a:off x="4741920" y="2657520"/>
                <a:ext cx="234720" cy="2761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48" h="174">
                    <a:moveTo>
                      <a:pt x="0" y="165"/>
                    </a:moveTo>
                    <a:lnTo>
                      <a:pt x="148" y="174"/>
                    </a:lnTo>
                    <a:lnTo>
                      <a:pt x="148" y="13"/>
                    </a:lnTo>
                    <a:lnTo>
                      <a:pt x="1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88"/>
              <p:cNvSpPr/>
              <p:nvPr/>
            </p:nvSpPr>
            <p:spPr>
              <a:xfrm>
                <a:off x="5199120" y="2695680"/>
                <a:ext cx="214200" cy="26352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35" h="166">
                    <a:moveTo>
                      <a:pt x="0" y="157"/>
                    </a:moveTo>
                    <a:lnTo>
                      <a:pt x="133" y="166"/>
                    </a:lnTo>
                    <a:lnTo>
                      <a:pt x="135" y="12"/>
                    </a:lnTo>
                    <a:lnTo>
                      <a:pt x="0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01"/>
              <p:cNvSpPr/>
              <p:nvPr/>
            </p:nvSpPr>
            <p:spPr>
              <a:xfrm>
                <a:off x="3363840" y="2828880"/>
                <a:ext cx="85680" cy="2365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30" h="83">
                    <a:moveTo>
                      <a:pt x="30" y="0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37"/>
                      <a:pt x="0" y="60"/>
                      <a:pt x="0" y="83"/>
                    </a:cubicBezTo>
                    <a:cubicBezTo>
                      <a:pt x="30" y="74"/>
                      <a:pt x="30" y="74"/>
                      <a:pt x="30" y="74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405"/>
              <p:cNvSpPr/>
              <p:nvPr/>
            </p:nvSpPr>
            <p:spPr>
              <a:xfrm>
                <a:off x="5618160" y="2732040"/>
                <a:ext cx="196920" cy="2509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124" h="158">
                    <a:moveTo>
                      <a:pt x="0" y="151"/>
                    </a:moveTo>
                    <a:lnTo>
                      <a:pt x="124" y="158"/>
                    </a:lnTo>
                    <a:lnTo>
                      <a:pt x="124" y="9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27"/>
              <p:cNvSpPr/>
              <p:nvPr/>
            </p:nvSpPr>
            <p:spPr>
              <a:xfrm>
                <a:off x="5815080" y="2746440"/>
                <a:ext cx="180720" cy="2476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4" h="87">
                    <a:moveTo>
                      <a:pt x="0" y="0"/>
                    </a:moveTo>
                    <a:cubicBezTo>
                      <a:pt x="0" y="83"/>
                      <a:pt x="0" y="83"/>
                      <a:pt x="0" y="83"/>
                    </a:cubicBezTo>
                    <a:cubicBezTo>
                      <a:pt x="64" y="87"/>
                      <a:pt x="64" y="87"/>
                      <a:pt x="64" y="87"/>
                    </a:cubicBezTo>
                    <a:cubicBezTo>
                      <a:pt x="64" y="59"/>
                      <a:pt x="64" y="32"/>
                      <a:pt x="64" y="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71"/>
              <p:cNvSpPr/>
              <p:nvPr/>
            </p:nvSpPr>
            <p:spPr>
              <a:xfrm>
                <a:off x="5410080" y="2714760"/>
                <a:ext cx="208080" cy="2570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31" h="162">
                    <a:moveTo>
                      <a:pt x="0" y="154"/>
                    </a:moveTo>
                    <a:lnTo>
                      <a:pt x="131" y="162"/>
                    </a:lnTo>
                    <a:lnTo>
                      <a:pt x="131" y="11"/>
                    </a:lnTo>
                    <a:lnTo>
                      <a:pt x="2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92"/>
              <p:cNvSpPr/>
              <p:nvPr/>
            </p:nvSpPr>
            <p:spPr>
              <a:xfrm>
                <a:off x="3449520" y="2781360"/>
                <a:ext cx="104760" cy="2588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66" h="163">
                    <a:moveTo>
                      <a:pt x="66" y="0"/>
                    </a:moveTo>
                    <a:lnTo>
                      <a:pt x="0" y="30"/>
                    </a:lnTo>
                    <a:lnTo>
                      <a:pt x="0" y="163"/>
                    </a:lnTo>
                    <a:lnTo>
                      <a:pt x="66" y="1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584"/>
          <p:cNvGrpSpPr/>
          <p:nvPr/>
        </p:nvGrpSpPr>
        <p:grpSpPr>
          <a:xfrm>
            <a:off x="3363840" y="2874960"/>
            <a:ext cx="2631960" cy="582480"/>
            <a:chOff x="3363840" y="2874960"/>
            <a:chExt cx="2631960" cy="582480"/>
          </a:xfrm>
        </p:grpSpPr>
        <p:grpSp>
          <p:nvGrpSpPr>
            <p:cNvPr id="733" name="Group 547"/>
            <p:cNvGrpSpPr/>
            <p:nvPr/>
          </p:nvGrpSpPr>
          <p:grpSpPr>
            <a:xfrm>
              <a:off x="3363840" y="3151080"/>
              <a:ext cx="2631960" cy="306360"/>
              <a:chOff x="3363840" y="3151080"/>
              <a:chExt cx="2631960" cy="306360"/>
            </a:xfrm>
          </p:grpSpPr>
          <p:sp>
            <p:nvSpPr>
              <p:cNvPr id="734" name="Freeform 282"/>
              <p:cNvSpPr/>
              <p:nvPr/>
            </p:nvSpPr>
            <p:spPr>
              <a:xfrm>
                <a:off x="5197320" y="3195360"/>
                <a:ext cx="212760" cy="2509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134" h="158">
                    <a:moveTo>
                      <a:pt x="0" y="156"/>
                    </a:moveTo>
                    <a:lnTo>
                      <a:pt x="132" y="158"/>
                    </a:lnTo>
                    <a:lnTo>
                      <a:pt x="134" y="4"/>
                    </a:lnTo>
                    <a:lnTo>
                      <a:pt x="0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97"/>
              <p:cNvSpPr/>
              <p:nvPr/>
            </p:nvSpPr>
            <p:spPr>
              <a:xfrm>
                <a:off x="3676680" y="3178080"/>
                <a:ext cx="133200" cy="2649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84" h="167">
                    <a:moveTo>
                      <a:pt x="84" y="0"/>
                    </a:moveTo>
                    <a:lnTo>
                      <a:pt x="0" y="17"/>
                    </a:lnTo>
                    <a:lnTo>
                      <a:pt x="0" y="167"/>
                    </a:lnTo>
                    <a:lnTo>
                      <a:pt x="84" y="164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07"/>
              <p:cNvSpPr/>
              <p:nvPr/>
            </p:nvSpPr>
            <p:spPr>
              <a:xfrm>
                <a:off x="3551040" y="3205080"/>
                <a:ext cx="125640" cy="24444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79" h="154">
                    <a:moveTo>
                      <a:pt x="79" y="0"/>
                    </a:moveTo>
                    <a:lnTo>
                      <a:pt x="0" y="14"/>
                    </a:lnTo>
                    <a:lnTo>
                      <a:pt x="0" y="154"/>
                    </a:lnTo>
                    <a:lnTo>
                      <a:pt x="79" y="15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37"/>
              <p:cNvSpPr/>
              <p:nvPr/>
            </p:nvSpPr>
            <p:spPr>
              <a:xfrm>
                <a:off x="3956040" y="3151080"/>
                <a:ext cx="287280" cy="2811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81" h="177">
                    <a:moveTo>
                      <a:pt x="181" y="177"/>
                    </a:moveTo>
                    <a:lnTo>
                      <a:pt x="181" y="7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75"/>
                    </a:lnTo>
                    <a:lnTo>
                      <a:pt x="3" y="175"/>
                    </a:lnTo>
                    <a:lnTo>
                      <a:pt x="181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40"/>
              <p:cNvSpPr/>
              <p:nvPr/>
            </p:nvSpPr>
            <p:spPr>
              <a:xfrm>
                <a:off x="4741920" y="3178080"/>
                <a:ext cx="233280" cy="26208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0" y="164"/>
                    </a:moveTo>
                    <a:lnTo>
                      <a:pt x="147" y="165"/>
                    </a:lnTo>
                    <a:lnTo>
                      <a:pt x="147" y="6"/>
                    </a:lnTo>
                    <a:lnTo>
                      <a:pt x="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47"/>
              <p:cNvSpPr/>
              <p:nvPr/>
            </p:nvSpPr>
            <p:spPr>
              <a:xfrm>
                <a:off x="4243320" y="3162240"/>
                <a:ext cx="255600" cy="27288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61" h="172">
                    <a:moveTo>
                      <a:pt x="161" y="5"/>
                    </a:moveTo>
                    <a:lnTo>
                      <a:pt x="0" y="0"/>
                    </a:lnTo>
                    <a:lnTo>
                      <a:pt x="0" y="170"/>
                    </a:lnTo>
                    <a:lnTo>
                      <a:pt x="160" y="172"/>
                    </a:lnTo>
                    <a:lnTo>
                      <a:pt x="16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56"/>
              <p:cNvSpPr/>
              <p:nvPr/>
            </p:nvSpPr>
            <p:spPr>
              <a:xfrm>
                <a:off x="4497480" y="3170160"/>
                <a:ext cx="244440" cy="2682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54" h="169">
                    <a:moveTo>
                      <a:pt x="0" y="167"/>
                    </a:moveTo>
                    <a:lnTo>
                      <a:pt x="154" y="169"/>
                    </a:lnTo>
                    <a:lnTo>
                      <a:pt x="154" y="5"/>
                    </a:lnTo>
                    <a:lnTo>
                      <a:pt x="1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72"/>
              <p:cNvSpPr/>
              <p:nvPr/>
            </p:nvSpPr>
            <p:spPr>
              <a:xfrm>
                <a:off x="4975200" y="3187440"/>
                <a:ext cx="222120" cy="2556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40" h="161">
                    <a:moveTo>
                      <a:pt x="0" y="159"/>
                    </a:moveTo>
                    <a:lnTo>
                      <a:pt x="140" y="161"/>
                    </a:lnTo>
                    <a:lnTo>
                      <a:pt x="140" y="5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86"/>
              <p:cNvSpPr/>
              <p:nvPr/>
            </p:nvSpPr>
            <p:spPr>
              <a:xfrm>
                <a:off x="3809880" y="3152520"/>
                <a:ext cx="146160" cy="285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92" h="180">
                    <a:moveTo>
                      <a:pt x="92" y="0"/>
                    </a:moveTo>
                    <a:lnTo>
                      <a:pt x="0" y="16"/>
                    </a:lnTo>
                    <a:lnTo>
                      <a:pt x="0" y="180"/>
                    </a:lnTo>
                    <a:lnTo>
                      <a:pt x="92" y="174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97"/>
              <p:cNvSpPr/>
              <p:nvPr/>
            </p:nvSpPr>
            <p:spPr>
              <a:xfrm>
                <a:off x="3363840" y="3244680"/>
                <a:ext cx="85680" cy="2127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0" h="75">
                    <a:moveTo>
                      <a:pt x="3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29"/>
                      <a:pt x="0" y="52"/>
                      <a:pt x="0" y="75"/>
                    </a:cubicBezTo>
                    <a:cubicBezTo>
                      <a:pt x="29" y="73"/>
                      <a:pt x="29" y="73"/>
                      <a:pt x="29" y="73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06"/>
              <p:cNvSpPr/>
              <p:nvPr/>
            </p:nvSpPr>
            <p:spPr>
              <a:xfrm>
                <a:off x="5614920" y="3209760"/>
                <a:ext cx="196920" cy="24300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24" h="153">
                    <a:moveTo>
                      <a:pt x="0" y="151"/>
                    </a:moveTo>
                    <a:lnTo>
                      <a:pt x="124" y="153"/>
                    </a:lnTo>
                    <a:lnTo>
                      <a:pt x="124" y="4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28"/>
              <p:cNvSpPr/>
              <p:nvPr/>
            </p:nvSpPr>
            <p:spPr>
              <a:xfrm>
                <a:off x="5811840" y="3216240"/>
                <a:ext cx="183960" cy="237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65" h="84">
                    <a:moveTo>
                      <a:pt x="0" y="83"/>
                    </a:move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57"/>
                      <a:pt x="64" y="30"/>
                      <a:pt x="65" y="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69"/>
              <p:cNvSpPr/>
              <p:nvPr/>
            </p:nvSpPr>
            <p:spPr>
              <a:xfrm>
                <a:off x="5406840" y="3201840"/>
                <a:ext cx="208080" cy="2476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31" h="156">
                    <a:moveTo>
                      <a:pt x="0" y="154"/>
                    </a:moveTo>
                    <a:lnTo>
                      <a:pt x="131" y="156"/>
                    </a:lnTo>
                    <a:lnTo>
                      <a:pt x="131" y="5"/>
                    </a:lnTo>
                    <a:lnTo>
                      <a:pt x="2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94"/>
              <p:cNvSpPr/>
              <p:nvPr/>
            </p:nvSpPr>
            <p:spPr>
              <a:xfrm>
                <a:off x="3446280" y="3227400"/>
                <a:ext cx="104760" cy="225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66" h="142">
                    <a:moveTo>
                      <a:pt x="66" y="0"/>
                    </a:moveTo>
                    <a:lnTo>
                      <a:pt x="2" y="11"/>
                    </a:lnTo>
                    <a:lnTo>
                      <a:pt x="0" y="142"/>
                    </a:lnTo>
                    <a:lnTo>
                      <a:pt x="66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548"/>
            <p:cNvGrpSpPr/>
            <p:nvPr/>
          </p:nvGrpSpPr>
          <p:grpSpPr>
            <a:xfrm>
              <a:off x="3363840" y="2874960"/>
              <a:ext cx="2631960" cy="385920"/>
              <a:chOff x="3363840" y="2874960"/>
              <a:chExt cx="2631960" cy="385920"/>
            </a:xfrm>
          </p:grpSpPr>
          <p:sp>
            <p:nvSpPr>
              <p:cNvPr id="749" name="Freeform 287"/>
              <p:cNvSpPr/>
              <p:nvPr/>
            </p:nvSpPr>
            <p:spPr>
              <a:xfrm>
                <a:off x="3676680" y="2922480"/>
                <a:ext cx="133200" cy="2826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4" h="178">
                    <a:moveTo>
                      <a:pt x="83" y="0"/>
                    </a:moveTo>
                    <a:lnTo>
                      <a:pt x="0" y="27"/>
                    </a:lnTo>
                    <a:lnTo>
                      <a:pt x="0" y="178"/>
                    </a:lnTo>
                    <a:lnTo>
                      <a:pt x="84" y="161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93"/>
              <p:cNvSpPr/>
              <p:nvPr/>
            </p:nvSpPr>
            <p:spPr>
              <a:xfrm>
                <a:off x="5197320" y="2944800"/>
                <a:ext cx="212760" cy="2570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34" h="162">
                    <a:moveTo>
                      <a:pt x="0" y="158"/>
                    </a:moveTo>
                    <a:lnTo>
                      <a:pt x="134" y="162"/>
                    </a:lnTo>
                    <a:lnTo>
                      <a:pt x="134" y="9"/>
                    </a:lnTo>
                    <a:lnTo>
                      <a:pt x="1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11"/>
              <p:cNvSpPr/>
              <p:nvPr/>
            </p:nvSpPr>
            <p:spPr>
              <a:xfrm>
                <a:off x="3551040" y="2965320"/>
                <a:ext cx="125640" cy="2620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79" h="165">
                    <a:moveTo>
                      <a:pt x="79" y="0"/>
                    </a:moveTo>
                    <a:lnTo>
                      <a:pt x="2" y="25"/>
                    </a:lnTo>
                    <a:lnTo>
                      <a:pt x="0" y="165"/>
                    </a:lnTo>
                    <a:lnTo>
                      <a:pt x="79" y="15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35"/>
              <p:cNvSpPr/>
              <p:nvPr/>
            </p:nvSpPr>
            <p:spPr>
              <a:xfrm>
                <a:off x="3956040" y="2874960"/>
                <a:ext cx="290520" cy="2872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83" h="181">
                    <a:moveTo>
                      <a:pt x="181" y="181"/>
                    </a:moveTo>
                    <a:lnTo>
                      <a:pt x="183" y="1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75"/>
                    </a:lnTo>
                    <a:lnTo>
                      <a:pt x="5" y="174"/>
                    </a:lnTo>
                    <a:lnTo>
                      <a:pt x="181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45"/>
              <p:cNvSpPr/>
              <p:nvPr/>
            </p:nvSpPr>
            <p:spPr>
              <a:xfrm>
                <a:off x="4498920" y="2905200"/>
                <a:ext cx="243000" cy="27288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53" h="172">
                    <a:moveTo>
                      <a:pt x="0" y="167"/>
                    </a:moveTo>
                    <a:lnTo>
                      <a:pt x="153" y="172"/>
                    </a:lnTo>
                    <a:lnTo>
                      <a:pt x="153" y="9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50"/>
              <p:cNvSpPr/>
              <p:nvPr/>
            </p:nvSpPr>
            <p:spPr>
              <a:xfrm>
                <a:off x="4243320" y="2890800"/>
                <a:ext cx="255600" cy="2793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61" h="176">
                    <a:moveTo>
                      <a:pt x="161" y="9"/>
                    </a:moveTo>
                    <a:lnTo>
                      <a:pt x="2" y="0"/>
                    </a:lnTo>
                    <a:lnTo>
                      <a:pt x="0" y="171"/>
                    </a:lnTo>
                    <a:lnTo>
                      <a:pt x="161" y="176"/>
                    </a:lnTo>
                    <a:lnTo>
                      <a:pt x="16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54"/>
              <p:cNvSpPr/>
              <p:nvPr/>
            </p:nvSpPr>
            <p:spPr>
              <a:xfrm>
                <a:off x="4741920" y="2919240"/>
                <a:ext cx="234720" cy="2685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148" h="169">
                    <a:moveTo>
                      <a:pt x="0" y="163"/>
                    </a:moveTo>
                    <a:lnTo>
                      <a:pt x="147" y="169"/>
                    </a:lnTo>
                    <a:lnTo>
                      <a:pt x="148" y="9"/>
                    </a:lnTo>
                    <a:lnTo>
                      <a:pt x="0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73"/>
              <p:cNvSpPr/>
              <p:nvPr/>
            </p:nvSpPr>
            <p:spPr>
              <a:xfrm>
                <a:off x="4975200" y="2933640"/>
                <a:ext cx="223920" cy="26208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41" h="165">
                    <a:moveTo>
                      <a:pt x="0" y="160"/>
                    </a:moveTo>
                    <a:lnTo>
                      <a:pt x="140" y="165"/>
                    </a:lnTo>
                    <a:lnTo>
                      <a:pt x="141" y="7"/>
                    </a:lnTo>
                    <a:lnTo>
                      <a:pt x="1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81"/>
              <p:cNvSpPr/>
              <p:nvPr/>
            </p:nvSpPr>
            <p:spPr>
              <a:xfrm>
                <a:off x="3808440" y="2874960"/>
                <a:ext cx="147600" cy="30312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93" h="191">
                    <a:moveTo>
                      <a:pt x="93" y="0"/>
                    </a:moveTo>
                    <a:lnTo>
                      <a:pt x="0" y="30"/>
                    </a:lnTo>
                    <a:lnTo>
                      <a:pt x="1" y="191"/>
                    </a:lnTo>
                    <a:lnTo>
                      <a:pt x="93" y="175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99"/>
              <p:cNvSpPr/>
              <p:nvPr/>
            </p:nvSpPr>
            <p:spPr>
              <a:xfrm>
                <a:off x="3363840" y="3040200"/>
                <a:ext cx="85680" cy="2206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30" y="0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32"/>
                      <a:pt x="0" y="55"/>
                      <a:pt x="0" y="78"/>
                    </a:cubicBezTo>
                    <a:cubicBezTo>
                      <a:pt x="30" y="72"/>
                      <a:pt x="30" y="72"/>
                      <a:pt x="30" y="72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04"/>
              <p:cNvSpPr/>
              <p:nvPr/>
            </p:nvSpPr>
            <p:spPr>
              <a:xfrm>
                <a:off x="5614920" y="2971800"/>
                <a:ext cx="200160" cy="24444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26" h="154">
                    <a:moveTo>
                      <a:pt x="0" y="150"/>
                    </a:moveTo>
                    <a:lnTo>
                      <a:pt x="124" y="154"/>
                    </a:lnTo>
                    <a:lnTo>
                      <a:pt x="126" y="7"/>
                    </a:lnTo>
                    <a:lnTo>
                      <a:pt x="2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9"/>
              <p:cNvSpPr/>
              <p:nvPr/>
            </p:nvSpPr>
            <p:spPr>
              <a:xfrm>
                <a:off x="5811840" y="2982960"/>
                <a:ext cx="183960" cy="2412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65" h="85">
                    <a:moveTo>
                      <a:pt x="0" y="82"/>
                    </a:moveTo>
                    <a:cubicBezTo>
                      <a:pt x="65" y="85"/>
                      <a:pt x="65" y="85"/>
                      <a:pt x="65" y="85"/>
                    </a:cubicBezTo>
                    <a:cubicBezTo>
                      <a:pt x="65" y="58"/>
                      <a:pt x="65" y="31"/>
                      <a:pt x="65" y="4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70"/>
              <p:cNvSpPr/>
              <p:nvPr/>
            </p:nvSpPr>
            <p:spPr>
              <a:xfrm>
                <a:off x="5410080" y="2959200"/>
                <a:ext cx="208080" cy="250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31" h="158">
                    <a:moveTo>
                      <a:pt x="0" y="153"/>
                    </a:moveTo>
                    <a:lnTo>
                      <a:pt x="129" y="158"/>
                    </a:lnTo>
                    <a:lnTo>
                      <a:pt x="131" y="8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98"/>
              <p:cNvSpPr/>
              <p:nvPr/>
            </p:nvSpPr>
            <p:spPr>
              <a:xfrm>
                <a:off x="3449520" y="3005280"/>
                <a:ext cx="104760" cy="239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66" h="151">
                    <a:moveTo>
                      <a:pt x="66" y="0"/>
                    </a:moveTo>
                    <a:lnTo>
                      <a:pt x="0" y="22"/>
                    </a:lnTo>
                    <a:lnTo>
                      <a:pt x="0" y="151"/>
                    </a:lnTo>
                    <a:lnTo>
                      <a:pt x="64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Group 586"/>
          <p:cNvGrpSpPr/>
          <p:nvPr/>
        </p:nvGrpSpPr>
        <p:grpSpPr>
          <a:xfrm>
            <a:off x="3363840" y="1755720"/>
            <a:ext cx="2635200" cy="919080"/>
            <a:chOff x="3363840" y="1755720"/>
            <a:chExt cx="2635200" cy="919080"/>
          </a:xfrm>
        </p:grpSpPr>
        <p:grpSp>
          <p:nvGrpSpPr>
            <p:cNvPr id="764" name="Group 557"/>
            <p:cNvGrpSpPr/>
            <p:nvPr/>
          </p:nvGrpSpPr>
          <p:grpSpPr>
            <a:xfrm>
              <a:off x="3363840" y="2035080"/>
              <a:ext cx="2635200" cy="639720"/>
              <a:chOff x="3363840" y="2035080"/>
              <a:chExt cx="2635200" cy="639720"/>
            </a:xfrm>
          </p:grpSpPr>
          <p:sp>
            <p:nvSpPr>
              <p:cNvPr id="765" name="Freeform 551"/>
              <p:cNvSpPr/>
              <p:nvPr/>
            </p:nvSpPr>
            <p:spPr>
              <a:xfrm>
                <a:off x="5815080" y="2281320"/>
                <a:ext cx="183960" cy="2458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16" h="155">
                    <a:moveTo>
                      <a:pt x="0" y="0"/>
                    </a:moveTo>
                    <a:lnTo>
                      <a:pt x="0" y="147"/>
                    </a:lnTo>
                    <a:lnTo>
                      <a:pt x="116" y="155"/>
                    </a:lnTo>
                    <a:lnTo>
                      <a:pt x="1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1"/>
              <p:cNvSpPr/>
              <p:nvPr/>
            </p:nvSpPr>
            <p:spPr>
              <a:xfrm>
                <a:off x="4502160" y="2106360"/>
                <a:ext cx="241200" cy="2923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152" y="184"/>
                    </a:moveTo>
                    <a:lnTo>
                      <a:pt x="152" y="19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152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90"/>
              <p:cNvSpPr/>
              <p:nvPr/>
            </p:nvSpPr>
            <p:spPr>
              <a:xfrm>
                <a:off x="3676680" y="2151000"/>
                <a:ext cx="131760" cy="3366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83" h="212">
                    <a:moveTo>
                      <a:pt x="83" y="0"/>
                    </a:moveTo>
                    <a:lnTo>
                      <a:pt x="2" y="61"/>
                    </a:lnTo>
                    <a:lnTo>
                      <a:pt x="0" y="212"/>
                    </a:lnTo>
                    <a:lnTo>
                      <a:pt x="83" y="16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91"/>
              <p:cNvSpPr/>
              <p:nvPr/>
            </p:nvSpPr>
            <p:spPr>
              <a:xfrm>
                <a:off x="3808440" y="2039760"/>
                <a:ext cx="152280" cy="3700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96" h="233">
                    <a:moveTo>
                      <a:pt x="95" y="174"/>
                    </a:moveTo>
                    <a:lnTo>
                      <a:pt x="96" y="0"/>
                    </a:lnTo>
                    <a:lnTo>
                      <a:pt x="0" y="70"/>
                    </a:lnTo>
                    <a:lnTo>
                      <a:pt x="0" y="233"/>
                    </a:lnTo>
                    <a:lnTo>
                      <a:pt x="9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92"/>
              <p:cNvSpPr/>
              <p:nvPr/>
            </p:nvSpPr>
            <p:spPr>
              <a:xfrm>
                <a:off x="4246560" y="2071440"/>
                <a:ext cx="255600" cy="2984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61" h="188">
                    <a:moveTo>
                      <a:pt x="161" y="188"/>
                    </a:moveTo>
                    <a:lnTo>
                      <a:pt x="161" y="22"/>
                    </a:lnTo>
                    <a:lnTo>
                      <a:pt x="0" y="0"/>
                    </a:lnTo>
                    <a:lnTo>
                      <a:pt x="0" y="172"/>
                    </a:lnTo>
                    <a:lnTo>
                      <a:pt x="16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94"/>
              <p:cNvSpPr/>
              <p:nvPr/>
            </p:nvSpPr>
            <p:spPr>
              <a:xfrm>
                <a:off x="3959280" y="2035080"/>
                <a:ext cx="287280" cy="3096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81" h="195">
                    <a:moveTo>
                      <a:pt x="3" y="176"/>
                    </a:moveTo>
                    <a:lnTo>
                      <a:pt x="181" y="195"/>
                    </a:lnTo>
                    <a:lnTo>
                      <a:pt x="181" y="23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177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22"/>
              <p:cNvSpPr/>
              <p:nvPr/>
            </p:nvSpPr>
            <p:spPr>
              <a:xfrm>
                <a:off x="5199120" y="2197080"/>
                <a:ext cx="214200" cy="2728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35" h="172">
                    <a:moveTo>
                      <a:pt x="0" y="158"/>
                    </a:moveTo>
                    <a:lnTo>
                      <a:pt x="135" y="172"/>
                    </a:lnTo>
                    <a:lnTo>
                      <a:pt x="135" y="18"/>
                    </a:lnTo>
                    <a:lnTo>
                      <a:pt x="2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27"/>
              <p:cNvSpPr/>
              <p:nvPr/>
            </p:nvSpPr>
            <p:spPr>
              <a:xfrm>
                <a:off x="3557520" y="2247840"/>
                <a:ext cx="122400" cy="3128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312840"/>
                  <a:gd name="textAreaBottom" fmla="*/ 312840 h 312840"/>
                </a:gdLst>
                <a:ahLst/>
                <a:rect l="textAreaLeft" t="textAreaTop" r="textAreaRight" b="textAreaBottom"/>
                <a:pathLst>
                  <a:path w="77" h="197">
                    <a:moveTo>
                      <a:pt x="77" y="0"/>
                    </a:moveTo>
                    <a:lnTo>
                      <a:pt x="0" y="56"/>
                    </a:lnTo>
                    <a:lnTo>
                      <a:pt x="0" y="197"/>
                    </a:lnTo>
                    <a:lnTo>
                      <a:pt x="75" y="15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39"/>
              <p:cNvSpPr/>
              <p:nvPr/>
            </p:nvSpPr>
            <p:spPr>
              <a:xfrm>
                <a:off x="4743360" y="2136600"/>
                <a:ext cx="236520" cy="2858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9" h="180">
                    <a:moveTo>
                      <a:pt x="147" y="180"/>
                    </a:moveTo>
                    <a:lnTo>
                      <a:pt x="149" y="2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4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69"/>
              <p:cNvSpPr/>
              <p:nvPr/>
            </p:nvSpPr>
            <p:spPr>
              <a:xfrm>
                <a:off x="4976640" y="2168280"/>
                <a:ext cx="225360" cy="2797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42" h="176">
                    <a:moveTo>
                      <a:pt x="140" y="176"/>
                    </a:moveTo>
                    <a:lnTo>
                      <a:pt x="142" y="18"/>
                    </a:lnTo>
                    <a:lnTo>
                      <a:pt x="2" y="0"/>
                    </a:lnTo>
                    <a:lnTo>
                      <a:pt x="0" y="160"/>
                    </a:lnTo>
                    <a:lnTo>
                      <a:pt x="140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02"/>
              <p:cNvSpPr/>
              <p:nvPr/>
            </p:nvSpPr>
            <p:spPr>
              <a:xfrm>
                <a:off x="3363840" y="2413080"/>
                <a:ext cx="88920" cy="2617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31" h="92">
                    <a:moveTo>
                      <a:pt x="31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45"/>
                      <a:pt x="0" y="68"/>
                      <a:pt x="0" y="92"/>
                    </a:cubicBezTo>
                    <a:cubicBezTo>
                      <a:pt x="31" y="74"/>
                      <a:pt x="31" y="74"/>
                      <a:pt x="31" y="74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51"/>
              <p:cNvSpPr/>
              <p:nvPr/>
            </p:nvSpPr>
            <p:spPr>
              <a:xfrm>
                <a:off x="5413320" y="2225520"/>
                <a:ext cx="208080" cy="2667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31" h="168">
                    <a:moveTo>
                      <a:pt x="0" y="0"/>
                    </a:moveTo>
                    <a:lnTo>
                      <a:pt x="0" y="154"/>
                    </a:lnTo>
                    <a:lnTo>
                      <a:pt x="129" y="168"/>
                    </a:lnTo>
                    <a:lnTo>
                      <a:pt x="131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54"/>
              <p:cNvSpPr/>
              <p:nvPr/>
            </p:nvSpPr>
            <p:spPr>
              <a:xfrm>
                <a:off x="5618160" y="2251080"/>
                <a:ext cx="198360" cy="2617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25" h="165">
                    <a:moveTo>
                      <a:pt x="0" y="152"/>
                    </a:moveTo>
                    <a:lnTo>
                      <a:pt x="125" y="165"/>
                    </a:lnTo>
                    <a:lnTo>
                      <a:pt x="125" y="16"/>
                    </a:lnTo>
                    <a:lnTo>
                      <a:pt x="2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97"/>
              <p:cNvSpPr/>
              <p:nvPr/>
            </p:nvSpPr>
            <p:spPr>
              <a:xfrm>
                <a:off x="3452760" y="2336760"/>
                <a:ext cx="104760" cy="2872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66" h="181">
                    <a:moveTo>
                      <a:pt x="66" y="0"/>
                    </a:moveTo>
                    <a:lnTo>
                      <a:pt x="0" y="48"/>
                    </a:lnTo>
                    <a:lnTo>
                      <a:pt x="0" y="181"/>
                    </a:lnTo>
                    <a:lnTo>
                      <a:pt x="66" y="1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558"/>
            <p:cNvGrpSpPr/>
            <p:nvPr/>
          </p:nvGrpSpPr>
          <p:grpSpPr>
            <a:xfrm>
              <a:off x="3363840" y="1755720"/>
              <a:ext cx="2635200" cy="722160"/>
              <a:chOff x="3363840" y="1755720"/>
              <a:chExt cx="2635200" cy="722160"/>
            </a:xfrm>
          </p:grpSpPr>
          <p:sp>
            <p:nvSpPr>
              <p:cNvPr id="780" name="Freeform 552"/>
              <p:cNvSpPr/>
              <p:nvPr/>
            </p:nvSpPr>
            <p:spPr>
              <a:xfrm>
                <a:off x="5817960" y="2046240"/>
                <a:ext cx="181080" cy="2476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4" h="156">
                    <a:moveTo>
                      <a:pt x="1" y="0"/>
                    </a:moveTo>
                    <a:lnTo>
                      <a:pt x="0" y="142"/>
                    </a:lnTo>
                    <a:lnTo>
                      <a:pt x="114" y="156"/>
                    </a:lnTo>
                    <a:lnTo>
                      <a:pt x="114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17"/>
              <p:cNvSpPr/>
              <p:nvPr/>
            </p:nvSpPr>
            <p:spPr>
              <a:xfrm>
                <a:off x="4743360" y="1874880"/>
                <a:ext cx="236520" cy="29376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49" h="185">
                    <a:moveTo>
                      <a:pt x="149" y="185"/>
                    </a:moveTo>
                    <a:lnTo>
                      <a:pt x="149" y="24"/>
                    </a:lnTo>
                    <a:lnTo>
                      <a:pt x="2" y="0"/>
                    </a:lnTo>
                    <a:lnTo>
                      <a:pt x="0" y="165"/>
                    </a:lnTo>
                    <a:lnTo>
                      <a:pt x="149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18"/>
              <p:cNvSpPr/>
              <p:nvPr/>
            </p:nvSpPr>
            <p:spPr>
              <a:xfrm>
                <a:off x="4502160" y="1838160"/>
                <a:ext cx="244440" cy="298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54" h="188">
                    <a:moveTo>
                      <a:pt x="152" y="188"/>
                    </a:moveTo>
                    <a:lnTo>
                      <a:pt x="154" y="23"/>
                    </a:lnTo>
                    <a:lnTo>
                      <a:pt x="0" y="0"/>
                    </a:lnTo>
                    <a:lnTo>
                      <a:pt x="0" y="169"/>
                    </a:lnTo>
                    <a:lnTo>
                      <a:pt x="152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20"/>
              <p:cNvSpPr/>
              <p:nvPr/>
            </p:nvSpPr>
            <p:spPr>
              <a:xfrm>
                <a:off x="4979880" y="1913040"/>
                <a:ext cx="222120" cy="2840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40" h="179">
                    <a:moveTo>
                      <a:pt x="140" y="179"/>
                    </a:moveTo>
                    <a:lnTo>
                      <a:pt x="140" y="21"/>
                    </a:lnTo>
                    <a:lnTo>
                      <a:pt x="0" y="0"/>
                    </a:lnTo>
                    <a:lnTo>
                      <a:pt x="0" y="161"/>
                    </a:lnTo>
                    <a:lnTo>
                      <a:pt x="14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21"/>
              <p:cNvSpPr/>
              <p:nvPr/>
            </p:nvSpPr>
            <p:spPr>
              <a:xfrm>
                <a:off x="5202000" y="1946160"/>
                <a:ext cx="214560" cy="2793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35" h="176">
                    <a:moveTo>
                      <a:pt x="133" y="176"/>
                    </a:moveTo>
                    <a:lnTo>
                      <a:pt x="135" y="22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33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23"/>
              <p:cNvSpPr/>
              <p:nvPr/>
            </p:nvSpPr>
            <p:spPr>
              <a:xfrm>
                <a:off x="4246560" y="1798560"/>
                <a:ext cx="255600" cy="3081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61" h="194">
                    <a:moveTo>
                      <a:pt x="161" y="194"/>
                    </a:moveTo>
                    <a:lnTo>
                      <a:pt x="161" y="25"/>
                    </a:lnTo>
                    <a:lnTo>
                      <a:pt x="2" y="0"/>
                    </a:lnTo>
                    <a:lnTo>
                      <a:pt x="0" y="172"/>
                    </a:lnTo>
                    <a:lnTo>
                      <a:pt x="161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24"/>
              <p:cNvSpPr/>
              <p:nvPr/>
            </p:nvSpPr>
            <p:spPr>
              <a:xfrm>
                <a:off x="3557520" y="2006640"/>
                <a:ext cx="122400" cy="330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77" h="208">
                    <a:moveTo>
                      <a:pt x="77" y="0"/>
                    </a:moveTo>
                    <a:lnTo>
                      <a:pt x="0" y="68"/>
                    </a:lnTo>
                    <a:lnTo>
                      <a:pt x="0" y="208"/>
                    </a:lnTo>
                    <a:lnTo>
                      <a:pt x="77" y="15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25"/>
              <p:cNvSpPr/>
              <p:nvPr/>
            </p:nvSpPr>
            <p:spPr>
              <a:xfrm>
                <a:off x="3960720" y="1755720"/>
                <a:ext cx="289080" cy="31608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182" h="199">
                    <a:moveTo>
                      <a:pt x="4" y="176"/>
                    </a:moveTo>
                    <a:lnTo>
                      <a:pt x="180" y="199"/>
                    </a:lnTo>
                    <a:lnTo>
                      <a:pt x="182" y="27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179"/>
                    </a:lnTo>
                    <a:lnTo>
                      <a:pt x="4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28"/>
              <p:cNvSpPr/>
              <p:nvPr/>
            </p:nvSpPr>
            <p:spPr>
              <a:xfrm>
                <a:off x="3679920" y="1898640"/>
                <a:ext cx="128520" cy="3492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81" h="220">
                    <a:moveTo>
                      <a:pt x="81" y="159"/>
                    </a:moveTo>
                    <a:lnTo>
                      <a:pt x="81" y="0"/>
                    </a:lnTo>
                    <a:lnTo>
                      <a:pt x="0" y="68"/>
                    </a:lnTo>
                    <a:lnTo>
                      <a:pt x="0" y="220"/>
                    </a:lnTo>
                    <a:lnTo>
                      <a:pt x="81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29"/>
              <p:cNvSpPr/>
              <p:nvPr/>
            </p:nvSpPr>
            <p:spPr>
              <a:xfrm>
                <a:off x="3808440" y="1762200"/>
                <a:ext cx="152280" cy="3888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96" h="245">
                    <a:moveTo>
                      <a:pt x="96" y="175"/>
                    </a:moveTo>
                    <a:lnTo>
                      <a:pt x="96" y="0"/>
                    </a:lnTo>
                    <a:lnTo>
                      <a:pt x="0" y="86"/>
                    </a:lnTo>
                    <a:lnTo>
                      <a:pt x="0" y="245"/>
                    </a:lnTo>
                    <a:lnTo>
                      <a:pt x="96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51"/>
              <p:cNvSpPr/>
              <p:nvPr/>
            </p:nvSpPr>
            <p:spPr>
              <a:xfrm>
                <a:off x="5413320" y="1981080"/>
                <a:ext cx="208080" cy="2700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31" h="170">
                    <a:moveTo>
                      <a:pt x="131" y="170"/>
                    </a:moveTo>
                    <a:lnTo>
                      <a:pt x="131" y="20"/>
                    </a:lnTo>
                    <a:lnTo>
                      <a:pt x="2" y="0"/>
                    </a:lnTo>
                    <a:lnTo>
                      <a:pt x="0" y="154"/>
                    </a:lnTo>
                    <a:lnTo>
                      <a:pt x="13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95"/>
              <p:cNvSpPr/>
              <p:nvPr/>
            </p:nvSpPr>
            <p:spPr>
              <a:xfrm>
                <a:off x="3363840" y="2205000"/>
                <a:ext cx="88920" cy="2728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31" h="96">
                    <a:moveTo>
                      <a:pt x="31" y="0"/>
                    </a:moveTo>
                    <a:cubicBezTo>
                      <a:pt x="1" y="26"/>
                      <a:pt x="1" y="26"/>
                      <a:pt x="1" y="26"/>
                    </a:cubicBezTo>
                    <a:cubicBezTo>
                      <a:pt x="0" y="48"/>
                      <a:pt x="0" y="71"/>
                      <a:pt x="0" y="96"/>
                    </a:cubicBezTo>
                    <a:cubicBezTo>
                      <a:pt x="31" y="73"/>
                      <a:pt x="31" y="73"/>
                      <a:pt x="31" y="73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2"/>
              <p:cNvSpPr/>
              <p:nvPr/>
            </p:nvSpPr>
            <p:spPr>
              <a:xfrm>
                <a:off x="5621400" y="2012760"/>
                <a:ext cx="195120" cy="2635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23" h="166">
                    <a:moveTo>
                      <a:pt x="0" y="150"/>
                    </a:moveTo>
                    <a:lnTo>
                      <a:pt x="123" y="166"/>
                    </a:lnTo>
                    <a:lnTo>
                      <a:pt x="123" y="19"/>
                    </a:lnTo>
                    <a:lnTo>
                      <a:pt x="0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99"/>
              <p:cNvSpPr/>
              <p:nvPr/>
            </p:nvSpPr>
            <p:spPr>
              <a:xfrm>
                <a:off x="3452760" y="2114640"/>
                <a:ext cx="104760" cy="298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6" h="188">
                    <a:moveTo>
                      <a:pt x="66" y="0"/>
                    </a:moveTo>
                    <a:lnTo>
                      <a:pt x="0" y="57"/>
                    </a:lnTo>
                    <a:lnTo>
                      <a:pt x="0" y="188"/>
                    </a:lnTo>
                    <a:lnTo>
                      <a:pt x="66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4" name="Group 580"/>
          <p:cNvGrpSpPr/>
          <p:nvPr/>
        </p:nvGrpSpPr>
        <p:grpSpPr>
          <a:xfrm>
            <a:off x="3360600" y="4624560"/>
            <a:ext cx="2624040" cy="1027080"/>
            <a:chOff x="3360600" y="4624560"/>
            <a:chExt cx="2624040" cy="1027080"/>
          </a:xfrm>
        </p:grpSpPr>
        <p:grpSp>
          <p:nvGrpSpPr>
            <p:cNvPr id="795" name="Group 540"/>
            <p:cNvGrpSpPr/>
            <p:nvPr/>
          </p:nvGrpSpPr>
          <p:grpSpPr>
            <a:xfrm>
              <a:off x="3360600" y="4811760"/>
              <a:ext cx="2624040" cy="839880"/>
              <a:chOff x="3360600" y="4811760"/>
              <a:chExt cx="2624040" cy="839880"/>
            </a:xfrm>
          </p:grpSpPr>
          <p:sp>
            <p:nvSpPr>
              <p:cNvPr id="796" name="Freeform 425"/>
              <p:cNvSpPr/>
              <p:nvPr/>
            </p:nvSpPr>
            <p:spPr>
              <a:xfrm>
                <a:off x="5800680" y="5059440"/>
                <a:ext cx="183960" cy="2620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65" h="92">
                    <a:moveTo>
                      <a:pt x="0" y="92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57"/>
                      <a:pt x="65" y="30"/>
                      <a:pt x="65" y="0"/>
                    </a:cubicBezTo>
                    <a:cubicBezTo>
                      <a:pt x="1" y="10"/>
                      <a:pt x="1" y="10"/>
                      <a:pt x="1" y="10"/>
                    </a:cubicBez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34"/>
              <p:cNvSpPr/>
              <p:nvPr/>
            </p:nvSpPr>
            <p:spPr>
              <a:xfrm>
                <a:off x="3360600" y="4811760"/>
                <a:ext cx="79200" cy="282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8" h="99">
                    <a:moveTo>
                      <a:pt x="28" y="2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6"/>
                      <a:pt x="0" y="49"/>
                      <a:pt x="0" y="69"/>
                    </a:cubicBezTo>
                    <a:cubicBezTo>
                      <a:pt x="28" y="99"/>
                      <a:pt x="28" y="99"/>
                      <a:pt x="28" y="99"/>
                    </a:cubicBez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76"/>
              <p:cNvSpPr/>
              <p:nvPr/>
            </p:nvSpPr>
            <p:spPr>
              <a:xfrm>
                <a:off x="3948120" y="5330880"/>
                <a:ext cx="288720" cy="3207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" y="28"/>
                    </a:moveTo>
                    <a:lnTo>
                      <a:pt x="0" y="25"/>
                    </a:lnTo>
                    <a:lnTo>
                      <a:pt x="0" y="200"/>
                    </a:lnTo>
                    <a:lnTo>
                      <a:pt x="1" y="202"/>
                    </a:lnTo>
                    <a:lnTo>
                      <a:pt x="182" y="170"/>
                    </a:lnTo>
                    <a:lnTo>
                      <a:pt x="182" y="0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77"/>
              <p:cNvSpPr/>
              <p:nvPr/>
            </p:nvSpPr>
            <p:spPr>
              <a:xfrm>
                <a:off x="4236840" y="5291280"/>
                <a:ext cx="254160" cy="3096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60" h="195">
                    <a:moveTo>
                      <a:pt x="0" y="25"/>
                    </a:moveTo>
                    <a:lnTo>
                      <a:pt x="0" y="195"/>
                    </a:lnTo>
                    <a:lnTo>
                      <a:pt x="160" y="166"/>
                    </a:lnTo>
                    <a:lnTo>
                      <a:pt x="16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78"/>
              <p:cNvSpPr/>
              <p:nvPr/>
            </p:nvSpPr>
            <p:spPr>
              <a:xfrm>
                <a:off x="4491000" y="5253120"/>
                <a:ext cx="244440" cy="3016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24"/>
                    </a:moveTo>
                    <a:lnTo>
                      <a:pt x="0" y="190"/>
                    </a:lnTo>
                    <a:lnTo>
                      <a:pt x="152" y="163"/>
                    </a:lnTo>
                    <a:lnTo>
                      <a:pt x="154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79"/>
              <p:cNvSpPr/>
              <p:nvPr/>
            </p:nvSpPr>
            <p:spPr>
              <a:xfrm>
                <a:off x="4732200" y="5216400"/>
                <a:ext cx="233280" cy="2955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147" h="186">
                    <a:moveTo>
                      <a:pt x="2" y="23"/>
                    </a:moveTo>
                    <a:lnTo>
                      <a:pt x="0" y="186"/>
                    </a:lnTo>
                    <a:lnTo>
                      <a:pt x="147" y="160"/>
                    </a:lnTo>
                    <a:lnTo>
                      <a:pt x="147" y="0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80"/>
              <p:cNvSpPr/>
              <p:nvPr/>
            </p:nvSpPr>
            <p:spPr>
              <a:xfrm>
                <a:off x="4965480" y="5181480"/>
                <a:ext cx="222480" cy="2890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140" h="182">
                    <a:moveTo>
                      <a:pt x="0" y="22"/>
                    </a:moveTo>
                    <a:lnTo>
                      <a:pt x="0" y="182"/>
                    </a:lnTo>
                    <a:lnTo>
                      <a:pt x="138" y="156"/>
                    </a:lnTo>
                    <a:lnTo>
                      <a:pt x="14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82"/>
              <p:cNvSpPr/>
              <p:nvPr/>
            </p:nvSpPr>
            <p:spPr>
              <a:xfrm>
                <a:off x="3673440" y="5111640"/>
                <a:ext cx="139680" cy="3924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88" h="247">
                    <a:moveTo>
                      <a:pt x="0" y="0"/>
                    </a:moveTo>
                    <a:lnTo>
                      <a:pt x="0" y="150"/>
                    </a:lnTo>
                    <a:lnTo>
                      <a:pt x="88" y="247"/>
                    </a:lnTo>
                    <a:lnTo>
                      <a:pt x="88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83"/>
              <p:cNvSpPr/>
              <p:nvPr/>
            </p:nvSpPr>
            <p:spPr>
              <a:xfrm>
                <a:off x="3813120" y="5245200"/>
                <a:ext cx="135000" cy="4032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85" h="254">
                    <a:moveTo>
                      <a:pt x="0" y="0"/>
                    </a:moveTo>
                    <a:lnTo>
                      <a:pt x="0" y="163"/>
                    </a:lnTo>
                    <a:lnTo>
                      <a:pt x="85" y="254"/>
                    </a:lnTo>
                    <a:lnTo>
                      <a:pt x="85" y="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85"/>
              <p:cNvSpPr/>
              <p:nvPr/>
            </p:nvSpPr>
            <p:spPr>
              <a:xfrm>
                <a:off x="5184720" y="5151600"/>
                <a:ext cx="217440" cy="2775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77560"/>
                  <a:gd name="textAreaBottom" fmla="*/ 277560 h 277560"/>
                </a:gdLst>
                <a:ahLst/>
                <a:rect l="textAreaLeft" t="textAreaTop" r="textAreaRight" b="textAreaBottom"/>
                <a:pathLst>
                  <a:path w="137" h="175">
                    <a:moveTo>
                      <a:pt x="2" y="19"/>
                    </a:moveTo>
                    <a:lnTo>
                      <a:pt x="0" y="175"/>
                    </a:lnTo>
                    <a:lnTo>
                      <a:pt x="135" y="152"/>
                    </a:lnTo>
                    <a:lnTo>
                      <a:pt x="137" y="0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88"/>
              <p:cNvSpPr/>
              <p:nvPr/>
            </p:nvSpPr>
            <p:spPr>
              <a:xfrm>
                <a:off x="3543120" y="4989600"/>
                <a:ext cx="130320" cy="3603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2" y="0"/>
                    </a:moveTo>
                    <a:lnTo>
                      <a:pt x="0" y="138"/>
                    </a:lnTo>
                    <a:lnTo>
                      <a:pt x="82" y="227"/>
                    </a:lnTo>
                    <a:lnTo>
                      <a:pt x="82" y="7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89"/>
              <p:cNvSpPr/>
              <p:nvPr/>
            </p:nvSpPr>
            <p:spPr>
              <a:xfrm>
                <a:off x="5398920" y="5119560"/>
                <a:ext cx="208080" cy="2732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31" h="172">
                    <a:moveTo>
                      <a:pt x="2" y="20"/>
                    </a:moveTo>
                    <a:lnTo>
                      <a:pt x="0" y="172"/>
                    </a:lnTo>
                    <a:lnTo>
                      <a:pt x="129" y="149"/>
                    </a:lnTo>
                    <a:lnTo>
                      <a:pt x="131" y="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90"/>
              <p:cNvSpPr/>
              <p:nvPr/>
            </p:nvSpPr>
            <p:spPr>
              <a:xfrm>
                <a:off x="5603760" y="5087880"/>
                <a:ext cx="198360" cy="2685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125" h="169">
                    <a:moveTo>
                      <a:pt x="0" y="169"/>
                    </a:moveTo>
                    <a:lnTo>
                      <a:pt x="124" y="147"/>
                    </a:lnTo>
                    <a:lnTo>
                      <a:pt x="125" y="0"/>
                    </a:lnTo>
                    <a:lnTo>
                      <a:pt x="2" y="2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93"/>
              <p:cNvSpPr/>
              <p:nvPr/>
            </p:nvSpPr>
            <p:spPr>
              <a:xfrm>
                <a:off x="3439800" y="4889520"/>
                <a:ext cx="106560" cy="3189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7" h="201">
                    <a:moveTo>
                      <a:pt x="0" y="0"/>
                    </a:moveTo>
                    <a:lnTo>
                      <a:pt x="0" y="129"/>
                    </a:lnTo>
                    <a:lnTo>
                      <a:pt x="65" y="201"/>
                    </a:lnTo>
                    <a:lnTo>
                      <a:pt x="67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541"/>
            <p:cNvGrpSpPr/>
            <p:nvPr/>
          </p:nvGrpSpPr>
          <p:grpSpPr>
            <a:xfrm>
              <a:off x="3360600" y="4624560"/>
              <a:ext cx="2624040" cy="750960"/>
              <a:chOff x="3360600" y="4624560"/>
              <a:chExt cx="2624040" cy="750960"/>
            </a:xfrm>
          </p:grpSpPr>
          <p:sp>
            <p:nvSpPr>
              <p:cNvPr id="811" name="Freeform 310"/>
              <p:cNvSpPr/>
              <p:nvPr/>
            </p:nvSpPr>
            <p:spPr>
              <a:xfrm>
                <a:off x="3948120" y="5059440"/>
                <a:ext cx="288720" cy="3160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182" h="199">
                    <a:moveTo>
                      <a:pt x="3" y="24"/>
                    </a:moveTo>
                    <a:lnTo>
                      <a:pt x="0" y="22"/>
                    </a:lnTo>
                    <a:lnTo>
                      <a:pt x="0" y="196"/>
                    </a:lnTo>
                    <a:lnTo>
                      <a:pt x="1" y="199"/>
                    </a:lnTo>
                    <a:lnTo>
                      <a:pt x="182" y="171"/>
                    </a:lnTo>
                    <a:lnTo>
                      <a:pt x="182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13"/>
              <p:cNvSpPr/>
              <p:nvPr/>
            </p:nvSpPr>
            <p:spPr>
              <a:xfrm>
                <a:off x="4236840" y="5026320"/>
                <a:ext cx="254160" cy="30456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0" y="21"/>
                    </a:moveTo>
                    <a:lnTo>
                      <a:pt x="0" y="192"/>
                    </a:lnTo>
                    <a:lnTo>
                      <a:pt x="160" y="167"/>
                    </a:lnTo>
                    <a:lnTo>
                      <a:pt x="16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14"/>
              <p:cNvSpPr/>
              <p:nvPr/>
            </p:nvSpPr>
            <p:spPr>
              <a:xfrm>
                <a:off x="3673440" y="4875480"/>
                <a:ext cx="139680" cy="369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88" h="233">
                    <a:moveTo>
                      <a:pt x="0" y="0"/>
                    </a:moveTo>
                    <a:lnTo>
                      <a:pt x="0" y="149"/>
                    </a:lnTo>
                    <a:lnTo>
                      <a:pt x="88" y="233"/>
                    </a:lnTo>
                    <a:lnTo>
                      <a:pt x="88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15"/>
              <p:cNvSpPr/>
              <p:nvPr/>
            </p:nvSpPr>
            <p:spPr>
              <a:xfrm>
                <a:off x="3546360" y="4772160"/>
                <a:ext cx="127080" cy="3398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80" h="214">
                    <a:moveTo>
                      <a:pt x="0" y="0"/>
                    </a:moveTo>
                    <a:lnTo>
                      <a:pt x="0" y="137"/>
                    </a:lnTo>
                    <a:lnTo>
                      <a:pt x="80" y="214"/>
                    </a:lnTo>
                    <a:lnTo>
                      <a:pt x="8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16"/>
              <p:cNvSpPr/>
              <p:nvPr/>
            </p:nvSpPr>
            <p:spPr>
              <a:xfrm>
                <a:off x="3813120" y="4986360"/>
                <a:ext cx="135000" cy="3844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84480"/>
                  <a:gd name="textAreaBottom" fmla="*/ 384840 h 384480"/>
                </a:gdLst>
                <a:ahLst/>
                <a:rect l="textAreaLeft" t="textAreaTop" r="textAreaRight" b="textAreaBottom"/>
                <a:pathLst>
                  <a:path w="85" h="242">
                    <a:moveTo>
                      <a:pt x="0" y="0"/>
                    </a:moveTo>
                    <a:lnTo>
                      <a:pt x="0" y="163"/>
                    </a:lnTo>
                    <a:lnTo>
                      <a:pt x="85" y="242"/>
                    </a:lnTo>
                    <a:lnTo>
                      <a:pt x="85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74"/>
              <p:cNvSpPr/>
              <p:nvPr/>
            </p:nvSpPr>
            <p:spPr>
              <a:xfrm>
                <a:off x="4491000" y="4994280"/>
                <a:ext cx="244440" cy="2970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54" h="187">
                    <a:moveTo>
                      <a:pt x="0" y="20"/>
                    </a:moveTo>
                    <a:lnTo>
                      <a:pt x="0" y="187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21"/>
              <p:cNvSpPr/>
              <p:nvPr/>
            </p:nvSpPr>
            <p:spPr>
              <a:xfrm>
                <a:off x="5802120" y="4829400"/>
                <a:ext cx="182520" cy="258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64" h="91">
                    <a:moveTo>
                      <a:pt x="0" y="91"/>
                    </a:move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56"/>
                      <a:pt x="64" y="29"/>
                      <a:pt x="64" y="0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39"/>
              <p:cNvSpPr/>
              <p:nvPr/>
            </p:nvSpPr>
            <p:spPr>
              <a:xfrm>
                <a:off x="3360600" y="4624560"/>
                <a:ext cx="79200" cy="2649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28" h="93">
                    <a:moveTo>
                      <a:pt x="2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6"/>
                      <a:pt x="0" y="66"/>
                    </a:cubicBezTo>
                    <a:cubicBezTo>
                      <a:pt x="28" y="93"/>
                      <a:pt x="28" y="93"/>
                      <a:pt x="28" y="93"/>
                    </a:cubicBez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49"/>
              <p:cNvSpPr/>
              <p:nvPr/>
            </p:nvSpPr>
            <p:spPr>
              <a:xfrm>
                <a:off x="4735440" y="4962600"/>
                <a:ext cx="230040" cy="2905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145" h="183">
                    <a:moveTo>
                      <a:pt x="0" y="20"/>
                    </a:moveTo>
                    <a:lnTo>
                      <a:pt x="0" y="183"/>
                    </a:lnTo>
                    <a:lnTo>
                      <a:pt x="145" y="160"/>
                    </a:lnTo>
                    <a:lnTo>
                      <a:pt x="14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64"/>
              <p:cNvSpPr/>
              <p:nvPr/>
            </p:nvSpPr>
            <p:spPr>
              <a:xfrm>
                <a:off x="5402160" y="4880160"/>
                <a:ext cx="204840" cy="2714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29" h="171">
                    <a:moveTo>
                      <a:pt x="0" y="171"/>
                    </a:moveTo>
                    <a:lnTo>
                      <a:pt x="129" y="151"/>
                    </a:lnTo>
                    <a:lnTo>
                      <a:pt x="129" y="0"/>
                    </a:lnTo>
                    <a:lnTo>
                      <a:pt x="0" y="17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66"/>
              <p:cNvSpPr/>
              <p:nvPr/>
            </p:nvSpPr>
            <p:spPr>
              <a:xfrm>
                <a:off x="5187960" y="4907160"/>
                <a:ext cx="214200" cy="274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35" h="173">
                    <a:moveTo>
                      <a:pt x="0" y="18"/>
                    </a:moveTo>
                    <a:lnTo>
                      <a:pt x="0" y="173"/>
                    </a:lnTo>
                    <a:lnTo>
                      <a:pt x="135" y="154"/>
                    </a:lnTo>
                    <a:lnTo>
                      <a:pt x="13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68"/>
              <p:cNvSpPr/>
              <p:nvPr/>
            </p:nvSpPr>
            <p:spPr>
              <a:xfrm>
                <a:off x="4965480" y="4935600"/>
                <a:ext cx="222480" cy="281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40" h="177">
                    <a:moveTo>
                      <a:pt x="0" y="17"/>
                    </a:moveTo>
                    <a:lnTo>
                      <a:pt x="0" y="177"/>
                    </a:lnTo>
                    <a:lnTo>
                      <a:pt x="140" y="155"/>
                    </a:lnTo>
                    <a:lnTo>
                      <a:pt x="14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6"/>
              <p:cNvSpPr/>
              <p:nvPr/>
            </p:nvSpPr>
            <p:spPr>
              <a:xfrm>
                <a:off x="5607000" y="4854600"/>
                <a:ext cx="195120" cy="2653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23" h="167">
                    <a:moveTo>
                      <a:pt x="0" y="167"/>
                    </a:moveTo>
                    <a:lnTo>
                      <a:pt x="123" y="147"/>
                    </a:lnTo>
                    <a:lnTo>
                      <a:pt x="123" y="0"/>
                    </a:lnTo>
                    <a:lnTo>
                      <a:pt x="0" y="16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02"/>
              <p:cNvSpPr/>
              <p:nvPr/>
            </p:nvSpPr>
            <p:spPr>
              <a:xfrm>
                <a:off x="3439800" y="4687920"/>
                <a:ext cx="106560" cy="301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67" h="190">
                    <a:moveTo>
                      <a:pt x="67" y="53"/>
                    </a:moveTo>
                    <a:lnTo>
                      <a:pt x="0" y="0"/>
                    </a:lnTo>
                    <a:lnTo>
                      <a:pt x="0" y="127"/>
                    </a:lnTo>
                    <a:lnTo>
                      <a:pt x="67" y="190"/>
                    </a:lnTo>
                    <a:lnTo>
                      <a:pt x="67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581"/>
          <p:cNvGrpSpPr/>
          <p:nvPr/>
        </p:nvGrpSpPr>
        <p:grpSpPr>
          <a:xfrm>
            <a:off x="3360600" y="4243320"/>
            <a:ext cx="2627280" cy="853920"/>
            <a:chOff x="3360600" y="4243320"/>
            <a:chExt cx="2627280" cy="853920"/>
          </a:xfrm>
        </p:grpSpPr>
        <p:grpSp>
          <p:nvGrpSpPr>
            <p:cNvPr id="826" name="Group 570"/>
            <p:cNvGrpSpPr/>
            <p:nvPr/>
          </p:nvGrpSpPr>
          <p:grpSpPr>
            <a:xfrm>
              <a:off x="3360600" y="4433760"/>
              <a:ext cx="2627280" cy="663480"/>
              <a:chOff x="3360600" y="4433760"/>
              <a:chExt cx="2627280" cy="663480"/>
            </a:xfrm>
          </p:grpSpPr>
          <p:sp>
            <p:nvSpPr>
              <p:cNvPr id="827" name="Freeform 274"/>
              <p:cNvSpPr/>
              <p:nvPr/>
            </p:nvSpPr>
            <p:spPr>
              <a:xfrm>
                <a:off x="5187960" y="4663800"/>
                <a:ext cx="214200" cy="2714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35" h="171">
                    <a:moveTo>
                      <a:pt x="0" y="171"/>
                    </a:moveTo>
                    <a:lnTo>
                      <a:pt x="135" y="153"/>
                    </a:lnTo>
                    <a:lnTo>
                      <a:pt x="135" y="0"/>
                    </a:lnTo>
                    <a:lnTo>
                      <a:pt x="2" y="15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75"/>
              <p:cNvSpPr/>
              <p:nvPr/>
            </p:nvSpPr>
            <p:spPr>
              <a:xfrm>
                <a:off x="4735440" y="4713120"/>
                <a:ext cx="233280" cy="2811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47" h="177">
                    <a:moveTo>
                      <a:pt x="0" y="14"/>
                    </a:moveTo>
                    <a:lnTo>
                      <a:pt x="0" y="177"/>
                    </a:lnTo>
                    <a:lnTo>
                      <a:pt x="145" y="157"/>
                    </a:lnTo>
                    <a:lnTo>
                      <a:pt x="14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76"/>
              <p:cNvSpPr/>
              <p:nvPr/>
            </p:nvSpPr>
            <p:spPr>
              <a:xfrm>
                <a:off x="3813120" y="4728960"/>
                <a:ext cx="136440" cy="3650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65040"/>
                  <a:gd name="textAreaBottom" fmla="*/ 365040 h 365040"/>
                </a:gdLst>
                <a:ahLst/>
                <a:rect l="textAreaLeft" t="textAreaTop" r="textAreaRight" b="textAreaBottom"/>
                <a:pathLst>
                  <a:path w="86" h="230">
                    <a:moveTo>
                      <a:pt x="0" y="0"/>
                    </a:moveTo>
                    <a:lnTo>
                      <a:pt x="0" y="162"/>
                    </a:lnTo>
                    <a:lnTo>
                      <a:pt x="85" y="230"/>
                    </a:lnTo>
                    <a:lnTo>
                      <a:pt x="86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77"/>
              <p:cNvSpPr/>
              <p:nvPr/>
            </p:nvSpPr>
            <p:spPr>
              <a:xfrm>
                <a:off x="4491000" y="4735440"/>
                <a:ext cx="244440" cy="2905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154" h="183">
                    <a:moveTo>
                      <a:pt x="2" y="18"/>
                    </a:moveTo>
                    <a:lnTo>
                      <a:pt x="0" y="183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78"/>
              <p:cNvSpPr/>
              <p:nvPr/>
            </p:nvSpPr>
            <p:spPr>
              <a:xfrm>
                <a:off x="4236840" y="4763880"/>
                <a:ext cx="257400" cy="295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62" h="186">
                    <a:moveTo>
                      <a:pt x="2" y="16"/>
                    </a:moveTo>
                    <a:lnTo>
                      <a:pt x="0" y="186"/>
                    </a:lnTo>
                    <a:lnTo>
                      <a:pt x="160" y="165"/>
                    </a:lnTo>
                    <a:lnTo>
                      <a:pt x="16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79"/>
              <p:cNvSpPr/>
              <p:nvPr/>
            </p:nvSpPr>
            <p:spPr>
              <a:xfrm>
                <a:off x="3948120" y="4789440"/>
                <a:ext cx="291960" cy="30780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84" h="194">
                    <a:moveTo>
                      <a:pt x="3" y="20"/>
                    </a:moveTo>
                    <a:lnTo>
                      <a:pt x="1" y="18"/>
                    </a:lnTo>
                    <a:lnTo>
                      <a:pt x="0" y="192"/>
                    </a:lnTo>
                    <a:lnTo>
                      <a:pt x="3" y="194"/>
                    </a:lnTo>
                    <a:lnTo>
                      <a:pt x="182" y="170"/>
                    </a:lnTo>
                    <a:lnTo>
                      <a:pt x="184" y="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80"/>
              <p:cNvSpPr/>
              <p:nvPr/>
            </p:nvSpPr>
            <p:spPr>
              <a:xfrm>
                <a:off x="4965480" y="4687920"/>
                <a:ext cx="225360" cy="2743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142" h="173">
                    <a:moveTo>
                      <a:pt x="2" y="16"/>
                    </a:moveTo>
                    <a:lnTo>
                      <a:pt x="0" y="173"/>
                    </a:lnTo>
                    <a:lnTo>
                      <a:pt x="140" y="156"/>
                    </a:lnTo>
                    <a:lnTo>
                      <a:pt x="14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01"/>
              <p:cNvSpPr/>
              <p:nvPr/>
            </p:nvSpPr>
            <p:spPr>
              <a:xfrm>
                <a:off x="3673440" y="4638600"/>
                <a:ext cx="139680" cy="3477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8" h="219">
                    <a:moveTo>
                      <a:pt x="0" y="0"/>
                    </a:moveTo>
                    <a:lnTo>
                      <a:pt x="0" y="149"/>
                    </a:lnTo>
                    <a:lnTo>
                      <a:pt x="88" y="219"/>
                    </a:lnTo>
                    <a:lnTo>
                      <a:pt x="8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09"/>
              <p:cNvSpPr/>
              <p:nvPr/>
            </p:nvSpPr>
            <p:spPr>
              <a:xfrm>
                <a:off x="3546360" y="4556160"/>
                <a:ext cx="127080" cy="318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80" h="201">
                    <a:moveTo>
                      <a:pt x="80" y="52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80" y="201"/>
                    </a:lnTo>
                    <a:lnTo>
                      <a:pt x="8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19"/>
              <p:cNvSpPr/>
              <p:nvPr/>
            </p:nvSpPr>
            <p:spPr>
              <a:xfrm>
                <a:off x="5802120" y="460188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5" h="89">
                    <a:moveTo>
                      <a:pt x="0" y="89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55"/>
                      <a:pt x="65" y="28"/>
                      <a:pt x="65" y="0"/>
                    </a:cubicBezTo>
                    <a:cubicBezTo>
                      <a:pt x="1" y="7"/>
                      <a:pt x="1" y="7"/>
                      <a:pt x="1" y="7"/>
                    </a:cubicBez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35"/>
              <p:cNvSpPr/>
              <p:nvPr/>
            </p:nvSpPr>
            <p:spPr>
              <a:xfrm>
                <a:off x="3360600" y="4433760"/>
                <a:ext cx="82440" cy="2541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" h="89">
                    <a:moveTo>
                      <a:pt x="29" y="1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6"/>
                      <a:pt x="0" y="67"/>
                    </a:cubicBezTo>
                    <a:cubicBezTo>
                      <a:pt x="28" y="89"/>
                      <a:pt x="28" y="89"/>
                      <a:pt x="28" y="89"/>
                    </a:cubicBez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62"/>
              <p:cNvSpPr/>
              <p:nvPr/>
            </p:nvSpPr>
            <p:spPr>
              <a:xfrm>
                <a:off x="5402160" y="4644720"/>
                <a:ext cx="204840" cy="2620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0" y="165"/>
                    </a:moveTo>
                    <a:lnTo>
                      <a:pt x="129" y="148"/>
                    </a:lnTo>
                    <a:lnTo>
                      <a:pt x="129" y="0"/>
                    </a:lnTo>
                    <a:lnTo>
                      <a:pt x="0" y="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84"/>
              <p:cNvSpPr/>
              <p:nvPr/>
            </p:nvSpPr>
            <p:spPr>
              <a:xfrm>
                <a:off x="5607000" y="4620960"/>
                <a:ext cx="198360" cy="2588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25" h="163">
                    <a:moveTo>
                      <a:pt x="0" y="163"/>
                    </a:moveTo>
                    <a:lnTo>
                      <a:pt x="123" y="147"/>
                    </a:lnTo>
                    <a:lnTo>
                      <a:pt x="125" y="0"/>
                    </a:lnTo>
                    <a:lnTo>
                      <a:pt x="0" y="15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91"/>
              <p:cNvSpPr/>
              <p:nvPr/>
            </p:nvSpPr>
            <p:spPr>
              <a:xfrm>
                <a:off x="3439800" y="4487760"/>
                <a:ext cx="106560" cy="2840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67" h="179">
                    <a:moveTo>
                      <a:pt x="67" y="43"/>
                    </a:moveTo>
                    <a:lnTo>
                      <a:pt x="2" y="0"/>
                    </a:lnTo>
                    <a:lnTo>
                      <a:pt x="0" y="126"/>
                    </a:lnTo>
                    <a:lnTo>
                      <a:pt x="67" y="179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542"/>
            <p:cNvGrpSpPr/>
            <p:nvPr/>
          </p:nvGrpSpPr>
          <p:grpSpPr>
            <a:xfrm>
              <a:off x="3360600" y="4243320"/>
              <a:ext cx="2627280" cy="577800"/>
              <a:chOff x="3360600" y="4243320"/>
              <a:chExt cx="2627280" cy="577800"/>
            </a:xfrm>
          </p:grpSpPr>
          <p:sp>
            <p:nvSpPr>
              <p:cNvPr id="842" name="Freeform 284"/>
              <p:cNvSpPr/>
              <p:nvPr/>
            </p:nvSpPr>
            <p:spPr>
              <a:xfrm>
                <a:off x="5190840" y="4422600"/>
                <a:ext cx="212760" cy="2653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34" h="167">
                    <a:moveTo>
                      <a:pt x="0" y="167"/>
                    </a:moveTo>
                    <a:lnTo>
                      <a:pt x="133" y="152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99"/>
              <p:cNvSpPr/>
              <p:nvPr/>
            </p:nvSpPr>
            <p:spPr>
              <a:xfrm>
                <a:off x="3673440" y="4400640"/>
                <a:ext cx="139680" cy="328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88" h="207">
                    <a:moveTo>
                      <a:pt x="88" y="43"/>
                    </a:moveTo>
                    <a:lnTo>
                      <a:pt x="0" y="0"/>
                    </a:lnTo>
                    <a:lnTo>
                      <a:pt x="0" y="150"/>
                    </a:lnTo>
                    <a:lnTo>
                      <a:pt x="88" y="207"/>
                    </a:lnTo>
                    <a:lnTo>
                      <a:pt x="88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06"/>
              <p:cNvSpPr/>
              <p:nvPr/>
            </p:nvSpPr>
            <p:spPr>
              <a:xfrm>
                <a:off x="3546360" y="4336920"/>
                <a:ext cx="127080" cy="3016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0" h="190">
                    <a:moveTo>
                      <a:pt x="80" y="40"/>
                    </a:moveTo>
                    <a:lnTo>
                      <a:pt x="2" y="0"/>
                    </a:lnTo>
                    <a:lnTo>
                      <a:pt x="0" y="138"/>
                    </a:lnTo>
                    <a:lnTo>
                      <a:pt x="80" y="190"/>
                    </a:lnTo>
                    <a:lnTo>
                      <a:pt x="8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60"/>
              <p:cNvSpPr/>
              <p:nvPr/>
            </p:nvSpPr>
            <p:spPr>
              <a:xfrm>
                <a:off x="3949560" y="4519440"/>
                <a:ext cx="290520" cy="3016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83" h="190">
                    <a:moveTo>
                      <a:pt x="6" y="14"/>
                    </a:moveTo>
                    <a:lnTo>
                      <a:pt x="0" y="12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183" y="170"/>
                    </a:lnTo>
                    <a:lnTo>
                      <a:pt x="183" y="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1"/>
              <p:cNvSpPr/>
              <p:nvPr/>
            </p:nvSpPr>
            <p:spPr>
              <a:xfrm>
                <a:off x="4968720" y="4440240"/>
                <a:ext cx="222120" cy="2728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40" h="172">
                    <a:moveTo>
                      <a:pt x="0" y="172"/>
                    </a:moveTo>
                    <a:lnTo>
                      <a:pt x="140" y="156"/>
                    </a:lnTo>
                    <a:lnTo>
                      <a:pt x="140" y="0"/>
                    </a:lnTo>
                    <a:lnTo>
                      <a:pt x="0" y="1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4"/>
              <p:cNvSpPr/>
              <p:nvPr/>
            </p:nvSpPr>
            <p:spPr>
              <a:xfrm>
                <a:off x="4735440" y="4456080"/>
                <a:ext cx="233280" cy="279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7" h="176">
                    <a:moveTo>
                      <a:pt x="2" y="13"/>
                    </a:moveTo>
                    <a:lnTo>
                      <a:pt x="0" y="176"/>
                    </a:lnTo>
                    <a:lnTo>
                      <a:pt x="147" y="162"/>
                    </a:lnTo>
                    <a:lnTo>
                      <a:pt x="147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65"/>
              <p:cNvSpPr/>
              <p:nvPr/>
            </p:nvSpPr>
            <p:spPr>
              <a:xfrm>
                <a:off x="4240080" y="4495680"/>
                <a:ext cx="254160" cy="29376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0" h="185">
                    <a:moveTo>
                      <a:pt x="0" y="15"/>
                    </a:moveTo>
                    <a:lnTo>
                      <a:pt x="0" y="185"/>
                    </a:lnTo>
                    <a:lnTo>
                      <a:pt x="160" y="169"/>
                    </a:lnTo>
                    <a:lnTo>
                      <a:pt x="16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366"/>
              <p:cNvSpPr/>
              <p:nvPr/>
            </p:nvSpPr>
            <p:spPr>
              <a:xfrm>
                <a:off x="4494240" y="4476600"/>
                <a:ext cx="244440" cy="2872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54" h="181">
                    <a:moveTo>
                      <a:pt x="0" y="12"/>
                    </a:moveTo>
                    <a:lnTo>
                      <a:pt x="0" y="181"/>
                    </a:lnTo>
                    <a:lnTo>
                      <a:pt x="152" y="163"/>
                    </a:lnTo>
                    <a:lnTo>
                      <a:pt x="154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387"/>
              <p:cNvSpPr/>
              <p:nvPr/>
            </p:nvSpPr>
            <p:spPr>
              <a:xfrm>
                <a:off x="3813120" y="4468680"/>
                <a:ext cx="136440" cy="3492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86" h="220">
                    <a:moveTo>
                      <a:pt x="0" y="0"/>
                    </a:moveTo>
                    <a:lnTo>
                      <a:pt x="0" y="164"/>
                    </a:lnTo>
                    <a:lnTo>
                      <a:pt x="86" y="220"/>
                    </a:lnTo>
                    <a:lnTo>
                      <a:pt x="86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20"/>
              <p:cNvSpPr/>
              <p:nvPr/>
            </p:nvSpPr>
            <p:spPr>
              <a:xfrm>
                <a:off x="5805360" y="4371840"/>
                <a:ext cx="182520" cy="24948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64" h="88">
                    <a:moveTo>
                      <a:pt x="0" y="88"/>
                    </a:move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55"/>
                      <a:pt x="64" y="28"/>
                      <a:pt x="64" y="0"/>
                    </a:cubicBezTo>
                    <a:cubicBezTo>
                      <a:pt x="0" y="6"/>
                      <a:pt x="0" y="6"/>
                      <a:pt x="0" y="6"/>
                    </a:cubicBez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32"/>
              <p:cNvSpPr/>
              <p:nvPr/>
            </p:nvSpPr>
            <p:spPr>
              <a:xfrm>
                <a:off x="3360600" y="4243320"/>
                <a:ext cx="82440" cy="2444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9" h="86">
                    <a:moveTo>
                      <a:pt x="29" y="1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5"/>
                      <a:pt x="0" y="67"/>
                    </a:cubicBezTo>
                    <a:cubicBezTo>
                      <a:pt x="29" y="86"/>
                      <a:pt x="29" y="86"/>
                      <a:pt x="29" y="86"/>
                    </a:cubicBez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63"/>
              <p:cNvSpPr/>
              <p:nvPr/>
            </p:nvSpPr>
            <p:spPr>
              <a:xfrm>
                <a:off x="5402160" y="4405320"/>
                <a:ext cx="206280" cy="2588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0" h="163">
                    <a:moveTo>
                      <a:pt x="0" y="163"/>
                    </a:moveTo>
                    <a:lnTo>
                      <a:pt x="129" y="151"/>
                    </a:lnTo>
                    <a:lnTo>
                      <a:pt x="130" y="0"/>
                    </a:lnTo>
                    <a:lnTo>
                      <a:pt x="1" y="11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87"/>
              <p:cNvSpPr/>
              <p:nvPr/>
            </p:nvSpPr>
            <p:spPr>
              <a:xfrm>
                <a:off x="5607000" y="4387680"/>
                <a:ext cx="198360" cy="2574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25" h="162">
                    <a:moveTo>
                      <a:pt x="0" y="162"/>
                    </a:moveTo>
                    <a:lnTo>
                      <a:pt x="125" y="147"/>
                    </a:lnTo>
                    <a:lnTo>
                      <a:pt x="125" y="0"/>
                    </a:lnTo>
                    <a:lnTo>
                      <a:pt x="1" y="11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501"/>
              <p:cNvSpPr/>
              <p:nvPr/>
            </p:nvSpPr>
            <p:spPr>
              <a:xfrm>
                <a:off x="3443040" y="4282920"/>
                <a:ext cx="106560" cy="2732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7" y="34"/>
                    </a:moveTo>
                    <a:lnTo>
                      <a:pt x="0" y="0"/>
                    </a:lnTo>
                    <a:lnTo>
                      <a:pt x="0" y="129"/>
                    </a:lnTo>
                    <a:lnTo>
                      <a:pt x="65" y="172"/>
                    </a:lnTo>
                    <a:lnTo>
                      <a:pt x="6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Group 583"/>
          <p:cNvGrpSpPr/>
          <p:nvPr/>
        </p:nvGrpSpPr>
        <p:grpSpPr>
          <a:xfrm>
            <a:off x="3363840" y="3429000"/>
            <a:ext cx="2629080" cy="558720"/>
            <a:chOff x="3363840" y="3429000"/>
            <a:chExt cx="2629080" cy="558720"/>
          </a:xfrm>
        </p:grpSpPr>
        <p:grpSp>
          <p:nvGrpSpPr>
            <p:cNvPr id="857" name="Group 546"/>
            <p:cNvGrpSpPr/>
            <p:nvPr/>
          </p:nvGrpSpPr>
          <p:grpSpPr>
            <a:xfrm>
              <a:off x="3363840" y="3429000"/>
              <a:ext cx="2629080" cy="279360"/>
              <a:chOff x="3363840" y="3429000"/>
              <a:chExt cx="2629080" cy="279360"/>
            </a:xfrm>
          </p:grpSpPr>
          <p:sp>
            <p:nvSpPr>
              <p:cNvPr id="858" name="Freeform 300"/>
              <p:cNvSpPr/>
              <p:nvPr/>
            </p:nvSpPr>
            <p:spPr>
              <a:xfrm>
                <a:off x="3676680" y="3438360"/>
                <a:ext cx="133200" cy="2556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84" h="161">
                    <a:moveTo>
                      <a:pt x="84" y="0"/>
                    </a:moveTo>
                    <a:lnTo>
                      <a:pt x="0" y="3"/>
                    </a:lnTo>
                    <a:lnTo>
                      <a:pt x="0" y="152"/>
                    </a:lnTo>
                    <a:lnTo>
                      <a:pt x="84" y="16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02"/>
              <p:cNvSpPr/>
              <p:nvPr/>
            </p:nvSpPr>
            <p:spPr>
              <a:xfrm>
                <a:off x="5194080" y="3443400"/>
                <a:ext cx="212760" cy="2505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34" h="158">
                    <a:moveTo>
                      <a:pt x="0" y="158"/>
                    </a:moveTo>
                    <a:lnTo>
                      <a:pt x="134" y="156"/>
                    </a:lnTo>
                    <a:lnTo>
                      <a:pt x="134" y="2"/>
                    </a:lnTo>
                    <a:lnTo>
                      <a:pt x="2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08"/>
              <p:cNvSpPr/>
              <p:nvPr/>
            </p:nvSpPr>
            <p:spPr>
              <a:xfrm>
                <a:off x="3551040" y="3443400"/>
                <a:ext cx="125640" cy="23652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9" h="149">
                    <a:moveTo>
                      <a:pt x="79" y="0"/>
                    </a:moveTo>
                    <a:lnTo>
                      <a:pt x="0" y="4"/>
                    </a:lnTo>
                    <a:lnTo>
                      <a:pt x="0" y="142"/>
                    </a:lnTo>
                    <a:lnTo>
                      <a:pt x="79" y="14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34"/>
              <p:cNvSpPr/>
              <p:nvPr/>
            </p:nvSpPr>
            <p:spPr>
              <a:xfrm>
                <a:off x="3952800" y="3429000"/>
                <a:ext cx="290520" cy="27936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83" h="176">
                    <a:moveTo>
                      <a:pt x="183" y="174"/>
                    </a:moveTo>
                    <a:lnTo>
                      <a:pt x="183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176"/>
                    </a:lnTo>
                    <a:lnTo>
                      <a:pt x="2" y="176"/>
                    </a:lnTo>
                    <a:lnTo>
                      <a:pt x="183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46"/>
              <p:cNvSpPr/>
              <p:nvPr/>
            </p:nvSpPr>
            <p:spPr>
              <a:xfrm>
                <a:off x="4243320" y="3432240"/>
                <a:ext cx="254160" cy="2728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60" h="172">
                    <a:moveTo>
                      <a:pt x="160" y="2"/>
                    </a:moveTo>
                    <a:lnTo>
                      <a:pt x="0" y="0"/>
                    </a:lnTo>
                    <a:lnTo>
                      <a:pt x="0" y="172"/>
                    </a:lnTo>
                    <a:lnTo>
                      <a:pt x="160" y="170"/>
                    </a:lnTo>
                    <a:lnTo>
                      <a:pt x="16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57"/>
              <p:cNvSpPr/>
              <p:nvPr/>
            </p:nvSpPr>
            <p:spPr>
              <a:xfrm>
                <a:off x="4497480" y="3435480"/>
                <a:ext cx="244440" cy="2664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154" h="168">
                    <a:moveTo>
                      <a:pt x="0" y="168"/>
                    </a:moveTo>
                    <a:lnTo>
                      <a:pt x="154" y="167"/>
                    </a:lnTo>
                    <a:lnTo>
                      <a:pt x="154" y="2"/>
                    </a:lnTo>
                    <a:lnTo>
                      <a:pt x="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59"/>
              <p:cNvSpPr/>
              <p:nvPr/>
            </p:nvSpPr>
            <p:spPr>
              <a:xfrm>
                <a:off x="4741920" y="3438360"/>
                <a:ext cx="233280" cy="26208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0" y="165"/>
                    </a:moveTo>
                    <a:lnTo>
                      <a:pt x="145" y="163"/>
                    </a:lnTo>
                    <a:lnTo>
                      <a:pt x="147" y="1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68"/>
              <p:cNvSpPr/>
              <p:nvPr/>
            </p:nvSpPr>
            <p:spPr>
              <a:xfrm>
                <a:off x="4971960" y="3440160"/>
                <a:ext cx="225360" cy="25704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42" h="162">
                    <a:moveTo>
                      <a:pt x="0" y="162"/>
                    </a:moveTo>
                    <a:lnTo>
                      <a:pt x="140" y="160"/>
                    </a:lnTo>
                    <a:lnTo>
                      <a:pt x="142" y="2"/>
                    </a:lnTo>
                    <a:lnTo>
                      <a:pt x="2" y="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5"/>
              <p:cNvSpPr/>
              <p:nvPr/>
            </p:nvSpPr>
            <p:spPr>
              <a:xfrm>
                <a:off x="3809880" y="3429000"/>
                <a:ext cx="146160" cy="2793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92" h="176">
                    <a:moveTo>
                      <a:pt x="92" y="0"/>
                    </a:moveTo>
                    <a:lnTo>
                      <a:pt x="0" y="6"/>
                    </a:lnTo>
                    <a:lnTo>
                      <a:pt x="0" y="167"/>
                    </a:lnTo>
                    <a:lnTo>
                      <a:pt x="90" y="17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398"/>
              <p:cNvSpPr/>
              <p:nvPr/>
            </p:nvSpPr>
            <p:spPr>
              <a:xfrm>
                <a:off x="3363840" y="3452760"/>
                <a:ext cx="82440" cy="206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29" h="73">
                    <a:moveTo>
                      <a:pt x="29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5"/>
                      <a:pt x="0" y="47"/>
                      <a:pt x="0" y="70"/>
                    </a:cubicBezTo>
                    <a:cubicBezTo>
                      <a:pt x="29" y="73"/>
                      <a:pt x="29" y="73"/>
                      <a:pt x="29" y="73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09"/>
              <p:cNvSpPr/>
              <p:nvPr/>
            </p:nvSpPr>
            <p:spPr>
              <a:xfrm>
                <a:off x="5611680" y="3449520"/>
                <a:ext cx="200160" cy="23832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26" h="150">
                    <a:moveTo>
                      <a:pt x="0" y="150"/>
                    </a:moveTo>
                    <a:lnTo>
                      <a:pt x="124" y="150"/>
                    </a:lnTo>
                    <a:lnTo>
                      <a:pt x="126" y="2"/>
                    </a:lnTo>
                    <a:lnTo>
                      <a:pt x="2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30"/>
              <p:cNvSpPr/>
              <p:nvPr/>
            </p:nvSpPr>
            <p:spPr>
              <a:xfrm>
                <a:off x="5808600" y="3452760"/>
                <a:ext cx="184320" cy="2350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5" h="83">
                    <a:moveTo>
                      <a:pt x="0" y="83"/>
                    </a:move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55"/>
                      <a:pt x="65" y="28"/>
                      <a:pt x="65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75"/>
              <p:cNvSpPr/>
              <p:nvPr/>
            </p:nvSpPr>
            <p:spPr>
              <a:xfrm>
                <a:off x="5406840" y="3446640"/>
                <a:ext cx="208080" cy="2444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31" h="154">
                    <a:moveTo>
                      <a:pt x="0" y="154"/>
                    </a:moveTo>
                    <a:lnTo>
                      <a:pt x="129" y="152"/>
                    </a:lnTo>
                    <a:lnTo>
                      <a:pt x="131" y="2"/>
                    </a:lnTo>
                    <a:lnTo>
                      <a:pt x="0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96"/>
              <p:cNvSpPr/>
              <p:nvPr/>
            </p:nvSpPr>
            <p:spPr>
              <a:xfrm>
                <a:off x="3446280" y="3449520"/>
                <a:ext cx="104760" cy="2192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66" h="138">
                    <a:moveTo>
                      <a:pt x="66" y="0"/>
                    </a:moveTo>
                    <a:lnTo>
                      <a:pt x="0" y="2"/>
                    </a:lnTo>
                    <a:lnTo>
                      <a:pt x="0" y="132"/>
                    </a:lnTo>
                    <a:lnTo>
                      <a:pt x="66" y="138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545"/>
            <p:cNvGrpSpPr/>
            <p:nvPr/>
          </p:nvGrpSpPr>
          <p:grpSpPr>
            <a:xfrm>
              <a:off x="3363840" y="3651120"/>
              <a:ext cx="2629080" cy="336600"/>
              <a:chOff x="3363840" y="3651120"/>
              <a:chExt cx="2629080" cy="336600"/>
            </a:xfrm>
          </p:grpSpPr>
          <p:sp>
            <p:nvSpPr>
              <p:cNvPr id="873" name="Freeform 283"/>
              <p:cNvSpPr/>
              <p:nvPr/>
            </p:nvSpPr>
            <p:spPr>
              <a:xfrm>
                <a:off x="5194080" y="3690720"/>
                <a:ext cx="212760" cy="2509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134" h="158">
                    <a:moveTo>
                      <a:pt x="0" y="158"/>
                    </a:moveTo>
                    <a:lnTo>
                      <a:pt x="134" y="154"/>
                    </a:lnTo>
                    <a:lnTo>
                      <a:pt x="134" y="0"/>
                    </a:lnTo>
                    <a:lnTo>
                      <a:pt x="0" y="2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95"/>
              <p:cNvSpPr/>
              <p:nvPr/>
            </p:nvSpPr>
            <p:spPr>
              <a:xfrm>
                <a:off x="3676680" y="3679560"/>
                <a:ext cx="133200" cy="2732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84" h="172">
                    <a:moveTo>
                      <a:pt x="84" y="9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84" y="172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5"/>
              <p:cNvSpPr/>
              <p:nvPr/>
            </p:nvSpPr>
            <p:spPr>
              <a:xfrm>
                <a:off x="3549600" y="3668760"/>
                <a:ext cx="127080" cy="2505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80" h="158">
                    <a:moveTo>
                      <a:pt x="80" y="7"/>
                    </a:moveTo>
                    <a:lnTo>
                      <a:pt x="1" y="0"/>
                    </a:lnTo>
                    <a:lnTo>
                      <a:pt x="0" y="138"/>
                    </a:lnTo>
                    <a:lnTo>
                      <a:pt x="80" y="158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2"/>
              <p:cNvSpPr/>
              <p:nvPr/>
            </p:nvSpPr>
            <p:spPr>
              <a:xfrm>
                <a:off x="3952800" y="3705120"/>
                <a:ext cx="290520" cy="28260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83" h="178">
                    <a:moveTo>
                      <a:pt x="181" y="170"/>
                    </a:moveTo>
                    <a:lnTo>
                      <a:pt x="18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78"/>
                    </a:lnTo>
                    <a:lnTo>
                      <a:pt x="2" y="178"/>
                    </a:lnTo>
                    <a:lnTo>
                      <a:pt x="18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41"/>
              <p:cNvSpPr/>
              <p:nvPr/>
            </p:nvSpPr>
            <p:spPr>
              <a:xfrm>
                <a:off x="4738680" y="3697200"/>
                <a:ext cx="233280" cy="261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0" y="165"/>
                    </a:moveTo>
                    <a:lnTo>
                      <a:pt x="147" y="159"/>
                    </a:lnTo>
                    <a:lnTo>
                      <a:pt x="147" y="0"/>
                    </a:lnTo>
                    <a:lnTo>
                      <a:pt x="2" y="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48"/>
              <p:cNvSpPr/>
              <p:nvPr/>
            </p:nvSpPr>
            <p:spPr>
              <a:xfrm>
                <a:off x="4240080" y="3701880"/>
                <a:ext cx="257400" cy="2732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62" h="172">
                    <a:moveTo>
                      <a:pt x="162" y="0"/>
                    </a:moveTo>
                    <a:lnTo>
                      <a:pt x="2" y="2"/>
                    </a:lnTo>
                    <a:lnTo>
                      <a:pt x="0" y="172"/>
                    </a:lnTo>
                    <a:lnTo>
                      <a:pt x="162" y="167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58"/>
              <p:cNvSpPr/>
              <p:nvPr/>
            </p:nvSpPr>
            <p:spPr>
              <a:xfrm>
                <a:off x="4497480" y="3700440"/>
                <a:ext cx="244440" cy="266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54" h="168">
                    <a:moveTo>
                      <a:pt x="0" y="168"/>
                    </a:moveTo>
                    <a:lnTo>
                      <a:pt x="152" y="163"/>
                    </a:lnTo>
                    <a:lnTo>
                      <a:pt x="154" y="0"/>
                    </a:lnTo>
                    <a:lnTo>
                      <a:pt x="0" y="1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67"/>
              <p:cNvSpPr/>
              <p:nvPr/>
            </p:nvSpPr>
            <p:spPr>
              <a:xfrm>
                <a:off x="4971960" y="3693960"/>
                <a:ext cx="222120" cy="2556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40" h="161">
                    <a:moveTo>
                      <a:pt x="0" y="161"/>
                    </a:moveTo>
                    <a:lnTo>
                      <a:pt x="140" y="156"/>
                    </a:lnTo>
                    <a:lnTo>
                      <a:pt x="140" y="0"/>
                    </a:lnTo>
                    <a:lnTo>
                      <a:pt x="0" y="2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84"/>
              <p:cNvSpPr/>
              <p:nvPr/>
            </p:nvSpPr>
            <p:spPr>
              <a:xfrm>
                <a:off x="3809880" y="3693960"/>
                <a:ext cx="142920" cy="293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90" h="185">
                    <a:moveTo>
                      <a:pt x="90" y="9"/>
                    </a:moveTo>
                    <a:lnTo>
                      <a:pt x="0" y="0"/>
                    </a:lnTo>
                    <a:lnTo>
                      <a:pt x="0" y="163"/>
                    </a:lnTo>
                    <a:lnTo>
                      <a:pt x="90" y="185"/>
                    </a:lnTo>
                    <a:lnTo>
                      <a:pt x="9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08"/>
              <p:cNvSpPr/>
              <p:nvPr/>
            </p:nvSpPr>
            <p:spPr>
              <a:xfrm>
                <a:off x="5611680" y="3687480"/>
                <a:ext cx="196920" cy="2397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24" h="151">
                    <a:moveTo>
                      <a:pt x="0" y="151"/>
                    </a:moveTo>
                    <a:lnTo>
                      <a:pt x="124" y="147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14"/>
              <p:cNvSpPr/>
              <p:nvPr/>
            </p:nvSpPr>
            <p:spPr>
              <a:xfrm>
                <a:off x="3363840" y="3651120"/>
                <a:ext cx="82440" cy="2109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9" h="74">
                    <a:moveTo>
                      <a:pt x="29" y="3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45"/>
                      <a:pt x="0" y="67"/>
                    </a:cubicBezTo>
                    <a:cubicBezTo>
                      <a:pt x="29" y="74"/>
                      <a:pt x="29" y="74"/>
                      <a:pt x="29" y="74"/>
                    </a:cubicBez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31"/>
              <p:cNvSpPr/>
              <p:nvPr/>
            </p:nvSpPr>
            <p:spPr>
              <a:xfrm>
                <a:off x="5808600" y="3686040"/>
                <a:ext cx="184320" cy="2350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5" h="83">
                    <a:moveTo>
                      <a:pt x="0" y="83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54"/>
                      <a:pt x="64" y="27"/>
                      <a:pt x="65" y="0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73"/>
              <p:cNvSpPr/>
              <p:nvPr/>
            </p:nvSpPr>
            <p:spPr>
              <a:xfrm>
                <a:off x="5406840" y="3687480"/>
                <a:ext cx="204840" cy="2476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9" h="156">
                    <a:moveTo>
                      <a:pt x="0" y="156"/>
                    </a:moveTo>
                    <a:lnTo>
                      <a:pt x="129" y="151"/>
                    </a:lnTo>
                    <a:lnTo>
                      <a:pt x="129" y="0"/>
                    </a:lnTo>
                    <a:lnTo>
                      <a:pt x="0" y="2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00"/>
              <p:cNvSpPr/>
              <p:nvPr/>
            </p:nvSpPr>
            <p:spPr>
              <a:xfrm>
                <a:off x="3446280" y="3659040"/>
                <a:ext cx="104760" cy="228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6" h="144">
                    <a:moveTo>
                      <a:pt x="66" y="6"/>
                    </a:moveTo>
                    <a:lnTo>
                      <a:pt x="0" y="0"/>
                    </a:lnTo>
                    <a:lnTo>
                      <a:pt x="0" y="128"/>
                    </a:lnTo>
                    <a:lnTo>
                      <a:pt x="65" y="144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Group 582"/>
          <p:cNvGrpSpPr/>
          <p:nvPr/>
        </p:nvGrpSpPr>
        <p:grpSpPr>
          <a:xfrm>
            <a:off x="3360600" y="3841920"/>
            <a:ext cx="2630520" cy="699120"/>
            <a:chOff x="3360600" y="3841920"/>
            <a:chExt cx="2630520" cy="699120"/>
          </a:xfrm>
        </p:grpSpPr>
        <p:grpSp>
          <p:nvGrpSpPr>
            <p:cNvPr id="888" name="Group 543"/>
            <p:cNvGrpSpPr/>
            <p:nvPr/>
          </p:nvGrpSpPr>
          <p:grpSpPr>
            <a:xfrm>
              <a:off x="3360600" y="4038480"/>
              <a:ext cx="2630520" cy="502560"/>
              <a:chOff x="3360600" y="4038480"/>
              <a:chExt cx="2630520" cy="502560"/>
            </a:xfrm>
          </p:grpSpPr>
          <p:sp>
            <p:nvSpPr>
              <p:cNvPr id="889" name="Freeform 286"/>
              <p:cNvSpPr/>
              <p:nvPr/>
            </p:nvSpPr>
            <p:spPr>
              <a:xfrm>
                <a:off x="5190840" y="4177800"/>
                <a:ext cx="212760" cy="261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4" h="165">
                    <a:moveTo>
                      <a:pt x="0" y="165"/>
                    </a:moveTo>
                    <a:lnTo>
                      <a:pt x="134" y="154"/>
                    </a:lnTo>
                    <a:lnTo>
                      <a:pt x="134" y="0"/>
                    </a:lnTo>
                    <a:lnTo>
                      <a:pt x="2" y="9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96"/>
              <p:cNvSpPr/>
              <p:nvPr/>
            </p:nvSpPr>
            <p:spPr>
              <a:xfrm>
                <a:off x="3673440" y="4157280"/>
                <a:ext cx="139680" cy="310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10680"/>
                  <a:gd name="textAreaBottom" fmla="*/ 310680 h 310680"/>
                </a:gdLst>
                <a:ahLst/>
                <a:rect l="textAreaLeft" t="textAreaTop" r="textAreaRight" b="textAreaBottom"/>
                <a:pathLst>
                  <a:path w="88" h="196">
                    <a:moveTo>
                      <a:pt x="86" y="32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88" y="196"/>
                    </a:lnTo>
                    <a:lnTo>
                      <a:pt x="8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04"/>
              <p:cNvSpPr/>
              <p:nvPr/>
            </p:nvSpPr>
            <p:spPr>
              <a:xfrm>
                <a:off x="3549600" y="4109400"/>
                <a:ext cx="123840" cy="2901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78" h="183">
                    <a:moveTo>
                      <a:pt x="78" y="3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8" y="183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30"/>
              <p:cNvSpPr/>
              <p:nvPr/>
            </p:nvSpPr>
            <p:spPr>
              <a:xfrm>
                <a:off x="3809880" y="4208040"/>
                <a:ext cx="142920" cy="329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90" h="208">
                    <a:moveTo>
                      <a:pt x="90" y="33"/>
                    </a:moveTo>
                    <a:lnTo>
                      <a:pt x="0" y="0"/>
                    </a:lnTo>
                    <a:lnTo>
                      <a:pt x="2" y="164"/>
                    </a:lnTo>
                    <a:lnTo>
                      <a:pt x="88" y="208"/>
                    </a:lnTo>
                    <a:lnTo>
                      <a:pt x="9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33"/>
              <p:cNvSpPr/>
              <p:nvPr/>
            </p:nvSpPr>
            <p:spPr>
              <a:xfrm>
                <a:off x="3949560" y="4246200"/>
                <a:ext cx="290520" cy="29484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6" y="10"/>
                    </a:moveTo>
                    <a:lnTo>
                      <a:pt x="2" y="9"/>
                    </a:lnTo>
                    <a:lnTo>
                      <a:pt x="0" y="184"/>
                    </a:lnTo>
                    <a:lnTo>
                      <a:pt x="6" y="186"/>
                    </a:lnTo>
                    <a:lnTo>
                      <a:pt x="183" y="172"/>
                    </a:lnTo>
                    <a:lnTo>
                      <a:pt x="18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36"/>
              <p:cNvSpPr/>
              <p:nvPr/>
            </p:nvSpPr>
            <p:spPr>
              <a:xfrm>
                <a:off x="4240080" y="4231800"/>
                <a:ext cx="254160" cy="28692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86920"/>
                  <a:gd name="textAreaBottom" fmla="*/ 286920 h 286920"/>
                </a:gdLst>
                <a:ahLst/>
                <a:rect l="textAreaLeft" t="textAreaTop" r="textAreaRight" b="textAreaBottom"/>
                <a:pathLst>
                  <a:path w="160" h="181">
                    <a:moveTo>
                      <a:pt x="0" y="9"/>
                    </a:moveTo>
                    <a:lnTo>
                      <a:pt x="0" y="181"/>
                    </a:lnTo>
                    <a:lnTo>
                      <a:pt x="160" y="166"/>
                    </a:lnTo>
                    <a:lnTo>
                      <a:pt x="16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43"/>
              <p:cNvSpPr/>
              <p:nvPr/>
            </p:nvSpPr>
            <p:spPr>
              <a:xfrm>
                <a:off x="4494240" y="4217400"/>
                <a:ext cx="244440" cy="2775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7560"/>
                  <a:gd name="textAreaBottom" fmla="*/ 277560 h 277560"/>
                </a:gdLst>
                <a:ahLst/>
                <a:rect l="textAreaLeft" t="textAreaTop" r="textAreaRight" b="textAreaBottom"/>
                <a:pathLst>
                  <a:path w="154" h="175">
                    <a:moveTo>
                      <a:pt x="0" y="9"/>
                    </a:moveTo>
                    <a:lnTo>
                      <a:pt x="0" y="175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44"/>
              <p:cNvSpPr/>
              <p:nvPr/>
            </p:nvSpPr>
            <p:spPr>
              <a:xfrm>
                <a:off x="4738680" y="4203360"/>
                <a:ext cx="233280" cy="2725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147" h="172">
                    <a:moveTo>
                      <a:pt x="0" y="172"/>
                    </a:moveTo>
                    <a:lnTo>
                      <a:pt x="145" y="159"/>
                    </a:lnTo>
                    <a:lnTo>
                      <a:pt x="147" y="0"/>
                    </a:lnTo>
                    <a:lnTo>
                      <a:pt x="0" y="9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63"/>
              <p:cNvSpPr/>
              <p:nvPr/>
            </p:nvSpPr>
            <p:spPr>
              <a:xfrm>
                <a:off x="4968720" y="4192200"/>
                <a:ext cx="225360" cy="2631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142" h="166">
                    <a:moveTo>
                      <a:pt x="0" y="166"/>
                    </a:moveTo>
                    <a:lnTo>
                      <a:pt x="140" y="156"/>
                    </a:lnTo>
                    <a:lnTo>
                      <a:pt x="142" y="0"/>
                    </a:lnTo>
                    <a:lnTo>
                      <a:pt x="2" y="7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8"/>
              <p:cNvSpPr/>
              <p:nvPr/>
            </p:nvSpPr>
            <p:spPr>
              <a:xfrm>
                <a:off x="5805360" y="4142880"/>
                <a:ext cx="185760" cy="2440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5" h="86">
                    <a:moveTo>
                      <a:pt x="0" y="86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54"/>
                      <a:pt x="65" y="27"/>
                      <a:pt x="65" y="0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37"/>
              <p:cNvSpPr/>
              <p:nvPr/>
            </p:nvSpPr>
            <p:spPr>
              <a:xfrm>
                <a:off x="3360600" y="4038480"/>
                <a:ext cx="82440" cy="2440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" h="86">
                    <a:moveTo>
                      <a:pt x="29" y="1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25"/>
                      <a:pt x="0" y="48"/>
                      <a:pt x="0" y="72"/>
                    </a:cubicBezTo>
                    <a:cubicBezTo>
                      <a:pt x="29" y="86"/>
                      <a:pt x="29" y="86"/>
                      <a:pt x="29" y="86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67"/>
              <p:cNvSpPr/>
              <p:nvPr/>
            </p:nvSpPr>
            <p:spPr>
              <a:xfrm>
                <a:off x="5403600" y="4166640"/>
                <a:ext cx="204840" cy="2552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29" h="161">
                    <a:moveTo>
                      <a:pt x="0" y="161"/>
                    </a:moveTo>
                    <a:lnTo>
                      <a:pt x="129" y="150"/>
                    </a:lnTo>
                    <a:lnTo>
                      <a:pt x="129" y="0"/>
                    </a:lnTo>
                    <a:lnTo>
                      <a:pt x="0" y="7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81"/>
              <p:cNvSpPr/>
              <p:nvPr/>
            </p:nvSpPr>
            <p:spPr>
              <a:xfrm>
                <a:off x="5608440" y="4154040"/>
                <a:ext cx="196920" cy="2505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24" h="158">
                    <a:moveTo>
                      <a:pt x="0" y="158"/>
                    </a:moveTo>
                    <a:lnTo>
                      <a:pt x="124" y="147"/>
                    </a:lnTo>
                    <a:lnTo>
                      <a:pt x="124" y="0"/>
                    </a:lnTo>
                    <a:lnTo>
                      <a:pt x="0" y="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3443040" y="4069800"/>
                <a:ext cx="106560" cy="2664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67" h="168">
                    <a:moveTo>
                      <a:pt x="67" y="25"/>
                    </a:moveTo>
                    <a:lnTo>
                      <a:pt x="0" y="0"/>
                    </a:lnTo>
                    <a:lnTo>
                      <a:pt x="0" y="134"/>
                    </a:lnTo>
                    <a:lnTo>
                      <a:pt x="67" y="168"/>
                    </a:lnTo>
                    <a:lnTo>
                      <a:pt x="6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544"/>
            <p:cNvGrpSpPr/>
            <p:nvPr/>
          </p:nvGrpSpPr>
          <p:grpSpPr>
            <a:xfrm>
              <a:off x="3363840" y="3841920"/>
              <a:ext cx="2627280" cy="420120"/>
              <a:chOff x="3363840" y="3841920"/>
              <a:chExt cx="2627280" cy="420120"/>
            </a:xfrm>
          </p:grpSpPr>
          <p:sp>
            <p:nvSpPr>
              <p:cNvPr id="904" name="Freeform 285"/>
              <p:cNvSpPr/>
              <p:nvPr/>
            </p:nvSpPr>
            <p:spPr>
              <a:xfrm>
                <a:off x="5194080" y="3935160"/>
                <a:ext cx="212760" cy="2570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34" h="162">
                    <a:moveTo>
                      <a:pt x="0" y="162"/>
                    </a:moveTo>
                    <a:lnTo>
                      <a:pt x="132" y="153"/>
                    </a:lnTo>
                    <a:lnTo>
                      <a:pt x="134" y="0"/>
                    </a:lnTo>
                    <a:lnTo>
                      <a:pt x="0" y="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98"/>
              <p:cNvSpPr/>
              <p:nvPr/>
            </p:nvSpPr>
            <p:spPr>
              <a:xfrm>
                <a:off x="3673440" y="3919320"/>
                <a:ext cx="136440" cy="2887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86" h="182">
                    <a:moveTo>
                      <a:pt x="86" y="21"/>
                    </a:moveTo>
                    <a:lnTo>
                      <a:pt x="2" y="0"/>
                    </a:lnTo>
                    <a:lnTo>
                      <a:pt x="0" y="150"/>
                    </a:lnTo>
                    <a:lnTo>
                      <a:pt x="86" y="182"/>
                    </a:lnTo>
                    <a:lnTo>
                      <a:pt x="86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03"/>
              <p:cNvSpPr/>
              <p:nvPr/>
            </p:nvSpPr>
            <p:spPr>
              <a:xfrm>
                <a:off x="3549600" y="3887640"/>
                <a:ext cx="127080" cy="2696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80" h="170">
                    <a:moveTo>
                      <a:pt x="80" y="2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78" y="170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1"/>
              <p:cNvSpPr/>
              <p:nvPr/>
            </p:nvSpPr>
            <p:spPr>
              <a:xfrm>
                <a:off x="3952800" y="3974760"/>
                <a:ext cx="287280" cy="2872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81" h="181">
                    <a:moveTo>
                      <a:pt x="181" y="171"/>
                    </a:moveTo>
                    <a:lnTo>
                      <a:pt x="181" y="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0"/>
                    </a:lnTo>
                    <a:lnTo>
                      <a:pt x="4" y="181"/>
                    </a:lnTo>
                    <a:lnTo>
                      <a:pt x="181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42"/>
              <p:cNvSpPr/>
              <p:nvPr/>
            </p:nvSpPr>
            <p:spPr>
              <a:xfrm>
                <a:off x="4738680" y="3949560"/>
                <a:ext cx="233280" cy="267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7840"/>
                  <a:gd name="textAreaBottom" fmla="*/ 267840 h 267840"/>
                </a:gdLst>
                <a:ahLst/>
                <a:rect l="textAreaLeft" t="textAreaTop" r="textAreaRight" b="textAreaBottom"/>
                <a:pathLst>
                  <a:path w="147" h="169">
                    <a:moveTo>
                      <a:pt x="0" y="169"/>
                    </a:moveTo>
                    <a:lnTo>
                      <a:pt x="147" y="160"/>
                    </a:lnTo>
                    <a:lnTo>
                      <a:pt x="147" y="0"/>
                    </a:lnTo>
                    <a:lnTo>
                      <a:pt x="0" y="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49"/>
              <p:cNvSpPr/>
              <p:nvPr/>
            </p:nvSpPr>
            <p:spPr>
              <a:xfrm>
                <a:off x="4240080" y="3966840"/>
                <a:ext cx="257400" cy="2790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62" h="176">
                    <a:moveTo>
                      <a:pt x="0" y="5"/>
                    </a:moveTo>
                    <a:lnTo>
                      <a:pt x="0" y="176"/>
                    </a:lnTo>
                    <a:lnTo>
                      <a:pt x="160" y="167"/>
                    </a:lnTo>
                    <a:lnTo>
                      <a:pt x="16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53"/>
              <p:cNvSpPr/>
              <p:nvPr/>
            </p:nvSpPr>
            <p:spPr>
              <a:xfrm>
                <a:off x="4494240" y="3958920"/>
                <a:ext cx="244440" cy="272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54" h="172">
                    <a:moveTo>
                      <a:pt x="0" y="172"/>
                    </a:moveTo>
                    <a:lnTo>
                      <a:pt x="154" y="163"/>
                    </a:lnTo>
                    <a:lnTo>
                      <a:pt x="154" y="0"/>
                    </a:lnTo>
                    <a:lnTo>
                      <a:pt x="2" y="5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62"/>
              <p:cNvSpPr/>
              <p:nvPr/>
            </p:nvSpPr>
            <p:spPr>
              <a:xfrm>
                <a:off x="4971960" y="3941640"/>
                <a:ext cx="222120" cy="2613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40" h="165">
                    <a:moveTo>
                      <a:pt x="0" y="165"/>
                    </a:moveTo>
                    <a:lnTo>
                      <a:pt x="140" y="158"/>
                    </a:lnTo>
                    <a:lnTo>
                      <a:pt x="140" y="0"/>
                    </a:lnTo>
                    <a:lnTo>
                      <a:pt x="0" y="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82"/>
              <p:cNvSpPr/>
              <p:nvPr/>
            </p:nvSpPr>
            <p:spPr>
              <a:xfrm>
                <a:off x="3809880" y="3952800"/>
                <a:ext cx="142920" cy="3074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90" h="194">
                    <a:moveTo>
                      <a:pt x="90" y="22"/>
                    </a:moveTo>
                    <a:lnTo>
                      <a:pt x="0" y="0"/>
                    </a:lnTo>
                    <a:lnTo>
                      <a:pt x="0" y="161"/>
                    </a:lnTo>
                    <a:lnTo>
                      <a:pt x="90" y="194"/>
                    </a:lnTo>
                    <a:lnTo>
                      <a:pt x="9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13"/>
              <p:cNvSpPr/>
              <p:nvPr/>
            </p:nvSpPr>
            <p:spPr>
              <a:xfrm>
                <a:off x="5608440" y="3920760"/>
                <a:ext cx="200160" cy="245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26" h="155">
                    <a:moveTo>
                      <a:pt x="0" y="155"/>
                    </a:moveTo>
                    <a:lnTo>
                      <a:pt x="124" y="147"/>
                    </a:lnTo>
                    <a:lnTo>
                      <a:pt x="126" y="0"/>
                    </a:lnTo>
                    <a:lnTo>
                      <a:pt x="2" y="4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6"/>
              <p:cNvSpPr/>
              <p:nvPr/>
            </p:nvSpPr>
            <p:spPr>
              <a:xfrm>
                <a:off x="5805360" y="3912840"/>
                <a:ext cx="185760" cy="24120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65" h="85">
                    <a:moveTo>
                      <a:pt x="0" y="85"/>
                    </a:move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54"/>
                      <a:pt x="65" y="27"/>
                      <a:pt x="65" y="0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36"/>
              <p:cNvSpPr/>
              <p:nvPr/>
            </p:nvSpPr>
            <p:spPr>
              <a:xfrm>
                <a:off x="3363840" y="3841920"/>
                <a:ext cx="82440" cy="2282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29" y="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4"/>
                      <a:pt x="0" y="47"/>
                      <a:pt x="0" y="69"/>
                    </a:cubicBezTo>
                    <a:cubicBezTo>
                      <a:pt x="28" y="80"/>
                      <a:pt x="28" y="80"/>
                      <a:pt x="28" y="80"/>
                    </a:cubicBez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72"/>
              <p:cNvSpPr/>
              <p:nvPr/>
            </p:nvSpPr>
            <p:spPr>
              <a:xfrm>
                <a:off x="5403600" y="3927240"/>
                <a:ext cx="208080" cy="250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31" h="158">
                    <a:moveTo>
                      <a:pt x="0" y="158"/>
                    </a:moveTo>
                    <a:lnTo>
                      <a:pt x="129" y="151"/>
                    </a:lnTo>
                    <a:lnTo>
                      <a:pt x="131" y="0"/>
                    </a:lnTo>
                    <a:lnTo>
                      <a:pt x="2" y="5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04"/>
              <p:cNvSpPr/>
              <p:nvPr/>
            </p:nvSpPr>
            <p:spPr>
              <a:xfrm>
                <a:off x="3443040" y="3862080"/>
                <a:ext cx="106560" cy="2473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67" h="156">
                    <a:moveTo>
                      <a:pt x="67" y="16"/>
                    </a:moveTo>
                    <a:lnTo>
                      <a:pt x="2" y="0"/>
                    </a:lnTo>
                    <a:lnTo>
                      <a:pt x="0" y="131"/>
                    </a:lnTo>
                    <a:lnTo>
                      <a:pt x="67" y="156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8" name="Line 507"/>
          <p:cNvSpPr/>
          <p:nvPr/>
        </p:nvSpPr>
        <p:spPr>
          <a:xfrm flipV="1">
            <a:off x="3944880" y="1177560"/>
            <a:ext cx="19080" cy="4786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508"/>
          <p:cNvSpPr/>
          <p:nvPr/>
        </p:nvSpPr>
        <p:spPr>
          <a:xfrm>
            <a:off x="3355920" y="1474920"/>
            <a:ext cx="2646360" cy="62856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667" h="396">
                <a:moveTo>
                  <a:pt x="1667" y="229"/>
                </a:moveTo>
                <a:lnTo>
                  <a:pt x="387" y="0"/>
                </a:lnTo>
                <a:lnTo>
                  <a:pt x="0" y="396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509"/>
          <p:cNvSpPr/>
          <p:nvPr/>
        </p:nvSpPr>
        <p:spPr>
          <a:xfrm>
            <a:off x="3355920" y="1755720"/>
            <a:ext cx="2646360" cy="53496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667" h="337">
                <a:moveTo>
                  <a:pt x="1667" y="199"/>
                </a:moveTo>
                <a:lnTo>
                  <a:pt x="387" y="0"/>
                </a:lnTo>
                <a:lnTo>
                  <a:pt x="0" y="337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0"/>
          <p:cNvSpPr/>
          <p:nvPr/>
        </p:nvSpPr>
        <p:spPr>
          <a:xfrm>
            <a:off x="3355920" y="2035080"/>
            <a:ext cx="2643120" cy="44928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65" h="283">
                <a:moveTo>
                  <a:pt x="1665" y="168"/>
                </a:moveTo>
                <a:lnTo>
                  <a:pt x="385" y="0"/>
                </a:lnTo>
                <a:lnTo>
                  <a:pt x="0" y="283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511"/>
          <p:cNvSpPr/>
          <p:nvPr/>
        </p:nvSpPr>
        <p:spPr>
          <a:xfrm>
            <a:off x="3357720" y="2314440"/>
            <a:ext cx="2638440" cy="366840"/>
          </a:xfrm>
          <a:custGeom>
            <a:avLst/>
            <a:gdLst>
              <a:gd name="textAreaLeft" fmla="*/ 0 w 2638440"/>
              <a:gd name="textAreaRight" fmla="*/ 2638800 w 26384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662" h="231">
                <a:moveTo>
                  <a:pt x="1662" y="138"/>
                </a:moveTo>
                <a:lnTo>
                  <a:pt x="382" y="0"/>
                </a:lnTo>
                <a:lnTo>
                  <a:pt x="0" y="231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512"/>
          <p:cNvSpPr/>
          <p:nvPr/>
        </p:nvSpPr>
        <p:spPr>
          <a:xfrm>
            <a:off x="3355920" y="2592360"/>
            <a:ext cx="2643120" cy="28260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665" h="178">
                <a:moveTo>
                  <a:pt x="1665" y="108"/>
                </a:moveTo>
                <a:lnTo>
                  <a:pt x="383" y="0"/>
                </a:lnTo>
                <a:lnTo>
                  <a:pt x="0" y="178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513"/>
          <p:cNvSpPr/>
          <p:nvPr/>
        </p:nvSpPr>
        <p:spPr>
          <a:xfrm>
            <a:off x="3349800" y="2874960"/>
            <a:ext cx="2646360" cy="19512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667" h="123">
                <a:moveTo>
                  <a:pt x="1667" y="75"/>
                </a:moveTo>
                <a:lnTo>
                  <a:pt x="385" y="0"/>
                </a:lnTo>
                <a:lnTo>
                  <a:pt x="0" y="123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514"/>
          <p:cNvSpPr/>
          <p:nvPr/>
        </p:nvSpPr>
        <p:spPr>
          <a:xfrm>
            <a:off x="3355920" y="3151080"/>
            <a:ext cx="2640240" cy="10980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663" h="69">
                <a:moveTo>
                  <a:pt x="1663" y="46"/>
                </a:moveTo>
                <a:lnTo>
                  <a:pt x="383" y="0"/>
                </a:lnTo>
                <a:lnTo>
                  <a:pt x="0" y="69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515"/>
          <p:cNvSpPr/>
          <p:nvPr/>
        </p:nvSpPr>
        <p:spPr>
          <a:xfrm>
            <a:off x="3357720" y="3429000"/>
            <a:ext cx="2635200" cy="284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660" h="18">
                <a:moveTo>
                  <a:pt x="1660" y="16"/>
                </a:moveTo>
                <a:lnTo>
                  <a:pt x="380" y="0"/>
                </a:lnTo>
                <a:lnTo>
                  <a:pt x="0" y="18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516"/>
          <p:cNvSpPr/>
          <p:nvPr/>
        </p:nvSpPr>
        <p:spPr>
          <a:xfrm>
            <a:off x="3357720" y="3651120"/>
            <a:ext cx="2635200" cy="572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660" h="36">
                <a:moveTo>
                  <a:pt x="1660" y="22"/>
                </a:moveTo>
                <a:lnTo>
                  <a:pt x="377" y="3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517"/>
          <p:cNvSpPr/>
          <p:nvPr/>
        </p:nvSpPr>
        <p:spPr>
          <a:xfrm>
            <a:off x="3355920" y="3841920"/>
            <a:ext cx="2637000" cy="145800"/>
          </a:xfrm>
          <a:custGeom>
            <a:avLst/>
            <a:gdLst>
              <a:gd name="textAreaLeft" fmla="*/ 0 w 2637000"/>
              <a:gd name="textAreaRight" fmla="*/ 2637360 w 263700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61" h="92">
                <a:moveTo>
                  <a:pt x="1661" y="45"/>
                </a:moveTo>
                <a:lnTo>
                  <a:pt x="378" y="9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518"/>
          <p:cNvSpPr/>
          <p:nvPr/>
        </p:nvSpPr>
        <p:spPr>
          <a:xfrm>
            <a:off x="3355920" y="4035600"/>
            <a:ext cx="2635200" cy="22680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660" h="143">
                <a:moveTo>
                  <a:pt x="1660" y="68"/>
                </a:moveTo>
                <a:lnTo>
                  <a:pt x="380" y="143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519"/>
          <p:cNvSpPr/>
          <p:nvPr/>
        </p:nvSpPr>
        <p:spPr>
          <a:xfrm>
            <a:off x="3355920" y="4237200"/>
            <a:ext cx="2637000" cy="304560"/>
          </a:xfrm>
          <a:custGeom>
            <a:avLst/>
            <a:gdLst>
              <a:gd name="textAreaLeft" fmla="*/ 0 w 2637000"/>
              <a:gd name="textAreaRight" fmla="*/ 2637360 w 263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661" h="192">
                <a:moveTo>
                  <a:pt x="1661" y="85"/>
                </a:moveTo>
                <a:lnTo>
                  <a:pt x="380" y="19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520"/>
          <p:cNvSpPr/>
          <p:nvPr/>
        </p:nvSpPr>
        <p:spPr>
          <a:xfrm>
            <a:off x="3355920" y="4430880"/>
            <a:ext cx="2635200" cy="3902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1660" h="246">
                <a:moveTo>
                  <a:pt x="1660" y="108"/>
                </a:moveTo>
                <a:lnTo>
                  <a:pt x="376" y="24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521"/>
          <p:cNvSpPr/>
          <p:nvPr/>
        </p:nvSpPr>
        <p:spPr>
          <a:xfrm>
            <a:off x="3352680" y="4616280"/>
            <a:ext cx="2635200" cy="4813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660" h="303">
                <a:moveTo>
                  <a:pt x="1660" y="134"/>
                </a:moveTo>
                <a:lnTo>
                  <a:pt x="378" y="303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522"/>
          <p:cNvSpPr/>
          <p:nvPr/>
        </p:nvSpPr>
        <p:spPr>
          <a:xfrm>
            <a:off x="3355920" y="4807080"/>
            <a:ext cx="2631960" cy="56808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658" h="358">
                <a:moveTo>
                  <a:pt x="1658" y="159"/>
                </a:moveTo>
                <a:lnTo>
                  <a:pt x="374" y="35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523"/>
          <p:cNvSpPr/>
          <p:nvPr/>
        </p:nvSpPr>
        <p:spPr>
          <a:xfrm>
            <a:off x="3355920" y="5003640"/>
            <a:ext cx="2629080" cy="64800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656" h="408">
                <a:moveTo>
                  <a:pt x="1656" y="179"/>
                </a:moveTo>
                <a:lnTo>
                  <a:pt x="374" y="40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524"/>
          <p:cNvSpPr/>
          <p:nvPr/>
        </p:nvSpPr>
        <p:spPr>
          <a:xfrm flipV="1">
            <a:off x="3438360" y="1752480"/>
            <a:ext cx="16200" cy="3600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525"/>
          <p:cNvSpPr/>
          <p:nvPr/>
        </p:nvSpPr>
        <p:spPr>
          <a:xfrm flipV="1">
            <a:off x="3543480" y="1636560"/>
            <a:ext cx="17280" cy="3841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526"/>
          <p:cNvSpPr/>
          <p:nvPr/>
        </p:nvSpPr>
        <p:spPr>
          <a:xfrm flipV="1">
            <a:off x="3672000" y="1490400"/>
            <a:ext cx="7920" cy="41576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527"/>
          <p:cNvSpPr/>
          <p:nvPr/>
        </p:nvSpPr>
        <p:spPr>
          <a:xfrm flipH="1" flipV="1">
            <a:off x="3804840" y="1345680"/>
            <a:ext cx="11160" cy="4480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28"/>
          <p:cNvSpPr/>
          <p:nvPr/>
        </p:nvSpPr>
        <p:spPr>
          <a:xfrm flipH="1">
            <a:off x="4235400" y="1227240"/>
            <a:ext cx="14400" cy="4678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529"/>
          <p:cNvSpPr/>
          <p:nvPr/>
        </p:nvSpPr>
        <p:spPr>
          <a:xfrm flipH="1">
            <a:off x="4487400" y="1284120"/>
            <a:ext cx="17640" cy="45752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530"/>
          <p:cNvSpPr/>
          <p:nvPr/>
        </p:nvSpPr>
        <p:spPr>
          <a:xfrm flipH="1">
            <a:off x="4732200" y="1332000"/>
            <a:ext cx="14400" cy="4476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531"/>
          <p:cNvSpPr/>
          <p:nvPr/>
        </p:nvSpPr>
        <p:spPr>
          <a:xfrm flipH="1">
            <a:off x="4965840" y="1382760"/>
            <a:ext cx="17280" cy="4092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32"/>
          <p:cNvSpPr/>
          <p:nvPr/>
        </p:nvSpPr>
        <p:spPr>
          <a:xfrm flipH="1">
            <a:off x="5184360" y="1422360"/>
            <a:ext cx="20520" cy="40100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533"/>
          <p:cNvSpPr/>
          <p:nvPr/>
        </p:nvSpPr>
        <p:spPr>
          <a:xfrm flipH="1">
            <a:off x="5398560" y="1471680"/>
            <a:ext cx="19080" cy="4200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534"/>
          <p:cNvSpPr/>
          <p:nvPr/>
        </p:nvSpPr>
        <p:spPr>
          <a:xfrm flipH="1">
            <a:off x="5603400" y="1511280"/>
            <a:ext cx="19080" cy="4124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35"/>
          <p:cNvSpPr/>
          <p:nvPr/>
        </p:nvSpPr>
        <p:spPr>
          <a:xfrm flipH="1">
            <a:off x="5800320" y="1547640"/>
            <a:ext cx="19080" cy="40449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536"/>
          <p:cNvSpPr/>
          <p:nvPr/>
        </p:nvSpPr>
        <p:spPr>
          <a:xfrm flipH="1">
            <a:off x="5086080" y="5450040"/>
            <a:ext cx="4680" cy="2934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564"/>
          <p:cNvSpPr/>
          <p:nvPr/>
        </p:nvSpPr>
        <p:spPr>
          <a:xfrm flipH="1" flipV="1">
            <a:off x="4035240" y="1180800"/>
            <a:ext cx="1944360" cy="4014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565"/>
          <p:cNvSpPr/>
          <p:nvPr/>
        </p:nvSpPr>
        <p:spPr>
          <a:xfrm>
            <a:off x="5951520" y="1582560"/>
            <a:ext cx="61920" cy="3981600"/>
          </a:xfrm>
          <a:custGeom>
            <a:avLst/>
            <a:gdLst>
              <a:gd name="textAreaLeft" fmla="*/ 0 w 61920"/>
              <a:gd name="textAreaRight" fmla="*/ 62280 w 619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39" h="2508">
                <a:moveTo>
                  <a:pt x="0" y="2508"/>
                </a:moveTo>
                <a:lnTo>
                  <a:pt x="26" y="2502"/>
                </a:lnTo>
                <a:lnTo>
                  <a:pt x="39" y="3"/>
                </a:lnTo>
                <a:lnTo>
                  <a:pt x="18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566"/>
          <p:cNvSpPr/>
          <p:nvPr/>
        </p:nvSpPr>
        <p:spPr>
          <a:xfrm flipV="1">
            <a:off x="3959280" y="5563800"/>
            <a:ext cx="1992240" cy="4129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567"/>
          <p:cNvSpPr/>
          <p:nvPr/>
        </p:nvSpPr>
        <p:spPr>
          <a:xfrm>
            <a:off x="3349800" y="1163520"/>
            <a:ext cx="685800" cy="4815000"/>
          </a:xfrm>
          <a:custGeom>
            <a:avLst/>
            <a:gdLst>
              <a:gd name="textAreaLeft" fmla="*/ 0 w 685800"/>
              <a:gd name="textAreaRight" fmla="*/ 686160 w 685800"/>
              <a:gd name="textAreaTop" fmla="*/ 0 h 4815000"/>
              <a:gd name="textAreaBottom" fmla="*/ 4815360 h 4815000"/>
            </a:gdLst>
            <a:ahLst/>
            <a:rect l="textAreaLeft" t="textAreaTop" r="textAreaRight" b="textAreaBottom"/>
            <a:pathLst>
              <a:path w="432" h="3033">
                <a:moveTo>
                  <a:pt x="432" y="11"/>
                </a:moveTo>
                <a:lnTo>
                  <a:pt x="384" y="0"/>
                </a:lnTo>
                <a:lnTo>
                  <a:pt x="4" y="445"/>
                </a:lnTo>
                <a:lnTo>
                  <a:pt x="0" y="2569"/>
                </a:lnTo>
                <a:lnTo>
                  <a:pt x="375" y="3033"/>
                </a:lnTo>
                <a:lnTo>
                  <a:pt x="384" y="3032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598"/>
          <p:cNvSpPr/>
          <p:nvPr/>
        </p:nvSpPr>
        <p:spPr>
          <a:xfrm flipH="1">
            <a:off x="-360" y="5251320"/>
            <a:ext cx="335268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图片 330" descr="jnrs2.jpg"/>
          <p:cNvPicPr/>
          <p:nvPr/>
        </p:nvPicPr>
        <p:blipFill>
          <a:blip r:embed="rId1">
            <a:biLevel thresh="50000"/>
            <a:lum bright="100000"/>
          </a:blip>
          <a:stretch/>
        </p:blipFill>
        <p:spPr>
          <a:xfrm>
            <a:off x="3851280" y="1484280"/>
            <a:ext cx="1584360" cy="330120"/>
          </a:xfrm>
          <a:prstGeom prst="rect">
            <a:avLst/>
          </a:prstGeom>
          <a:ln w="0">
            <a:noFill/>
          </a:ln>
        </p:spPr>
      </p:pic>
      <p:sp>
        <p:nvSpPr>
          <p:cNvPr id="954" name="TextBox 323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终会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324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她会受到万人瞩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25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屹立于天地之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326"/>
          <p:cNvSpPr/>
          <p:nvPr/>
        </p:nvSpPr>
        <p:spPr>
          <a:xfrm>
            <a:off x="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忙忙碌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327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要从中寻找一些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329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发现，人就像是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331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有人的时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332"/>
          <p:cNvSpPr/>
          <p:nvPr/>
        </p:nvSpPr>
        <p:spPr>
          <a:xfrm>
            <a:off x="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盏灯为你而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33"/>
          <p:cNvSpPr/>
          <p:nvPr/>
        </p:nvSpPr>
        <p:spPr>
          <a:xfrm>
            <a:off x="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没人的时候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334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光也就失去了存在的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4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58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9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2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59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60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61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3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2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02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2200"/>
                            </p:stCondLst>
                            <p:childTnLst>
                              <p:par>
                                <p:cTn id="6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452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7200"/>
                            </p:stCondLst>
                            <p:childTnLst>
                              <p:par>
                                <p:cTn id="63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2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2200"/>
                            </p:stCondLst>
                            <p:childTnLst>
                              <p:par>
                                <p:cTn id="64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5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52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7200"/>
                            </p:stCondLst>
                            <p:childTnLst>
                              <p:par>
                                <p:cTn id="65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组合 237"/>
          <p:cNvGrpSpPr/>
          <p:nvPr/>
        </p:nvGrpSpPr>
        <p:grpSpPr>
          <a:xfrm>
            <a:off x="46080" y="441360"/>
            <a:ext cx="9253440" cy="5615280"/>
            <a:chOff x="46080" y="441360"/>
            <a:chExt cx="9253440" cy="5615280"/>
          </a:xfrm>
        </p:grpSpPr>
        <p:sp>
          <p:nvSpPr>
            <p:cNvPr id="965" name="任意多边形 29"/>
            <p:cNvSpPr/>
            <p:nvPr/>
          </p:nvSpPr>
          <p:spPr>
            <a:xfrm>
              <a:off x="2957400" y="1340640"/>
              <a:ext cx="6342120" cy="4622040"/>
            </a:xfrm>
            <a:custGeom>
              <a:avLst/>
              <a:gdLst>
                <a:gd name="textAreaLeft" fmla="*/ 0 w 6342120"/>
                <a:gd name="textAreaRight" fmla="*/ 6342480 w 6342120"/>
                <a:gd name="textAreaTop" fmla="*/ 0 h 4622040"/>
                <a:gd name="textAreaBottom" fmla="*/ 4622400 h 4622040"/>
              </a:gdLst>
              <a:ahLst/>
              <a:rect l="textAreaLeft" t="textAreaTop" r="textAreaRight" b="textAreaBottom"/>
              <a:pathLst>
                <a:path w="6341533" h="4622800">
                  <a:moveTo>
                    <a:pt x="0" y="4622800"/>
                  </a:moveTo>
                  <a:cubicBezTo>
                    <a:pt x="540808" y="3961341"/>
                    <a:pt x="1081617" y="3299883"/>
                    <a:pt x="1790700" y="2768600"/>
                  </a:cubicBezTo>
                  <a:cubicBezTo>
                    <a:pt x="2499783" y="2237317"/>
                    <a:pt x="3545417" y="1862667"/>
                    <a:pt x="4254500" y="1435100"/>
                  </a:cubicBezTo>
                  <a:cubicBezTo>
                    <a:pt x="4963583" y="1007533"/>
                    <a:pt x="5748867" y="406400"/>
                    <a:pt x="6045200" y="203200"/>
                  </a:cubicBezTo>
                  <a:cubicBezTo>
                    <a:pt x="6341533" y="0"/>
                    <a:pt x="6187016" y="107950"/>
                    <a:pt x="6032500" y="2159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30"/>
            <p:cNvSpPr/>
            <p:nvPr/>
          </p:nvSpPr>
          <p:spPr>
            <a:xfrm rot="306000">
              <a:off x="250920" y="773280"/>
              <a:ext cx="7691400" cy="4951080"/>
            </a:xfrm>
            <a:custGeom>
              <a:avLst/>
              <a:gdLst>
                <a:gd name="textAreaLeft" fmla="*/ 0 w 7691400"/>
                <a:gd name="textAreaRight" fmla="*/ 7691760 w 7691400"/>
                <a:gd name="textAreaTop" fmla="*/ 0 h 4951080"/>
                <a:gd name="textAreaBottom" fmla="*/ 4951440 h 4951080"/>
              </a:gdLst>
              <a:ahLst/>
              <a:rect l="textAreaLeft" t="textAreaTop" r="textAreaRight" b="textAreaBottom"/>
              <a:pathLst>
                <a:path w="6341533" h="4622800">
                  <a:moveTo>
                    <a:pt x="0" y="4622800"/>
                  </a:moveTo>
                  <a:cubicBezTo>
                    <a:pt x="540808" y="3961341"/>
                    <a:pt x="1081617" y="3299883"/>
                    <a:pt x="1790700" y="2768600"/>
                  </a:cubicBezTo>
                  <a:cubicBezTo>
                    <a:pt x="2499783" y="2237317"/>
                    <a:pt x="3545417" y="1862667"/>
                    <a:pt x="4254500" y="1435100"/>
                  </a:cubicBezTo>
                  <a:cubicBezTo>
                    <a:pt x="4963583" y="1007533"/>
                    <a:pt x="5748867" y="406400"/>
                    <a:pt x="6045200" y="203200"/>
                  </a:cubicBezTo>
                  <a:cubicBezTo>
                    <a:pt x="6341533" y="0"/>
                    <a:pt x="6187016" y="107950"/>
                    <a:pt x="6032500" y="2159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组合 35"/>
            <p:cNvGrpSpPr/>
            <p:nvPr/>
          </p:nvGrpSpPr>
          <p:grpSpPr>
            <a:xfrm>
              <a:off x="2782440" y="4220640"/>
              <a:ext cx="973800" cy="1380600"/>
              <a:chOff x="2782440" y="4220640"/>
              <a:chExt cx="973800" cy="1380600"/>
            </a:xfrm>
          </p:grpSpPr>
          <p:sp>
            <p:nvSpPr>
              <p:cNvPr id="968" name="圆角矩形 31"/>
              <p:cNvSpPr/>
              <p:nvPr/>
            </p:nvSpPr>
            <p:spPr>
              <a:xfrm>
                <a:off x="3576240" y="4449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椭圆 34"/>
              <p:cNvSpPr/>
              <p:nvPr/>
            </p:nvSpPr>
            <p:spPr>
              <a:xfrm>
                <a:off x="2782440" y="4220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组合 36"/>
            <p:cNvGrpSpPr/>
            <p:nvPr/>
          </p:nvGrpSpPr>
          <p:grpSpPr>
            <a:xfrm>
              <a:off x="3862800" y="3428640"/>
              <a:ext cx="973800" cy="1380600"/>
              <a:chOff x="3862800" y="3428640"/>
              <a:chExt cx="973800" cy="1380600"/>
            </a:xfrm>
          </p:grpSpPr>
          <p:sp>
            <p:nvSpPr>
              <p:cNvPr id="971" name="圆角矩形 37"/>
              <p:cNvSpPr/>
              <p:nvPr/>
            </p:nvSpPr>
            <p:spPr>
              <a:xfrm>
                <a:off x="4656600" y="3657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40"/>
              <p:cNvSpPr/>
              <p:nvPr/>
            </p:nvSpPr>
            <p:spPr>
              <a:xfrm>
                <a:off x="3862800" y="3428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组合 41"/>
            <p:cNvGrpSpPr/>
            <p:nvPr/>
          </p:nvGrpSpPr>
          <p:grpSpPr>
            <a:xfrm>
              <a:off x="5087160" y="2780640"/>
              <a:ext cx="1008000" cy="1308600"/>
              <a:chOff x="5087160" y="2780640"/>
              <a:chExt cx="1008000" cy="1308600"/>
            </a:xfrm>
          </p:grpSpPr>
          <p:sp>
            <p:nvSpPr>
              <p:cNvPr id="974" name="圆角矩形 42"/>
              <p:cNvSpPr/>
              <p:nvPr/>
            </p:nvSpPr>
            <p:spPr>
              <a:xfrm>
                <a:off x="5909040" y="2997360"/>
                <a:ext cx="186120" cy="1091880"/>
              </a:xfrm>
              <a:custGeom>
                <a:avLst/>
                <a:gdLst>
                  <a:gd name="textAreaLeft" fmla="*/ 9000 w 186120"/>
                  <a:gd name="textAreaRight" fmla="*/ 177120 w 186120"/>
                  <a:gd name="textAreaTop" fmla="*/ 9000 h 1091880"/>
                  <a:gd name="textAreaBottom" fmla="*/ 1082880 h 1091880"/>
                </a:gdLst>
                <a:ahLst/>
                <a:rect l="textAreaLeft" t="textAreaTop" r="textAreaRight" b="textAreaBottom"/>
                <a:pathLst>
                  <a:path w="21600" h="126514">
                    <a:moveTo>
                      <a:pt x="3600" y="0"/>
                    </a:moveTo>
                    <a:arcTo wR="3600" hR="3600" stAng="16200000" swAng="-5400000"/>
                    <a:lnTo>
                      <a:pt x="0" y="122914"/>
                    </a:lnTo>
                    <a:arcTo wR="3600" hR="3600" stAng="10800000" swAng="-5400000"/>
                    <a:lnTo>
                      <a:pt x="18000" y="1265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椭圆 45"/>
              <p:cNvSpPr/>
              <p:nvPr/>
            </p:nvSpPr>
            <p:spPr>
              <a:xfrm>
                <a:off x="5087160" y="2780640"/>
                <a:ext cx="465480" cy="136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组合 46"/>
            <p:cNvGrpSpPr/>
            <p:nvPr/>
          </p:nvGrpSpPr>
          <p:grpSpPr>
            <a:xfrm>
              <a:off x="6383520" y="2132640"/>
              <a:ext cx="792000" cy="1236600"/>
              <a:chOff x="6383520" y="2132640"/>
              <a:chExt cx="792000" cy="1236600"/>
            </a:xfrm>
          </p:grpSpPr>
          <p:sp>
            <p:nvSpPr>
              <p:cNvPr id="977" name="圆角矩形 47"/>
              <p:cNvSpPr/>
              <p:nvPr/>
            </p:nvSpPr>
            <p:spPr>
              <a:xfrm>
                <a:off x="7029360" y="2337480"/>
                <a:ext cx="146160" cy="1031760"/>
              </a:xfrm>
              <a:custGeom>
                <a:avLst/>
                <a:gdLst>
                  <a:gd name="textAreaLeft" fmla="*/ 6840 w 146160"/>
                  <a:gd name="textAreaRight" fmla="*/ 139320 w 146160"/>
                  <a:gd name="textAreaTop" fmla="*/ 6840 h 1031760"/>
                  <a:gd name="textAreaBottom" fmla="*/ 1024920 h 1031760"/>
                </a:gdLst>
                <a:ahLst/>
                <a:rect l="textAreaLeft" t="textAreaTop" r="textAreaRight" b="textAreaBottom"/>
                <a:pathLst>
                  <a:path w="21600" h="152155">
                    <a:moveTo>
                      <a:pt x="3600" y="0"/>
                    </a:moveTo>
                    <a:arcTo wR="3600" hR="3600" stAng="16200000" swAng="-5400000"/>
                    <a:lnTo>
                      <a:pt x="0" y="148555"/>
                    </a:lnTo>
                    <a:arcTo wR="3600" hR="3600" stAng="10800000" swAng="-5400000"/>
                    <a:lnTo>
                      <a:pt x="18000" y="1521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椭圆 50"/>
              <p:cNvSpPr/>
              <p:nvPr/>
            </p:nvSpPr>
            <p:spPr>
              <a:xfrm>
                <a:off x="6383520" y="2132640"/>
                <a:ext cx="36576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51"/>
            <p:cNvGrpSpPr/>
            <p:nvPr/>
          </p:nvGrpSpPr>
          <p:grpSpPr>
            <a:xfrm>
              <a:off x="7463880" y="1484640"/>
              <a:ext cx="792000" cy="1236600"/>
              <a:chOff x="7463880" y="1484640"/>
              <a:chExt cx="792000" cy="1236600"/>
            </a:xfrm>
          </p:grpSpPr>
          <p:sp>
            <p:nvSpPr>
              <p:cNvPr id="980" name="圆角矩形 52"/>
              <p:cNvSpPr/>
              <p:nvPr/>
            </p:nvSpPr>
            <p:spPr>
              <a:xfrm>
                <a:off x="8109720" y="1689480"/>
                <a:ext cx="146160" cy="1031760"/>
              </a:xfrm>
              <a:custGeom>
                <a:avLst/>
                <a:gdLst>
                  <a:gd name="textAreaLeft" fmla="*/ 6840 w 146160"/>
                  <a:gd name="textAreaRight" fmla="*/ 139320 w 146160"/>
                  <a:gd name="textAreaTop" fmla="*/ 6840 h 1031760"/>
                  <a:gd name="textAreaBottom" fmla="*/ 1024920 h 1031760"/>
                </a:gdLst>
                <a:ahLst/>
                <a:rect l="textAreaLeft" t="textAreaTop" r="textAreaRight" b="textAreaBottom"/>
                <a:pathLst>
                  <a:path w="21600" h="152155">
                    <a:moveTo>
                      <a:pt x="3600" y="0"/>
                    </a:moveTo>
                    <a:arcTo wR="3600" hR="3600" stAng="16200000" swAng="-5400000"/>
                    <a:lnTo>
                      <a:pt x="0" y="148555"/>
                    </a:lnTo>
                    <a:arcTo wR="3600" hR="3600" stAng="10800000" swAng="-5400000"/>
                    <a:lnTo>
                      <a:pt x="18000" y="1521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椭圆 55"/>
              <p:cNvSpPr/>
              <p:nvPr/>
            </p:nvSpPr>
            <p:spPr>
              <a:xfrm>
                <a:off x="7463880" y="1484640"/>
                <a:ext cx="36576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组合 56"/>
            <p:cNvGrpSpPr/>
            <p:nvPr/>
          </p:nvGrpSpPr>
          <p:grpSpPr>
            <a:xfrm>
              <a:off x="585000" y="3140640"/>
              <a:ext cx="973800" cy="1380600"/>
              <a:chOff x="585000" y="3140640"/>
              <a:chExt cx="973800" cy="1380600"/>
            </a:xfrm>
          </p:grpSpPr>
          <p:sp>
            <p:nvSpPr>
              <p:cNvPr id="983" name="圆角矩形 57"/>
              <p:cNvSpPr/>
              <p:nvPr/>
            </p:nvSpPr>
            <p:spPr>
              <a:xfrm flipH="1">
                <a:off x="585000" y="3369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椭圆 60"/>
              <p:cNvSpPr/>
              <p:nvPr/>
            </p:nvSpPr>
            <p:spPr>
              <a:xfrm flipH="1">
                <a:off x="1108800" y="3140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组合 61"/>
            <p:cNvGrpSpPr/>
            <p:nvPr/>
          </p:nvGrpSpPr>
          <p:grpSpPr>
            <a:xfrm>
              <a:off x="2025360" y="2132640"/>
              <a:ext cx="973800" cy="1380600"/>
              <a:chOff x="2025360" y="2132640"/>
              <a:chExt cx="973800" cy="1380600"/>
            </a:xfrm>
          </p:grpSpPr>
          <p:sp>
            <p:nvSpPr>
              <p:cNvPr id="986" name="圆角矩形 62"/>
              <p:cNvSpPr/>
              <p:nvPr/>
            </p:nvSpPr>
            <p:spPr>
              <a:xfrm flipH="1">
                <a:off x="2025360" y="2361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椭圆 65"/>
              <p:cNvSpPr/>
              <p:nvPr/>
            </p:nvSpPr>
            <p:spPr>
              <a:xfrm flipH="1">
                <a:off x="2549160" y="2132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组合 66"/>
            <p:cNvGrpSpPr/>
            <p:nvPr/>
          </p:nvGrpSpPr>
          <p:grpSpPr>
            <a:xfrm>
              <a:off x="5482800" y="1268640"/>
              <a:ext cx="720000" cy="1020600"/>
              <a:chOff x="5482800" y="1268640"/>
              <a:chExt cx="720000" cy="1020600"/>
            </a:xfrm>
          </p:grpSpPr>
          <p:sp>
            <p:nvSpPr>
              <p:cNvPr id="989" name="圆角矩形 67"/>
              <p:cNvSpPr/>
              <p:nvPr/>
            </p:nvSpPr>
            <p:spPr>
              <a:xfrm flipH="1">
                <a:off x="5482440" y="1437480"/>
                <a:ext cx="132840" cy="851760"/>
              </a:xfrm>
              <a:custGeom>
                <a:avLst/>
                <a:gdLst>
                  <a:gd name="textAreaLeft" fmla="*/ 6480 w 132840"/>
                  <a:gd name="textAreaRight" fmla="*/ 126360 w 132840"/>
                  <a:gd name="textAreaTop" fmla="*/ 6480 h 851760"/>
                  <a:gd name="textAreaBottom" fmla="*/ 845280 h 851760"/>
                </a:gdLst>
                <a:ahLst/>
                <a:rect l="textAreaLeft" t="textAreaTop" r="textAreaRight" b="textAreaBottom"/>
                <a:pathLst>
                  <a:path w="21600" h="138182">
                    <a:moveTo>
                      <a:pt x="3600" y="0"/>
                    </a:moveTo>
                    <a:arcTo wR="3600" hR="3600" stAng="16200000" swAng="-5400000"/>
                    <a:lnTo>
                      <a:pt x="0" y="134582"/>
                    </a:lnTo>
                    <a:arcTo wR="3600" hR="3600" stAng="10800000" swAng="-5400000"/>
                    <a:lnTo>
                      <a:pt x="18000" y="13818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椭圆 70"/>
              <p:cNvSpPr/>
              <p:nvPr/>
            </p:nvSpPr>
            <p:spPr>
              <a:xfrm flipH="1">
                <a:off x="5870160" y="1268640"/>
                <a:ext cx="332640" cy="106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组合 71"/>
            <p:cNvGrpSpPr/>
            <p:nvPr/>
          </p:nvGrpSpPr>
          <p:grpSpPr>
            <a:xfrm>
              <a:off x="4330440" y="1484640"/>
              <a:ext cx="864000" cy="1236600"/>
              <a:chOff x="4330440" y="1484640"/>
              <a:chExt cx="864000" cy="1236600"/>
            </a:xfrm>
          </p:grpSpPr>
          <p:sp>
            <p:nvSpPr>
              <p:cNvPr id="992" name="圆角矩形 72"/>
              <p:cNvSpPr/>
              <p:nvPr/>
            </p:nvSpPr>
            <p:spPr>
              <a:xfrm flipH="1">
                <a:off x="4330080" y="1689480"/>
                <a:ext cx="159480" cy="1031760"/>
              </a:xfrm>
              <a:custGeom>
                <a:avLst/>
                <a:gdLst>
                  <a:gd name="textAreaLeft" fmla="*/ 7560 w 159480"/>
                  <a:gd name="textAreaRight" fmla="*/ 151920 w 159480"/>
                  <a:gd name="textAreaTop" fmla="*/ 7560 h 1031760"/>
                  <a:gd name="textAreaBottom" fmla="*/ 1024200 h 1031760"/>
                </a:gdLst>
                <a:ahLst/>
                <a:rect l="textAreaLeft" t="textAreaTop" r="textAreaRight" b="textAreaBottom"/>
                <a:pathLst>
                  <a:path w="21600" h="139476">
                    <a:moveTo>
                      <a:pt x="3600" y="0"/>
                    </a:moveTo>
                    <a:arcTo wR="3600" hR="3600" stAng="16200000" swAng="-5400000"/>
                    <a:lnTo>
                      <a:pt x="0" y="135876"/>
                    </a:lnTo>
                    <a:arcTo wR="3600" hR="3600" stAng="10800000" swAng="-5400000"/>
                    <a:lnTo>
                      <a:pt x="18000" y="1394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椭圆 75"/>
              <p:cNvSpPr/>
              <p:nvPr/>
            </p:nvSpPr>
            <p:spPr>
              <a:xfrm flipH="1">
                <a:off x="4794840" y="1484640"/>
                <a:ext cx="39924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组合 76"/>
            <p:cNvGrpSpPr/>
            <p:nvPr/>
          </p:nvGrpSpPr>
          <p:grpSpPr>
            <a:xfrm>
              <a:off x="3250080" y="1772640"/>
              <a:ext cx="864000" cy="1236600"/>
              <a:chOff x="3250080" y="1772640"/>
              <a:chExt cx="864000" cy="1236600"/>
            </a:xfrm>
          </p:grpSpPr>
          <p:sp>
            <p:nvSpPr>
              <p:cNvPr id="995" name="圆角矩形 77"/>
              <p:cNvSpPr/>
              <p:nvPr/>
            </p:nvSpPr>
            <p:spPr>
              <a:xfrm flipH="1">
                <a:off x="3249720" y="1977480"/>
                <a:ext cx="159480" cy="1031760"/>
              </a:xfrm>
              <a:custGeom>
                <a:avLst/>
                <a:gdLst>
                  <a:gd name="textAreaLeft" fmla="*/ 7560 w 159480"/>
                  <a:gd name="textAreaRight" fmla="*/ 151920 w 159480"/>
                  <a:gd name="textAreaTop" fmla="*/ 7560 h 1031760"/>
                  <a:gd name="textAreaBottom" fmla="*/ 1024200 h 1031760"/>
                </a:gdLst>
                <a:ahLst/>
                <a:rect l="textAreaLeft" t="textAreaTop" r="textAreaRight" b="textAreaBottom"/>
                <a:pathLst>
                  <a:path w="21600" h="139476">
                    <a:moveTo>
                      <a:pt x="3600" y="0"/>
                    </a:moveTo>
                    <a:arcTo wR="3600" hR="3600" stAng="16200000" swAng="-5400000"/>
                    <a:lnTo>
                      <a:pt x="0" y="135876"/>
                    </a:lnTo>
                    <a:arcTo wR="3600" hR="3600" stAng="10800000" swAng="-5400000"/>
                    <a:lnTo>
                      <a:pt x="18000" y="1394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椭圆 80"/>
              <p:cNvSpPr/>
              <p:nvPr/>
            </p:nvSpPr>
            <p:spPr>
              <a:xfrm flipH="1">
                <a:off x="3714480" y="1772640"/>
                <a:ext cx="39924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Box 81"/>
            <p:cNvSpPr/>
            <p:nvPr/>
          </p:nvSpPr>
          <p:spPr>
            <a:xfrm>
              <a:off x="5482800" y="4652640"/>
              <a:ext cx="33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感恩巨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总有人照亮我前行的道路</a:t>
              </a:r>
              <a:r>
                <a:rPr b="0" lang="en-US" sz="20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TextBox 82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回家的路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3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常常感谢我的亲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84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的老师，我的领导和同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85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向光一样的人们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86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是你们照亮了我前行的道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组合 87"/>
          <p:cNvGrpSpPr/>
          <p:nvPr/>
        </p:nvGrpSpPr>
        <p:grpSpPr>
          <a:xfrm>
            <a:off x="-539640" y="5734080"/>
            <a:ext cx="48461400" cy="982800"/>
            <a:chOff x="-539640" y="5734080"/>
            <a:chExt cx="48461400" cy="982800"/>
          </a:xfrm>
        </p:grpSpPr>
        <p:grpSp>
          <p:nvGrpSpPr>
            <p:cNvPr id="1004" name="组合 138"/>
            <p:cNvGrpSpPr/>
            <p:nvPr/>
          </p:nvGrpSpPr>
          <p:grpSpPr>
            <a:xfrm>
              <a:off x="-539640" y="5738040"/>
              <a:ext cx="39028320" cy="978840"/>
              <a:chOff x="-539640" y="5738040"/>
              <a:chExt cx="39028320" cy="978840"/>
            </a:xfrm>
          </p:grpSpPr>
          <p:grpSp>
            <p:nvGrpSpPr>
              <p:cNvPr id="1005" name="组合 137"/>
              <p:cNvGrpSpPr/>
              <p:nvPr/>
            </p:nvGrpSpPr>
            <p:grpSpPr>
              <a:xfrm>
                <a:off x="-539640" y="5738040"/>
                <a:ext cx="29667240" cy="978840"/>
                <a:chOff x="-539640" y="5738040"/>
                <a:chExt cx="29667240" cy="978840"/>
              </a:xfrm>
            </p:grpSpPr>
            <p:grpSp>
              <p:nvGrpSpPr>
                <p:cNvPr id="1006" name="组合 17"/>
                <p:cNvGrpSpPr/>
                <p:nvPr/>
              </p:nvGrpSpPr>
              <p:grpSpPr>
                <a:xfrm>
                  <a:off x="-539640" y="5738040"/>
                  <a:ext cx="10729080" cy="978840"/>
                  <a:chOff x="-539640" y="5738040"/>
                  <a:chExt cx="10729080" cy="978840"/>
                </a:xfrm>
              </p:grpSpPr>
              <p:sp>
                <p:nvSpPr>
                  <p:cNvPr id="1007" name="直接连接符 139"/>
                  <p:cNvSpPr/>
                  <p:nvPr/>
                </p:nvSpPr>
                <p:spPr>
                  <a:xfrm>
                    <a:off x="-539640" y="57380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直接连接符 140"/>
                  <p:cNvSpPr/>
                  <p:nvPr/>
                </p:nvSpPr>
                <p:spPr>
                  <a:xfrm>
                    <a:off x="-539640" y="671688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圆角矩形 141"/>
                  <p:cNvSpPr/>
                  <p:nvPr/>
                </p:nvSpPr>
                <p:spPr>
                  <a:xfrm>
                    <a:off x="2163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圆角矩形 142"/>
                  <p:cNvSpPr/>
                  <p:nvPr/>
                </p:nvSpPr>
                <p:spPr>
                  <a:xfrm>
                    <a:off x="11883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圆角矩形 143"/>
                  <p:cNvSpPr/>
                  <p:nvPr/>
                </p:nvSpPr>
                <p:spPr>
                  <a:xfrm>
                    <a:off x="21967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圆角矩形 144"/>
                  <p:cNvSpPr/>
                  <p:nvPr/>
                </p:nvSpPr>
                <p:spPr>
                  <a:xfrm>
                    <a:off x="32047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圆角矩形 145"/>
                  <p:cNvSpPr/>
                  <p:nvPr/>
                </p:nvSpPr>
                <p:spPr>
                  <a:xfrm>
                    <a:off x="42847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圆角矩形 146"/>
                  <p:cNvSpPr/>
                  <p:nvPr/>
                </p:nvSpPr>
                <p:spPr>
                  <a:xfrm>
                    <a:off x="53650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圆角矩形 147"/>
                  <p:cNvSpPr/>
                  <p:nvPr/>
                </p:nvSpPr>
                <p:spPr>
                  <a:xfrm>
                    <a:off x="64450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圆角矩形 148"/>
                  <p:cNvSpPr/>
                  <p:nvPr/>
                </p:nvSpPr>
                <p:spPr>
                  <a:xfrm>
                    <a:off x="74530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圆角矩形 28"/>
                  <p:cNvSpPr/>
                  <p:nvPr/>
                </p:nvSpPr>
                <p:spPr>
                  <a:xfrm>
                    <a:off x="8389440" y="594756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组合 17"/>
                <p:cNvGrpSpPr/>
                <p:nvPr/>
              </p:nvGrpSpPr>
              <p:grpSpPr>
                <a:xfrm>
                  <a:off x="9037440" y="5738040"/>
                  <a:ext cx="10729080" cy="978840"/>
                  <a:chOff x="9037440" y="5738040"/>
                  <a:chExt cx="10729080" cy="978840"/>
                </a:xfrm>
              </p:grpSpPr>
              <p:sp>
                <p:nvSpPr>
                  <p:cNvPr id="1019" name="直接连接符 128"/>
                  <p:cNvSpPr/>
                  <p:nvPr/>
                </p:nvSpPr>
                <p:spPr>
                  <a:xfrm>
                    <a:off x="9037440" y="57380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直接连接符 129"/>
                  <p:cNvSpPr/>
                  <p:nvPr/>
                </p:nvSpPr>
                <p:spPr>
                  <a:xfrm>
                    <a:off x="9037440" y="671688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圆角矩形 130"/>
                  <p:cNvSpPr/>
                  <p:nvPr/>
                </p:nvSpPr>
                <p:spPr>
                  <a:xfrm>
                    <a:off x="97934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圆角矩形 131"/>
                  <p:cNvSpPr/>
                  <p:nvPr/>
                </p:nvSpPr>
                <p:spPr>
                  <a:xfrm>
                    <a:off x="107654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圆角矩形 132"/>
                  <p:cNvSpPr/>
                  <p:nvPr/>
                </p:nvSpPr>
                <p:spPr>
                  <a:xfrm>
                    <a:off x="1177380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圆角矩形 133"/>
                  <p:cNvSpPr/>
                  <p:nvPr/>
                </p:nvSpPr>
                <p:spPr>
                  <a:xfrm>
                    <a:off x="1278180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圆角矩形 134"/>
                  <p:cNvSpPr/>
                  <p:nvPr/>
                </p:nvSpPr>
                <p:spPr>
                  <a:xfrm>
                    <a:off x="1386180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圆角矩形 135"/>
                  <p:cNvSpPr/>
                  <p:nvPr/>
                </p:nvSpPr>
                <p:spPr>
                  <a:xfrm>
                    <a:off x="149421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圆角矩形 136"/>
                  <p:cNvSpPr/>
                  <p:nvPr/>
                </p:nvSpPr>
                <p:spPr>
                  <a:xfrm>
                    <a:off x="160221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圆角矩形 137"/>
                  <p:cNvSpPr/>
                  <p:nvPr/>
                </p:nvSpPr>
                <p:spPr>
                  <a:xfrm>
                    <a:off x="170301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圆角矩形 138"/>
                  <p:cNvSpPr/>
                  <p:nvPr/>
                </p:nvSpPr>
                <p:spPr>
                  <a:xfrm>
                    <a:off x="17966520" y="594756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组合 17"/>
                <p:cNvGrpSpPr/>
                <p:nvPr/>
              </p:nvGrpSpPr>
              <p:grpSpPr>
                <a:xfrm>
                  <a:off x="18398520" y="5738040"/>
                  <a:ext cx="10729080" cy="978840"/>
                  <a:chOff x="18398520" y="5738040"/>
                  <a:chExt cx="10729080" cy="978840"/>
                </a:xfrm>
              </p:grpSpPr>
              <p:sp>
                <p:nvSpPr>
                  <p:cNvPr id="1031" name="直接连接符 117"/>
                  <p:cNvSpPr/>
                  <p:nvPr/>
                </p:nvSpPr>
                <p:spPr>
                  <a:xfrm>
                    <a:off x="18398520" y="57380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直接连接符 118"/>
                  <p:cNvSpPr/>
                  <p:nvPr/>
                </p:nvSpPr>
                <p:spPr>
                  <a:xfrm>
                    <a:off x="18398520" y="671688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圆角矩形 119"/>
                  <p:cNvSpPr/>
                  <p:nvPr/>
                </p:nvSpPr>
                <p:spPr>
                  <a:xfrm>
                    <a:off x="191545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圆角矩形 120"/>
                  <p:cNvSpPr/>
                  <p:nvPr/>
                </p:nvSpPr>
                <p:spPr>
                  <a:xfrm>
                    <a:off x="201265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圆角矩形 121"/>
                  <p:cNvSpPr/>
                  <p:nvPr/>
                </p:nvSpPr>
                <p:spPr>
                  <a:xfrm>
                    <a:off x="211348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圆角矩形 122"/>
                  <p:cNvSpPr/>
                  <p:nvPr/>
                </p:nvSpPr>
                <p:spPr>
                  <a:xfrm>
                    <a:off x="221428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圆角矩形 123"/>
                  <p:cNvSpPr/>
                  <p:nvPr/>
                </p:nvSpPr>
                <p:spPr>
                  <a:xfrm>
                    <a:off x="232228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圆角矩形 124"/>
                  <p:cNvSpPr/>
                  <p:nvPr/>
                </p:nvSpPr>
                <p:spPr>
                  <a:xfrm>
                    <a:off x="243032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圆角矩形 125"/>
                  <p:cNvSpPr/>
                  <p:nvPr/>
                </p:nvSpPr>
                <p:spPr>
                  <a:xfrm>
                    <a:off x="253832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圆角矩形 126"/>
                  <p:cNvSpPr/>
                  <p:nvPr/>
                </p:nvSpPr>
                <p:spPr>
                  <a:xfrm>
                    <a:off x="263912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圆角矩形 127"/>
                  <p:cNvSpPr/>
                  <p:nvPr/>
                </p:nvSpPr>
                <p:spPr>
                  <a:xfrm>
                    <a:off x="27327600" y="594756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2" name="组合 17"/>
              <p:cNvGrpSpPr/>
              <p:nvPr/>
            </p:nvGrpSpPr>
            <p:grpSpPr>
              <a:xfrm>
                <a:off x="27759600" y="5738040"/>
                <a:ext cx="10729080" cy="978840"/>
                <a:chOff x="27759600" y="5738040"/>
                <a:chExt cx="10729080" cy="978840"/>
              </a:xfrm>
            </p:grpSpPr>
            <p:sp>
              <p:nvSpPr>
                <p:cNvPr id="1043" name="直接连接符 103"/>
                <p:cNvSpPr/>
                <p:nvPr/>
              </p:nvSpPr>
              <p:spPr>
                <a:xfrm>
                  <a:off x="27759600" y="573804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直接连接符 104"/>
                <p:cNvSpPr/>
                <p:nvPr/>
              </p:nvSpPr>
              <p:spPr>
                <a:xfrm>
                  <a:off x="27759600" y="671688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圆角矩形 105"/>
                <p:cNvSpPr/>
                <p:nvPr/>
              </p:nvSpPr>
              <p:spPr>
                <a:xfrm>
                  <a:off x="2851560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圆角矩形 106"/>
                <p:cNvSpPr/>
                <p:nvPr/>
              </p:nvSpPr>
              <p:spPr>
                <a:xfrm>
                  <a:off x="2948760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圆角矩形 107"/>
                <p:cNvSpPr/>
                <p:nvPr/>
              </p:nvSpPr>
              <p:spPr>
                <a:xfrm>
                  <a:off x="3049596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圆角矩形 108"/>
                <p:cNvSpPr/>
                <p:nvPr/>
              </p:nvSpPr>
              <p:spPr>
                <a:xfrm>
                  <a:off x="3150396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圆角矩形 109"/>
                <p:cNvSpPr/>
                <p:nvPr/>
              </p:nvSpPr>
              <p:spPr>
                <a:xfrm>
                  <a:off x="3258396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圆角矩形 110"/>
                <p:cNvSpPr/>
                <p:nvPr/>
              </p:nvSpPr>
              <p:spPr>
                <a:xfrm>
                  <a:off x="3366432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圆角矩形 111"/>
                <p:cNvSpPr/>
                <p:nvPr/>
              </p:nvSpPr>
              <p:spPr>
                <a:xfrm>
                  <a:off x="3474432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圆角矩形 112"/>
                <p:cNvSpPr/>
                <p:nvPr/>
              </p:nvSpPr>
              <p:spPr>
                <a:xfrm>
                  <a:off x="3575232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圆角矩形 113"/>
                <p:cNvSpPr/>
                <p:nvPr/>
              </p:nvSpPr>
              <p:spPr>
                <a:xfrm>
                  <a:off x="36688680" y="594756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4" name="组合 17"/>
            <p:cNvGrpSpPr/>
            <p:nvPr/>
          </p:nvGrpSpPr>
          <p:grpSpPr>
            <a:xfrm>
              <a:off x="37192680" y="5734080"/>
              <a:ext cx="10729080" cy="978840"/>
              <a:chOff x="37192680" y="5734080"/>
              <a:chExt cx="10729080" cy="978840"/>
            </a:xfrm>
          </p:grpSpPr>
          <p:sp>
            <p:nvSpPr>
              <p:cNvPr id="1055" name="直接连接符 90"/>
              <p:cNvSpPr/>
              <p:nvPr/>
            </p:nvSpPr>
            <p:spPr>
              <a:xfrm>
                <a:off x="37192680" y="573408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直接连接符 91"/>
              <p:cNvSpPr/>
              <p:nvPr/>
            </p:nvSpPr>
            <p:spPr>
              <a:xfrm>
                <a:off x="37192680" y="671292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圆角矩形 92"/>
              <p:cNvSpPr/>
              <p:nvPr/>
            </p:nvSpPr>
            <p:spPr>
              <a:xfrm>
                <a:off x="3794868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圆角矩形 93"/>
              <p:cNvSpPr/>
              <p:nvPr/>
            </p:nvSpPr>
            <p:spPr>
              <a:xfrm>
                <a:off x="3892068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圆角矩形 94"/>
              <p:cNvSpPr/>
              <p:nvPr/>
            </p:nvSpPr>
            <p:spPr>
              <a:xfrm>
                <a:off x="3992904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圆角矩形 95"/>
              <p:cNvSpPr/>
              <p:nvPr/>
            </p:nvSpPr>
            <p:spPr>
              <a:xfrm>
                <a:off x="4093704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圆角矩形 96"/>
              <p:cNvSpPr/>
              <p:nvPr/>
            </p:nvSpPr>
            <p:spPr>
              <a:xfrm>
                <a:off x="4201704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圆角矩形 97"/>
              <p:cNvSpPr/>
              <p:nvPr/>
            </p:nvSpPr>
            <p:spPr>
              <a:xfrm>
                <a:off x="4309740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圆角矩形 98"/>
              <p:cNvSpPr/>
              <p:nvPr/>
            </p:nvSpPr>
            <p:spPr>
              <a:xfrm>
                <a:off x="4417740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圆角矩形 99"/>
              <p:cNvSpPr/>
              <p:nvPr/>
            </p:nvSpPr>
            <p:spPr>
              <a:xfrm>
                <a:off x="4518540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圆角矩形 100"/>
              <p:cNvSpPr/>
              <p:nvPr/>
            </p:nvSpPr>
            <p:spPr>
              <a:xfrm>
                <a:off x="46121760" y="594360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6" name="组合 17"/>
          <p:cNvGrpSpPr/>
          <p:nvPr/>
        </p:nvGrpSpPr>
        <p:grpSpPr>
          <a:xfrm>
            <a:off x="49577760" y="5748480"/>
            <a:ext cx="10728360" cy="979200"/>
            <a:chOff x="49577760" y="5748480"/>
            <a:chExt cx="10728360" cy="979200"/>
          </a:xfrm>
        </p:grpSpPr>
        <p:sp>
          <p:nvSpPr>
            <p:cNvPr id="1067" name="直接连接符 151"/>
            <p:cNvSpPr/>
            <p:nvPr/>
          </p:nvSpPr>
          <p:spPr>
            <a:xfrm>
              <a:off x="4957776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152"/>
            <p:cNvSpPr/>
            <p:nvPr/>
          </p:nvSpPr>
          <p:spPr>
            <a:xfrm>
              <a:off x="49577760" y="67276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 153"/>
            <p:cNvSpPr/>
            <p:nvPr/>
          </p:nvSpPr>
          <p:spPr>
            <a:xfrm>
              <a:off x="5033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圆角矩形 154"/>
            <p:cNvSpPr/>
            <p:nvPr/>
          </p:nvSpPr>
          <p:spPr>
            <a:xfrm>
              <a:off x="51305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圆角矩形 155"/>
            <p:cNvSpPr/>
            <p:nvPr/>
          </p:nvSpPr>
          <p:spPr>
            <a:xfrm>
              <a:off x="5231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圆角矩形 156"/>
            <p:cNvSpPr/>
            <p:nvPr/>
          </p:nvSpPr>
          <p:spPr>
            <a:xfrm>
              <a:off x="5332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圆角矩形 157"/>
            <p:cNvSpPr/>
            <p:nvPr/>
          </p:nvSpPr>
          <p:spPr>
            <a:xfrm>
              <a:off x="5440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158"/>
            <p:cNvSpPr/>
            <p:nvPr/>
          </p:nvSpPr>
          <p:spPr>
            <a:xfrm>
              <a:off x="5548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159"/>
            <p:cNvSpPr/>
            <p:nvPr/>
          </p:nvSpPr>
          <p:spPr>
            <a:xfrm>
              <a:off x="5656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圆角矩形 160"/>
            <p:cNvSpPr/>
            <p:nvPr/>
          </p:nvSpPr>
          <p:spPr>
            <a:xfrm>
              <a:off x="57570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圆角矩形 161"/>
            <p:cNvSpPr/>
            <p:nvPr/>
          </p:nvSpPr>
          <p:spPr>
            <a:xfrm>
              <a:off x="58506120" y="595800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162"/>
          <p:cNvGrpSpPr/>
          <p:nvPr/>
        </p:nvGrpSpPr>
        <p:grpSpPr>
          <a:xfrm>
            <a:off x="-558720" y="141120"/>
            <a:ext cx="48459960" cy="982800"/>
            <a:chOff x="-558720" y="141120"/>
            <a:chExt cx="48459960" cy="982800"/>
          </a:xfrm>
        </p:grpSpPr>
        <p:grpSp>
          <p:nvGrpSpPr>
            <p:cNvPr id="1079" name="组合 138"/>
            <p:cNvGrpSpPr/>
            <p:nvPr/>
          </p:nvGrpSpPr>
          <p:grpSpPr>
            <a:xfrm>
              <a:off x="-558720" y="145080"/>
              <a:ext cx="39027240" cy="978840"/>
              <a:chOff x="-558720" y="145080"/>
              <a:chExt cx="39027240" cy="978840"/>
            </a:xfrm>
          </p:grpSpPr>
          <p:grpSp>
            <p:nvGrpSpPr>
              <p:cNvPr id="1080" name="组合 137"/>
              <p:cNvGrpSpPr/>
              <p:nvPr/>
            </p:nvGrpSpPr>
            <p:grpSpPr>
              <a:xfrm>
                <a:off x="-558720" y="145080"/>
                <a:ext cx="29666520" cy="978840"/>
                <a:chOff x="-558720" y="145080"/>
                <a:chExt cx="29666520" cy="978840"/>
              </a:xfrm>
            </p:grpSpPr>
            <p:grpSp>
              <p:nvGrpSpPr>
                <p:cNvPr id="1081" name="组合 17"/>
                <p:cNvGrpSpPr/>
                <p:nvPr/>
              </p:nvGrpSpPr>
              <p:grpSpPr>
                <a:xfrm>
                  <a:off x="-558720" y="145080"/>
                  <a:ext cx="10728720" cy="978840"/>
                  <a:chOff x="-558720" y="145080"/>
                  <a:chExt cx="10728720" cy="978840"/>
                </a:xfrm>
              </p:grpSpPr>
              <p:sp>
                <p:nvSpPr>
                  <p:cNvPr id="1082" name="直接连接符 214"/>
                  <p:cNvSpPr/>
                  <p:nvPr/>
                </p:nvSpPr>
                <p:spPr>
                  <a:xfrm>
                    <a:off x="-558720" y="14508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直接连接符 215"/>
                  <p:cNvSpPr/>
                  <p:nvPr/>
                </p:nvSpPr>
                <p:spPr>
                  <a:xfrm>
                    <a:off x="-558720" y="11239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圆角矩形 216"/>
                  <p:cNvSpPr/>
                  <p:nvPr/>
                </p:nvSpPr>
                <p:spPr>
                  <a:xfrm>
                    <a:off x="1972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圆角矩形 217"/>
                  <p:cNvSpPr/>
                  <p:nvPr/>
                </p:nvSpPr>
                <p:spPr>
                  <a:xfrm>
                    <a:off x="11692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圆角矩形 218"/>
                  <p:cNvSpPr/>
                  <p:nvPr/>
                </p:nvSpPr>
                <p:spPr>
                  <a:xfrm>
                    <a:off x="21772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圆角矩形 219"/>
                  <p:cNvSpPr/>
                  <p:nvPr/>
                </p:nvSpPr>
                <p:spPr>
                  <a:xfrm>
                    <a:off x="318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圆角矩形 220"/>
                  <p:cNvSpPr/>
                  <p:nvPr/>
                </p:nvSpPr>
                <p:spPr>
                  <a:xfrm>
                    <a:off x="426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圆角矩形 221"/>
                  <p:cNvSpPr/>
                  <p:nvPr/>
                </p:nvSpPr>
                <p:spPr>
                  <a:xfrm>
                    <a:off x="534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圆角矩形 222"/>
                  <p:cNvSpPr/>
                  <p:nvPr/>
                </p:nvSpPr>
                <p:spPr>
                  <a:xfrm>
                    <a:off x="642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圆角矩形 223"/>
                  <p:cNvSpPr/>
                  <p:nvPr/>
                </p:nvSpPr>
                <p:spPr>
                  <a:xfrm>
                    <a:off x="7434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圆角矩形 28"/>
                  <p:cNvSpPr/>
                  <p:nvPr/>
                </p:nvSpPr>
                <p:spPr>
                  <a:xfrm>
                    <a:off x="8370000" y="35460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组合 17"/>
                <p:cNvGrpSpPr/>
                <p:nvPr/>
              </p:nvGrpSpPr>
              <p:grpSpPr>
                <a:xfrm>
                  <a:off x="9018000" y="145080"/>
                  <a:ext cx="10728720" cy="978840"/>
                  <a:chOff x="9018000" y="145080"/>
                  <a:chExt cx="10728720" cy="978840"/>
                </a:xfrm>
              </p:grpSpPr>
              <p:sp>
                <p:nvSpPr>
                  <p:cNvPr id="1094" name="直接连接符 203"/>
                  <p:cNvSpPr/>
                  <p:nvPr/>
                </p:nvSpPr>
                <p:spPr>
                  <a:xfrm>
                    <a:off x="9018000" y="14508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直接连接符 204"/>
                  <p:cNvSpPr/>
                  <p:nvPr/>
                </p:nvSpPr>
                <p:spPr>
                  <a:xfrm>
                    <a:off x="9018000" y="11239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圆角矩形 205"/>
                  <p:cNvSpPr/>
                  <p:nvPr/>
                </p:nvSpPr>
                <p:spPr>
                  <a:xfrm>
                    <a:off x="9774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圆角矩形 206"/>
                  <p:cNvSpPr/>
                  <p:nvPr/>
                </p:nvSpPr>
                <p:spPr>
                  <a:xfrm>
                    <a:off x="10746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圆角矩形 207"/>
                  <p:cNvSpPr/>
                  <p:nvPr/>
                </p:nvSpPr>
                <p:spPr>
                  <a:xfrm>
                    <a:off x="11754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圆角矩形 208"/>
                  <p:cNvSpPr/>
                  <p:nvPr/>
                </p:nvSpPr>
                <p:spPr>
                  <a:xfrm>
                    <a:off x="1276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圆角矩形 209"/>
                  <p:cNvSpPr/>
                  <p:nvPr/>
                </p:nvSpPr>
                <p:spPr>
                  <a:xfrm>
                    <a:off x="1384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圆角矩形 210"/>
                  <p:cNvSpPr/>
                  <p:nvPr/>
                </p:nvSpPr>
                <p:spPr>
                  <a:xfrm>
                    <a:off x="1492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圆角矩形 211"/>
                  <p:cNvSpPr/>
                  <p:nvPr/>
                </p:nvSpPr>
                <p:spPr>
                  <a:xfrm>
                    <a:off x="1600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圆角矩形 212"/>
                  <p:cNvSpPr/>
                  <p:nvPr/>
                </p:nvSpPr>
                <p:spPr>
                  <a:xfrm>
                    <a:off x="1701072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圆角矩形 213"/>
                  <p:cNvSpPr/>
                  <p:nvPr/>
                </p:nvSpPr>
                <p:spPr>
                  <a:xfrm>
                    <a:off x="17946720" y="35460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组合 17"/>
                <p:cNvGrpSpPr/>
                <p:nvPr/>
              </p:nvGrpSpPr>
              <p:grpSpPr>
                <a:xfrm>
                  <a:off x="18379080" y="145080"/>
                  <a:ext cx="10728720" cy="978840"/>
                  <a:chOff x="18379080" y="145080"/>
                  <a:chExt cx="10728720" cy="978840"/>
                </a:xfrm>
              </p:grpSpPr>
              <p:sp>
                <p:nvSpPr>
                  <p:cNvPr id="1106" name="直接连接符 192"/>
                  <p:cNvSpPr/>
                  <p:nvPr/>
                </p:nvSpPr>
                <p:spPr>
                  <a:xfrm>
                    <a:off x="18379080" y="14508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直接连接符 193"/>
                  <p:cNvSpPr/>
                  <p:nvPr/>
                </p:nvSpPr>
                <p:spPr>
                  <a:xfrm>
                    <a:off x="18379080" y="11239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圆角矩形 194"/>
                  <p:cNvSpPr/>
                  <p:nvPr/>
                </p:nvSpPr>
                <p:spPr>
                  <a:xfrm>
                    <a:off x="191350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圆角矩形 195"/>
                  <p:cNvSpPr/>
                  <p:nvPr/>
                </p:nvSpPr>
                <p:spPr>
                  <a:xfrm>
                    <a:off x="201070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圆角矩形 196"/>
                  <p:cNvSpPr/>
                  <p:nvPr/>
                </p:nvSpPr>
                <p:spPr>
                  <a:xfrm>
                    <a:off x="211150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圆角矩形 197"/>
                  <p:cNvSpPr/>
                  <p:nvPr/>
                </p:nvSpPr>
                <p:spPr>
                  <a:xfrm>
                    <a:off x="2212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圆角矩形 198"/>
                  <p:cNvSpPr/>
                  <p:nvPr/>
                </p:nvSpPr>
                <p:spPr>
                  <a:xfrm>
                    <a:off x="2320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圆角矩形 199"/>
                  <p:cNvSpPr/>
                  <p:nvPr/>
                </p:nvSpPr>
                <p:spPr>
                  <a:xfrm>
                    <a:off x="2428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圆角矩形 200"/>
                  <p:cNvSpPr/>
                  <p:nvPr/>
                </p:nvSpPr>
                <p:spPr>
                  <a:xfrm>
                    <a:off x="2536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圆角矩形 201"/>
                  <p:cNvSpPr/>
                  <p:nvPr/>
                </p:nvSpPr>
                <p:spPr>
                  <a:xfrm>
                    <a:off x="263718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圆角矩形 202"/>
                  <p:cNvSpPr/>
                  <p:nvPr/>
                </p:nvSpPr>
                <p:spPr>
                  <a:xfrm>
                    <a:off x="27307800" y="35460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7" name="组合 17"/>
              <p:cNvGrpSpPr/>
              <p:nvPr/>
            </p:nvGrpSpPr>
            <p:grpSpPr>
              <a:xfrm>
                <a:off x="27739800" y="145080"/>
                <a:ext cx="10728720" cy="978840"/>
                <a:chOff x="27739800" y="145080"/>
                <a:chExt cx="10728720" cy="978840"/>
              </a:xfrm>
            </p:grpSpPr>
            <p:sp>
              <p:nvSpPr>
                <p:cNvPr id="1118" name="直接连接符 178"/>
                <p:cNvSpPr/>
                <p:nvPr/>
              </p:nvSpPr>
              <p:spPr>
                <a:xfrm>
                  <a:off x="27739800" y="14508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直接连接符 179"/>
                <p:cNvSpPr/>
                <p:nvPr/>
              </p:nvSpPr>
              <p:spPr>
                <a:xfrm>
                  <a:off x="27739800" y="112392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180"/>
                <p:cNvSpPr/>
                <p:nvPr/>
              </p:nvSpPr>
              <p:spPr>
                <a:xfrm>
                  <a:off x="2849580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181"/>
                <p:cNvSpPr/>
                <p:nvPr/>
              </p:nvSpPr>
              <p:spPr>
                <a:xfrm>
                  <a:off x="2946780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182"/>
                <p:cNvSpPr/>
                <p:nvPr/>
              </p:nvSpPr>
              <p:spPr>
                <a:xfrm>
                  <a:off x="3047580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183"/>
                <p:cNvSpPr/>
                <p:nvPr/>
              </p:nvSpPr>
              <p:spPr>
                <a:xfrm>
                  <a:off x="3148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184"/>
                <p:cNvSpPr/>
                <p:nvPr/>
              </p:nvSpPr>
              <p:spPr>
                <a:xfrm>
                  <a:off x="3256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185"/>
                <p:cNvSpPr/>
                <p:nvPr/>
              </p:nvSpPr>
              <p:spPr>
                <a:xfrm>
                  <a:off x="3364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186"/>
                <p:cNvSpPr/>
                <p:nvPr/>
              </p:nvSpPr>
              <p:spPr>
                <a:xfrm>
                  <a:off x="3472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圆角矩形 187"/>
                <p:cNvSpPr/>
                <p:nvPr/>
              </p:nvSpPr>
              <p:spPr>
                <a:xfrm>
                  <a:off x="3573252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圆角矩形 188"/>
                <p:cNvSpPr/>
                <p:nvPr/>
              </p:nvSpPr>
              <p:spPr>
                <a:xfrm>
                  <a:off x="36668520" y="35460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组合 17"/>
            <p:cNvGrpSpPr/>
            <p:nvPr/>
          </p:nvGrpSpPr>
          <p:grpSpPr>
            <a:xfrm>
              <a:off x="37172520" y="141120"/>
              <a:ext cx="10728720" cy="978840"/>
              <a:chOff x="37172520" y="141120"/>
              <a:chExt cx="10728720" cy="978840"/>
            </a:xfrm>
          </p:grpSpPr>
          <p:sp>
            <p:nvSpPr>
              <p:cNvPr id="1130" name="直接连接符 165"/>
              <p:cNvSpPr/>
              <p:nvPr/>
            </p:nvSpPr>
            <p:spPr>
              <a:xfrm>
                <a:off x="37172520" y="14112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直接连接符 166"/>
              <p:cNvSpPr/>
              <p:nvPr/>
            </p:nvSpPr>
            <p:spPr>
              <a:xfrm>
                <a:off x="37172520" y="111996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圆角矩形 167"/>
              <p:cNvSpPr/>
              <p:nvPr/>
            </p:nvSpPr>
            <p:spPr>
              <a:xfrm>
                <a:off x="3792852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圆角矩形 168"/>
              <p:cNvSpPr/>
              <p:nvPr/>
            </p:nvSpPr>
            <p:spPr>
              <a:xfrm>
                <a:off x="3890052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圆角矩形 169"/>
              <p:cNvSpPr/>
              <p:nvPr/>
            </p:nvSpPr>
            <p:spPr>
              <a:xfrm>
                <a:off x="3990852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圆角矩形 170"/>
              <p:cNvSpPr/>
              <p:nvPr/>
            </p:nvSpPr>
            <p:spPr>
              <a:xfrm>
                <a:off x="4091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171"/>
              <p:cNvSpPr/>
              <p:nvPr/>
            </p:nvSpPr>
            <p:spPr>
              <a:xfrm>
                <a:off x="4199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172"/>
              <p:cNvSpPr/>
              <p:nvPr/>
            </p:nvSpPr>
            <p:spPr>
              <a:xfrm>
                <a:off x="4307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173"/>
              <p:cNvSpPr/>
              <p:nvPr/>
            </p:nvSpPr>
            <p:spPr>
              <a:xfrm>
                <a:off x="4415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174"/>
              <p:cNvSpPr/>
              <p:nvPr/>
            </p:nvSpPr>
            <p:spPr>
              <a:xfrm>
                <a:off x="4516524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175"/>
              <p:cNvSpPr/>
              <p:nvPr/>
            </p:nvSpPr>
            <p:spPr>
              <a:xfrm>
                <a:off x="46101240" y="35064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组合 17"/>
          <p:cNvGrpSpPr/>
          <p:nvPr/>
        </p:nvGrpSpPr>
        <p:grpSpPr>
          <a:xfrm>
            <a:off x="49556880" y="130320"/>
            <a:ext cx="10730160" cy="979200"/>
            <a:chOff x="49556880" y="130320"/>
            <a:chExt cx="10730160" cy="979200"/>
          </a:xfrm>
        </p:grpSpPr>
        <p:sp>
          <p:nvSpPr>
            <p:cNvPr id="1142" name="直接连接符 226"/>
            <p:cNvSpPr/>
            <p:nvPr/>
          </p:nvSpPr>
          <p:spPr>
            <a:xfrm>
              <a:off x="49556880" y="1303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直接连接符 227"/>
            <p:cNvSpPr/>
            <p:nvPr/>
          </p:nvSpPr>
          <p:spPr>
            <a:xfrm>
              <a:off x="49556880" y="11095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圆角矩形 228"/>
            <p:cNvSpPr/>
            <p:nvPr/>
          </p:nvSpPr>
          <p:spPr>
            <a:xfrm>
              <a:off x="503128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229"/>
            <p:cNvSpPr/>
            <p:nvPr/>
          </p:nvSpPr>
          <p:spPr>
            <a:xfrm>
              <a:off x="51285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230"/>
            <p:cNvSpPr/>
            <p:nvPr/>
          </p:nvSpPr>
          <p:spPr>
            <a:xfrm>
              <a:off x="52293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231"/>
            <p:cNvSpPr/>
            <p:nvPr/>
          </p:nvSpPr>
          <p:spPr>
            <a:xfrm>
              <a:off x="5330160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232"/>
            <p:cNvSpPr/>
            <p:nvPr/>
          </p:nvSpPr>
          <p:spPr>
            <a:xfrm>
              <a:off x="5438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233"/>
            <p:cNvSpPr/>
            <p:nvPr/>
          </p:nvSpPr>
          <p:spPr>
            <a:xfrm>
              <a:off x="5546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 234"/>
            <p:cNvSpPr/>
            <p:nvPr/>
          </p:nvSpPr>
          <p:spPr>
            <a:xfrm>
              <a:off x="5654232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圆角矩形 235"/>
            <p:cNvSpPr/>
            <p:nvPr/>
          </p:nvSpPr>
          <p:spPr>
            <a:xfrm>
              <a:off x="575506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圆角矩形 236"/>
            <p:cNvSpPr/>
            <p:nvPr/>
          </p:nvSpPr>
          <p:spPr>
            <a:xfrm>
              <a:off x="58486680" y="33984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10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704" dur="9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10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710" dur="9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5DC-A154-4FBD-8661-3589CD7079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63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75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9"/>
          <p:cNvSpPr/>
          <p:nvPr/>
        </p:nvSpPr>
        <p:spPr>
          <a:xfrm>
            <a:off x="3348000" y="26668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PICTURE 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755640" y="400536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—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1" descr="jnrs2.jpg"/>
          <p:cNvPicPr/>
          <p:nvPr/>
        </p:nvPicPr>
        <p:blipFill>
          <a:blip r:embed="rId1">
            <a:biLevel thresh="50000"/>
            <a:lum bright="100000"/>
          </a:blip>
          <a:stretch/>
        </p:blipFill>
        <p:spPr>
          <a:xfrm>
            <a:off x="1635120" y="2781360"/>
            <a:ext cx="1584360" cy="330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32"/>
          <p:cNvSpPr/>
          <p:nvPr/>
        </p:nvSpPr>
        <p:spPr>
          <a:xfrm>
            <a:off x="2340000" y="3348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巨能机器人电影公司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154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166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178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190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TextBox 29"/>
          <p:cNvSpPr/>
          <p:nvPr/>
        </p:nvSpPr>
        <p:spPr>
          <a:xfrm>
            <a:off x="133200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②</a:t>
            </a: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感动</a:t>
            </a: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Mov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203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215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组合 44"/>
          <p:cNvGrpSpPr/>
          <p:nvPr/>
        </p:nvGrpSpPr>
        <p:grpSpPr>
          <a:xfrm>
            <a:off x="3203640" y="1484280"/>
            <a:ext cx="2883960" cy="4148280"/>
            <a:chOff x="3203640" y="1484280"/>
            <a:chExt cx="2883960" cy="4148280"/>
          </a:xfrm>
        </p:grpSpPr>
        <p:sp>
          <p:nvSpPr>
            <p:cNvPr id="1227" name="椭圆 29"/>
            <p:cNvSpPr/>
            <p:nvPr/>
          </p:nvSpPr>
          <p:spPr>
            <a:xfrm>
              <a:off x="3203640" y="1484280"/>
              <a:ext cx="2880720" cy="6480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椭圆 30"/>
            <p:cNvSpPr/>
            <p:nvPr/>
          </p:nvSpPr>
          <p:spPr>
            <a:xfrm>
              <a:off x="3203640" y="4984560"/>
              <a:ext cx="2880720" cy="648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组合 39"/>
            <p:cNvGrpSpPr/>
            <p:nvPr/>
          </p:nvGrpSpPr>
          <p:grpSpPr>
            <a:xfrm>
              <a:off x="3203640" y="1808280"/>
              <a:ext cx="969480" cy="3384000"/>
              <a:chOff x="3203640" y="1808280"/>
              <a:chExt cx="969480" cy="3384000"/>
            </a:xfrm>
          </p:grpSpPr>
          <p:sp>
            <p:nvSpPr>
              <p:cNvPr id="1230" name="直接连接符 33"/>
              <p:cNvSpPr/>
              <p:nvPr/>
            </p:nvSpPr>
            <p:spPr>
              <a:xfrm>
                <a:off x="3203640" y="1808280"/>
                <a:ext cx="969480" cy="1476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直接连接符 34"/>
              <p:cNvSpPr/>
              <p:nvPr/>
            </p:nvSpPr>
            <p:spPr>
              <a:xfrm flipH="1">
                <a:off x="3278160" y="3572280"/>
                <a:ext cx="894960" cy="1620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组合 40"/>
            <p:cNvGrpSpPr/>
            <p:nvPr/>
          </p:nvGrpSpPr>
          <p:grpSpPr>
            <a:xfrm>
              <a:off x="5118120" y="1844280"/>
              <a:ext cx="969480" cy="3384000"/>
              <a:chOff x="5118120" y="1844280"/>
              <a:chExt cx="969480" cy="3384000"/>
            </a:xfrm>
          </p:grpSpPr>
          <p:sp>
            <p:nvSpPr>
              <p:cNvPr id="1233" name="直接连接符 41"/>
              <p:cNvSpPr/>
              <p:nvPr/>
            </p:nvSpPr>
            <p:spPr>
              <a:xfrm flipH="1">
                <a:off x="5118120" y="1844280"/>
                <a:ext cx="969480" cy="1476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直接连接符 42"/>
              <p:cNvSpPr/>
              <p:nvPr/>
            </p:nvSpPr>
            <p:spPr>
              <a:xfrm>
                <a:off x="5118120" y="3608280"/>
                <a:ext cx="894960" cy="1620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5" name="TextBox 36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时间就像沙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37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不知不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5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匆匆而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6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天一夜，又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47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天一夜，又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48"/>
          <p:cNvSpPr/>
          <p:nvPr/>
        </p:nvSpPr>
        <p:spPr>
          <a:xfrm>
            <a:off x="250920" y="155736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快乐和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化成点点滴滴的回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77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24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25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74"/>
          <p:cNvGrpSpPr/>
          <p:nvPr/>
        </p:nvGrpSpPr>
        <p:grpSpPr>
          <a:xfrm>
            <a:off x="2441520" y="3718080"/>
            <a:ext cx="3930840" cy="1655640"/>
            <a:chOff x="2441520" y="3718080"/>
            <a:chExt cx="3930840" cy="1655640"/>
          </a:xfrm>
        </p:grpSpPr>
        <p:grpSp>
          <p:nvGrpSpPr>
            <p:cNvPr id="1266" name="组合 38"/>
            <p:cNvGrpSpPr/>
            <p:nvPr/>
          </p:nvGrpSpPr>
          <p:grpSpPr>
            <a:xfrm>
              <a:off x="2441520" y="3718080"/>
              <a:ext cx="3901680" cy="1655640"/>
              <a:chOff x="2441520" y="3718080"/>
              <a:chExt cx="3901680" cy="1655640"/>
            </a:xfrm>
          </p:grpSpPr>
          <p:sp>
            <p:nvSpPr>
              <p:cNvPr id="1267" name="椭圆 29"/>
              <p:cNvSpPr/>
              <p:nvPr/>
            </p:nvSpPr>
            <p:spPr>
              <a:xfrm>
                <a:off x="2441520" y="3718080"/>
                <a:ext cx="3901680" cy="772200"/>
              </a:xfrm>
              <a:prstGeom prst="ellipse">
                <a:avLst/>
              </a:prstGeom>
              <a:solidFill>
                <a:srgbClr val="93895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直接连接符 32"/>
              <p:cNvSpPr/>
              <p:nvPr/>
            </p:nvSpPr>
            <p:spPr>
              <a:xfrm>
                <a:off x="2456280" y="4129560"/>
                <a:ext cx="0" cy="1201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直接连接符 33"/>
              <p:cNvSpPr/>
              <p:nvPr/>
            </p:nvSpPr>
            <p:spPr>
              <a:xfrm>
                <a:off x="6328440" y="4129560"/>
                <a:ext cx="0" cy="1244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TextBox 39"/>
            <p:cNvSpPr/>
            <p:nvPr/>
          </p:nvSpPr>
          <p:spPr>
            <a:xfrm>
              <a:off x="2700000" y="4509720"/>
              <a:ext cx="367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MV Boli"/>
                </a:rPr>
                <a:t>❤ </a:t>
              </a:r>
              <a:r>
                <a:rPr b="0" lang="en-US" sz="2000" spc="-1" strike="noStrike">
                  <a:solidFill>
                    <a:srgbClr val="ffffff"/>
                  </a:solidFill>
                  <a:latin typeface="MV Boli"/>
                </a:rPr>
                <a:t>HAPPY   BIRTHDAY  </a:t>
              </a:r>
              <a:r>
                <a:rPr b="0" lang="zh-CN" sz="2000" spc="-1" strike="noStrike">
                  <a:solidFill>
                    <a:srgbClr val="ffffff"/>
                  </a:solidFill>
                  <a:latin typeface="MV Boli"/>
                </a:rPr>
                <a:t>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组合 50"/>
          <p:cNvGrpSpPr/>
          <p:nvPr/>
        </p:nvGrpSpPr>
        <p:grpSpPr>
          <a:xfrm>
            <a:off x="2771640" y="3168720"/>
            <a:ext cx="144720" cy="836640"/>
            <a:chOff x="2771640" y="3168720"/>
            <a:chExt cx="144720" cy="836640"/>
          </a:xfrm>
        </p:grpSpPr>
        <p:sp>
          <p:nvSpPr>
            <p:cNvPr id="1272" name="圆角矩形 40"/>
            <p:cNvSpPr/>
            <p:nvPr/>
          </p:nvSpPr>
          <p:spPr>
            <a:xfrm>
              <a:off x="2771640" y="3168720"/>
              <a:ext cx="144720" cy="83664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4615">
                  <a:moveTo>
                    <a:pt x="3600" y="0"/>
                  </a:moveTo>
                  <a:arcTo wR="3600" hR="3600" stAng="16200000" swAng="-5400000"/>
                  <a:lnTo>
                    <a:pt x="0" y="121015"/>
                  </a:lnTo>
                  <a:arcTo wR="3600" hR="3600" stAng="10800000" swAng="-5400000"/>
                  <a:lnTo>
                    <a:pt x="18000" y="124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51"/>
          <p:cNvGrpSpPr/>
          <p:nvPr/>
        </p:nvGrpSpPr>
        <p:grpSpPr>
          <a:xfrm>
            <a:off x="3419640" y="3024360"/>
            <a:ext cx="144360" cy="850680"/>
            <a:chOff x="3419640" y="3024360"/>
            <a:chExt cx="144360" cy="850680"/>
          </a:xfrm>
        </p:grpSpPr>
        <p:sp>
          <p:nvSpPr>
            <p:cNvPr id="1274" name="圆角矩形 41"/>
            <p:cNvSpPr/>
            <p:nvPr/>
          </p:nvSpPr>
          <p:spPr>
            <a:xfrm>
              <a:off x="3419640" y="3024360"/>
              <a:ext cx="144360" cy="8506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7021">
                  <a:moveTo>
                    <a:pt x="3600" y="0"/>
                  </a:moveTo>
                  <a:arcTo wR="3600" hR="3600" stAng="16200000" swAng="-5400000"/>
                  <a:lnTo>
                    <a:pt x="0" y="123421"/>
                  </a:lnTo>
                  <a:arcTo wR="3600" hR="3600" stAng="10800000" swAng="-5400000"/>
                  <a:lnTo>
                    <a:pt x="18000" y="127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组合 52"/>
          <p:cNvGrpSpPr/>
          <p:nvPr/>
        </p:nvGrpSpPr>
        <p:grpSpPr>
          <a:xfrm>
            <a:off x="3995640" y="2997360"/>
            <a:ext cx="144720" cy="850680"/>
            <a:chOff x="3995640" y="2997360"/>
            <a:chExt cx="144720" cy="850680"/>
          </a:xfrm>
        </p:grpSpPr>
        <p:sp>
          <p:nvSpPr>
            <p:cNvPr id="1276" name="圆角矩形 42"/>
            <p:cNvSpPr/>
            <p:nvPr/>
          </p:nvSpPr>
          <p:spPr>
            <a:xfrm>
              <a:off x="3995640" y="2997360"/>
              <a:ext cx="144720" cy="85068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6706">
                  <a:moveTo>
                    <a:pt x="3600" y="0"/>
                  </a:moveTo>
                  <a:arcTo wR="3600" hR="3600" stAng="16200000" swAng="-5400000"/>
                  <a:lnTo>
                    <a:pt x="0" y="123106"/>
                  </a:lnTo>
                  <a:arcTo wR="3600" hR="3600" stAng="10800000" swAng="-5400000"/>
                  <a:lnTo>
                    <a:pt x="18000" y="126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组合 55"/>
          <p:cNvGrpSpPr/>
          <p:nvPr/>
        </p:nvGrpSpPr>
        <p:grpSpPr>
          <a:xfrm>
            <a:off x="4716360" y="2997360"/>
            <a:ext cx="144720" cy="850680"/>
            <a:chOff x="4716360" y="2997360"/>
            <a:chExt cx="144720" cy="850680"/>
          </a:xfrm>
        </p:grpSpPr>
        <p:sp>
          <p:nvSpPr>
            <p:cNvPr id="1278" name="圆角矩形 43"/>
            <p:cNvSpPr/>
            <p:nvPr/>
          </p:nvSpPr>
          <p:spPr>
            <a:xfrm>
              <a:off x="4716360" y="2997360"/>
              <a:ext cx="144720" cy="85068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6706">
                  <a:moveTo>
                    <a:pt x="3600" y="0"/>
                  </a:moveTo>
                  <a:arcTo wR="3600" hR="3600" stAng="16200000" swAng="-5400000"/>
                  <a:lnTo>
                    <a:pt x="0" y="123106"/>
                  </a:lnTo>
                  <a:arcTo wR="3600" hR="3600" stAng="10800000" swAng="-5400000"/>
                  <a:lnTo>
                    <a:pt x="18000" y="126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54"/>
          <p:cNvGrpSpPr/>
          <p:nvPr/>
        </p:nvGrpSpPr>
        <p:grpSpPr>
          <a:xfrm>
            <a:off x="5292720" y="2997360"/>
            <a:ext cx="142920" cy="850680"/>
            <a:chOff x="5292720" y="2997360"/>
            <a:chExt cx="142920" cy="850680"/>
          </a:xfrm>
        </p:grpSpPr>
        <p:sp>
          <p:nvSpPr>
            <p:cNvPr id="1280" name="圆角矩形 44"/>
            <p:cNvSpPr/>
            <p:nvPr/>
          </p:nvSpPr>
          <p:spPr>
            <a:xfrm>
              <a:off x="5292720" y="2997360"/>
              <a:ext cx="142920" cy="8506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8297">
                  <a:moveTo>
                    <a:pt x="3600" y="0"/>
                  </a:moveTo>
                  <a:arcTo wR="3600" hR="3600" stAng="16200000" swAng="-5400000"/>
                  <a:lnTo>
                    <a:pt x="0" y="124697"/>
                  </a:lnTo>
                  <a:arcTo wR="3600" hR="3600" stAng="10800000" swAng="-5400000"/>
                  <a:lnTo>
                    <a:pt x="18000" y="128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组合 56"/>
          <p:cNvGrpSpPr/>
          <p:nvPr/>
        </p:nvGrpSpPr>
        <p:grpSpPr>
          <a:xfrm>
            <a:off x="5724360" y="3139920"/>
            <a:ext cx="142920" cy="836640"/>
            <a:chOff x="5724360" y="3139920"/>
            <a:chExt cx="142920" cy="836640"/>
          </a:xfrm>
        </p:grpSpPr>
        <p:sp>
          <p:nvSpPr>
            <p:cNvPr id="1282" name="圆角矩形 57"/>
            <p:cNvSpPr/>
            <p:nvPr/>
          </p:nvSpPr>
          <p:spPr>
            <a:xfrm>
              <a:off x="5724360" y="3139920"/>
              <a:ext cx="142920" cy="83664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6181">
                  <a:moveTo>
                    <a:pt x="3600" y="0"/>
                  </a:moveTo>
                  <a:arcTo wR="3600" hR="3600" stAng="16200000" swAng="-5400000"/>
                  <a:lnTo>
                    <a:pt x="0" y="122581"/>
                  </a:lnTo>
                  <a:arcTo wR="3600" hR="3600" stAng="10800000" swAng="-5400000"/>
                  <a:lnTo>
                    <a:pt x="18000" y="1261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65"/>
          <p:cNvGrpSpPr/>
          <p:nvPr/>
        </p:nvGrpSpPr>
        <p:grpSpPr>
          <a:xfrm>
            <a:off x="3708360" y="3357720"/>
            <a:ext cx="142920" cy="836280"/>
            <a:chOff x="3708360" y="3357720"/>
            <a:chExt cx="142920" cy="836280"/>
          </a:xfrm>
        </p:grpSpPr>
        <p:sp>
          <p:nvSpPr>
            <p:cNvPr id="1284" name="圆角矩形 66"/>
            <p:cNvSpPr/>
            <p:nvPr/>
          </p:nvSpPr>
          <p:spPr>
            <a:xfrm>
              <a:off x="3708360" y="3357720"/>
              <a:ext cx="142920" cy="836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36280"/>
                <a:gd name="textAreaBottom" fmla="*/ 829440 h 836280"/>
              </a:gdLst>
              <a:ahLst/>
              <a:rect l="textAreaLeft" t="textAreaTop" r="textAreaRight" b="textAreaBottom"/>
              <a:pathLst>
                <a:path w="21600" h="126127">
                  <a:moveTo>
                    <a:pt x="3600" y="0"/>
                  </a:moveTo>
                  <a:arcTo wR="3600" hR="3600" stAng="16200000" swAng="-5400000"/>
                  <a:lnTo>
                    <a:pt x="0" y="122527"/>
                  </a:lnTo>
                  <a:arcTo wR="3600" hR="3600" stAng="10800000" swAng="-5400000"/>
                  <a:lnTo>
                    <a:pt x="18000" y="1261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组合 68"/>
          <p:cNvGrpSpPr/>
          <p:nvPr/>
        </p:nvGrpSpPr>
        <p:grpSpPr>
          <a:xfrm>
            <a:off x="4356000" y="3429000"/>
            <a:ext cx="144720" cy="836640"/>
            <a:chOff x="4356000" y="3429000"/>
            <a:chExt cx="144720" cy="836640"/>
          </a:xfrm>
        </p:grpSpPr>
        <p:sp>
          <p:nvSpPr>
            <p:cNvPr id="1286" name="圆角矩形 69"/>
            <p:cNvSpPr/>
            <p:nvPr/>
          </p:nvSpPr>
          <p:spPr>
            <a:xfrm>
              <a:off x="4356000" y="3429000"/>
              <a:ext cx="144720" cy="83664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4615">
                  <a:moveTo>
                    <a:pt x="3600" y="0"/>
                  </a:moveTo>
                  <a:arcTo wR="3600" hR="3600" stAng="16200000" swAng="-5400000"/>
                  <a:lnTo>
                    <a:pt x="0" y="121015"/>
                  </a:lnTo>
                  <a:arcTo wR="3600" hR="3600" stAng="10800000" swAng="-5400000"/>
                  <a:lnTo>
                    <a:pt x="18000" y="124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组合 71"/>
          <p:cNvGrpSpPr/>
          <p:nvPr/>
        </p:nvGrpSpPr>
        <p:grpSpPr>
          <a:xfrm>
            <a:off x="5076720" y="3357720"/>
            <a:ext cx="142920" cy="836280"/>
            <a:chOff x="5076720" y="3357720"/>
            <a:chExt cx="142920" cy="836280"/>
          </a:xfrm>
        </p:grpSpPr>
        <p:sp>
          <p:nvSpPr>
            <p:cNvPr id="1288" name="圆角矩形 72"/>
            <p:cNvSpPr/>
            <p:nvPr/>
          </p:nvSpPr>
          <p:spPr>
            <a:xfrm>
              <a:off x="5076720" y="3357720"/>
              <a:ext cx="142920" cy="836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36280"/>
                <a:gd name="textAreaBottom" fmla="*/ 829440 h 836280"/>
              </a:gdLst>
              <a:ahLst/>
              <a:rect l="textAreaLeft" t="textAreaTop" r="textAreaRight" b="textAreaBottom"/>
              <a:pathLst>
                <a:path w="21600" h="126127">
                  <a:moveTo>
                    <a:pt x="3600" y="0"/>
                  </a:moveTo>
                  <a:arcTo wR="3600" hR="3600" stAng="16200000" swAng="-5400000"/>
                  <a:lnTo>
                    <a:pt x="0" y="122527"/>
                  </a:lnTo>
                  <a:arcTo wR="3600" hR="3600" stAng="10800000" swAng="-5400000"/>
                  <a:lnTo>
                    <a:pt x="18000" y="1261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组合 75"/>
          <p:cNvGrpSpPr/>
          <p:nvPr/>
        </p:nvGrpSpPr>
        <p:grpSpPr>
          <a:xfrm>
            <a:off x="3132000" y="3284640"/>
            <a:ext cx="144720" cy="836640"/>
            <a:chOff x="3132000" y="3284640"/>
            <a:chExt cx="144720" cy="836640"/>
          </a:xfrm>
        </p:grpSpPr>
        <p:sp>
          <p:nvSpPr>
            <p:cNvPr id="1290" name="圆角矩形 76"/>
            <p:cNvSpPr/>
            <p:nvPr/>
          </p:nvSpPr>
          <p:spPr>
            <a:xfrm>
              <a:off x="3132000" y="3284640"/>
              <a:ext cx="144720" cy="83664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4615">
                  <a:moveTo>
                    <a:pt x="3600" y="0"/>
                  </a:moveTo>
                  <a:arcTo wR="3600" hR="3600" stAng="16200000" swAng="-5400000"/>
                  <a:lnTo>
                    <a:pt x="0" y="121015"/>
                  </a:lnTo>
                  <a:arcTo wR="3600" hR="3600" stAng="10800000" swAng="-5400000"/>
                  <a:lnTo>
                    <a:pt x="18000" y="124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1" name="TextBox 62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属于我的节日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63"/>
          <p:cNvSpPr/>
          <p:nvPr/>
        </p:nvSpPr>
        <p:spPr>
          <a:xfrm>
            <a:off x="324000" y="155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巨能给我准备了鲜花和蛋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64"/>
          <p:cNvSpPr/>
          <p:nvPr/>
        </p:nvSpPr>
        <p:spPr>
          <a:xfrm>
            <a:off x="324000" y="155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当一个个蜡烛被点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78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感受到了是暖暖的温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79"/>
          <p:cNvSpPr/>
          <p:nvPr/>
        </p:nvSpPr>
        <p:spPr>
          <a:xfrm>
            <a:off x="395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有那颗暖暖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0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8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6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85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4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297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09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32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3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TextBox 29"/>
          <p:cNvSpPr/>
          <p:nvPr/>
        </p:nvSpPr>
        <p:spPr>
          <a:xfrm>
            <a:off x="1332000" y="2708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③</a:t>
            </a: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成长</a:t>
            </a: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Grow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34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5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754920" y="1483560"/>
            <a:ext cx="1080" cy="3745440"/>
            <a:chOff x="754920" y="1483560"/>
            <a:chExt cx="1080" cy="3745440"/>
          </a:xfrm>
        </p:grpSpPr>
        <p:cxnSp>
          <p:nvCxnSpPr>
            <p:cNvPr id="1370" name="直接箭头连接符 30"/>
            <p:cNvCxnSpPr/>
            <p:nvPr/>
          </p:nvCxnSpPr>
          <p:spPr>
            <a:xfrm flipV="1">
              <a:off x="755280" y="1483560"/>
              <a:ext cx="1080" cy="37458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371" name=""/>
            <p:cNvSpPr txBox="1"/>
            <p:nvPr/>
          </p:nvSpPr>
          <p:spPr>
            <a:xfrm rot="10800000">
              <a:off x="754920" y="1483560"/>
              <a:ext cx="360" cy="374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755640" y="5229000"/>
            <a:ext cx="7633080" cy="720"/>
            <a:chOff x="755640" y="5229000"/>
            <a:chExt cx="7633080" cy="720"/>
          </a:xfrm>
        </p:grpSpPr>
        <p:cxnSp>
          <p:nvCxnSpPr>
            <p:cNvPr id="1373" name="直接箭头连接符 32"/>
            <p:cNvCxnSpPr/>
            <p:nvPr/>
          </p:nvCxnSpPr>
          <p:spPr>
            <a:xfrm>
              <a:off x="755640" y="5229000"/>
              <a:ext cx="7633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374" name=""/>
            <p:cNvSpPr txBox="1"/>
            <p:nvPr/>
          </p:nvSpPr>
          <p:spPr>
            <a:xfrm>
              <a:off x="755640" y="522900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TextBox 29"/>
          <p:cNvSpPr/>
          <p:nvPr/>
        </p:nvSpPr>
        <p:spPr>
          <a:xfrm>
            <a:off x="4932360" y="2997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2011</a:t>
            </a: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，成就辉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31"/>
          <p:cNvSpPr/>
          <p:nvPr/>
        </p:nvSpPr>
        <p:spPr>
          <a:xfrm>
            <a:off x="4932360" y="2997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回顾过去，我们共同见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33"/>
          <p:cNvSpPr/>
          <p:nvPr/>
        </p:nvSpPr>
        <p:spPr>
          <a:xfrm>
            <a:off x="4861080" y="299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巨能机器人正在茁壮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0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4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矩形 6"/>
          <p:cNvSpPr/>
          <p:nvPr/>
        </p:nvSpPr>
        <p:spPr>
          <a:xfrm>
            <a:off x="3127680" y="325908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380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92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3" name="Picture 2" descr="E:\办公室工作\MTF\巨能修改图片\巨能修改图片\展板\展地图.jpg"/>
          <p:cNvPicPr/>
          <p:nvPr/>
        </p:nvPicPr>
        <p:blipFill>
          <a:blip r:embed="rId2"/>
          <a:srcRect l="3487" t="25198" r="6973" b="18801"/>
          <a:stretch/>
        </p:blipFill>
        <p:spPr>
          <a:xfrm>
            <a:off x="1547640" y="1339920"/>
            <a:ext cx="55454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4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05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417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8" name="图片 30" descr="2008102711392465_2.jpg"/>
          <p:cNvPicPr/>
          <p:nvPr/>
        </p:nvPicPr>
        <p:blipFill>
          <a:blip r:embed="rId1">
            <a:biLevel thresh="50000"/>
            <a:lum contrast="40000"/>
          </a:blip>
          <a:srcRect l="0" t="0" r="0" b="8022"/>
          <a:stretch/>
        </p:blipFill>
        <p:spPr>
          <a:xfrm>
            <a:off x="0" y="1197000"/>
            <a:ext cx="9144000" cy="4516560"/>
          </a:xfrm>
          <a:prstGeom prst="rect">
            <a:avLst/>
          </a:prstGeom>
          <a:ln w="0">
            <a:noFill/>
          </a:ln>
        </p:spPr>
      </p:pic>
      <p:pic>
        <p:nvPicPr>
          <p:cNvPr id="1429" name="图片 29" descr="jnrs2.jpg"/>
          <p:cNvPicPr/>
          <p:nvPr/>
        </p:nvPicPr>
        <p:blipFill>
          <a:blip r:embed="rId2"/>
          <a:stretch/>
        </p:blipFill>
        <p:spPr>
          <a:xfrm>
            <a:off x="3780000" y="3068640"/>
            <a:ext cx="649080" cy="135000"/>
          </a:xfrm>
          <a:prstGeom prst="rect">
            <a:avLst/>
          </a:prstGeom>
          <a:ln w="0">
            <a:noFill/>
          </a:ln>
        </p:spPr>
      </p:pic>
      <p:pic>
        <p:nvPicPr>
          <p:cNvPr id="1430" name="图片 31" descr="jnrs2.jpg"/>
          <p:cNvPicPr/>
          <p:nvPr/>
        </p:nvPicPr>
        <p:blipFill>
          <a:blip r:embed="rId3"/>
          <a:stretch/>
        </p:blipFill>
        <p:spPr>
          <a:xfrm>
            <a:off x="2987640" y="3068640"/>
            <a:ext cx="647640" cy="135000"/>
          </a:xfrm>
          <a:prstGeom prst="rect">
            <a:avLst/>
          </a:prstGeom>
          <a:ln w="0">
            <a:noFill/>
          </a:ln>
        </p:spPr>
      </p:pic>
      <p:pic>
        <p:nvPicPr>
          <p:cNvPr id="1431" name="图片 32" descr="jnrs2.jpg"/>
          <p:cNvPicPr/>
          <p:nvPr/>
        </p:nvPicPr>
        <p:blipFill>
          <a:blip r:embed="rId4"/>
          <a:stretch/>
        </p:blipFill>
        <p:spPr>
          <a:xfrm>
            <a:off x="6588000" y="2997360"/>
            <a:ext cx="648000" cy="134640"/>
          </a:xfrm>
          <a:prstGeom prst="rect">
            <a:avLst/>
          </a:prstGeom>
          <a:ln w="0">
            <a:noFill/>
          </a:ln>
        </p:spPr>
      </p:pic>
      <p:pic>
        <p:nvPicPr>
          <p:cNvPr id="1432" name="图片 33" descr="jnrs2.jpg"/>
          <p:cNvPicPr/>
          <p:nvPr/>
        </p:nvPicPr>
        <p:blipFill>
          <a:blip r:embed="rId5"/>
          <a:stretch/>
        </p:blipFill>
        <p:spPr>
          <a:xfrm>
            <a:off x="2916360" y="3573360"/>
            <a:ext cx="647640" cy="1350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34" descr="jnrs2.jpg"/>
          <p:cNvPicPr/>
          <p:nvPr/>
        </p:nvPicPr>
        <p:blipFill>
          <a:blip r:embed="rId6"/>
          <a:stretch/>
        </p:blipFill>
        <p:spPr>
          <a:xfrm>
            <a:off x="1476360" y="2492280"/>
            <a:ext cx="647640" cy="1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35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447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Text Box 26"/>
          <p:cNvSpPr/>
          <p:nvPr/>
        </p:nvSpPr>
        <p:spPr>
          <a:xfrm>
            <a:off x="2124000" y="530532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9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0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29"/>
          <p:cNvSpPr/>
          <p:nvPr/>
        </p:nvSpPr>
        <p:spPr>
          <a:xfrm>
            <a:off x="1835280" y="2637000"/>
            <a:ext cx="540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导演：    张艺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Director:        Zhang Yim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60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472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Freeform 20"/>
          <p:cNvSpPr/>
          <p:nvPr/>
        </p:nvSpPr>
        <p:spPr>
          <a:xfrm>
            <a:off x="3506760" y="3146400"/>
            <a:ext cx="525600" cy="1270080"/>
          </a:xfrm>
          <a:custGeom>
            <a:avLst/>
            <a:gdLst>
              <a:gd name="textAreaLeft" fmla="*/ 0 w 525600"/>
              <a:gd name="textAreaRight" fmla="*/ 525960 w 52560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331" h="801">
                <a:moveTo>
                  <a:pt x="331" y="801"/>
                </a:moveTo>
                <a:lnTo>
                  <a:pt x="322" y="801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3"/>
          <p:cNvSpPr/>
          <p:nvPr/>
        </p:nvSpPr>
        <p:spPr>
          <a:xfrm>
            <a:off x="4343400" y="2938320"/>
            <a:ext cx="2424240" cy="1490760"/>
          </a:xfrm>
          <a:custGeom>
            <a:avLst/>
            <a:gdLst>
              <a:gd name="textAreaLeft" fmla="*/ 0 w 2424240"/>
              <a:gd name="textAreaRight" fmla="*/ 2424600 w 242424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1527" h="939">
                <a:moveTo>
                  <a:pt x="444" y="939"/>
                </a:moveTo>
                <a:lnTo>
                  <a:pt x="1527" y="658"/>
                </a:lnTo>
                <a:lnTo>
                  <a:pt x="900" y="0"/>
                </a:lnTo>
                <a:lnTo>
                  <a:pt x="0" y="184"/>
                </a:lnTo>
                <a:lnTo>
                  <a:pt x="444" y="939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4"/>
          <p:cNvSpPr/>
          <p:nvPr/>
        </p:nvSpPr>
        <p:spPr>
          <a:xfrm>
            <a:off x="5048280" y="4429080"/>
            <a:ext cx="1639800" cy="97164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1033" h="613">
                <a:moveTo>
                  <a:pt x="0" y="0"/>
                </a:moveTo>
                <a:lnTo>
                  <a:pt x="4" y="613"/>
                </a:lnTo>
                <a:lnTo>
                  <a:pt x="1017" y="298"/>
                </a:lnTo>
                <a:lnTo>
                  <a:pt x="1033" y="131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5"/>
          <p:cNvSpPr/>
          <p:nvPr/>
        </p:nvSpPr>
        <p:spPr>
          <a:xfrm>
            <a:off x="4559400" y="4425840"/>
            <a:ext cx="488880" cy="9939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6"/>
          <p:cNvSpPr/>
          <p:nvPr/>
        </p:nvSpPr>
        <p:spPr>
          <a:xfrm>
            <a:off x="4795920" y="2938320"/>
            <a:ext cx="976320" cy="1052640"/>
          </a:xfrm>
          <a:custGeom>
            <a:avLst/>
            <a:gdLst>
              <a:gd name="textAreaLeft" fmla="*/ 0 w 976320"/>
              <a:gd name="textAreaRight" fmla="*/ 976680 w 97632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w="615" h="663">
                <a:moveTo>
                  <a:pt x="615" y="0"/>
                </a:moveTo>
                <a:lnTo>
                  <a:pt x="593" y="514"/>
                </a:lnTo>
                <a:lnTo>
                  <a:pt x="0" y="663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7"/>
          <p:cNvSpPr/>
          <p:nvPr/>
        </p:nvSpPr>
        <p:spPr>
          <a:xfrm flipH="1" flipV="1">
            <a:off x="5737320" y="3754080"/>
            <a:ext cx="318960" cy="3985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9"/>
          <p:cNvSpPr/>
          <p:nvPr/>
        </p:nvSpPr>
        <p:spPr>
          <a:xfrm>
            <a:off x="4032360" y="4417920"/>
            <a:ext cx="1030320" cy="2880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649" h="18">
                <a:moveTo>
                  <a:pt x="649" y="18"/>
                </a:moveTo>
                <a:lnTo>
                  <a:pt x="640" y="7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0"/>
          <p:cNvSpPr/>
          <p:nvPr/>
        </p:nvSpPr>
        <p:spPr>
          <a:xfrm>
            <a:off x="5062680" y="4446720"/>
            <a:ext cx="473040" cy="528480"/>
          </a:xfrm>
          <a:custGeom>
            <a:avLst/>
            <a:gdLst>
              <a:gd name="textAreaLeft" fmla="*/ 0 w 473040"/>
              <a:gd name="textAreaRight" fmla="*/ 473040 w 473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98" h="333">
                <a:moveTo>
                  <a:pt x="298" y="328"/>
                </a:moveTo>
                <a:lnTo>
                  <a:pt x="282" y="333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1"/>
          <p:cNvSpPr/>
          <p:nvPr/>
        </p:nvSpPr>
        <p:spPr>
          <a:xfrm>
            <a:off x="5535720" y="4367160"/>
            <a:ext cx="1971720" cy="6001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242" h="378">
                <a:moveTo>
                  <a:pt x="1221" y="0"/>
                </a:moveTo>
                <a:lnTo>
                  <a:pt x="1242" y="12"/>
                </a:lnTo>
                <a:lnTo>
                  <a:pt x="0" y="378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2"/>
          <p:cNvSpPr/>
          <p:nvPr/>
        </p:nvSpPr>
        <p:spPr>
          <a:xfrm>
            <a:off x="6767640" y="3968640"/>
            <a:ext cx="706320" cy="397080"/>
          </a:xfrm>
          <a:custGeom>
            <a:avLst/>
            <a:gdLst>
              <a:gd name="textAreaLeft" fmla="*/ 0 w 706320"/>
              <a:gd name="textAreaRight" fmla="*/ 706320 w 7063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45" h="251">
                <a:moveTo>
                  <a:pt x="21" y="0"/>
                </a:moveTo>
                <a:lnTo>
                  <a:pt x="0" y="9"/>
                </a:lnTo>
                <a:lnTo>
                  <a:pt x="445" y="251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3"/>
          <p:cNvSpPr/>
          <p:nvPr/>
        </p:nvSpPr>
        <p:spPr>
          <a:xfrm>
            <a:off x="6800760" y="3624120"/>
            <a:ext cx="712800" cy="344520"/>
          </a:xfrm>
          <a:custGeom>
            <a:avLst/>
            <a:gdLst>
              <a:gd name="textAreaLeft" fmla="*/ 0 w 712800"/>
              <a:gd name="textAreaRight" fmla="*/ 713160 w 7128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9" h="217">
                <a:moveTo>
                  <a:pt x="431" y="0"/>
                </a:moveTo>
                <a:lnTo>
                  <a:pt x="449" y="14"/>
                </a:lnTo>
                <a:lnTo>
                  <a:pt x="0" y="217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"/>
          <p:cNvSpPr/>
          <p:nvPr/>
        </p:nvSpPr>
        <p:spPr>
          <a:xfrm>
            <a:off x="6372360" y="2676600"/>
            <a:ext cx="1112760" cy="94608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701" h="597">
                <a:moveTo>
                  <a:pt x="0" y="7"/>
                </a:moveTo>
                <a:lnTo>
                  <a:pt x="18" y="0"/>
                </a:lnTo>
                <a:lnTo>
                  <a:pt x="701" y="597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5"/>
          <p:cNvSpPr/>
          <p:nvPr/>
        </p:nvSpPr>
        <p:spPr>
          <a:xfrm>
            <a:off x="5754600" y="2687760"/>
            <a:ext cx="617760" cy="250560"/>
          </a:xfrm>
          <a:custGeom>
            <a:avLst/>
            <a:gdLst>
              <a:gd name="textAreaLeft" fmla="*/ 0 w 617760"/>
              <a:gd name="textAreaRight" fmla="*/ 618120 w 6177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389" h="158">
                <a:moveTo>
                  <a:pt x="0" y="138"/>
                </a:moveTo>
                <a:lnTo>
                  <a:pt x="11" y="158"/>
                </a:lnTo>
                <a:lnTo>
                  <a:pt x="389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6"/>
          <p:cNvSpPr/>
          <p:nvPr/>
        </p:nvSpPr>
        <p:spPr>
          <a:xfrm>
            <a:off x="5398920" y="2309760"/>
            <a:ext cx="355680" cy="596880"/>
          </a:xfrm>
          <a:custGeom>
            <a:avLst/>
            <a:gdLst>
              <a:gd name="textAreaLeft" fmla="*/ 0 w 355680"/>
              <a:gd name="textAreaRight" fmla="*/ 356040 w 3556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24" h="376">
                <a:moveTo>
                  <a:pt x="0" y="3"/>
                </a:moveTo>
                <a:lnTo>
                  <a:pt x="18" y="0"/>
                </a:lnTo>
                <a:lnTo>
                  <a:pt x="224" y="376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4060800" y="2314440"/>
            <a:ext cx="1338120" cy="25740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843" h="163">
                <a:moveTo>
                  <a:pt x="5" y="163"/>
                </a:moveTo>
                <a:lnTo>
                  <a:pt x="0" y="149"/>
                </a:lnTo>
                <a:lnTo>
                  <a:pt x="843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8"/>
          <p:cNvSpPr/>
          <p:nvPr/>
        </p:nvSpPr>
        <p:spPr>
          <a:xfrm flipH="1" flipV="1">
            <a:off x="4068360" y="2572920"/>
            <a:ext cx="260280" cy="63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9"/>
          <p:cNvSpPr/>
          <p:nvPr/>
        </p:nvSpPr>
        <p:spPr>
          <a:xfrm>
            <a:off x="3492360" y="3114720"/>
            <a:ext cx="851040" cy="123840"/>
          </a:xfrm>
          <a:custGeom>
            <a:avLst/>
            <a:gdLst>
              <a:gd name="textAreaLeft" fmla="*/ 0 w 851040"/>
              <a:gd name="textAreaRight" fmla="*/ 851400 w 851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36" h="79">
                <a:moveTo>
                  <a:pt x="9" y="20"/>
                </a:moveTo>
                <a:lnTo>
                  <a:pt x="0" y="0"/>
                </a:lnTo>
                <a:lnTo>
                  <a:pt x="536" y="79"/>
                </a:lnTo>
                <a:lnTo>
                  <a:pt x="527" y="57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oup 83"/>
          <p:cNvGrpSpPr/>
          <p:nvPr/>
        </p:nvGrpSpPr>
        <p:grpSpPr>
          <a:xfrm>
            <a:off x="5170320" y="3213000"/>
            <a:ext cx="3973680" cy="910800"/>
            <a:chOff x="5170320" y="3213000"/>
            <a:chExt cx="3973680" cy="910800"/>
          </a:xfrm>
        </p:grpSpPr>
        <p:grpSp>
          <p:nvGrpSpPr>
            <p:cNvPr id="1501" name="Group 84"/>
            <p:cNvGrpSpPr/>
            <p:nvPr/>
          </p:nvGrpSpPr>
          <p:grpSpPr>
            <a:xfrm>
              <a:off x="5170320" y="3213000"/>
              <a:ext cx="492120" cy="910800"/>
              <a:chOff x="5170320" y="3213000"/>
              <a:chExt cx="492120" cy="910800"/>
            </a:xfrm>
          </p:grpSpPr>
          <p:sp>
            <p:nvSpPr>
              <p:cNvPr id="1502" name="Freeform 85"/>
              <p:cNvSpPr/>
              <p:nvPr/>
            </p:nvSpPr>
            <p:spPr>
              <a:xfrm>
                <a:off x="5170320" y="321300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86"/>
              <p:cNvSpPr/>
              <p:nvPr/>
            </p:nvSpPr>
            <p:spPr>
              <a:xfrm>
                <a:off x="5299920" y="393804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87"/>
              <p:cNvSpPr/>
              <p:nvPr/>
            </p:nvSpPr>
            <p:spPr>
              <a:xfrm>
                <a:off x="5342400" y="408456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88"/>
              <p:cNvSpPr/>
              <p:nvPr/>
            </p:nvSpPr>
            <p:spPr>
              <a:xfrm>
                <a:off x="5170320" y="321300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89"/>
              <p:cNvSpPr/>
              <p:nvPr/>
            </p:nvSpPr>
            <p:spPr>
              <a:xfrm>
                <a:off x="5299920" y="393804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0"/>
              <p:cNvSpPr/>
              <p:nvPr/>
            </p:nvSpPr>
            <p:spPr>
              <a:xfrm>
                <a:off x="5342400" y="408456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Text Box 91"/>
            <p:cNvSpPr/>
            <p:nvPr/>
          </p:nvSpPr>
          <p:spPr>
            <a:xfrm>
              <a:off x="5601960" y="3213000"/>
              <a:ext cx="354204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亲人身体健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92"/>
          <p:cNvGrpSpPr/>
          <p:nvPr/>
        </p:nvGrpSpPr>
        <p:grpSpPr>
          <a:xfrm>
            <a:off x="4838760" y="3429000"/>
            <a:ext cx="4557240" cy="910800"/>
            <a:chOff x="4838760" y="3429000"/>
            <a:chExt cx="4557240" cy="910800"/>
          </a:xfrm>
        </p:grpSpPr>
        <p:grpSp>
          <p:nvGrpSpPr>
            <p:cNvPr id="1510" name="Group 93"/>
            <p:cNvGrpSpPr/>
            <p:nvPr/>
          </p:nvGrpSpPr>
          <p:grpSpPr>
            <a:xfrm>
              <a:off x="4838760" y="3429000"/>
              <a:ext cx="548640" cy="910800"/>
              <a:chOff x="4838760" y="3429000"/>
              <a:chExt cx="548640" cy="910800"/>
            </a:xfrm>
          </p:grpSpPr>
          <p:sp>
            <p:nvSpPr>
              <p:cNvPr id="1511" name="Freeform 94"/>
              <p:cNvSpPr/>
              <p:nvPr/>
            </p:nvSpPr>
            <p:spPr>
              <a:xfrm>
                <a:off x="4838760" y="3429000"/>
                <a:ext cx="548640" cy="70020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5"/>
              <p:cNvSpPr/>
              <p:nvPr/>
            </p:nvSpPr>
            <p:spPr>
              <a:xfrm>
                <a:off x="4983120" y="4154040"/>
                <a:ext cx="259560" cy="13896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6"/>
              <p:cNvSpPr/>
              <p:nvPr/>
            </p:nvSpPr>
            <p:spPr>
              <a:xfrm>
                <a:off x="5031000" y="4300560"/>
                <a:ext cx="164160" cy="392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7"/>
              <p:cNvSpPr/>
              <p:nvPr/>
            </p:nvSpPr>
            <p:spPr>
              <a:xfrm>
                <a:off x="4838760" y="3429000"/>
                <a:ext cx="548640" cy="70020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8"/>
              <p:cNvSpPr/>
              <p:nvPr/>
            </p:nvSpPr>
            <p:spPr>
              <a:xfrm>
                <a:off x="4983120" y="4154040"/>
                <a:ext cx="259560" cy="13896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9"/>
              <p:cNvSpPr/>
              <p:nvPr/>
            </p:nvSpPr>
            <p:spPr>
              <a:xfrm>
                <a:off x="5031000" y="4300560"/>
                <a:ext cx="164160" cy="392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Text Box 100"/>
            <p:cNvSpPr/>
            <p:nvPr/>
          </p:nvSpPr>
          <p:spPr>
            <a:xfrm>
              <a:off x="5127480" y="3500280"/>
              <a:ext cx="42685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8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巨能事业蒸蒸日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Group 101"/>
          <p:cNvGrpSpPr/>
          <p:nvPr/>
        </p:nvGrpSpPr>
        <p:grpSpPr>
          <a:xfrm>
            <a:off x="5303880" y="2852640"/>
            <a:ext cx="4038480" cy="910800"/>
            <a:chOff x="5303880" y="2852640"/>
            <a:chExt cx="4038480" cy="910800"/>
          </a:xfrm>
        </p:grpSpPr>
        <p:grpSp>
          <p:nvGrpSpPr>
            <p:cNvPr id="1519" name="Group 102"/>
            <p:cNvGrpSpPr/>
            <p:nvPr/>
          </p:nvGrpSpPr>
          <p:grpSpPr>
            <a:xfrm>
              <a:off x="5303880" y="2852640"/>
              <a:ext cx="492120" cy="910800"/>
              <a:chOff x="5303880" y="2852640"/>
              <a:chExt cx="492120" cy="910800"/>
            </a:xfrm>
          </p:grpSpPr>
          <p:sp>
            <p:nvSpPr>
              <p:cNvPr id="1520" name="Freeform 103"/>
              <p:cNvSpPr/>
              <p:nvPr/>
            </p:nvSpPr>
            <p:spPr>
              <a:xfrm>
                <a:off x="5303880" y="285264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04"/>
              <p:cNvSpPr/>
              <p:nvPr/>
            </p:nvSpPr>
            <p:spPr>
              <a:xfrm>
                <a:off x="5433480" y="357768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05"/>
              <p:cNvSpPr/>
              <p:nvPr/>
            </p:nvSpPr>
            <p:spPr>
              <a:xfrm>
                <a:off x="5475960" y="372420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06"/>
              <p:cNvSpPr/>
              <p:nvPr/>
            </p:nvSpPr>
            <p:spPr>
              <a:xfrm>
                <a:off x="5303880" y="285264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07"/>
              <p:cNvSpPr/>
              <p:nvPr/>
            </p:nvSpPr>
            <p:spPr>
              <a:xfrm>
                <a:off x="5433480" y="357768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08"/>
              <p:cNvSpPr/>
              <p:nvPr/>
            </p:nvSpPr>
            <p:spPr>
              <a:xfrm>
                <a:off x="5475960" y="372420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Text Box 109"/>
            <p:cNvSpPr/>
            <p:nvPr/>
          </p:nvSpPr>
          <p:spPr>
            <a:xfrm>
              <a:off x="5800680" y="287496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个个生龙活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110"/>
          <p:cNvGrpSpPr/>
          <p:nvPr/>
        </p:nvGrpSpPr>
        <p:grpSpPr>
          <a:xfrm>
            <a:off x="4613400" y="2997360"/>
            <a:ext cx="4038480" cy="910800"/>
            <a:chOff x="4613400" y="2997360"/>
            <a:chExt cx="4038480" cy="910800"/>
          </a:xfrm>
        </p:grpSpPr>
        <p:grpSp>
          <p:nvGrpSpPr>
            <p:cNvPr id="1528" name="Group 111"/>
            <p:cNvGrpSpPr/>
            <p:nvPr/>
          </p:nvGrpSpPr>
          <p:grpSpPr>
            <a:xfrm>
              <a:off x="4613400" y="2997360"/>
              <a:ext cx="492120" cy="910800"/>
              <a:chOff x="4613400" y="2997360"/>
              <a:chExt cx="492120" cy="910800"/>
            </a:xfrm>
          </p:grpSpPr>
          <p:sp>
            <p:nvSpPr>
              <p:cNvPr id="1529" name="Freeform 112"/>
              <p:cNvSpPr/>
              <p:nvPr/>
            </p:nvSpPr>
            <p:spPr>
              <a:xfrm>
                <a:off x="4613400" y="299736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113"/>
              <p:cNvSpPr/>
              <p:nvPr/>
            </p:nvSpPr>
            <p:spPr>
              <a:xfrm>
                <a:off x="4743000" y="372240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114"/>
              <p:cNvSpPr/>
              <p:nvPr/>
            </p:nvSpPr>
            <p:spPr>
              <a:xfrm>
                <a:off x="4785480" y="386892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115"/>
              <p:cNvSpPr/>
              <p:nvPr/>
            </p:nvSpPr>
            <p:spPr>
              <a:xfrm>
                <a:off x="4613400" y="299736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16"/>
              <p:cNvSpPr/>
              <p:nvPr/>
            </p:nvSpPr>
            <p:spPr>
              <a:xfrm>
                <a:off x="4743000" y="372240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17"/>
              <p:cNvSpPr/>
              <p:nvPr/>
            </p:nvSpPr>
            <p:spPr>
              <a:xfrm>
                <a:off x="4785480" y="386892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5" name="Text Box 118"/>
            <p:cNvSpPr/>
            <p:nvPr/>
          </p:nvSpPr>
          <p:spPr>
            <a:xfrm>
              <a:off x="5110200" y="301968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买到自己的房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119"/>
          <p:cNvGrpSpPr/>
          <p:nvPr/>
        </p:nvGrpSpPr>
        <p:grpSpPr>
          <a:xfrm>
            <a:off x="5303880" y="3357720"/>
            <a:ext cx="4038480" cy="910800"/>
            <a:chOff x="5303880" y="3357720"/>
            <a:chExt cx="4038480" cy="910800"/>
          </a:xfrm>
        </p:grpSpPr>
        <p:grpSp>
          <p:nvGrpSpPr>
            <p:cNvPr id="1537" name="Group 120"/>
            <p:cNvGrpSpPr/>
            <p:nvPr/>
          </p:nvGrpSpPr>
          <p:grpSpPr>
            <a:xfrm>
              <a:off x="5303880" y="3357720"/>
              <a:ext cx="492120" cy="910800"/>
              <a:chOff x="5303880" y="3357720"/>
              <a:chExt cx="492120" cy="910800"/>
            </a:xfrm>
          </p:grpSpPr>
          <p:sp>
            <p:nvSpPr>
              <p:cNvPr id="1538" name="Freeform 121"/>
              <p:cNvSpPr/>
              <p:nvPr/>
            </p:nvSpPr>
            <p:spPr>
              <a:xfrm>
                <a:off x="5303880" y="335772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22"/>
              <p:cNvSpPr/>
              <p:nvPr/>
            </p:nvSpPr>
            <p:spPr>
              <a:xfrm>
                <a:off x="5433480" y="408276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23"/>
              <p:cNvSpPr/>
              <p:nvPr/>
            </p:nvSpPr>
            <p:spPr>
              <a:xfrm>
                <a:off x="5475960" y="422928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24"/>
              <p:cNvSpPr/>
              <p:nvPr/>
            </p:nvSpPr>
            <p:spPr>
              <a:xfrm>
                <a:off x="5303880" y="335772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25"/>
              <p:cNvSpPr/>
              <p:nvPr/>
            </p:nvSpPr>
            <p:spPr>
              <a:xfrm>
                <a:off x="5433480" y="408276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26"/>
              <p:cNvSpPr/>
              <p:nvPr/>
            </p:nvSpPr>
            <p:spPr>
              <a:xfrm>
                <a:off x="5475960" y="422928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4" name="Text Box 127"/>
            <p:cNvSpPr/>
            <p:nvPr/>
          </p:nvSpPr>
          <p:spPr>
            <a:xfrm>
              <a:off x="5800680" y="338004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找到自己的另一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2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2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2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2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2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2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2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2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6 L 0.00087 -0.62291 E">
                                      <p:cBhvr>
                                        <p:cTn id="976" dur="5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4.81481E-006 L 0.00521 -0.6544 E">
                                      <p:cBhvr>
                                        <p:cTn id="984" dur="50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992" dur="5000" fill="hold"/>
                                        <p:tgtEl>
                                          <p:spTgt spid="1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4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1000" dur="5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1.94444E-006 1.48148E-006 L -0.00156 -0.6544 E">
                                      <p:cBhvr>
                                        <p:cTn id="1008" dur="5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54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55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TextBox 29"/>
          <p:cNvSpPr/>
          <p:nvPr/>
        </p:nvSpPr>
        <p:spPr>
          <a:xfrm>
            <a:off x="2627280" y="2852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这就是我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30"/>
          <p:cNvSpPr/>
          <p:nvPr/>
        </p:nvSpPr>
        <p:spPr>
          <a:xfrm>
            <a:off x="2411280" y="2781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就是巨能机器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1" dur="3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9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4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1575" name="任意多边形 54"/>
            <p:cNvSpPr/>
            <p:nvPr/>
          </p:nvSpPr>
          <p:spPr>
            <a:xfrm>
              <a:off x="1357200" y="3786120"/>
              <a:ext cx="420840" cy="107172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421458" h="1072260">
                  <a:moveTo>
                    <a:pt x="93326" y="346498"/>
                  </a:moveTo>
                  <a:cubicBezTo>
                    <a:pt x="97297" y="312742"/>
                    <a:pt x="62052" y="301821"/>
                    <a:pt x="51627" y="266079"/>
                  </a:cubicBezTo>
                  <a:cubicBezTo>
                    <a:pt x="41202" y="230337"/>
                    <a:pt x="32267" y="170270"/>
                    <a:pt x="30778" y="132046"/>
                  </a:cubicBezTo>
                  <a:cubicBezTo>
                    <a:pt x="29289" y="93822"/>
                    <a:pt x="36239" y="58080"/>
                    <a:pt x="42692" y="36734"/>
                  </a:cubicBezTo>
                  <a:cubicBezTo>
                    <a:pt x="49145" y="15388"/>
                    <a:pt x="59073" y="7942"/>
                    <a:pt x="69498" y="3971"/>
                  </a:cubicBezTo>
                  <a:cubicBezTo>
                    <a:pt x="79923" y="0"/>
                    <a:pt x="92333" y="3971"/>
                    <a:pt x="105240" y="12906"/>
                  </a:cubicBezTo>
                  <a:cubicBezTo>
                    <a:pt x="118147" y="21842"/>
                    <a:pt x="130557" y="33756"/>
                    <a:pt x="146939" y="57584"/>
                  </a:cubicBezTo>
                  <a:cubicBezTo>
                    <a:pt x="163321" y="81412"/>
                    <a:pt x="194099" y="111693"/>
                    <a:pt x="203531" y="155874"/>
                  </a:cubicBezTo>
                  <a:cubicBezTo>
                    <a:pt x="212963" y="200055"/>
                    <a:pt x="208992" y="281964"/>
                    <a:pt x="203531" y="322670"/>
                  </a:cubicBezTo>
                  <a:cubicBezTo>
                    <a:pt x="198070" y="363376"/>
                    <a:pt x="177717" y="385715"/>
                    <a:pt x="170767" y="400111"/>
                  </a:cubicBezTo>
                  <a:cubicBezTo>
                    <a:pt x="163817" y="414507"/>
                    <a:pt x="162328" y="405076"/>
                    <a:pt x="161832" y="409047"/>
                  </a:cubicBezTo>
                  <a:cubicBezTo>
                    <a:pt x="161336" y="413018"/>
                    <a:pt x="166300" y="419968"/>
                    <a:pt x="167789" y="423939"/>
                  </a:cubicBezTo>
                  <a:cubicBezTo>
                    <a:pt x="169278" y="427910"/>
                    <a:pt x="165307" y="421954"/>
                    <a:pt x="170767" y="432875"/>
                  </a:cubicBezTo>
                  <a:cubicBezTo>
                    <a:pt x="176228" y="443796"/>
                    <a:pt x="194595" y="478545"/>
                    <a:pt x="200552" y="489466"/>
                  </a:cubicBezTo>
                  <a:cubicBezTo>
                    <a:pt x="206509" y="500387"/>
                    <a:pt x="193106" y="497906"/>
                    <a:pt x="206509" y="498402"/>
                  </a:cubicBezTo>
                  <a:cubicBezTo>
                    <a:pt x="219912" y="498898"/>
                    <a:pt x="259626" y="490459"/>
                    <a:pt x="280972" y="492445"/>
                  </a:cubicBezTo>
                  <a:cubicBezTo>
                    <a:pt x="302318" y="494431"/>
                    <a:pt x="317210" y="497409"/>
                    <a:pt x="334585" y="510316"/>
                  </a:cubicBezTo>
                  <a:cubicBezTo>
                    <a:pt x="351960" y="523223"/>
                    <a:pt x="373306" y="550029"/>
                    <a:pt x="385220" y="569886"/>
                  </a:cubicBezTo>
                  <a:cubicBezTo>
                    <a:pt x="397134" y="589743"/>
                    <a:pt x="404083" y="607614"/>
                    <a:pt x="406069" y="629456"/>
                  </a:cubicBezTo>
                  <a:cubicBezTo>
                    <a:pt x="408055" y="651298"/>
                    <a:pt x="403587" y="678601"/>
                    <a:pt x="397134" y="700940"/>
                  </a:cubicBezTo>
                  <a:cubicBezTo>
                    <a:pt x="390681" y="723279"/>
                    <a:pt x="375292" y="749589"/>
                    <a:pt x="367349" y="763489"/>
                  </a:cubicBezTo>
                  <a:cubicBezTo>
                    <a:pt x="359406" y="777389"/>
                    <a:pt x="347989" y="773913"/>
                    <a:pt x="349478" y="784338"/>
                  </a:cubicBezTo>
                  <a:cubicBezTo>
                    <a:pt x="350967" y="794763"/>
                    <a:pt x="365363" y="804691"/>
                    <a:pt x="376284" y="826037"/>
                  </a:cubicBezTo>
                  <a:cubicBezTo>
                    <a:pt x="387205" y="847383"/>
                    <a:pt x="409544" y="881140"/>
                    <a:pt x="415005" y="912414"/>
                  </a:cubicBezTo>
                  <a:cubicBezTo>
                    <a:pt x="420466" y="943688"/>
                    <a:pt x="421458" y="988862"/>
                    <a:pt x="409048" y="1013683"/>
                  </a:cubicBezTo>
                  <a:cubicBezTo>
                    <a:pt x="396638" y="1038504"/>
                    <a:pt x="366852" y="1052900"/>
                    <a:pt x="340542" y="1061339"/>
                  </a:cubicBezTo>
                  <a:cubicBezTo>
                    <a:pt x="314232" y="1069778"/>
                    <a:pt x="275015" y="1072260"/>
                    <a:pt x="251187" y="1064317"/>
                  </a:cubicBezTo>
                  <a:cubicBezTo>
                    <a:pt x="227359" y="1056374"/>
                    <a:pt x="206013" y="1034036"/>
                    <a:pt x="197574" y="1013683"/>
                  </a:cubicBezTo>
                  <a:cubicBezTo>
                    <a:pt x="189135" y="993330"/>
                    <a:pt x="194099" y="959574"/>
                    <a:pt x="200552" y="942199"/>
                  </a:cubicBezTo>
                  <a:cubicBezTo>
                    <a:pt x="207005" y="924824"/>
                    <a:pt x="218919" y="912910"/>
                    <a:pt x="236294" y="909435"/>
                  </a:cubicBezTo>
                  <a:cubicBezTo>
                    <a:pt x="253669" y="905960"/>
                    <a:pt x="290900" y="906953"/>
                    <a:pt x="304800" y="921349"/>
                  </a:cubicBezTo>
                  <a:cubicBezTo>
                    <a:pt x="318700" y="935745"/>
                    <a:pt x="321679" y="978438"/>
                    <a:pt x="319693" y="995812"/>
                  </a:cubicBezTo>
                  <a:cubicBezTo>
                    <a:pt x="317707" y="1013186"/>
                    <a:pt x="301325" y="1020137"/>
                    <a:pt x="292886" y="1025597"/>
                  </a:cubicBezTo>
                  <a:cubicBezTo>
                    <a:pt x="284447" y="1031057"/>
                    <a:pt x="270547" y="1026589"/>
                    <a:pt x="269058" y="1028575"/>
                  </a:cubicBezTo>
                  <a:cubicBezTo>
                    <a:pt x="267569" y="1030561"/>
                    <a:pt x="273526" y="1036518"/>
                    <a:pt x="283951" y="1037511"/>
                  </a:cubicBezTo>
                  <a:cubicBezTo>
                    <a:pt x="294376" y="1038504"/>
                    <a:pt x="314729" y="1042971"/>
                    <a:pt x="331607" y="1034532"/>
                  </a:cubicBezTo>
                  <a:cubicBezTo>
                    <a:pt x="348485" y="1026093"/>
                    <a:pt x="376781" y="1003754"/>
                    <a:pt x="385220" y="986876"/>
                  </a:cubicBezTo>
                  <a:cubicBezTo>
                    <a:pt x="393659" y="969998"/>
                    <a:pt x="390680" y="960566"/>
                    <a:pt x="382241" y="933263"/>
                  </a:cubicBezTo>
                  <a:cubicBezTo>
                    <a:pt x="373802" y="905960"/>
                    <a:pt x="344017" y="845398"/>
                    <a:pt x="334585" y="823059"/>
                  </a:cubicBezTo>
                  <a:cubicBezTo>
                    <a:pt x="325153" y="800720"/>
                    <a:pt x="331607" y="801217"/>
                    <a:pt x="325650" y="799231"/>
                  </a:cubicBezTo>
                  <a:cubicBezTo>
                    <a:pt x="319693" y="797245"/>
                    <a:pt x="312743" y="807174"/>
                    <a:pt x="298843" y="811145"/>
                  </a:cubicBezTo>
                  <a:cubicBezTo>
                    <a:pt x="284943" y="815116"/>
                    <a:pt x="263101" y="821073"/>
                    <a:pt x="242251" y="823059"/>
                  </a:cubicBezTo>
                  <a:cubicBezTo>
                    <a:pt x="221401" y="825045"/>
                    <a:pt x="197078" y="829016"/>
                    <a:pt x="173746" y="823059"/>
                  </a:cubicBezTo>
                  <a:cubicBezTo>
                    <a:pt x="150415" y="817102"/>
                    <a:pt x="125594" y="806181"/>
                    <a:pt x="102262" y="787317"/>
                  </a:cubicBezTo>
                  <a:cubicBezTo>
                    <a:pt x="78930" y="768453"/>
                    <a:pt x="50634" y="740158"/>
                    <a:pt x="33756" y="709876"/>
                  </a:cubicBezTo>
                  <a:cubicBezTo>
                    <a:pt x="16878" y="679595"/>
                    <a:pt x="1986" y="645838"/>
                    <a:pt x="993" y="605628"/>
                  </a:cubicBezTo>
                  <a:cubicBezTo>
                    <a:pt x="0" y="565418"/>
                    <a:pt x="13403" y="508827"/>
                    <a:pt x="27799" y="468617"/>
                  </a:cubicBezTo>
                  <a:cubicBezTo>
                    <a:pt x="42195" y="428407"/>
                    <a:pt x="89355" y="380254"/>
                    <a:pt x="93326" y="34649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任意多边形 55"/>
            <p:cNvSpPr/>
            <p:nvPr/>
          </p:nvSpPr>
          <p:spPr>
            <a:xfrm>
              <a:off x="1428480" y="3876480"/>
              <a:ext cx="92160" cy="2365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91341" h="235301">
                  <a:moveTo>
                    <a:pt x="33260" y="225373"/>
                  </a:moveTo>
                  <a:cubicBezTo>
                    <a:pt x="46167" y="235301"/>
                    <a:pt x="71484" y="167293"/>
                    <a:pt x="80916" y="138997"/>
                  </a:cubicBezTo>
                  <a:cubicBezTo>
                    <a:pt x="90348" y="110701"/>
                    <a:pt x="91341" y="76945"/>
                    <a:pt x="89852" y="55599"/>
                  </a:cubicBezTo>
                  <a:cubicBezTo>
                    <a:pt x="88363" y="34253"/>
                    <a:pt x="78931" y="19856"/>
                    <a:pt x="71981" y="10921"/>
                  </a:cubicBezTo>
                  <a:cubicBezTo>
                    <a:pt x="65031" y="1986"/>
                    <a:pt x="57089" y="0"/>
                    <a:pt x="48153" y="1986"/>
                  </a:cubicBezTo>
                  <a:cubicBezTo>
                    <a:pt x="39217" y="3972"/>
                    <a:pt x="25814" y="9928"/>
                    <a:pt x="18368" y="22835"/>
                  </a:cubicBezTo>
                  <a:cubicBezTo>
                    <a:pt x="10922" y="35742"/>
                    <a:pt x="0" y="46664"/>
                    <a:pt x="3475" y="79427"/>
                  </a:cubicBezTo>
                  <a:cubicBezTo>
                    <a:pt x="6950" y="112190"/>
                    <a:pt x="20353" y="215445"/>
                    <a:pt x="33260" y="22537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任意多边形 56"/>
            <p:cNvSpPr/>
            <p:nvPr/>
          </p:nvSpPr>
          <p:spPr>
            <a:xfrm>
              <a:off x="1425240" y="4226040"/>
              <a:ext cx="241560" cy="365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42748" h="363874">
                  <a:moveTo>
                    <a:pt x="69995" y="993"/>
                  </a:moveTo>
                  <a:cubicBezTo>
                    <a:pt x="55103" y="1986"/>
                    <a:pt x="36735" y="52620"/>
                    <a:pt x="25317" y="84391"/>
                  </a:cubicBezTo>
                  <a:cubicBezTo>
                    <a:pt x="13899" y="116162"/>
                    <a:pt x="0" y="153890"/>
                    <a:pt x="1489" y="191618"/>
                  </a:cubicBezTo>
                  <a:cubicBezTo>
                    <a:pt x="2978" y="229346"/>
                    <a:pt x="11418" y="282959"/>
                    <a:pt x="34253" y="310758"/>
                  </a:cubicBezTo>
                  <a:cubicBezTo>
                    <a:pt x="57088" y="338557"/>
                    <a:pt x="106729" y="352954"/>
                    <a:pt x="138500" y="358414"/>
                  </a:cubicBezTo>
                  <a:cubicBezTo>
                    <a:pt x="170271" y="363874"/>
                    <a:pt x="207502" y="348485"/>
                    <a:pt x="224877" y="343521"/>
                  </a:cubicBezTo>
                  <a:cubicBezTo>
                    <a:pt x="242252" y="338557"/>
                    <a:pt x="242748" y="337068"/>
                    <a:pt x="242748" y="328629"/>
                  </a:cubicBezTo>
                  <a:cubicBezTo>
                    <a:pt x="242748" y="320190"/>
                    <a:pt x="238777" y="319197"/>
                    <a:pt x="224877" y="292887"/>
                  </a:cubicBezTo>
                  <a:cubicBezTo>
                    <a:pt x="210977" y="266577"/>
                    <a:pt x="172257" y="193603"/>
                    <a:pt x="159350" y="170768"/>
                  </a:cubicBezTo>
                  <a:cubicBezTo>
                    <a:pt x="146443" y="147933"/>
                    <a:pt x="153393" y="154882"/>
                    <a:pt x="147436" y="155875"/>
                  </a:cubicBezTo>
                  <a:cubicBezTo>
                    <a:pt x="141479" y="156868"/>
                    <a:pt x="129069" y="167789"/>
                    <a:pt x="123608" y="176725"/>
                  </a:cubicBezTo>
                  <a:cubicBezTo>
                    <a:pt x="118147" y="185661"/>
                    <a:pt x="115168" y="197079"/>
                    <a:pt x="114672" y="209489"/>
                  </a:cubicBezTo>
                  <a:cubicBezTo>
                    <a:pt x="114176" y="221899"/>
                    <a:pt x="115665" y="239274"/>
                    <a:pt x="120629" y="251188"/>
                  </a:cubicBezTo>
                  <a:cubicBezTo>
                    <a:pt x="125593" y="263102"/>
                    <a:pt x="134529" y="273030"/>
                    <a:pt x="144457" y="280973"/>
                  </a:cubicBezTo>
                  <a:cubicBezTo>
                    <a:pt x="154385" y="288916"/>
                    <a:pt x="177221" y="294873"/>
                    <a:pt x="180199" y="298844"/>
                  </a:cubicBezTo>
                  <a:cubicBezTo>
                    <a:pt x="183177" y="302815"/>
                    <a:pt x="170767" y="305297"/>
                    <a:pt x="162328" y="304801"/>
                  </a:cubicBezTo>
                  <a:cubicBezTo>
                    <a:pt x="153889" y="304305"/>
                    <a:pt x="141479" y="301822"/>
                    <a:pt x="129565" y="295865"/>
                  </a:cubicBezTo>
                  <a:cubicBezTo>
                    <a:pt x="117651" y="289908"/>
                    <a:pt x="101269" y="285441"/>
                    <a:pt x="90844" y="269059"/>
                  </a:cubicBezTo>
                  <a:cubicBezTo>
                    <a:pt x="80419" y="252677"/>
                    <a:pt x="69498" y="222396"/>
                    <a:pt x="67016" y="197575"/>
                  </a:cubicBezTo>
                  <a:cubicBezTo>
                    <a:pt x="64534" y="172754"/>
                    <a:pt x="70491" y="138004"/>
                    <a:pt x="75952" y="120133"/>
                  </a:cubicBezTo>
                  <a:cubicBezTo>
                    <a:pt x="81413" y="102262"/>
                    <a:pt x="93327" y="97298"/>
                    <a:pt x="99780" y="90348"/>
                  </a:cubicBezTo>
                  <a:cubicBezTo>
                    <a:pt x="106233" y="83398"/>
                    <a:pt x="115168" y="87866"/>
                    <a:pt x="114672" y="78434"/>
                  </a:cubicBezTo>
                  <a:cubicBezTo>
                    <a:pt x="114176" y="69002"/>
                    <a:pt x="84887" y="0"/>
                    <a:pt x="69995" y="99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任意多边形 57"/>
            <p:cNvSpPr/>
            <p:nvPr/>
          </p:nvSpPr>
          <p:spPr>
            <a:xfrm>
              <a:off x="1598760" y="4338720"/>
              <a:ext cx="127080" cy="203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7580" h="203035">
                  <a:moveTo>
                    <a:pt x="3475" y="25317"/>
                  </a:moveTo>
                  <a:cubicBezTo>
                    <a:pt x="6950" y="50634"/>
                    <a:pt x="66024" y="145451"/>
                    <a:pt x="80916" y="174243"/>
                  </a:cubicBezTo>
                  <a:cubicBezTo>
                    <a:pt x="95808" y="203035"/>
                    <a:pt x="86873" y="198567"/>
                    <a:pt x="92830" y="198071"/>
                  </a:cubicBezTo>
                  <a:cubicBezTo>
                    <a:pt x="98787" y="197575"/>
                    <a:pt x="111197" y="183178"/>
                    <a:pt x="116658" y="171264"/>
                  </a:cubicBezTo>
                  <a:cubicBezTo>
                    <a:pt x="122119" y="159350"/>
                    <a:pt x="127580" y="144954"/>
                    <a:pt x="125594" y="126587"/>
                  </a:cubicBezTo>
                  <a:cubicBezTo>
                    <a:pt x="123608" y="108220"/>
                    <a:pt x="115665" y="78435"/>
                    <a:pt x="104744" y="61060"/>
                  </a:cubicBezTo>
                  <a:cubicBezTo>
                    <a:pt x="93823" y="43685"/>
                    <a:pt x="75952" y="29289"/>
                    <a:pt x="60067" y="22339"/>
                  </a:cubicBezTo>
                  <a:cubicBezTo>
                    <a:pt x="44182" y="15389"/>
                    <a:pt x="0" y="0"/>
                    <a:pt x="3475" y="25317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任意多边形 58"/>
          <p:cNvSpPr/>
          <p:nvPr/>
        </p:nvSpPr>
        <p:spPr>
          <a:xfrm>
            <a:off x="7265880" y="1198440"/>
            <a:ext cx="1027080" cy="1871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1026607" h="1871505">
                <a:moveTo>
                  <a:pt x="1675" y="324059"/>
                </a:moveTo>
                <a:cubicBezTo>
                  <a:pt x="837" y="301031"/>
                  <a:pt x="0" y="278004"/>
                  <a:pt x="11723" y="258745"/>
                </a:cubicBezTo>
                <a:cubicBezTo>
                  <a:pt x="23446" y="239486"/>
                  <a:pt x="62802" y="222738"/>
                  <a:pt x="72013" y="208503"/>
                </a:cubicBezTo>
                <a:cubicBezTo>
                  <a:pt x="81224" y="194268"/>
                  <a:pt x="64477" y="184220"/>
                  <a:pt x="66989" y="173334"/>
                </a:cubicBezTo>
                <a:cubicBezTo>
                  <a:pt x="69501" y="162448"/>
                  <a:pt x="72851" y="156587"/>
                  <a:pt x="87086" y="143189"/>
                </a:cubicBezTo>
                <a:cubicBezTo>
                  <a:pt x="101321" y="129791"/>
                  <a:pt x="132303" y="102995"/>
                  <a:pt x="152400" y="92947"/>
                </a:cubicBezTo>
                <a:cubicBezTo>
                  <a:pt x="172497" y="82899"/>
                  <a:pt x="191756" y="90435"/>
                  <a:pt x="207666" y="82899"/>
                </a:cubicBezTo>
                <a:cubicBezTo>
                  <a:pt x="223576" y="75363"/>
                  <a:pt x="247860" y="47730"/>
                  <a:pt x="247860" y="47730"/>
                </a:cubicBezTo>
                <a:cubicBezTo>
                  <a:pt x="262095" y="35170"/>
                  <a:pt x="278842" y="15072"/>
                  <a:pt x="293077" y="7536"/>
                </a:cubicBezTo>
                <a:cubicBezTo>
                  <a:pt x="307312" y="0"/>
                  <a:pt x="319036" y="837"/>
                  <a:pt x="333271" y="2512"/>
                </a:cubicBezTo>
                <a:cubicBezTo>
                  <a:pt x="347506" y="4187"/>
                  <a:pt x="365928" y="15073"/>
                  <a:pt x="378488" y="17585"/>
                </a:cubicBezTo>
                <a:cubicBezTo>
                  <a:pt x="391048" y="20097"/>
                  <a:pt x="396910" y="15073"/>
                  <a:pt x="408633" y="17585"/>
                </a:cubicBezTo>
                <a:cubicBezTo>
                  <a:pt x="420356" y="20097"/>
                  <a:pt x="435429" y="30982"/>
                  <a:pt x="448827" y="32657"/>
                </a:cubicBezTo>
                <a:cubicBezTo>
                  <a:pt x="462225" y="34332"/>
                  <a:pt x="478972" y="25958"/>
                  <a:pt x="489020" y="27633"/>
                </a:cubicBezTo>
                <a:cubicBezTo>
                  <a:pt x="499068" y="29308"/>
                  <a:pt x="499069" y="39356"/>
                  <a:pt x="509117" y="42705"/>
                </a:cubicBezTo>
                <a:cubicBezTo>
                  <a:pt x="519165" y="46054"/>
                  <a:pt x="536750" y="43543"/>
                  <a:pt x="549310" y="47730"/>
                </a:cubicBezTo>
                <a:cubicBezTo>
                  <a:pt x="561870" y="51917"/>
                  <a:pt x="571919" y="62802"/>
                  <a:pt x="584479" y="67826"/>
                </a:cubicBezTo>
                <a:cubicBezTo>
                  <a:pt x="597039" y="72850"/>
                  <a:pt x="613787" y="71176"/>
                  <a:pt x="624673" y="77875"/>
                </a:cubicBezTo>
                <a:cubicBezTo>
                  <a:pt x="635559" y="84574"/>
                  <a:pt x="634721" y="94622"/>
                  <a:pt x="649794" y="108020"/>
                </a:cubicBezTo>
                <a:cubicBezTo>
                  <a:pt x="664867" y="121418"/>
                  <a:pt x="694174" y="147375"/>
                  <a:pt x="715108" y="158261"/>
                </a:cubicBezTo>
                <a:cubicBezTo>
                  <a:pt x="736042" y="169147"/>
                  <a:pt x="762838" y="166635"/>
                  <a:pt x="775398" y="173334"/>
                </a:cubicBezTo>
                <a:cubicBezTo>
                  <a:pt x="787959" y="180033"/>
                  <a:pt x="789634" y="184220"/>
                  <a:pt x="790471" y="198455"/>
                </a:cubicBezTo>
                <a:cubicBezTo>
                  <a:pt x="791308" y="212690"/>
                  <a:pt x="776235" y="244510"/>
                  <a:pt x="780422" y="258745"/>
                </a:cubicBezTo>
                <a:cubicBezTo>
                  <a:pt x="784609" y="272980"/>
                  <a:pt x="808892" y="272143"/>
                  <a:pt x="815591" y="283866"/>
                </a:cubicBezTo>
                <a:cubicBezTo>
                  <a:pt x="822290" y="295589"/>
                  <a:pt x="815592" y="318197"/>
                  <a:pt x="820616" y="329083"/>
                </a:cubicBezTo>
                <a:cubicBezTo>
                  <a:pt x="825640" y="339969"/>
                  <a:pt x="836526" y="342481"/>
                  <a:pt x="845737" y="349180"/>
                </a:cubicBezTo>
                <a:cubicBezTo>
                  <a:pt x="854948" y="355879"/>
                  <a:pt x="868346" y="362578"/>
                  <a:pt x="875882" y="369277"/>
                </a:cubicBezTo>
                <a:cubicBezTo>
                  <a:pt x="883418" y="375976"/>
                  <a:pt x="887605" y="376814"/>
                  <a:pt x="890954" y="389374"/>
                </a:cubicBezTo>
                <a:cubicBezTo>
                  <a:pt x="894303" y="401934"/>
                  <a:pt x="886767" y="426217"/>
                  <a:pt x="895978" y="444639"/>
                </a:cubicBezTo>
                <a:cubicBezTo>
                  <a:pt x="905189" y="463061"/>
                  <a:pt x="937846" y="483158"/>
                  <a:pt x="946220" y="499905"/>
                </a:cubicBezTo>
                <a:cubicBezTo>
                  <a:pt x="954594" y="516652"/>
                  <a:pt x="947057" y="530888"/>
                  <a:pt x="946220" y="545123"/>
                </a:cubicBezTo>
                <a:cubicBezTo>
                  <a:pt x="945383" y="559358"/>
                  <a:pt x="935335" y="571918"/>
                  <a:pt x="941196" y="585316"/>
                </a:cubicBezTo>
                <a:cubicBezTo>
                  <a:pt x="947057" y="598714"/>
                  <a:pt x="981389" y="625510"/>
                  <a:pt x="981389" y="625510"/>
                </a:cubicBezTo>
                <a:cubicBezTo>
                  <a:pt x="993949" y="638070"/>
                  <a:pt x="1012372" y="644769"/>
                  <a:pt x="1016559" y="660679"/>
                </a:cubicBezTo>
                <a:cubicBezTo>
                  <a:pt x="1020746" y="676589"/>
                  <a:pt x="1005673" y="691661"/>
                  <a:pt x="1006510" y="720969"/>
                </a:cubicBezTo>
                <a:cubicBezTo>
                  <a:pt x="1007347" y="750277"/>
                  <a:pt x="1026607" y="808892"/>
                  <a:pt x="1021583" y="836525"/>
                </a:cubicBezTo>
                <a:cubicBezTo>
                  <a:pt x="1016559" y="864158"/>
                  <a:pt x="984739" y="866670"/>
                  <a:pt x="976365" y="886767"/>
                </a:cubicBezTo>
                <a:cubicBezTo>
                  <a:pt x="967991" y="906864"/>
                  <a:pt x="974690" y="940358"/>
                  <a:pt x="971341" y="957105"/>
                </a:cubicBezTo>
                <a:cubicBezTo>
                  <a:pt x="967992" y="973852"/>
                  <a:pt x="958780" y="967991"/>
                  <a:pt x="956268" y="987250"/>
                </a:cubicBezTo>
                <a:cubicBezTo>
                  <a:pt x="953756" y="1006509"/>
                  <a:pt x="953756" y="1049215"/>
                  <a:pt x="956268" y="1072661"/>
                </a:cubicBezTo>
                <a:cubicBezTo>
                  <a:pt x="958780" y="1096107"/>
                  <a:pt x="974690" y="1108668"/>
                  <a:pt x="971341" y="1127927"/>
                </a:cubicBezTo>
                <a:cubicBezTo>
                  <a:pt x="967992" y="1147186"/>
                  <a:pt x="944546" y="1162260"/>
                  <a:pt x="936172" y="1188218"/>
                </a:cubicBezTo>
                <a:cubicBezTo>
                  <a:pt x="927798" y="1214176"/>
                  <a:pt x="925286" y="1263580"/>
                  <a:pt x="921099" y="1283677"/>
                </a:cubicBezTo>
                <a:cubicBezTo>
                  <a:pt x="916912" y="1303774"/>
                  <a:pt x="913563" y="1292888"/>
                  <a:pt x="911051" y="1308798"/>
                </a:cubicBezTo>
                <a:cubicBezTo>
                  <a:pt x="908539" y="1324708"/>
                  <a:pt x="910214" y="1362389"/>
                  <a:pt x="906027" y="1379136"/>
                </a:cubicBezTo>
                <a:cubicBezTo>
                  <a:pt x="901840" y="1395883"/>
                  <a:pt x="893466" y="1394209"/>
                  <a:pt x="885930" y="1409281"/>
                </a:cubicBezTo>
                <a:cubicBezTo>
                  <a:pt x="878394" y="1424354"/>
                  <a:pt x="873369" y="1440263"/>
                  <a:pt x="860809" y="1469571"/>
                </a:cubicBezTo>
                <a:cubicBezTo>
                  <a:pt x="848249" y="1498879"/>
                  <a:pt x="834850" y="1539909"/>
                  <a:pt x="810567" y="1585127"/>
                </a:cubicBezTo>
                <a:cubicBezTo>
                  <a:pt x="786284" y="1630345"/>
                  <a:pt x="732693" y="1705708"/>
                  <a:pt x="715108" y="1740877"/>
                </a:cubicBezTo>
                <a:cubicBezTo>
                  <a:pt x="697523" y="1776046"/>
                  <a:pt x="711759" y="1781908"/>
                  <a:pt x="705060" y="1796143"/>
                </a:cubicBezTo>
                <a:cubicBezTo>
                  <a:pt x="698361" y="1810378"/>
                  <a:pt x="682451" y="1813728"/>
                  <a:pt x="674915" y="1826288"/>
                </a:cubicBezTo>
                <a:cubicBezTo>
                  <a:pt x="667379" y="1838848"/>
                  <a:pt x="664866" y="1853083"/>
                  <a:pt x="659842" y="1871505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1581" name="任意多边形 60"/>
            <p:cNvSpPr/>
            <p:nvPr/>
          </p:nvSpPr>
          <p:spPr>
            <a:xfrm>
              <a:off x="7885080" y="3065400"/>
              <a:ext cx="612720" cy="234648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613786" h="2346290">
                  <a:moveTo>
                    <a:pt x="41030" y="0"/>
                  </a:moveTo>
                  <a:cubicBezTo>
                    <a:pt x="36006" y="20515"/>
                    <a:pt x="30982" y="41031"/>
                    <a:pt x="25958" y="60290"/>
                  </a:cubicBezTo>
                  <a:cubicBezTo>
                    <a:pt x="20934" y="79549"/>
                    <a:pt x="15072" y="97134"/>
                    <a:pt x="10885" y="115556"/>
                  </a:cubicBezTo>
                  <a:cubicBezTo>
                    <a:pt x="6698" y="133978"/>
                    <a:pt x="1674" y="154075"/>
                    <a:pt x="837" y="170822"/>
                  </a:cubicBezTo>
                  <a:cubicBezTo>
                    <a:pt x="0" y="187569"/>
                    <a:pt x="2512" y="201805"/>
                    <a:pt x="5861" y="216040"/>
                  </a:cubicBezTo>
                  <a:cubicBezTo>
                    <a:pt x="9210" y="230275"/>
                    <a:pt x="20096" y="230275"/>
                    <a:pt x="20933" y="256233"/>
                  </a:cubicBezTo>
                  <a:cubicBezTo>
                    <a:pt x="21770" y="282191"/>
                    <a:pt x="9210" y="343319"/>
                    <a:pt x="10885" y="371789"/>
                  </a:cubicBezTo>
                  <a:cubicBezTo>
                    <a:pt x="12560" y="400259"/>
                    <a:pt x="24283" y="413657"/>
                    <a:pt x="30982" y="427055"/>
                  </a:cubicBezTo>
                  <a:cubicBezTo>
                    <a:pt x="37681" y="440453"/>
                    <a:pt x="46891" y="442128"/>
                    <a:pt x="51078" y="452176"/>
                  </a:cubicBezTo>
                  <a:cubicBezTo>
                    <a:pt x="55265" y="462224"/>
                    <a:pt x="47729" y="476459"/>
                    <a:pt x="56103" y="487345"/>
                  </a:cubicBezTo>
                  <a:cubicBezTo>
                    <a:pt x="64477" y="498231"/>
                    <a:pt x="90434" y="503255"/>
                    <a:pt x="101320" y="517490"/>
                  </a:cubicBezTo>
                  <a:cubicBezTo>
                    <a:pt x="112206" y="531725"/>
                    <a:pt x="113043" y="559358"/>
                    <a:pt x="121417" y="572756"/>
                  </a:cubicBezTo>
                  <a:cubicBezTo>
                    <a:pt x="129791" y="586154"/>
                    <a:pt x="146538" y="585317"/>
                    <a:pt x="151562" y="597877"/>
                  </a:cubicBezTo>
                  <a:cubicBezTo>
                    <a:pt x="156586" y="610437"/>
                    <a:pt x="144863" y="620486"/>
                    <a:pt x="151562" y="648119"/>
                  </a:cubicBezTo>
                  <a:cubicBezTo>
                    <a:pt x="158261" y="675752"/>
                    <a:pt x="181707" y="708409"/>
                    <a:pt x="191755" y="763675"/>
                  </a:cubicBezTo>
                  <a:cubicBezTo>
                    <a:pt x="201803" y="818941"/>
                    <a:pt x="208502" y="884256"/>
                    <a:pt x="211852" y="979715"/>
                  </a:cubicBezTo>
                  <a:cubicBezTo>
                    <a:pt x="215202" y="1075174"/>
                    <a:pt x="208503" y="1237622"/>
                    <a:pt x="211852" y="1336431"/>
                  </a:cubicBezTo>
                  <a:cubicBezTo>
                    <a:pt x="215202" y="1435240"/>
                    <a:pt x="223575" y="1500554"/>
                    <a:pt x="231949" y="1572567"/>
                  </a:cubicBezTo>
                  <a:cubicBezTo>
                    <a:pt x="240323" y="1644580"/>
                    <a:pt x="243672" y="1716594"/>
                    <a:pt x="262094" y="1768510"/>
                  </a:cubicBezTo>
                  <a:cubicBezTo>
                    <a:pt x="280516" y="1820426"/>
                    <a:pt x="328246" y="1856433"/>
                    <a:pt x="342481" y="1884066"/>
                  </a:cubicBezTo>
                  <a:cubicBezTo>
                    <a:pt x="356716" y="1911699"/>
                    <a:pt x="345830" y="1922585"/>
                    <a:pt x="347505" y="1934308"/>
                  </a:cubicBezTo>
                  <a:cubicBezTo>
                    <a:pt x="349180" y="1946031"/>
                    <a:pt x="345830" y="1944357"/>
                    <a:pt x="352529" y="1954405"/>
                  </a:cubicBezTo>
                  <a:cubicBezTo>
                    <a:pt x="359228" y="1964453"/>
                    <a:pt x="358390" y="1962778"/>
                    <a:pt x="387698" y="1994598"/>
                  </a:cubicBezTo>
                  <a:cubicBezTo>
                    <a:pt x="417006" y="2026418"/>
                    <a:pt x="490694" y="2086708"/>
                    <a:pt x="528375" y="2145323"/>
                  </a:cubicBezTo>
                  <a:cubicBezTo>
                    <a:pt x="566056" y="2203938"/>
                    <a:pt x="589921" y="2275114"/>
                    <a:pt x="613786" y="234629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任意多边形 61"/>
            <p:cNvSpPr/>
            <p:nvPr/>
          </p:nvSpPr>
          <p:spPr>
            <a:xfrm>
              <a:off x="8373960" y="5406840"/>
              <a:ext cx="455760" cy="12970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456362" h="1297912">
                  <a:moveTo>
                    <a:pt x="124767" y="0"/>
                  </a:moveTo>
                  <a:cubicBezTo>
                    <a:pt x="131466" y="29308"/>
                    <a:pt x="138165" y="58616"/>
                    <a:pt x="159936" y="135653"/>
                  </a:cubicBezTo>
                  <a:cubicBezTo>
                    <a:pt x="181707" y="212690"/>
                    <a:pt x="228599" y="394398"/>
                    <a:pt x="255395" y="462224"/>
                  </a:cubicBezTo>
                  <a:cubicBezTo>
                    <a:pt x="282191" y="530050"/>
                    <a:pt x="311499" y="523352"/>
                    <a:pt x="320710" y="542611"/>
                  </a:cubicBezTo>
                  <a:cubicBezTo>
                    <a:pt x="329921" y="561870"/>
                    <a:pt x="306474" y="564382"/>
                    <a:pt x="310661" y="577780"/>
                  </a:cubicBezTo>
                  <a:cubicBezTo>
                    <a:pt x="314848" y="591178"/>
                    <a:pt x="341644" y="609600"/>
                    <a:pt x="345831" y="622998"/>
                  </a:cubicBezTo>
                  <a:cubicBezTo>
                    <a:pt x="350018" y="636396"/>
                    <a:pt x="329920" y="647281"/>
                    <a:pt x="335782" y="658167"/>
                  </a:cubicBezTo>
                  <a:cubicBezTo>
                    <a:pt x="341644" y="669053"/>
                    <a:pt x="365090" y="677426"/>
                    <a:pt x="381000" y="688312"/>
                  </a:cubicBezTo>
                  <a:cubicBezTo>
                    <a:pt x="396910" y="699198"/>
                    <a:pt x="419519" y="695012"/>
                    <a:pt x="431242" y="723482"/>
                  </a:cubicBezTo>
                  <a:cubicBezTo>
                    <a:pt x="442965" y="751952"/>
                    <a:pt x="456362" y="808055"/>
                    <a:pt x="451338" y="859134"/>
                  </a:cubicBezTo>
                  <a:cubicBezTo>
                    <a:pt x="446314" y="910213"/>
                    <a:pt x="409470" y="978040"/>
                    <a:pt x="401097" y="1029956"/>
                  </a:cubicBezTo>
                  <a:cubicBezTo>
                    <a:pt x="392724" y="1081872"/>
                    <a:pt x="412820" y="1134626"/>
                    <a:pt x="401097" y="1170633"/>
                  </a:cubicBezTo>
                  <a:cubicBezTo>
                    <a:pt x="389374" y="1206640"/>
                    <a:pt x="375976" y="1225899"/>
                    <a:pt x="330758" y="1245996"/>
                  </a:cubicBezTo>
                  <a:cubicBezTo>
                    <a:pt x="285540" y="1266093"/>
                    <a:pt x="181707" y="1284514"/>
                    <a:pt x="129791" y="1291213"/>
                  </a:cubicBezTo>
                  <a:cubicBezTo>
                    <a:pt x="77875" y="1297912"/>
                    <a:pt x="38518" y="1290376"/>
                    <a:pt x="19259" y="1286189"/>
                  </a:cubicBezTo>
                  <a:cubicBezTo>
                    <a:pt x="0" y="1282002"/>
                    <a:pt x="7117" y="1274047"/>
                    <a:pt x="14235" y="126609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1584" name="任意多边形 63"/>
            <p:cNvSpPr/>
            <p:nvPr/>
          </p:nvSpPr>
          <p:spPr>
            <a:xfrm>
              <a:off x="7567560" y="4349520"/>
              <a:ext cx="952560" cy="23324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332440"/>
                <a:gd name="textAreaBottom" fmla="*/ 2332800 h 2332440"/>
              </a:gdLst>
              <a:ahLst/>
              <a:rect l="textAreaLeft" t="textAreaTop" r="textAreaRight" b="textAreaBottom"/>
              <a:pathLst>
                <a:path w="952081" h="2332055">
                  <a:moveTo>
                    <a:pt x="810567" y="2332055"/>
                  </a:moveTo>
                  <a:cubicBezTo>
                    <a:pt x="834431" y="2307771"/>
                    <a:pt x="858296" y="2283487"/>
                    <a:pt x="875881" y="2261716"/>
                  </a:cubicBezTo>
                  <a:cubicBezTo>
                    <a:pt x="893466" y="2239945"/>
                    <a:pt x="906864" y="2224035"/>
                    <a:pt x="916075" y="2201426"/>
                  </a:cubicBezTo>
                  <a:cubicBezTo>
                    <a:pt x="925286" y="2178817"/>
                    <a:pt x="926123" y="2146998"/>
                    <a:pt x="931147" y="2126064"/>
                  </a:cubicBezTo>
                  <a:cubicBezTo>
                    <a:pt x="936171" y="2105130"/>
                    <a:pt x="945383" y="2103455"/>
                    <a:pt x="946220" y="2075822"/>
                  </a:cubicBezTo>
                  <a:cubicBezTo>
                    <a:pt x="947057" y="2048189"/>
                    <a:pt x="935334" y="1992923"/>
                    <a:pt x="936171" y="1960266"/>
                  </a:cubicBezTo>
                  <a:cubicBezTo>
                    <a:pt x="937008" y="1927609"/>
                    <a:pt x="952081" y="1905837"/>
                    <a:pt x="951244" y="1879879"/>
                  </a:cubicBezTo>
                  <a:cubicBezTo>
                    <a:pt x="950407" y="1853921"/>
                    <a:pt x="942870" y="1843872"/>
                    <a:pt x="931147" y="1804516"/>
                  </a:cubicBezTo>
                  <a:cubicBezTo>
                    <a:pt x="919424" y="1765160"/>
                    <a:pt x="901002" y="1679749"/>
                    <a:pt x="880905" y="1643743"/>
                  </a:cubicBezTo>
                  <a:cubicBezTo>
                    <a:pt x="860808" y="1607737"/>
                    <a:pt x="828151" y="1616947"/>
                    <a:pt x="810567" y="1588477"/>
                  </a:cubicBezTo>
                  <a:cubicBezTo>
                    <a:pt x="792983" y="1560007"/>
                    <a:pt x="800519" y="1537398"/>
                    <a:pt x="775398" y="1472921"/>
                  </a:cubicBezTo>
                  <a:cubicBezTo>
                    <a:pt x="750277" y="1408444"/>
                    <a:pt x="703385" y="1280327"/>
                    <a:pt x="659842" y="1201615"/>
                  </a:cubicBezTo>
                  <a:cubicBezTo>
                    <a:pt x="616299" y="1122903"/>
                    <a:pt x="556845" y="1050889"/>
                    <a:pt x="514140" y="1000648"/>
                  </a:cubicBezTo>
                  <a:cubicBezTo>
                    <a:pt x="471435" y="950407"/>
                    <a:pt x="438778" y="947895"/>
                    <a:pt x="403609" y="900165"/>
                  </a:cubicBezTo>
                  <a:cubicBezTo>
                    <a:pt x="368440" y="852435"/>
                    <a:pt x="337457" y="772048"/>
                    <a:pt x="303125" y="714270"/>
                  </a:cubicBezTo>
                  <a:cubicBezTo>
                    <a:pt x="268793" y="656492"/>
                    <a:pt x="242835" y="657330"/>
                    <a:pt x="197617" y="553497"/>
                  </a:cubicBezTo>
                  <a:cubicBezTo>
                    <a:pt x="152400" y="449664"/>
                    <a:pt x="63640" y="182544"/>
                    <a:pt x="31820" y="91272"/>
                  </a:cubicBezTo>
                  <a:cubicBezTo>
                    <a:pt x="0" y="0"/>
                    <a:pt x="3349" y="2930"/>
                    <a:pt x="6699" y="586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任意多边形 64"/>
            <p:cNvSpPr/>
            <p:nvPr/>
          </p:nvSpPr>
          <p:spPr>
            <a:xfrm>
              <a:off x="7404120" y="4106880"/>
              <a:ext cx="176040" cy="2696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75846" h="269630">
                  <a:moveTo>
                    <a:pt x="175846" y="269630"/>
                  </a:moveTo>
                  <a:cubicBezTo>
                    <a:pt x="164122" y="228599"/>
                    <a:pt x="152399" y="187569"/>
                    <a:pt x="135652" y="149050"/>
                  </a:cubicBezTo>
                  <a:cubicBezTo>
                    <a:pt x="118905" y="110531"/>
                    <a:pt x="92946" y="62801"/>
                    <a:pt x="75362" y="38518"/>
                  </a:cubicBezTo>
                  <a:cubicBezTo>
                    <a:pt x="57778" y="14235"/>
                    <a:pt x="42705" y="6698"/>
                    <a:pt x="30145" y="3349"/>
                  </a:cubicBezTo>
                  <a:cubicBezTo>
                    <a:pt x="17585" y="0"/>
                    <a:pt x="8792" y="9210"/>
                    <a:pt x="0" y="1842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任意多边形 65"/>
          <p:cNvSpPr/>
          <p:nvPr/>
        </p:nvSpPr>
        <p:spPr>
          <a:xfrm>
            <a:off x="6175440" y="4119480"/>
            <a:ext cx="1233360" cy="24433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1232598" h="2443424">
                <a:moveTo>
                  <a:pt x="1232598" y="0"/>
                </a:moveTo>
                <a:cubicBezTo>
                  <a:pt x="1210407" y="19678"/>
                  <a:pt x="1188217" y="39356"/>
                  <a:pt x="1157235" y="80387"/>
                </a:cubicBezTo>
                <a:cubicBezTo>
                  <a:pt x="1126253" y="121418"/>
                  <a:pt x="1099457" y="163286"/>
                  <a:pt x="1046703" y="246185"/>
                </a:cubicBezTo>
                <a:cubicBezTo>
                  <a:pt x="993949" y="329084"/>
                  <a:pt x="901839" y="477297"/>
                  <a:pt x="840712" y="577780"/>
                </a:cubicBezTo>
                <a:cubicBezTo>
                  <a:pt x="779585" y="678263"/>
                  <a:pt x="715946" y="787121"/>
                  <a:pt x="679939" y="849086"/>
                </a:cubicBezTo>
                <a:cubicBezTo>
                  <a:pt x="643932" y="911051"/>
                  <a:pt x="642258" y="907701"/>
                  <a:pt x="624673" y="949569"/>
                </a:cubicBezTo>
                <a:cubicBezTo>
                  <a:pt x="607088" y="991437"/>
                  <a:pt x="592016" y="1051728"/>
                  <a:pt x="574431" y="1100295"/>
                </a:cubicBezTo>
                <a:cubicBezTo>
                  <a:pt x="556846" y="1148862"/>
                  <a:pt x="543448" y="1194080"/>
                  <a:pt x="519165" y="1240972"/>
                </a:cubicBezTo>
                <a:cubicBezTo>
                  <a:pt x="494882" y="1287864"/>
                  <a:pt x="453013" y="1331407"/>
                  <a:pt x="428730" y="1381649"/>
                </a:cubicBezTo>
                <a:cubicBezTo>
                  <a:pt x="404447" y="1431891"/>
                  <a:pt x="419519" y="1478783"/>
                  <a:pt x="373464" y="1542422"/>
                </a:cubicBezTo>
                <a:cubicBezTo>
                  <a:pt x="327409" y="1606062"/>
                  <a:pt x="191756" y="1709895"/>
                  <a:pt x="152400" y="1763486"/>
                </a:cubicBezTo>
                <a:cubicBezTo>
                  <a:pt x="113044" y="1817077"/>
                  <a:pt x="147376" y="1839685"/>
                  <a:pt x="137328" y="1863969"/>
                </a:cubicBezTo>
                <a:cubicBezTo>
                  <a:pt x="127280" y="1888253"/>
                  <a:pt x="113881" y="1898301"/>
                  <a:pt x="92110" y="1909187"/>
                </a:cubicBezTo>
                <a:cubicBezTo>
                  <a:pt x="70339" y="1920073"/>
                  <a:pt x="13398" y="1918398"/>
                  <a:pt x="6699" y="1929284"/>
                </a:cubicBezTo>
                <a:cubicBezTo>
                  <a:pt x="0" y="1940170"/>
                  <a:pt x="41869" y="1961103"/>
                  <a:pt x="51917" y="1974501"/>
                </a:cubicBezTo>
                <a:cubicBezTo>
                  <a:pt x="61965" y="1987899"/>
                  <a:pt x="66152" y="1996273"/>
                  <a:pt x="66989" y="2009671"/>
                </a:cubicBezTo>
                <a:cubicBezTo>
                  <a:pt x="67826" y="2023069"/>
                  <a:pt x="51080" y="2039816"/>
                  <a:pt x="56941" y="2054888"/>
                </a:cubicBezTo>
                <a:cubicBezTo>
                  <a:pt x="62802" y="2069960"/>
                  <a:pt x="94622" y="2083359"/>
                  <a:pt x="102158" y="2100106"/>
                </a:cubicBezTo>
                <a:cubicBezTo>
                  <a:pt x="109694" y="2116853"/>
                  <a:pt x="105507" y="2105968"/>
                  <a:pt x="102158" y="2155372"/>
                </a:cubicBezTo>
                <a:cubicBezTo>
                  <a:pt x="98809" y="2204776"/>
                  <a:pt x="92110" y="2349640"/>
                  <a:pt x="82062" y="2396532"/>
                </a:cubicBezTo>
                <a:cubicBezTo>
                  <a:pt x="72014" y="2443424"/>
                  <a:pt x="41868" y="2436725"/>
                  <a:pt x="41868" y="2436725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任意多边形 66"/>
          <p:cNvSpPr/>
          <p:nvPr/>
        </p:nvSpPr>
        <p:spPr>
          <a:xfrm>
            <a:off x="5572080" y="6364440"/>
            <a:ext cx="646200" cy="215640"/>
          </a:xfrm>
          <a:custGeom>
            <a:avLst/>
            <a:gdLst>
              <a:gd name="textAreaLeft" fmla="*/ 0 w 646200"/>
              <a:gd name="textAreaRight" fmla="*/ 646560 w 646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645606" h="215202">
                <a:moveTo>
                  <a:pt x="645606" y="191756"/>
                </a:moveTo>
                <a:cubicBezTo>
                  <a:pt x="625090" y="191337"/>
                  <a:pt x="604575" y="190919"/>
                  <a:pt x="595364" y="186732"/>
                </a:cubicBezTo>
                <a:cubicBezTo>
                  <a:pt x="586153" y="182545"/>
                  <a:pt x="592852" y="184220"/>
                  <a:pt x="590340" y="166636"/>
                </a:cubicBezTo>
                <a:cubicBezTo>
                  <a:pt x="587828" y="149052"/>
                  <a:pt x="582804" y="107183"/>
                  <a:pt x="580292" y="81225"/>
                </a:cubicBezTo>
                <a:cubicBezTo>
                  <a:pt x="577780" y="55267"/>
                  <a:pt x="581967" y="21772"/>
                  <a:pt x="575268" y="10886"/>
                </a:cubicBezTo>
                <a:cubicBezTo>
                  <a:pt x="568569" y="0"/>
                  <a:pt x="556009" y="5862"/>
                  <a:pt x="540099" y="15910"/>
                </a:cubicBezTo>
                <a:cubicBezTo>
                  <a:pt x="524189" y="25958"/>
                  <a:pt x="501580" y="44380"/>
                  <a:pt x="479808" y="71176"/>
                </a:cubicBezTo>
                <a:cubicBezTo>
                  <a:pt x="458037" y="97972"/>
                  <a:pt x="432916" y="154913"/>
                  <a:pt x="409470" y="176684"/>
                </a:cubicBezTo>
                <a:cubicBezTo>
                  <a:pt x="386024" y="198456"/>
                  <a:pt x="368440" y="195944"/>
                  <a:pt x="339132" y="201805"/>
                </a:cubicBezTo>
                <a:cubicBezTo>
                  <a:pt x="309824" y="207666"/>
                  <a:pt x="283866" y="210178"/>
                  <a:pt x="233624" y="211853"/>
                </a:cubicBezTo>
                <a:cubicBezTo>
                  <a:pt x="183382" y="213528"/>
                  <a:pt x="75362" y="215202"/>
                  <a:pt x="37681" y="211853"/>
                </a:cubicBezTo>
                <a:cubicBezTo>
                  <a:pt x="0" y="208504"/>
                  <a:pt x="10048" y="196780"/>
                  <a:pt x="7536" y="191756"/>
                </a:cubicBezTo>
                <a:cubicBezTo>
                  <a:pt x="5024" y="186732"/>
                  <a:pt x="13816" y="184220"/>
                  <a:pt x="22608" y="181708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67"/>
          <p:cNvSpPr/>
          <p:nvPr/>
        </p:nvSpPr>
        <p:spPr>
          <a:xfrm>
            <a:off x="5584680" y="4340160"/>
            <a:ext cx="1078200" cy="220680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2206800"/>
              <a:gd name="textAreaBottom" fmla="*/ 2207160 h 2206800"/>
            </a:gdLst>
            <a:ahLst/>
            <a:rect l="textAreaLeft" t="textAreaTop" r="textAreaRight" b="textAreaBottom"/>
            <a:pathLst>
              <a:path w="1078523" h="2205613">
                <a:moveTo>
                  <a:pt x="0" y="2205613"/>
                </a:moveTo>
                <a:cubicBezTo>
                  <a:pt x="28470" y="2193471"/>
                  <a:pt x="56941" y="2181330"/>
                  <a:pt x="80387" y="2170444"/>
                </a:cubicBezTo>
                <a:cubicBezTo>
                  <a:pt x="103833" y="2159558"/>
                  <a:pt x="118068" y="2162908"/>
                  <a:pt x="140677" y="2140299"/>
                </a:cubicBezTo>
                <a:cubicBezTo>
                  <a:pt x="163286" y="2117690"/>
                  <a:pt x="198455" y="2069123"/>
                  <a:pt x="216040" y="2034791"/>
                </a:cubicBezTo>
                <a:cubicBezTo>
                  <a:pt x="233625" y="2000459"/>
                  <a:pt x="236137" y="1965290"/>
                  <a:pt x="246185" y="1934308"/>
                </a:cubicBezTo>
                <a:cubicBezTo>
                  <a:pt x="256233" y="1903326"/>
                  <a:pt x="262095" y="1874018"/>
                  <a:pt x="276330" y="1848897"/>
                </a:cubicBezTo>
                <a:cubicBezTo>
                  <a:pt x="290565" y="1823776"/>
                  <a:pt x="304801" y="1827962"/>
                  <a:pt x="331596" y="1783582"/>
                </a:cubicBezTo>
                <a:cubicBezTo>
                  <a:pt x="358392" y="1739202"/>
                  <a:pt x="410308" y="1628670"/>
                  <a:pt x="437103" y="1582615"/>
                </a:cubicBezTo>
                <a:cubicBezTo>
                  <a:pt x="463899" y="1536560"/>
                  <a:pt x="477296" y="1539910"/>
                  <a:pt x="492369" y="1507253"/>
                </a:cubicBezTo>
                <a:cubicBezTo>
                  <a:pt x="507442" y="1474596"/>
                  <a:pt x="481484" y="1482969"/>
                  <a:pt x="527539" y="1386672"/>
                </a:cubicBezTo>
                <a:cubicBezTo>
                  <a:pt x="573594" y="1290375"/>
                  <a:pt x="717620" y="1020744"/>
                  <a:pt x="768699" y="929472"/>
                </a:cubicBezTo>
                <a:cubicBezTo>
                  <a:pt x="819778" y="838200"/>
                  <a:pt x="818941" y="869182"/>
                  <a:pt x="834013" y="839037"/>
                </a:cubicBezTo>
                <a:cubicBezTo>
                  <a:pt x="849085" y="808892"/>
                  <a:pt x="849086" y="797169"/>
                  <a:pt x="859134" y="748602"/>
                </a:cubicBezTo>
                <a:cubicBezTo>
                  <a:pt x="869182" y="700035"/>
                  <a:pt x="870857" y="613787"/>
                  <a:pt x="894303" y="547635"/>
                </a:cubicBezTo>
                <a:cubicBezTo>
                  <a:pt x="917749" y="481483"/>
                  <a:pt x="981389" y="393560"/>
                  <a:pt x="999811" y="351692"/>
                </a:cubicBezTo>
                <a:cubicBezTo>
                  <a:pt x="1018233" y="309824"/>
                  <a:pt x="1000648" y="314848"/>
                  <a:pt x="1004835" y="296426"/>
                </a:cubicBezTo>
                <a:cubicBezTo>
                  <a:pt x="1009022" y="278004"/>
                  <a:pt x="1018233" y="260419"/>
                  <a:pt x="1024932" y="241160"/>
                </a:cubicBezTo>
                <a:cubicBezTo>
                  <a:pt x="1031631" y="221901"/>
                  <a:pt x="1036655" y="207665"/>
                  <a:pt x="1045029" y="180870"/>
                </a:cubicBezTo>
                <a:cubicBezTo>
                  <a:pt x="1053403" y="154075"/>
                  <a:pt x="1078523" y="104670"/>
                  <a:pt x="1075174" y="80387"/>
                </a:cubicBezTo>
                <a:cubicBezTo>
                  <a:pt x="1071825" y="56104"/>
                  <a:pt x="1040004" y="48567"/>
                  <a:pt x="1024932" y="35169"/>
                </a:cubicBezTo>
                <a:cubicBezTo>
                  <a:pt x="1009860" y="21771"/>
                  <a:pt x="997299" y="10885"/>
                  <a:pt x="984739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68"/>
          <p:cNvSpPr/>
          <p:nvPr/>
        </p:nvSpPr>
        <p:spPr>
          <a:xfrm>
            <a:off x="6315120" y="3222720"/>
            <a:ext cx="270000" cy="1138320"/>
          </a:xfrm>
          <a:custGeom>
            <a:avLst/>
            <a:gdLst>
              <a:gd name="textAreaLeft" fmla="*/ 0 w 270000"/>
              <a:gd name="textAreaRight" fmla="*/ 270360 w 27000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269630" h="1138814">
                <a:moveTo>
                  <a:pt x="269630" y="1138814"/>
                </a:moveTo>
                <a:cubicBezTo>
                  <a:pt x="257907" y="1127091"/>
                  <a:pt x="246184" y="1115368"/>
                  <a:pt x="229437" y="1093596"/>
                </a:cubicBezTo>
                <a:cubicBezTo>
                  <a:pt x="212690" y="1071825"/>
                  <a:pt x="184220" y="1040842"/>
                  <a:pt x="169147" y="1008185"/>
                </a:cubicBezTo>
                <a:cubicBezTo>
                  <a:pt x="154074" y="975528"/>
                  <a:pt x="142351" y="938684"/>
                  <a:pt x="139002" y="897653"/>
                </a:cubicBezTo>
                <a:cubicBezTo>
                  <a:pt x="135653" y="856622"/>
                  <a:pt x="140677" y="800519"/>
                  <a:pt x="149050" y="762000"/>
                </a:cubicBezTo>
                <a:cubicBezTo>
                  <a:pt x="157423" y="723481"/>
                  <a:pt x="180032" y="709246"/>
                  <a:pt x="189243" y="666541"/>
                </a:cubicBezTo>
                <a:cubicBezTo>
                  <a:pt x="198454" y="623836"/>
                  <a:pt x="212689" y="556009"/>
                  <a:pt x="204316" y="505767"/>
                </a:cubicBezTo>
                <a:cubicBezTo>
                  <a:pt x="195943" y="455525"/>
                  <a:pt x="169147" y="417007"/>
                  <a:pt x="139002" y="365091"/>
                </a:cubicBezTo>
                <a:cubicBezTo>
                  <a:pt x="108857" y="313175"/>
                  <a:pt x="46054" y="240324"/>
                  <a:pt x="23445" y="194269"/>
                </a:cubicBezTo>
                <a:cubicBezTo>
                  <a:pt x="836" y="148214"/>
                  <a:pt x="0" y="118906"/>
                  <a:pt x="3349" y="88761"/>
                </a:cubicBezTo>
                <a:cubicBezTo>
                  <a:pt x="6698" y="58616"/>
                  <a:pt x="34331" y="26796"/>
                  <a:pt x="43542" y="13398"/>
                </a:cubicBezTo>
                <a:cubicBezTo>
                  <a:pt x="52753" y="0"/>
                  <a:pt x="55684" y="4187"/>
                  <a:pt x="58615" y="8374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69"/>
          <p:cNvSpPr/>
          <p:nvPr/>
        </p:nvSpPr>
        <p:spPr>
          <a:xfrm>
            <a:off x="6373800" y="3214800"/>
            <a:ext cx="284040" cy="158760"/>
          </a:xfrm>
          <a:custGeom>
            <a:avLst/>
            <a:gdLst>
              <a:gd name="textAreaLeft" fmla="*/ 0 w 284040"/>
              <a:gd name="textAreaRight" fmla="*/ 284400 w 2840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84703" h="158261">
                <a:moveTo>
                  <a:pt x="0" y="10048"/>
                </a:moveTo>
                <a:cubicBezTo>
                  <a:pt x="13816" y="17165"/>
                  <a:pt x="27632" y="24283"/>
                  <a:pt x="45217" y="45217"/>
                </a:cubicBezTo>
                <a:cubicBezTo>
                  <a:pt x="62802" y="66151"/>
                  <a:pt x="81225" y="117230"/>
                  <a:pt x="105508" y="135652"/>
                </a:cubicBezTo>
                <a:cubicBezTo>
                  <a:pt x="129791" y="154074"/>
                  <a:pt x="163286" y="158261"/>
                  <a:pt x="190919" y="155749"/>
                </a:cubicBezTo>
                <a:cubicBezTo>
                  <a:pt x="218552" y="153237"/>
                  <a:pt x="257907" y="146538"/>
                  <a:pt x="271305" y="120580"/>
                </a:cubicBezTo>
                <a:cubicBezTo>
                  <a:pt x="284703" y="94622"/>
                  <a:pt x="278004" y="47311"/>
                  <a:pt x="271305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1592" name="任意多边形 71"/>
            <p:cNvSpPr/>
            <p:nvPr/>
          </p:nvSpPr>
          <p:spPr>
            <a:xfrm>
              <a:off x="6318360" y="2030400"/>
              <a:ext cx="331560" cy="1204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331595" h="1205802">
                  <a:moveTo>
                    <a:pt x="0" y="0"/>
                  </a:moveTo>
                  <a:lnTo>
                    <a:pt x="331595" y="1205802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任意多边形 72"/>
            <p:cNvSpPr/>
            <p:nvPr/>
          </p:nvSpPr>
          <p:spPr>
            <a:xfrm>
              <a:off x="5904000" y="874800"/>
              <a:ext cx="414360" cy="11556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413657" h="1155560">
                  <a:moveTo>
                    <a:pt x="413657" y="1155560"/>
                  </a:moveTo>
                  <a:cubicBezTo>
                    <a:pt x="409051" y="1133788"/>
                    <a:pt x="404446" y="1112017"/>
                    <a:pt x="398584" y="1095270"/>
                  </a:cubicBezTo>
                  <a:cubicBezTo>
                    <a:pt x="392723" y="1078523"/>
                    <a:pt x="388536" y="1066800"/>
                    <a:pt x="378488" y="1055077"/>
                  </a:cubicBezTo>
                  <a:cubicBezTo>
                    <a:pt x="368440" y="1043354"/>
                    <a:pt x="351692" y="1034142"/>
                    <a:pt x="338294" y="1024931"/>
                  </a:cubicBezTo>
                  <a:cubicBezTo>
                    <a:pt x="324896" y="1015720"/>
                    <a:pt x="306475" y="1011534"/>
                    <a:pt x="298101" y="999811"/>
                  </a:cubicBezTo>
                  <a:cubicBezTo>
                    <a:pt x="289727" y="988088"/>
                    <a:pt x="288889" y="966316"/>
                    <a:pt x="288052" y="954593"/>
                  </a:cubicBezTo>
                  <a:cubicBezTo>
                    <a:pt x="287215" y="942870"/>
                    <a:pt x="293914" y="942032"/>
                    <a:pt x="293077" y="929472"/>
                  </a:cubicBezTo>
                  <a:cubicBezTo>
                    <a:pt x="292240" y="916912"/>
                    <a:pt x="284703" y="890953"/>
                    <a:pt x="283028" y="879230"/>
                  </a:cubicBezTo>
                  <a:cubicBezTo>
                    <a:pt x="281353" y="867507"/>
                    <a:pt x="287215" y="869182"/>
                    <a:pt x="283028" y="859134"/>
                  </a:cubicBezTo>
                  <a:cubicBezTo>
                    <a:pt x="278841" y="849086"/>
                    <a:pt x="258744" y="829826"/>
                    <a:pt x="257907" y="818940"/>
                  </a:cubicBezTo>
                  <a:cubicBezTo>
                    <a:pt x="257070" y="808054"/>
                    <a:pt x="272142" y="798843"/>
                    <a:pt x="278004" y="793819"/>
                  </a:cubicBezTo>
                  <a:cubicBezTo>
                    <a:pt x="283866" y="788795"/>
                    <a:pt x="288053" y="789632"/>
                    <a:pt x="293077" y="788795"/>
                  </a:cubicBezTo>
                  <a:cubicBezTo>
                    <a:pt x="298101" y="787958"/>
                    <a:pt x="314011" y="818940"/>
                    <a:pt x="308149" y="788795"/>
                  </a:cubicBezTo>
                  <a:cubicBezTo>
                    <a:pt x="302287" y="758650"/>
                    <a:pt x="278004" y="652305"/>
                    <a:pt x="257907" y="607925"/>
                  </a:cubicBezTo>
                  <a:cubicBezTo>
                    <a:pt x="237810" y="563545"/>
                    <a:pt x="205991" y="539261"/>
                    <a:pt x="187569" y="522514"/>
                  </a:cubicBezTo>
                  <a:cubicBezTo>
                    <a:pt x="169147" y="505767"/>
                    <a:pt x="157423" y="510790"/>
                    <a:pt x="147375" y="507441"/>
                  </a:cubicBezTo>
                  <a:cubicBezTo>
                    <a:pt x="137327" y="504092"/>
                    <a:pt x="131466" y="513303"/>
                    <a:pt x="127279" y="502417"/>
                  </a:cubicBezTo>
                  <a:cubicBezTo>
                    <a:pt x="123092" y="491531"/>
                    <a:pt x="123092" y="471435"/>
                    <a:pt x="122255" y="442127"/>
                  </a:cubicBezTo>
                  <a:cubicBezTo>
                    <a:pt x="121418" y="412819"/>
                    <a:pt x="122255" y="326571"/>
                    <a:pt x="122255" y="326571"/>
                  </a:cubicBezTo>
                  <a:cubicBezTo>
                    <a:pt x="122255" y="287215"/>
                    <a:pt x="125605" y="228600"/>
                    <a:pt x="122255" y="205991"/>
                  </a:cubicBezTo>
                  <a:cubicBezTo>
                    <a:pt x="118906" y="183382"/>
                    <a:pt x="114718" y="198454"/>
                    <a:pt x="102158" y="190918"/>
                  </a:cubicBezTo>
                  <a:cubicBezTo>
                    <a:pt x="89598" y="183382"/>
                    <a:pt x="62802" y="172496"/>
                    <a:pt x="46892" y="160773"/>
                  </a:cubicBezTo>
                  <a:cubicBezTo>
                    <a:pt x="30982" y="149050"/>
                    <a:pt x="13398" y="138165"/>
                    <a:pt x="6699" y="120580"/>
                  </a:cubicBezTo>
                  <a:cubicBezTo>
                    <a:pt x="0" y="102995"/>
                    <a:pt x="1675" y="72851"/>
                    <a:pt x="6699" y="55266"/>
                  </a:cubicBezTo>
                  <a:cubicBezTo>
                    <a:pt x="11723" y="37681"/>
                    <a:pt x="24284" y="24283"/>
                    <a:pt x="36844" y="15072"/>
                  </a:cubicBezTo>
                  <a:cubicBezTo>
                    <a:pt x="49404" y="5861"/>
                    <a:pt x="65732" y="2930"/>
                    <a:pt x="82061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任意多边形 73"/>
          <p:cNvSpPr/>
          <p:nvPr/>
        </p:nvSpPr>
        <p:spPr>
          <a:xfrm>
            <a:off x="7128000" y="2341440"/>
            <a:ext cx="315720" cy="865440"/>
          </a:xfrm>
          <a:custGeom>
            <a:avLst/>
            <a:gdLst>
              <a:gd name="textAreaLeft" fmla="*/ 0 w 315720"/>
              <a:gd name="textAreaRight" fmla="*/ 316080 w 3157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315686" h="865832">
                <a:moveTo>
                  <a:pt x="315686" y="0"/>
                </a:moveTo>
                <a:cubicBezTo>
                  <a:pt x="288053" y="42287"/>
                  <a:pt x="260420" y="84574"/>
                  <a:pt x="245348" y="120580"/>
                </a:cubicBezTo>
                <a:cubicBezTo>
                  <a:pt x="230276" y="156586"/>
                  <a:pt x="220227" y="180870"/>
                  <a:pt x="225251" y="216039"/>
                </a:cubicBezTo>
                <a:cubicBezTo>
                  <a:pt x="230275" y="251208"/>
                  <a:pt x="264607" y="293915"/>
                  <a:pt x="275493" y="331596"/>
                </a:cubicBezTo>
                <a:cubicBezTo>
                  <a:pt x="286379" y="369277"/>
                  <a:pt x="298939" y="405283"/>
                  <a:pt x="290565" y="442127"/>
                </a:cubicBezTo>
                <a:cubicBezTo>
                  <a:pt x="282191" y="478971"/>
                  <a:pt x="254559" y="506604"/>
                  <a:pt x="225251" y="552659"/>
                </a:cubicBezTo>
                <a:cubicBezTo>
                  <a:pt x="195943" y="598714"/>
                  <a:pt x="141515" y="669890"/>
                  <a:pt x="114719" y="718457"/>
                </a:cubicBezTo>
                <a:cubicBezTo>
                  <a:pt x="87923" y="767024"/>
                  <a:pt x="82062" y="822290"/>
                  <a:pt x="64477" y="844061"/>
                </a:cubicBezTo>
                <a:cubicBezTo>
                  <a:pt x="46892" y="865832"/>
                  <a:pt x="18422" y="864159"/>
                  <a:pt x="9211" y="849086"/>
                </a:cubicBezTo>
                <a:cubicBezTo>
                  <a:pt x="0" y="834014"/>
                  <a:pt x="4605" y="793820"/>
                  <a:pt x="9211" y="753626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任意多边形 74"/>
          <p:cNvSpPr/>
          <p:nvPr/>
        </p:nvSpPr>
        <p:spPr>
          <a:xfrm>
            <a:off x="6945480" y="2376360"/>
            <a:ext cx="447480" cy="728640"/>
          </a:xfrm>
          <a:custGeom>
            <a:avLst/>
            <a:gdLst>
              <a:gd name="textAreaLeft" fmla="*/ 0 w 447480"/>
              <a:gd name="textAreaRight" fmla="*/ 447840 w 4474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48826" h="728506">
                <a:moveTo>
                  <a:pt x="187569" y="728506"/>
                </a:moveTo>
                <a:cubicBezTo>
                  <a:pt x="187988" y="683288"/>
                  <a:pt x="188407" y="638071"/>
                  <a:pt x="177521" y="592853"/>
                </a:cubicBezTo>
                <a:cubicBezTo>
                  <a:pt x="166635" y="547635"/>
                  <a:pt x="144864" y="492369"/>
                  <a:pt x="122255" y="457200"/>
                </a:cubicBezTo>
                <a:cubicBezTo>
                  <a:pt x="99646" y="422031"/>
                  <a:pt x="60290" y="397748"/>
                  <a:pt x="41868" y="381838"/>
                </a:cubicBezTo>
                <a:cubicBezTo>
                  <a:pt x="23446" y="365928"/>
                  <a:pt x="14235" y="370952"/>
                  <a:pt x="11723" y="361741"/>
                </a:cubicBezTo>
                <a:cubicBezTo>
                  <a:pt x="9211" y="352530"/>
                  <a:pt x="0" y="350856"/>
                  <a:pt x="26796" y="326572"/>
                </a:cubicBezTo>
                <a:cubicBezTo>
                  <a:pt x="53592" y="302288"/>
                  <a:pt x="113882" y="262095"/>
                  <a:pt x="172497" y="216040"/>
                </a:cubicBezTo>
                <a:cubicBezTo>
                  <a:pt x="231112" y="169985"/>
                  <a:pt x="332433" y="86249"/>
                  <a:pt x="378488" y="50242"/>
                </a:cubicBezTo>
                <a:cubicBezTo>
                  <a:pt x="424543" y="14235"/>
                  <a:pt x="436684" y="7117"/>
                  <a:pt x="448826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任意多边形 75"/>
          <p:cNvSpPr/>
          <p:nvPr/>
        </p:nvSpPr>
        <p:spPr>
          <a:xfrm>
            <a:off x="6840360" y="2284560"/>
            <a:ext cx="587520" cy="820440"/>
          </a:xfrm>
          <a:custGeom>
            <a:avLst/>
            <a:gdLst>
              <a:gd name="textAreaLeft" fmla="*/ 0 w 587520"/>
              <a:gd name="textAreaRight" fmla="*/ 587880 w 58752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587828" h="820616">
                <a:moveTo>
                  <a:pt x="0" y="820616"/>
                </a:moveTo>
                <a:cubicBezTo>
                  <a:pt x="20934" y="812660"/>
                  <a:pt x="41868" y="804705"/>
                  <a:pt x="55266" y="785446"/>
                </a:cubicBezTo>
                <a:cubicBezTo>
                  <a:pt x="68664" y="766187"/>
                  <a:pt x="76200" y="733530"/>
                  <a:pt x="80387" y="705060"/>
                </a:cubicBezTo>
                <a:cubicBezTo>
                  <a:pt x="84574" y="676590"/>
                  <a:pt x="84574" y="634721"/>
                  <a:pt x="80387" y="614624"/>
                </a:cubicBezTo>
                <a:cubicBezTo>
                  <a:pt x="76200" y="594527"/>
                  <a:pt x="59453" y="602901"/>
                  <a:pt x="55266" y="584479"/>
                </a:cubicBezTo>
                <a:cubicBezTo>
                  <a:pt x="51079" y="566057"/>
                  <a:pt x="53591" y="521678"/>
                  <a:pt x="55266" y="504093"/>
                </a:cubicBezTo>
                <a:cubicBezTo>
                  <a:pt x="56941" y="486508"/>
                  <a:pt x="66989" y="487346"/>
                  <a:pt x="65314" y="478972"/>
                </a:cubicBezTo>
                <a:cubicBezTo>
                  <a:pt x="63639" y="470598"/>
                  <a:pt x="45218" y="462225"/>
                  <a:pt x="45218" y="453851"/>
                </a:cubicBezTo>
                <a:cubicBezTo>
                  <a:pt x="45218" y="445477"/>
                  <a:pt x="41031" y="448827"/>
                  <a:pt x="65314" y="428730"/>
                </a:cubicBezTo>
                <a:cubicBezTo>
                  <a:pt x="89597" y="408633"/>
                  <a:pt x="190919" y="333271"/>
                  <a:pt x="190919" y="333271"/>
                </a:cubicBezTo>
                <a:lnTo>
                  <a:pt x="371789" y="192594"/>
                </a:lnTo>
                <a:cubicBezTo>
                  <a:pt x="423705" y="153238"/>
                  <a:pt x="469761" y="121417"/>
                  <a:pt x="502418" y="97134"/>
                </a:cubicBezTo>
                <a:cubicBezTo>
                  <a:pt x="535075" y="72851"/>
                  <a:pt x="554334" y="61966"/>
                  <a:pt x="567732" y="46893"/>
                </a:cubicBezTo>
                <a:cubicBezTo>
                  <a:pt x="581130" y="31820"/>
                  <a:pt x="587828" y="13398"/>
                  <a:pt x="582804" y="6699"/>
                </a:cubicBezTo>
                <a:cubicBezTo>
                  <a:pt x="577780" y="0"/>
                  <a:pt x="557683" y="3349"/>
                  <a:pt x="537587" y="6699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任意多边形 76"/>
          <p:cNvSpPr/>
          <p:nvPr/>
        </p:nvSpPr>
        <p:spPr>
          <a:xfrm>
            <a:off x="6448320" y="2014560"/>
            <a:ext cx="412920" cy="1098360"/>
          </a:xfrm>
          <a:custGeom>
            <a:avLst/>
            <a:gdLst>
              <a:gd name="textAreaLeft" fmla="*/ 0 w 412920"/>
              <a:gd name="textAreaRight" fmla="*/ 413280 w 4129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411982" h="1097782">
                <a:moveTo>
                  <a:pt x="411982" y="1085221"/>
                </a:moveTo>
                <a:cubicBezTo>
                  <a:pt x="388535" y="1091501"/>
                  <a:pt x="365089" y="1097782"/>
                  <a:pt x="341643" y="1065125"/>
                </a:cubicBezTo>
                <a:cubicBezTo>
                  <a:pt x="318197" y="1032468"/>
                  <a:pt x="316522" y="1029119"/>
                  <a:pt x="271305" y="889279"/>
                </a:cubicBezTo>
                <a:cubicBezTo>
                  <a:pt x="226088" y="749439"/>
                  <a:pt x="113881" y="368439"/>
                  <a:pt x="70338" y="226087"/>
                </a:cubicBezTo>
                <a:cubicBezTo>
                  <a:pt x="26795" y="83735"/>
                  <a:pt x="20096" y="70338"/>
                  <a:pt x="10048" y="35169"/>
                </a:cubicBezTo>
                <a:cubicBezTo>
                  <a:pt x="0" y="0"/>
                  <a:pt x="5861" y="16747"/>
                  <a:pt x="10048" y="15072"/>
                </a:cubicBezTo>
                <a:cubicBezTo>
                  <a:pt x="14235" y="13397"/>
                  <a:pt x="16747" y="10048"/>
                  <a:pt x="35169" y="25120"/>
                </a:cubicBezTo>
                <a:cubicBezTo>
                  <a:pt x="53591" y="40193"/>
                  <a:pt x="87085" y="72850"/>
                  <a:pt x="120580" y="105507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任意多边形 77"/>
          <p:cNvSpPr/>
          <p:nvPr/>
        </p:nvSpPr>
        <p:spPr>
          <a:xfrm>
            <a:off x="6564240" y="2114640"/>
            <a:ext cx="833400" cy="207720"/>
          </a:xfrm>
          <a:custGeom>
            <a:avLst/>
            <a:gdLst>
              <a:gd name="textAreaLeft" fmla="*/ 0 w 833400"/>
              <a:gd name="textAreaRight" fmla="*/ 833760 w 83340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834014" h="206828">
                <a:moveTo>
                  <a:pt x="0" y="0"/>
                </a:moveTo>
                <a:cubicBezTo>
                  <a:pt x="60709" y="44380"/>
                  <a:pt x="121418" y="88760"/>
                  <a:pt x="165798" y="115556"/>
                </a:cubicBezTo>
                <a:cubicBezTo>
                  <a:pt x="210178" y="142352"/>
                  <a:pt x="239486" y="147376"/>
                  <a:pt x="266282" y="160774"/>
                </a:cubicBezTo>
                <a:cubicBezTo>
                  <a:pt x="293078" y="174172"/>
                  <a:pt x="300614" y="188407"/>
                  <a:pt x="326572" y="195943"/>
                </a:cubicBezTo>
                <a:cubicBezTo>
                  <a:pt x="352530" y="203479"/>
                  <a:pt x="368440" y="206828"/>
                  <a:pt x="422031" y="205991"/>
                </a:cubicBezTo>
                <a:cubicBezTo>
                  <a:pt x="475622" y="205154"/>
                  <a:pt x="579455" y="196780"/>
                  <a:pt x="648119" y="190919"/>
                </a:cubicBezTo>
                <a:cubicBezTo>
                  <a:pt x="716783" y="185058"/>
                  <a:pt x="775398" y="177940"/>
                  <a:pt x="834014" y="170822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任意多边形 78"/>
          <p:cNvSpPr/>
          <p:nvPr/>
        </p:nvSpPr>
        <p:spPr>
          <a:xfrm>
            <a:off x="7272360" y="1517760"/>
            <a:ext cx="377640" cy="501480"/>
          </a:xfrm>
          <a:custGeom>
            <a:avLst/>
            <a:gdLst>
              <a:gd name="textAreaLeft" fmla="*/ 0 w 377640"/>
              <a:gd name="textAreaRight" fmla="*/ 378000 w 37764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377651" h="502418">
                <a:moveTo>
                  <a:pt x="0" y="0"/>
                </a:moveTo>
                <a:cubicBezTo>
                  <a:pt x="419" y="21353"/>
                  <a:pt x="838" y="42706"/>
                  <a:pt x="10049" y="55266"/>
                </a:cubicBezTo>
                <a:cubicBezTo>
                  <a:pt x="19260" y="67827"/>
                  <a:pt x="42706" y="61128"/>
                  <a:pt x="55266" y="75363"/>
                </a:cubicBezTo>
                <a:cubicBezTo>
                  <a:pt x="67826" y="89598"/>
                  <a:pt x="76200" y="130629"/>
                  <a:pt x="85411" y="140677"/>
                </a:cubicBezTo>
                <a:cubicBezTo>
                  <a:pt x="94622" y="150725"/>
                  <a:pt x="106345" y="126442"/>
                  <a:pt x="110532" y="135653"/>
                </a:cubicBezTo>
                <a:cubicBezTo>
                  <a:pt x="114719" y="144864"/>
                  <a:pt x="111369" y="169985"/>
                  <a:pt x="110532" y="195943"/>
                </a:cubicBezTo>
                <a:cubicBezTo>
                  <a:pt x="109695" y="221901"/>
                  <a:pt x="102996" y="270468"/>
                  <a:pt x="105508" y="291402"/>
                </a:cubicBezTo>
                <a:cubicBezTo>
                  <a:pt x="108020" y="312336"/>
                  <a:pt x="113045" y="318198"/>
                  <a:pt x="125605" y="321547"/>
                </a:cubicBezTo>
                <a:cubicBezTo>
                  <a:pt x="138165" y="324896"/>
                  <a:pt x="168311" y="303963"/>
                  <a:pt x="180871" y="311499"/>
                </a:cubicBezTo>
                <a:cubicBezTo>
                  <a:pt x="193431" y="319035"/>
                  <a:pt x="195106" y="356717"/>
                  <a:pt x="200967" y="366765"/>
                </a:cubicBezTo>
                <a:cubicBezTo>
                  <a:pt x="206828" y="376813"/>
                  <a:pt x="213528" y="366765"/>
                  <a:pt x="216040" y="371789"/>
                </a:cubicBezTo>
                <a:cubicBezTo>
                  <a:pt x="218552" y="376813"/>
                  <a:pt x="211016" y="392723"/>
                  <a:pt x="216040" y="396910"/>
                </a:cubicBezTo>
                <a:cubicBezTo>
                  <a:pt x="221064" y="401097"/>
                  <a:pt x="234462" y="391886"/>
                  <a:pt x="246185" y="396910"/>
                </a:cubicBezTo>
                <a:cubicBezTo>
                  <a:pt x="257908" y="401934"/>
                  <a:pt x="272980" y="419519"/>
                  <a:pt x="286378" y="427055"/>
                </a:cubicBezTo>
                <a:cubicBezTo>
                  <a:pt x="299776" y="434591"/>
                  <a:pt x="312337" y="441291"/>
                  <a:pt x="326572" y="442128"/>
                </a:cubicBezTo>
                <a:cubicBezTo>
                  <a:pt x="340807" y="442965"/>
                  <a:pt x="366765" y="429567"/>
                  <a:pt x="371789" y="432079"/>
                </a:cubicBezTo>
                <a:cubicBezTo>
                  <a:pt x="376813" y="434591"/>
                  <a:pt x="377651" y="445477"/>
                  <a:pt x="356717" y="457200"/>
                </a:cubicBezTo>
                <a:cubicBezTo>
                  <a:pt x="335783" y="468923"/>
                  <a:pt x="290984" y="485670"/>
                  <a:pt x="246185" y="502418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任意多边形 79"/>
          <p:cNvSpPr/>
          <p:nvPr/>
        </p:nvSpPr>
        <p:spPr>
          <a:xfrm>
            <a:off x="6288120" y="1603440"/>
            <a:ext cx="1251000" cy="527040"/>
          </a:xfrm>
          <a:custGeom>
            <a:avLst/>
            <a:gdLst>
              <a:gd name="textAreaLeft" fmla="*/ 0 w 1251000"/>
              <a:gd name="textAreaRight" fmla="*/ 1251360 w 1251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51019" h="528376">
                <a:moveTo>
                  <a:pt x="1251019" y="406958"/>
                </a:moveTo>
                <a:cubicBezTo>
                  <a:pt x="1216687" y="422031"/>
                  <a:pt x="1182355" y="437104"/>
                  <a:pt x="1125415" y="452176"/>
                </a:cubicBezTo>
                <a:cubicBezTo>
                  <a:pt x="1068475" y="467248"/>
                  <a:pt x="957943" y="489857"/>
                  <a:pt x="909376" y="497393"/>
                </a:cubicBezTo>
                <a:cubicBezTo>
                  <a:pt x="860809" y="504929"/>
                  <a:pt x="859971" y="493206"/>
                  <a:pt x="834013" y="497393"/>
                </a:cubicBezTo>
                <a:cubicBezTo>
                  <a:pt x="808055" y="501580"/>
                  <a:pt x="792145" y="528376"/>
                  <a:pt x="753626" y="522514"/>
                </a:cubicBezTo>
                <a:cubicBezTo>
                  <a:pt x="715107" y="516653"/>
                  <a:pt x="647281" y="481483"/>
                  <a:pt x="602901" y="462224"/>
                </a:cubicBezTo>
                <a:cubicBezTo>
                  <a:pt x="558521" y="442965"/>
                  <a:pt x="487345" y="406958"/>
                  <a:pt x="487345" y="406958"/>
                </a:cubicBezTo>
                <a:cubicBezTo>
                  <a:pt x="438778" y="384349"/>
                  <a:pt x="365090" y="354205"/>
                  <a:pt x="311499" y="326572"/>
                </a:cubicBezTo>
                <a:cubicBezTo>
                  <a:pt x="257908" y="298939"/>
                  <a:pt x="195943" y="268794"/>
                  <a:pt x="165798" y="241161"/>
                </a:cubicBezTo>
                <a:cubicBezTo>
                  <a:pt x="135653" y="213528"/>
                  <a:pt x="137327" y="179196"/>
                  <a:pt x="130628" y="160774"/>
                </a:cubicBezTo>
                <a:cubicBezTo>
                  <a:pt x="123929" y="142352"/>
                  <a:pt x="133140" y="139003"/>
                  <a:pt x="125604" y="130629"/>
                </a:cubicBezTo>
                <a:cubicBezTo>
                  <a:pt x="118068" y="122255"/>
                  <a:pt x="100484" y="116394"/>
                  <a:pt x="85411" y="110532"/>
                </a:cubicBezTo>
                <a:cubicBezTo>
                  <a:pt x="70339" y="104670"/>
                  <a:pt x="45217" y="108020"/>
                  <a:pt x="35169" y="95459"/>
                </a:cubicBezTo>
                <a:cubicBezTo>
                  <a:pt x="25121" y="82898"/>
                  <a:pt x="30983" y="51079"/>
                  <a:pt x="25121" y="35169"/>
                </a:cubicBezTo>
                <a:cubicBezTo>
                  <a:pt x="19259" y="19259"/>
                  <a:pt x="7536" y="10886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任意多边形 80"/>
          <p:cNvSpPr/>
          <p:nvPr/>
        </p:nvSpPr>
        <p:spPr>
          <a:xfrm>
            <a:off x="5986440" y="873000"/>
            <a:ext cx="463680" cy="735120"/>
          </a:xfrm>
          <a:custGeom>
            <a:avLst/>
            <a:gdLst>
              <a:gd name="textAreaLeft" fmla="*/ 0 w 463680"/>
              <a:gd name="textAreaRight" fmla="*/ 464040 w 463680"/>
              <a:gd name="textAreaTop" fmla="*/ 0 h 735120"/>
              <a:gd name="textAreaBottom" fmla="*/ 735120 h 735120"/>
            </a:gdLst>
            <a:ahLst/>
            <a:rect l="textAreaLeft" t="textAreaTop" r="textAreaRight" b="textAreaBottom"/>
            <a:pathLst>
              <a:path w="463899" h="735204">
                <a:moveTo>
                  <a:pt x="0" y="1675"/>
                </a:moveTo>
                <a:cubicBezTo>
                  <a:pt x="25540" y="837"/>
                  <a:pt x="51080" y="0"/>
                  <a:pt x="70339" y="11723"/>
                </a:cubicBezTo>
                <a:cubicBezTo>
                  <a:pt x="89598" y="23446"/>
                  <a:pt x="107183" y="56103"/>
                  <a:pt x="115556" y="72013"/>
                </a:cubicBezTo>
                <a:cubicBezTo>
                  <a:pt x="123929" y="87923"/>
                  <a:pt x="114719" y="93784"/>
                  <a:pt x="120580" y="107182"/>
                </a:cubicBezTo>
                <a:cubicBezTo>
                  <a:pt x="126441" y="120580"/>
                  <a:pt x="143189" y="141514"/>
                  <a:pt x="150725" y="152400"/>
                </a:cubicBezTo>
                <a:cubicBezTo>
                  <a:pt x="158261" y="163286"/>
                  <a:pt x="154912" y="173334"/>
                  <a:pt x="165798" y="172497"/>
                </a:cubicBezTo>
                <a:cubicBezTo>
                  <a:pt x="176684" y="171660"/>
                  <a:pt x="207666" y="153238"/>
                  <a:pt x="216040" y="147376"/>
                </a:cubicBezTo>
                <a:cubicBezTo>
                  <a:pt x="224414" y="141514"/>
                  <a:pt x="211853" y="144863"/>
                  <a:pt x="216040" y="137327"/>
                </a:cubicBezTo>
                <a:cubicBezTo>
                  <a:pt x="220227" y="129791"/>
                  <a:pt x="229438" y="108857"/>
                  <a:pt x="241161" y="102158"/>
                </a:cubicBezTo>
                <a:cubicBezTo>
                  <a:pt x="252884" y="95459"/>
                  <a:pt x="272981" y="94622"/>
                  <a:pt x="286378" y="97134"/>
                </a:cubicBezTo>
                <a:cubicBezTo>
                  <a:pt x="299775" y="99646"/>
                  <a:pt x="314848" y="106345"/>
                  <a:pt x="321547" y="117231"/>
                </a:cubicBezTo>
                <a:cubicBezTo>
                  <a:pt x="328246" y="128117"/>
                  <a:pt x="333271" y="149050"/>
                  <a:pt x="326572" y="162448"/>
                </a:cubicBezTo>
                <a:cubicBezTo>
                  <a:pt x="319873" y="175846"/>
                  <a:pt x="297264" y="195105"/>
                  <a:pt x="281354" y="197617"/>
                </a:cubicBezTo>
                <a:cubicBezTo>
                  <a:pt x="265444" y="200129"/>
                  <a:pt x="246184" y="178358"/>
                  <a:pt x="231112" y="177521"/>
                </a:cubicBezTo>
                <a:cubicBezTo>
                  <a:pt x="216040" y="176684"/>
                  <a:pt x="193431" y="184219"/>
                  <a:pt x="190919" y="192593"/>
                </a:cubicBezTo>
                <a:cubicBezTo>
                  <a:pt x="188407" y="200967"/>
                  <a:pt x="205992" y="212691"/>
                  <a:pt x="216040" y="227763"/>
                </a:cubicBezTo>
                <a:cubicBezTo>
                  <a:pt x="226088" y="242836"/>
                  <a:pt x="240323" y="276329"/>
                  <a:pt x="251209" y="283028"/>
                </a:cubicBezTo>
                <a:cubicBezTo>
                  <a:pt x="262095" y="289727"/>
                  <a:pt x="274655" y="273817"/>
                  <a:pt x="281354" y="267956"/>
                </a:cubicBezTo>
                <a:cubicBezTo>
                  <a:pt x="288053" y="262095"/>
                  <a:pt x="286378" y="255395"/>
                  <a:pt x="291402" y="247859"/>
                </a:cubicBezTo>
                <a:cubicBezTo>
                  <a:pt x="296426" y="240323"/>
                  <a:pt x="301451" y="226925"/>
                  <a:pt x="311499" y="222738"/>
                </a:cubicBezTo>
                <a:cubicBezTo>
                  <a:pt x="321547" y="218551"/>
                  <a:pt x="339132" y="218551"/>
                  <a:pt x="351692" y="222738"/>
                </a:cubicBezTo>
                <a:cubicBezTo>
                  <a:pt x="364252" y="226925"/>
                  <a:pt x="380163" y="236136"/>
                  <a:pt x="386862" y="247859"/>
                </a:cubicBezTo>
                <a:cubicBezTo>
                  <a:pt x="393561" y="259582"/>
                  <a:pt x="396910" y="281354"/>
                  <a:pt x="391886" y="293077"/>
                </a:cubicBezTo>
                <a:cubicBezTo>
                  <a:pt x="386862" y="304800"/>
                  <a:pt x="370115" y="314849"/>
                  <a:pt x="356717" y="318198"/>
                </a:cubicBezTo>
                <a:cubicBezTo>
                  <a:pt x="343319" y="321547"/>
                  <a:pt x="322385" y="314848"/>
                  <a:pt x="311499" y="313173"/>
                </a:cubicBezTo>
                <a:cubicBezTo>
                  <a:pt x="300613" y="311498"/>
                  <a:pt x="298101" y="306474"/>
                  <a:pt x="291402" y="308149"/>
                </a:cubicBezTo>
                <a:cubicBezTo>
                  <a:pt x="284703" y="309824"/>
                  <a:pt x="270469" y="314011"/>
                  <a:pt x="271306" y="323222"/>
                </a:cubicBezTo>
                <a:cubicBezTo>
                  <a:pt x="272143" y="332433"/>
                  <a:pt x="288891" y="350017"/>
                  <a:pt x="296427" y="363415"/>
                </a:cubicBezTo>
                <a:cubicBezTo>
                  <a:pt x="303963" y="376813"/>
                  <a:pt x="308150" y="396073"/>
                  <a:pt x="316523" y="403609"/>
                </a:cubicBezTo>
                <a:cubicBezTo>
                  <a:pt x="324897" y="411145"/>
                  <a:pt x="339969" y="408633"/>
                  <a:pt x="346668" y="408633"/>
                </a:cubicBezTo>
                <a:cubicBezTo>
                  <a:pt x="353367" y="408633"/>
                  <a:pt x="351693" y="409470"/>
                  <a:pt x="356717" y="403609"/>
                </a:cubicBezTo>
                <a:cubicBezTo>
                  <a:pt x="361741" y="397748"/>
                  <a:pt x="368440" y="381000"/>
                  <a:pt x="376813" y="373464"/>
                </a:cubicBezTo>
                <a:cubicBezTo>
                  <a:pt x="385187" y="365928"/>
                  <a:pt x="395235" y="357554"/>
                  <a:pt x="406958" y="358391"/>
                </a:cubicBezTo>
                <a:cubicBezTo>
                  <a:pt x="418681" y="359228"/>
                  <a:pt x="438778" y="365928"/>
                  <a:pt x="447152" y="378488"/>
                </a:cubicBezTo>
                <a:cubicBezTo>
                  <a:pt x="455526" y="391048"/>
                  <a:pt x="463899" y="422031"/>
                  <a:pt x="457200" y="433754"/>
                </a:cubicBezTo>
                <a:cubicBezTo>
                  <a:pt x="450501" y="445477"/>
                  <a:pt x="419518" y="450501"/>
                  <a:pt x="406958" y="448826"/>
                </a:cubicBezTo>
                <a:cubicBezTo>
                  <a:pt x="394398" y="447151"/>
                  <a:pt x="392724" y="425380"/>
                  <a:pt x="381838" y="423705"/>
                </a:cubicBezTo>
                <a:cubicBezTo>
                  <a:pt x="370952" y="422030"/>
                  <a:pt x="344993" y="427055"/>
                  <a:pt x="341644" y="438778"/>
                </a:cubicBezTo>
                <a:cubicBezTo>
                  <a:pt x="338295" y="450501"/>
                  <a:pt x="362578" y="478134"/>
                  <a:pt x="361741" y="494044"/>
                </a:cubicBezTo>
                <a:cubicBezTo>
                  <a:pt x="360904" y="509954"/>
                  <a:pt x="349181" y="520839"/>
                  <a:pt x="336620" y="534237"/>
                </a:cubicBezTo>
                <a:cubicBezTo>
                  <a:pt x="324059" y="547635"/>
                  <a:pt x="295589" y="551822"/>
                  <a:pt x="286378" y="574431"/>
                </a:cubicBezTo>
                <a:cubicBezTo>
                  <a:pt x="277167" y="597040"/>
                  <a:pt x="278842" y="643095"/>
                  <a:pt x="281354" y="669890"/>
                </a:cubicBezTo>
                <a:cubicBezTo>
                  <a:pt x="283866" y="696685"/>
                  <a:pt x="292658" y="715944"/>
                  <a:pt x="301451" y="735204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组合 66"/>
          <p:cNvGrpSpPr/>
          <p:nvPr/>
        </p:nvGrpSpPr>
        <p:grpSpPr>
          <a:xfrm>
            <a:off x="-63360" y="2900520"/>
            <a:ext cx="6631200" cy="2052360"/>
            <a:chOff x="-63360" y="2900520"/>
            <a:chExt cx="6631200" cy="2052360"/>
          </a:xfrm>
        </p:grpSpPr>
        <p:sp>
          <p:nvSpPr>
            <p:cNvPr id="1603" name="任意多边形 82"/>
            <p:cNvSpPr/>
            <p:nvPr/>
          </p:nvSpPr>
          <p:spPr>
            <a:xfrm>
              <a:off x="-63360" y="4071960"/>
              <a:ext cx="6496200" cy="760320"/>
            </a:xfrm>
            <a:custGeom>
              <a:avLst/>
              <a:gdLst>
                <a:gd name="textAreaLeft" fmla="*/ 0 w 6496200"/>
                <a:gd name="textAreaRight" fmla="*/ 6496560 w 6496200"/>
                <a:gd name="textAreaTop" fmla="*/ 0 h 760320"/>
                <a:gd name="textAreaBottom" fmla="*/ 760680 h 760320"/>
              </a:gdLst>
              <a:ahLst/>
              <a:rect l="textAreaLeft" t="textAreaTop" r="textAreaRight" b="textAreaBottom"/>
              <a:pathLst>
                <a:path w="6496215" h="760675">
                  <a:moveTo>
                    <a:pt x="0" y="485029"/>
                  </a:moveTo>
                  <a:cubicBezTo>
                    <a:pt x="66923" y="467801"/>
                    <a:pt x="133846" y="450573"/>
                    <a:pt x="278295" y="429370"/>
                  </a:cubicBezTo>
                  <a:cubicBezTo>
                    <a:pt x="422744" y="408167"/>
                    <a:pt x="662609" y="368411"/>
                    <a:pt x="866692" y="357809"/>
                  </a:cubicBezTo>
                  <a:cubicBezTo>
                    <a:pt x="1070776" y="347207"/>
                    <a:pt x="1301363" y="355158"/>
                    <a:pt x="1502796" y="365760"/>
                  </a:cubicBezTo>
                  <a:cubicBezTo>
                    <a:pt x="1704229" y="376362"/>
                    <a:pt x="1895061" y="393590"/>
                    <a:pt x="2075290" y="421419"/>
                  </a:cubicBezTo>
                  <a:cubicBezTo>
                    <a:pt x="2255519" y="449248"/>
                    <a:pt x="2435749" y="494306"/>
                    <a:pt x="2584173" y="532737"/>
                  </a:cubicBezTo>
                  <a:cubicBezTo>
                    <a:pt x="2732597" y="571168"/>
                    <a:pt x="2834639" y="618877"/>
                    <a:pt x="2965836" y="652007"/>
                  </a:cubicBezTo>
                  <a:cubicBezTo>
                    <a:pt x="3097033" y="685137"/>
                    <a:pt x="3225579" y="714292"/>
                    <a:pt x="3371353" y="731520"/>
                  </a:cubicBezTo>
                  <a:cubicBezTo>
                    <a:pt x="3517127" y="748748"/>
                    <a:pt x="3673503" y="760675"/>
                    <a:pt x="3840480" y="755374"/>
                  </a:cubicBezTo>
                  <a:cubicBezTo>
                    <a:pt x="4007457" y="750073"/>
                    <a:pt x="4189012" y="727545"/>
                    <a:pt x="4373217" y="699715"/>
                  </a:cubicBezTo>
                  <a:cubicBezTo>
                    <a:pt x="4557422" y="671885"/>
                    <a:pt x="4765482" y="632128"/>
                    <a:pt x="4945711" y="588396"/>
                  </a:cubicBezTo>
                  <a:cubicBezTo>
                    <a:pt x="5125941" y="544664"/>
                    <a:pt x="5261112" y="506233"/>
                    <a:pt x="5454594" y="437322"/>
                  </a:cubicBezTo>
                  <a:cubicBezTo>
                    <a:pt x="5648076" y="368411"/>
                    <a:pt x="5932998" y="247816"/>
                    <a:pt x="6106601" y="174929"/>
                  </a:cubicBezTo>
                  <a:cubicBezTo>
                    <a:pt x="6280204" y="102042"/>
                    <a:pt x="6388209" y="51021"/>
                    <a:pt x="6496215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4" name="组合 65"/>
            <p:cNvGrpSpPr/>
            <p:nvPr/>
          </p:nvGrpSpPr>
          <p:grpSpPr>
            <a:xfrm>
              <a:off x="-55080" y="2900520"/>
              <a:ext cx="6622920" cy="2052360"/>
              <a:chOff x="-55080" y="2900520"/>
              <a:chExt cx="6622920" cy="2052360"/>
            </a:xfrm>
          </p:grpSpPr>
          <p:grpSp>
            <p:nvGrpSpPr>
              <p:cNvPr id="1605" name="组合 34"/>
              <p:cNvGrpSpPr/>
              <p:nvPr/>
            </p:nvGrpSpPr>
            <p:grpSpPr>
              <a:xfrm>
                <a:off x="-33480" y="2900520"/>
                <a:ext cx="6564240" cy="1575360"/>
                <a:chOff x="-33480" y="2900520"/>
                <a:chExt cx="6564240" cy="1575360"/>
              </a:xfrm>
            </p:grpSpPr>
            <p:sp>
              <p:nvSpPr>
                <p:cNvPr id="1606" name="任意多边形 32"/>
                <p:cNvSpPr/>
                <p:nvPr/>
              </p:nvSpPr>
              <p:spPr>
                <a:xfrm>
                  <a:off x="-33480" y="3414960"/>
                  <a:ext cx="5871960" cy="1060920"/>
                </a:xfrm>
                <a:custGeom>
                  <a:avLst/>
                  <a:gdLst>
                    <a:gd name="textAreaLeft" fmla="*/ 0 w 5871960"/>
                    <a:gd name="textAreaRight" fmla="*/ 5872320 w 5871960"/>
                    <a:gd name="textAreaTop" fmla="*/ 0 h 1060920"/>
                    <a:gd name="textAreaBottom" fmla="*/ 1061280 h 1060920"/>
                  </a:gdLst>
                  <a:ahLst/>
                  <a:rect l="textAreaLeft" t="textAreaTop" r="textAreaRight" b="textAreaBottom"/>
                  <a:pathLst>
                    <a:path w="5871949" h="1059977">
                      <a:moveTo>
                        <a:pt x="0" y="835926"/>
                      </a:moveTo>
                      <a:cubicBezTo>
                        <a:pt x="47198" y="813748"/>
                        <a:pt x="94397" y="791571"/>
                        <a:pt x="211540" y="767687"/>
                      </a:cubicBezTo>
                      <a:cubicBezTo>
                        <a:pt x="328683" y="743803"/>
                        <a:pt x="537948" y="707409"/>
                        <a:pt x="702859" y="692624"/>
                      </a:cubicBezTo>
                      <a:cubicBezTo>
                        <a:pt x="867770" y="677839"/>
                        <a:pt x="1041779" y="676701"/>
                        <a:pt x="1201003" y="678976"/>
                      </a:cubicBezTo>
                      <a:cubicBezTo>
                        <a:pt x="1360227" y="681251"/>
                        <a:pt x="1494430" y="683526"/>
                        <a:pt x="1658203" y="706272"/>
                      </a:cubicBezTo>
                      <a:cubicBezTo>
                        <a:pt x="1821976" y="729018"/>
                        <a:pt x="2033516" y="776785"/>
                        <a:pt x="2183641" y="815454"/>
                      </a:cubicBezTo>
                      <a:cubicBezTo>
                        <a:pt x="2333766" y="854123"/>
                        <a:pt x="2558955" y="938284"/>
                        <a:pt x="2558955" y="938284"/>
                      </a:cubicBezTo>
                      <a:cubicBezTo>
                        <a:pt x="2655627" y="970129"/>
                        <a:pt x="2681785" y="987189"/>
                        <a:pt x="2763671" y="1006523"/>
                      </a:cubicBezTo>
                      <a:cubicBezTo>
                        <a:pt x="2845558" y="1025857"/>
                        <a:pt x="2944504" y="1048604"/>
                        <a:pt x="3050274" y="1054290"/>
                      </a:cubicBezTo>
                      <a:cubicBezTo>
                        <a:pt x="3156044" y="1059977"/>
                        <a:pt x="3272050" y="1054290"/>
                        <a:pt x="3398292" y="1040642"/>
                      </a:cubicBezTo>
                      <a:cubicBezTo>
                        <a:pt x="3524534" y="1026994"/>
                        <a:pt x="3640540" y="1014484"/>
                        <a:pt x="3807725" y="972403"/>
                      </a:cubicBezTo>
                      <a:cubicBezTo>
                        <a:pt x="3974910" y="930322"/>
                        <a:pt x="4180764" y="876868"/>
                        <a:pt x="4401403" y="788158"/>
                      </a:cubicBezTo>
                      <a:cubicBezTo>
                        <a:pt x="4622042" y="699448"/>
                        <a:pt x="4906370" y="559559"/>
                        <a:pt x="5131558" y="440141"/>
                      </a:cubicBezTo>
                      <a:cubicBezTo>
                        <a:pt x="5356746" y="320723"/>
                        <a:pt x="5633113" y="143302"/>
                        <a:pt x="5752531" y="71651"/>
                      </a:cubicBezTo>
                      <a:cubicBezTo>
                        <a:pt x="5871949" y="0"/>
                        <a:pt x="5860007" y="5118"/>
                        <a:pt x="5848065" y="1023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任意多边形 89"/>
                <p:cNvSpPr/>
                <p:nvPr/>
              </p:nvSpPr>
              <p:spPr>
                <a:xfrm>
                  <a:off x="5779800" y="2900520"/>
                  <a:ext cx="750960" cy="546120"/>
                </a:xfrm>
                <a:custGeom>
                  <a:avLst/>
                  <a:gdLst>
                    <a:gd name="textAreaLeft" fmla="*/ 0 w 750960"/>
                    <a:gd name="textAreaRight" fmla="*/ 751320 w 750960"/>
                    <a:gd name="textAreaTop" fmla="*/ 0 h 546120"/>
                    <a:gd name="textAreaBottom" fmla="*/ 546480 h 546120"/>
                  </a:gdLst>
                  <a:ahLst/>
                  <a:rect l="textAreaLeft" t="textAreaTop" r="textAreaRight" b="textAreaBottom"/>
                  <a:pathLst>
                    <a:path w="750627" h="545911">
                      <a:moveTo>
                        <a:pt x="0" y="545911"/>
                      </a:moveTo>
                      <a:cubicBezTo>
                        <a:pt x="80749" y="495869"/>
                        <a:pt x="161499" y="445827"/>
                        <a:pt x="286603" y="354842"/>
                      </a:cubicBezTo>
                      <a:cubicBezTo>
                        <a:pt x="411707" y="263857"/>
                        <a:pt x="581167" y="131928"/>
                        <a:pt x="750627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8" name="任意多边形 85"/>
              <p:cNvSpPr/>
              <p:nvPr/>
            </p:nvSpPr>
            <p:spPr>
              <a:xfrm>
                <a:off x="-38880" y="3419640"/>
                <a:ext cx="6361200" cy="1160280"/>
              </a:xfrm>
              <a:custGeom>
                <a:avLst/>
                <a:gdLst>
                  <a:gd name="textAreaLeft" fmla="*/ 0 w 6361200"/>
                  <a:gd name="textAreaRight" fmla="*/ 6361560 w 636120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6361044" h="1160890">
                    <a:moveTo>
                      <a:pt x="0" y="930302"/>
                    </a:moveTo>
                    <a:cubicBezTo>
                      <a:pt x="64936" y="913074"/>
                      <a:pt x="129872" y="895846"/>
                      <a:pt x="238540" y="874643"/>
                    </a:cubicBezTo>
                    <a:cubicBezTo>
                      <a:pt x="347208" y="853440"/>
                      <a:pt x="514185" y="818985"/>
                      <a:pt x="652007" y="803082"/>
                    </a:cubicBezTo>
                    <a:cubicBezTo>
                      <a:pt x="789830" y="787180"/>
                      <a:pt x="943555" y="781879"/>
                      <a:pt x="1065475" y="779228"/>
                    </a:cubicBezTo>
                    <a:cubicBezTo>
                      <a:pt x="1187395" y="776578"/>
                      <a:pt x="1269558" y="780553"/>
                      <a:pt x="1383527" y="787179"/>
                    </a:cubicBezTo>
                    <a:cubicBezTo>
                      <a:pt x="1497496" y="793805"/>
                      <a:pt x="1628692" y="803081"/>
                      <a:pt x="1749287" y="818984"/>
                    </a:cubicBezTo>
                    <a:cubicBezTo>
                      <a:pt x="1869882" y="834887"/>
                      <a:pt x="1995778" y="858741"/>
                      <a:pt x="2107096" y="882595"/>
                    </a:cubicBezTo>
                    <a:cubicBezTo>
                      <a:pt x="2218414" y="906449"/>
                      <a:pt x="2313830" y="930303"/>
                      <a:pt x="2417197" y="962108"/>
                    </a:cubicBezTo>
                    <a:cubicBezTo>
                      <a:pt x="2520564" y="993913"/>
                      <a:pt x="2638509" y="1045597"/>
                      <a:pt x="2727298" y="1073426"/>
                    </a:cubicBezTo>
                    <a:cubicBezTo>
                      <a:pt x="2816088" y="1101256"/>
                      <a:pt x="2858494" y="1114508"/>
                      <a:pt x="2949934" y="1129085"/>
                    </a:cubicBezTo>
                    <a:cubicBezTo>
                      <a:pt x="3041374" y="1143662"/>
                      <a:pt x="3135465" y="1160890"/>
                      <a:pt x="3275938" y="1160890"/>
                    </a:cubicBezTo>
                    <a:cubicBezTo>
                      <a:pt x="3416411" y="1160890"/>
                      <a:pt x="3615194" y="1156915"/>
                      <a:pt x="3792773" y="1129085"/>
                    </a:cubicBezTo>
                    <a:cubicBezTo>
                      <a:pt x="3970352" y="1101256"/>
                      <a:pt x="4153232" y="1050897"/>
                      <a:pt x="4341413" y="993913"/>
                    </a:cubicBezTo>
                    <a:cubicBezTo>
                      <a:pt x="4529594" y="936929"/>
                      <a:pt x="4731027" y="866692"/>
                      <a:pt x="4921858" y="787179"/>
                    </a:cubicBezTo>
                    <a:cubicBezTo>
                      <a:pt x="5112689" y="707666"/>
                      <a:pt x="5278341" y="626828"/>
                      <a:pt x="5486400" y="516835"/>
                    </a:cubicBezTo>
                    <a:cubicBezTo>
                      <a:pt x="5694459" y="406842"/>
                      <a:pt x="6024439" y="213360"/>
                      <a:pt x="6170213" y="127221"/>
                    </a:cubicBezTo>
                    <a:cubicBezTo>
                      <a:pt x="6315987" y="41082"/>
                      <a:pt x="6338515" y="20541"/>
                      <a:pt x="6361044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任意多边形 86"/>
              <p:cNvSpPr/>
              <p:nvPr/>
            </p:nvSpPr>
            <p:spPr>
              <a:xfrm>
                <a:off x="-38880" y="3689280"/>
                <a:ext cx="6496200" cy="1019160"/>
              </a:xfrm>
              <a:custGeom>
                <a:avLst/>
                <a:gdLst>
                  <a:gd name="textAreaLeft" fmla="*/ 0 w 6496200"/>
                  <a:gd name="textAreaRight" fmla="*/ 6496560 w 649620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6496216" h="1019093">
                    <a:moveTo>
                      <a:pt x="0" y="763325"/>
                    </a:moveTo>
                    <a:cubicBezTo>
                      <a:pt x="76863" y="741459"/>
                      <a:pt x="153726" y="719593"/>
                      <a:pt x="262394" y="699715"/>
                    </a:cubicBezTo>
                    <a:cubicBezTo>
                      <a:pt x="371062" y="679837"/>
                      <a:pt x="522136" y="657308"/>
                      <a:pt x="652007" y="644056"/>
                    </a:cubicBezTo>
                    <a:cubicBezTo>
                      <a:pt x="781878" y="630804"/>
                      <a:pt x="1041621" y="620202"/>
                      <a:pt x="1041621" y="620202"/>
                    </a:cubicBezTo>
                    <a:cubicBezTo>
                      <a:pt x="1178118" y="617552"/>
                      <a:pt x="1331844" y="618877"/>
                      <a:pt x="1470992" y="628153"/>
                    </a:cubicBezTo>
                    <a:cubicBezTo>
                      <a:pt x="1610140" y="637429"/>
                      <a:pt x="1724108" y="652007"/>
                      <a:pt x="1876508" y="675861"/>
                    </a:cubicBezTo>
                    <a:cubicBezTo>
                      <a:pt x="2028908" y="699715"/>
                      <a:pt x="2251545" y="739472"/>
                      <a:pt x="2385392" y="771277"/>
                    </a:cubicBezTo>
                    <a:cubicBezTo>
                      <a:pt x="2519239" y="803082"/>
                      <a:pt x="2581524" y="836212"/>
                      <a:pt x="2679590" y="866692"/>
                    </a:cubicBezTo>
                    <a:cubicBezTo>
                      <a:pt x="2777656" y="897172"/>
                      <a:pt x="2874397" y="931628"/>
                      <a:pt x="2973788" y="954157"/>
                    </a:cubicBezTo>
                    <a:cubicBezTo>
                      <a:pt x="3073179" y="976686"/>
                      <a:pt x="3168595" y="992589"/>
                      <a:pt x="3275938" y="1001865"/>
                    </a:cubicBezTo>
                    <a:cubicBezTo>
                      <a:pt x="3383281" y="1011141"/>
                      <a:pt x="3470745" y="1019093"/>
                      <a:pt x="3617844" y="1009816"/>
                    </a:cubicBezTo>
                    <a:cubicBezTo>
                      <a:pt x="3764943" y="1000539"/>
                      <a:pt x="3995531" y="974035"/>
                      <a:pt x="4158533" y="946205"/>
                    </a:cubicBezTo>
                    <a:cubicBezTo>
                      <a:pt x="4321535" y="918375"/>
                      <a:pt x="4454056" y="881269"/>
                      <a:pt x="4595854" y="842838"/>
                    </a:cubicBezTo>
                    <a:cubicBezTo>
                      <a:pt x="4737652" y="804407"/>
                      <a:pt x="4863548" y="767301"/>
                      <a:pt x="5009322" y="715618"/>
                    </a:cubicBezTo>
                    <a:cubicBezTo>
                      <a:pt x="5155096" y="663935"/>
                      <a:pt x="5341952" y="587072"/>
                      <a:pt x="5470498" y="532738"/>
                    </a:cubicBezTo>
                    <a:cubicBezTo>
                      <a:pt x="5599044" y="478404"/>
                      <a:pt x="5669281" y="442623"/>
                      <a:pt x="5780599" y="389614"/>
                    </a:cubicBezTo>
                    <a:cubicBezTo>
                      <a:pt x="5891917" y="336605"/>
                      <a:pt x="6019138" y="279621"/>
                      <a:pt x="6138407" y="214685"/>
                    </a:cubicBezTo>
                    <a:cubicBezTo>
                      <a:pt x="6257676" y="149749"/>
                      <a:pt x="6376946" y="74874"/>
                      <a:pt x="649621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任意多边形 87"/>
              <p:cNvSpPr/>
              <p:nvPr/>
            </p:nvSpPr>
            <p:spPr>
              <a:xfrm>
                <a:off x="-55080" y="4381560"/>
                <a:ext cx="6622920" cy="571320"/>
              </a:xfrm>
              <a:custGeom>
                <a:avLst/>
                <a:gdLst>
                  <a:gd name="textAreaLeft" fmla="*/ 0 w 6622920"/>
                  <a:gd name="textAreaRight" fmla="*/ 6623280 w 66229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6623436" h="571168">
                    <a:moveTo>
                      <a:pt x="0" y="286247"/>
                    </a:moveTo>
                    <a:cubicBezTo>
                      <a:pt x="39094" y="267031"/>
                      <a:pt x="78188" y="247816"/>
                      <a:pt x="174929" y="230588"/>
                    </a:cubicBezTo>
                    <a:cubicBezTo>
                      <a:pt x="271670" y="213360"/>
                      <a:pt x="442623" y="196132"/>
                      <a:pt x="580445" y="182880"/>
                    </a:cubicBezTo>
                    <a:cubicBezTo>
                      <a:pt x="718267" y="169628"/>
                      <a:pt x="826935" y="153725"/>
                      <a:pt x="1001864" y="151074"/>
                    </a:cubicBezTo>
                    <a:cubicBezTo>
                      <a:pt x="1176793" y="148424"/>
                      <a:pt x="1375575" y="141798"/>
                      <a:pt x="1630017" y="166977"/>
                    </a:cubicBezTo>
                    <a:cubicBezTo>
                      <a:pt x="1884459" y="192156"/>
                      <a:pt x="2315155" y="262393"/>
                      <a:pt x="2528515" y="302149"/>
                    </a:cubicBezTo>
                    <a:cubicBezTo>
                      <a:pt x="2741875" y="341905"/>
                      <a:pt x="2910177" y="405516"/>
                      <a:pt x="2910177" y="405516"/>
                    </a:cubicBezTo>
                    <a:cubicBezTo>
                      <a:pt x="3029447" y="437321"/>
                      <a:pt x="3110285" y="467802"/>
                      <a:pt x="3244132" y="492981"/>
                    </a:cubicBezTo>
                    <a:cubicBezTo>
                      <a:pt x="3377979" y="518160"/>
                      <a:pt x="3562184" y="544664"/>
                      <a:pt x="3713259" y="556591"/>
                    </a:cubicBezTo>
                    <a:cubicBezTo>
                      <a:pt x="3864334" y="568518"/>
                      <a:pt x="3980953" y="571168"/>
                      <a:pt x="4150581" y="564542"/>
                    </a:cubicBezTo>
                    <a:cubicBezTo>
                      <a:pt x="4320209" y="557916"/>
                      <a:pt x="4501764" y="549964"/>
                      <a:pt x="4731026" y="516834"/>
                    </a:cubicBezTo>
                    <a:cubicBezTo>
                      <a:pt x="4960288" y="483704"/>
                      <a:pt x="5270389" y="429370"/>
                      <a:pt x="5526156" y="365760"/>
                    </a:cubicBezTo>
                    <a:cubicBezTo>
                      <a:pt x="5781923" y="302150"/>
                      <a:pt x="6082748" y="196132"/>
                      <a:pt x="6265628" y="135172"/>
                    </a:cubicBezTo>
                    <a:cubicBezTo>
                      <a:pt x="6448508" y="74212"/>
                      <a:pt x="6535972" y="37106"/>
                      <a:pt x="662343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1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1612" name="任意多边形 91"/>
            <p:cNvSpPr/>
            <p:nvPr/>
          </p:nvSpPr>
          <p:spPr>
            <a:xfrm>
              <a:off x="4786560" y="3836880"/>
              <a:ext cx="2880" cy="419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椭圆 92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1615" name="任意多边形 94"/>
            <p:cNvSpPr/>
            <p:nvPr/>
          </p:nvSpPr>
          <p:spPr>
            <a:xfrm rot="20902800">
              <a:off x="4273560" y="4627440"/>
              <a:ext cx="2880" cy="3412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41280"/>
                <a:gd name="textAreaBottom" fmla="*/ 341280 h 34128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椭圆 95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任意多边形 96"/>
            <p:cNvSpPr/>
            <p:nvPr/>
          </p:nvSpPr>
          <p:spPr>
            <a:xfrm rot="20902800">
              <a:off x="4532040" y="4528800"/>
              <a:ext cx="2880" cy="324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椭圆 97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任意多边形 98"/>
            <p:cNvSpPr/>
            <p:nvPr/>
          </p:nvSpPr>
          <p:spPr>
            <a:xfrm>
              <a:off x="4243320" y="4552920"/>
              <a:ext cx="262080" cy="950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62890" h="95250">
                  <a:moveTo>
                    <a:pt x="0" y="95250"/>
                  </a:moveTo>
                  <a:lnTo>
                    <a:pt x="26289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组合 61"/>
          <p:cNvGrpSpPr/>
          <p:nvPr/>
        </p:nvGrpSpPr>
        <p:grpSpPr>
          <a:xfrm>
            <a:off x="5395320" y="3357720"/>
            <a:ext cx="470520" cy="891000"/>
            <a:chOff x="5395320" y="3357720"/>
            <a:chExt cx="470520" cy="891000"/>
          </a:xfrm>
        </p:grpSpPr>
        <p:sp>
          <p:nvSpPr>
            <p:cNvPr id="1621" name="任意多边形 100"/>
            <p:cNvSpPr/>
            <p:nvPr/>
          </p:nvSpPr>
          <p:spPr>
            <a:xfrm rot="19783800">
              <a:off x="5564880" y="3418200"/>
              <a:ext cx="2880" cy="64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椭圆 101"/>
            <p:cNvSpPr/>
            <p:nvPr/>
          </p:nvSpPr>
          <p:spPr>
            <a:xfrm rot="18507600">
              <a:off x="5525280" y="4033080"/>
              <a:ext cx="239760" cy="150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任意多边形 102"/>
            <p:cNvSpPr/>
            <p:nvPr/>
          </p:nvSpPr>
          <p:spPr>
            <a:xfrm rot="19783800">
              <a:off x="5530320" y="3367800"/>
              <a:ext cx="200160" cy="5904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201930" h="591820">
                  <a:moveTo>
                    <a:pt x="5715" y="21590"/>
                  </a:moveTo>
                  <a:cubicBezTo>
                    <a:pt x="6985" y="0"/>
                    <a:pt x="6985" y="53340"/>
                    <a:pt x="17145" y="74930"/>
                  </a:cubicBezTo>
                  <a:cubicBezTo>
                    <a:pt x="27305" y="96520"/>
                    <a:pt x="46355" y="127000"/>
                    <a:pt x="66675" y="151130"/>
                  </a:cubicBezTo>
                  <a:cubicBezTo>
                    <a:pt x="86995" y="175260"/>
                    <a:pt x="120015" y="196215"/>
                    <a:pt x="139065" y="219710"/>
                  </a:cubicBezTo>
                  <a:cubicBezTo>
                    <a:pt x="158115" y="243205"/>
                    <a:pt x="170815" y="268605"/>
                    <a:pt x="180975" y="292100"/>
                  </a:cubicBezTo>
                  <a:cubicBezTo>
                    <a:pt x="191135" y="315595"/>
                    <a:pt x="198120" y="332105"/>
                    <a:pt x="200025" y="360680"/>
                  </a:cubicBezTo>
                  <a:cubicBezTo>
                    <a:pt x="201930" y="389255"/>
                    <a:pt x="200660" y="428625"/>
                    <a:pt x="192405" y="463550"/>
                  </a:cubicBezTo>
                  <a:cubicBezTo>
                    <a:pt x="184150" y="498475"/>
                    <a:pt x="162560" y="549910"/>
                    <a:pt x="150495" y="570230"/>
                  </a:cubicBezTo>
                  <a:cubicBezTo>
                    <a:pt x="138430" y="590550"/>
                    <a:pt x="121285" y="591820"/>
                    <a:pt x="120015" y="585470"/>
                  </a:cubicBezTo>
                  <a:cubicBezTo>
                    <a:pt x="118745" y="579120"/>
                    <a:pt x="134620" y="558165"/>
                    <a:pt x="142875" y="532130"/>
                  </a:cubicBezTo>
                  <a:cubicBezTo>
                    <a:pt x="151130" y="506095"/>
                    <a:pt x="167005" y="463550"/>
                    <a:pt x="169545" y="429260"/>
                  </a:cubicBezTo>
                  <a:cubicBezTo>
                    <a:pt x="172085" y="394970"/>
                    <a:pt x="175260" y="359410"/>
                    <a:pt x="158115" y="326390"/>
                  </a:cubicBezTo>
                  <a:cubicBezTo>
                    <a:pt x="140970" y="293370"/>
                    <a:pt x="91440" y="251460"/>
                    <a:pt x="66675" y="231140"/>
                  </a:cubicBezTo>
                  <a:cubicBezTo>
                    <a:pt x="41910" y="210820"/>
                    <a:pt x="19050" y="236855"/>
                    <a:pt x="9525" y="204470"/>
                  </a:cubicBezTo>
                  <a:cubicBezTo>
                    <a:pt x="0" y="172085"/>
                    <a:pt x="4445" y="43180"/>
                    <a:pt x="5715" y="215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1625" name="任意多边形 104"/>
            <p:cNvSpPr/>
            <p:nvPr/>
          </p:nvSpPr>
          <p:spPr>
            <a:xfrm>
              <a:off x="3214800" y="4429080"/>
              <a:ext cx="404640" cy="5889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894715" h="1299845">
                  <a:moveTo>
                    <a:pt x="106045" y="1190625"/>
                  </a:moveTo>
                  <a:cubicBezTo>
                    <a:pt x="153670" y="1153795"/>
                    <a:pt x="247650" y="1094740"/>
                    <a:pt x="307975" y="1045845"/>
                  </a:cubicBezTo>
                  <a:cubicBezTo>
                    <a:pt x="368300" y="996950"/>
                    <a:pt x="418465" y="956310"/>
                    <a:pt x="467995" y="897255"/>
                  </a:cubicBezTo>
                  <a:cubicBezTo>
                    <a:pt x="517525" y="838200"/>
                    <a:pt x="571500" y="770890"/>
                    <a:pt x="605155" y="691515"/>
                  </a:cubicBezTo>
                  <a:cubicBezTo>
                    <a:pt x="638810" y="612140"/>
                    <a:pt x="673100" y="513715"/>
                    <a:pt x="669925" y="421005"/>
                  </a:cubicBezTo>
                  <a:cubicBezTo>
                    <a:pt x="666750" y="328295"/>
                    <a:pt x="619760" y="194310"/>
                    <a:pt x="586105" y="135255"/>
                  </a:cubicBezTo>
                  <a:cubicBezTo>
                    <a:pt x="552450" y="76200"/>
                    <a:pt x="514985" y="76835"/>
                    <a:pt x="467995" y="66675"/>
                  </a:cubicBezTo>
                  <a:cubicBezTo>
                    <a:pt x="421005" y="56515"/>
                    <a:pt x="353060" y="55245"/>
                    <a:pt x="304165" y="74295"/>
                  </a:cubicBezTo>
                  <a:cubicBezTo>
                    <a:pt x="255270" y="93345"/>
                    <a:pt x="198755" y="155575"/>
                    <a:pt x="174625" y="180975"/>
                  </a:cubicBezTo>
                  <a:cubicBezTo>
                    <a:pt x="150495" y="206375"/>
                    <a:pt x="154305" y="214630"/>
                    <a:pt x="159385" y="226695"/>
                  </a:cubicBezTo>
                  <a:cubicBezTo>
                    <a:pt x="164465" y="238760"/>
                    <a:pt x="186690" y="251460"/>
                    <a:pt x="205105" y="253365"/>
                  </a:cubicBezTo>
                  <a:cubicBezTo>
                    <a:pt x="223520" y="255270"/>
                    <a:pt x="247650" y="239395"/>
                    <a:pt x="269875" y="238125"/>
                  </a:cubicBezTo>
                  <a:cubicBezTo>
                    <a:pt x="292100" y="236855"/>
                    <a:pt x="318135" y="236855"/>
                    <a:pt x="338455" y="245745"/>
                  </a:cubicBezTo>
                  <a:cubicBezTo>
                    <a:pt x="358775" y="254635"/>
                    <a:pt x="379095" y="269875"/>
                    <a:pt x="391795" y="291465"/>
                  </a:cubicBezTo>
                  <a:cubicBezTo>
                    <a:pt x="404495" y="313055"/>
                    <a:pt x="415925" y="347345"/>
                    <a:pt x="414655" y="375285"/>
                  </a:cubicBezTo>
                  <a:cubicBezTo>
                    <a:pt x="413385" y="403225"/>
                    <a:pt x="401955" y="434975"/>
                    <a:pt x="384175" y="459105"/>
                  </a:cubicBezTo>
                  <a:cubicBezTo>
                    <a:pt x="366395" y="483235"/>
                    <a:pt x="344805" y="513715"/>
                    <a:pt x="307975" y="520065"/>
                  </a:cubicBezTo>
                  <a:cubicBezTo>
                    <a:pt x="271145" y="526415"/>
                    <a:pt x="203200" y="516255"/>
                    <a:pt x="163195" y="497205"/>
                  </a:cubicBezTo>
                  <a:cubicBezTo>
                    <a:pt x="123190" y="478155"/>
                    <a:pt x="84455" y="448310"/>
                    <a:pt x="67945" y="405765"/>
                  </a:cubicBezTo>
                  <a:cubicBezTo>
                    <a:pt x="51435" y="363220"/>
                    <a:pt x="46990" y="292735"/>
                    <a:pt x="64135" y="241935"/>
                  </a:cubicBezTo>
                  <a:cubicBezTo>
                    <a:pt x="81280" y="191135"/>
                    <a:pt x="120015" y="139065"/>
                    <a:pt x="170815" y="100965"/>
                  </a:cubicBezTo>
                  <a:cubicBezTo>
                    <a:pt x="221615" y="62865"/>
                    <a:pt x="299085" y="26670"/>
                    <a:pt x="368935" y="13335"/>
                  </a:cubicBezTo>
                  <a:cubicBezTo>
                    <a:pt x="438785" y="0"/>
                    <a:pt x="525145" y="5080"/>
                    <a:pt x="589915" y="20955"/>
                  </a:cubicBezTo>
                  <a:cubicBezTo>
                    <a:pt x="654685" y="36830"/>
                    <a:pt x="711835" y="69215"/>
                    <a:pt x="757555" y="108585"/>
                  </a:cubicBezTo>
                  <a:cubicBezTo>
                    <a:pt x="803275" y="147955"/>
                    <a:pt x="842010" y="202565"/>
                    <a:pt x="864235" y="257175"/>
                  </a:cubicBezTo>
                  <a:cubicBezTo>
                    <a:pt x="886460" y="311785"/>
                    <a:pt x="894715" y="370840"/>
                    <a:pt x="890905" y="436245"/>
                  </a:cubicBezTo>
                  <a:cubicBezTo>
                    <a:pt x="887095" y="501650"/>
                    <a:pt x="876300" y="573405"/>
                    <a:pt x="841375" y="649605"/>
                  </a:cubicBezTo>
                  <a:cubicBezTo>
                    <a:pt x="806450" y="725805"/>
                    <a:pt x="780415" y="804545"/>
                    <a:pt x="681355" y="893445"/>
                  </a:cubicBezTo>
                  <a:cubicBezTo>
                    <a:pt x="582295" y="982345"/>
                    <a:pt x="354330" y="1117600"/>
                    <a:pt x="247015" y="1183005"/>
                  </a:cubicBezTo>
                  <a:cubicBezTo>
                    <a:pt x="139700" y="1248410"/>
                    <a:pt x="74930" y="1271905"/>
                    <a:pt x="37465" y="1285875"/>
                  </a:cubicBezTo>
                  <a:cubicBezTo>
                    <a:pt x="0" y="1299845"/>
                    <a:pt x="15240" y="1280160"/>
                    <a:pt x="22225" y="1266825"/>
                  </a:cubicBezTo>
                  <a:cubicBezTo>
                    <a:pt x="29210" y="1253490"/>
                    <a:pt x="58420" y="1227455"/>
                    <a:pt x="106045" y="11906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椭圆 105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椭圆 106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TextBox 107"/>
          <p:cNvSpPr/>
          <p:nvPr/>
        </p:nvSpPr>
        <p:spPr>
          <a:xfrm>
            <a:off x="324000" y="98100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创</a:t>
            </a: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巨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</a:t>
            </a: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享人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0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3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3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3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3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3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3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7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3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6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3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0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8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2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6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1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2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2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2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2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1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2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监制：詹姆斯</a:t>
            </a: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卡梅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Moviemaking:        James Cam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5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配乐：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s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Music:         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6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7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编剧 ：  姜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Writer :      Jiang 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9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0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主演 ：  综合管理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Star :                 IMO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1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2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29"/>
          <p:cNvSpPr/>
          <p:nvPr/>
        </p:nvSpPr>
        <p:spPr>
          <a:xfrm>
            <a:off x="161928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光与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85F-5976-4066-9EB9-347E1EC8B0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4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5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6:33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3:11:52Z</dcterms:modified>
  <cp:revision>118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