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46BD-7505-4662-AC26-34F3C5F20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2302-B2AA-4BF6-BF5B-F209D0740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9040-E9AD-421B-B3D8-636DD8937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53C4-0CD2-420E-9F9E-659A1E722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85783-519F-44B8-9E56-2D02CB963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F5402-F09F-42EC-B9E8-09DCD7077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366F4-678B-456D-9E85-C7C3428AA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DF7EB-5316-4091-B1CB-84DD6C852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792C0-BFDB-4D38-9A8D-47640376F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8B525-99F6-4A99-B64B-EA42EFE47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53EE5-F38E-4C40-9D27-75F3FBBE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551C-FDCE-4CCB-BF3F-2D7CEEBF4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01E23-48D1-4157-9C3C-E06F7B9A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C5BAC-695A-407F-81D7-B0C0C9B6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0C60B-7173-401D-BF40-4CD30EDB9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15A44-83B0-40E0-85E7-831E98EE5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5DBD0-DC2F-4758-B586-9DDB386FF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9DAC-93EE-4257-8339-FB8231BBF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C6E7-BBBF-411F-89F4-5F7936546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19A9-CF3B-4FAA-980E-D8998E456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A640-5AC7-4B21-8F9A-3499AE60B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BA38-CC5A-4AFE-9D05-7C9A08AB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2A59-63D9-45A6-9685-A3DA49E4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6549-5D8A-458A-AAE2-39CFE963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E25F7-933A-424C-B091-69C1D547407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E3347-71DD-431C-AB32-04A5369B10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7350F-F337-4C45-B7B8-75B7EB74102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B44E4-E9B7-49AB-B21C-BF0EEB9E709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3760" y="882720"/>
            <a:ext cx="9110880" cy="5102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79200" y="6543720"/>
            <a:ext cx="508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02200" y="181080"/>
            <a:ext cx="46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关于中国梦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图片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A0173-E8F0-429D-9244-7F09EC33080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2:13:4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