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A89-E4C1-4EA6-ABF7-146A79B6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D7A-C9CE-4A73-AE3A-4172A067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911-2F2B-4088-90A3-584492A8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ECA-92FB-4B3D-A937-0392C8D1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1324-462E-4B53-AA6A-294DA062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C28-53A8-49E7-9BB4-FBE28F14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AE81-F1F8-4805-80A2-78CD408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8B6-28F3-46F5-898E-367254D1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F6B5-D678-4CC9-A704-3290F463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E9A-5151-40EC-912C-C5DA9922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DAD-DA2E-437D-8842-92B01A1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3AF-9BDC-4C8C-B05D-42191B12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8979-886D-4EE2-938E-260F7EF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BFE-63AC-4357-97A9-A26798E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3053-2003-4868-A073-5AA8D87D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64EB-5918-494A-BA59-2982A291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5C63-15FB-4500-A7FC-E664FDB6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0F8-E470-4957-BCD1-F9A6C7E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974-F1F6-4693-A2F6-DB25A50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66C-D37B-49BF-BB36-39C64C4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973-CC52-4EAA-9290-CD4CBF7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E77-3F51-46AA-9F1C-2A70EEF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21B-9BB1-431A-86DC-534467A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912-EE29-421C-BA50-230F718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25B9-3F39-4CAE-ACBF-6947ADBE0C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E9DB-A1B5-4523-A224-9ACC2AD66F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FBF-4DB1-411D-8EDC-9D32B41AF0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5641920" y="1339920"/>
            <a:ext cx="3357720" cy="4797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"/>
          <p:cNvPicPr/>
          <p:nvPr/>
        </p:nvPicPr>
        <p:blipFill>
          <a:blip r:embed="rId2"/>
          <a:stretch/>
        </p:blipFill>
        <p:spPr>
          <a:xfrm>
            <a:off x="146160" y="206064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1280" y="62064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掌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98A-F717-4C9A-B3DB-804904390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9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